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jpeg" ContentType="image/jpe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644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F250B-26C1-49A5-BF45-398BEDF72767}" type="slidenum"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5C8-9769-4CEF-A189-279D39DC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BB0-D821-4F5C-85C0-3859DC95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E70-C780-4F4A-A830-19E38523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B2F-4EC9-48A2-8534-1626ED31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EE5-449E-45EA-94C7-FAFD8B8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7B6-3074-49BD-94E9-C5BAE155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1F9-0D92-46D6-95EC-F98ABBD7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D41-5AFB-4F50-86B6-E2130A15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ECE-17D5-4976-A540-8CA7398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586-C0C0-436E-9259-F2B0B55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232-530C-48B6-8B4A-3B7C142D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397-B8DC-43EF-BA61-8F3401A7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C5B0A-6AE4-435D-9091-6A889F61058B}" type="slidenum"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19280" y="360360"/>
            <a:ext cx="69451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18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1979640"/>
            <a:ext cx="439884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10620360" y="5580000"/>
            <a:ext cx="181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4032360"/>
            <a:ext cx="443052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じしょ けい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 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しゅみは 〜ことで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</a:t>
            </a: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は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まえに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028880" y="22748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1017720" y="39830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425920" y="2313000"/>
            <a:ext cx="16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5413320" y="40226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16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1028880" y="22748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"/>
          <p:cNvSpPr/>
          <p:nvPr/>
        </p:nvSpPr>
        <p:spPr>
          <a:xfrm>
            <a:off x="1057320" y="2930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833480" y="2273400"/>
            <a:ext cx="10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017720" y="39830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046160" y="4640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398304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む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" name=""/>
          <p:cNvSpPr/>
          <p:nvPr/>
        </p:nvSpPr>
        <p:spPr>
          <a:xfrm>
            <a:off x="5425920" y="2313000"/>
            <a:ext cx="8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297036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9" name=""/>
          <p:cNvSpPr/>
          <p:nvPr/>
        </p:nvSpPr>
        <p:spPr>
          <a:xfrm>
            <a:off x="6230880" y="2313000"/>
            <a:ext cx="10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5413320" y="4022640"/>
            <a:ext cx="129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"/>
          <p:cNvSpPr/>
          <p:nvPr/>
        </p:nvSpPr>
        <p:spPr>
          <a:xfrm>
            <a:off x="5442120" y="46800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6562800" y="406080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す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39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た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てがみ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ん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け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5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8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く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6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くるま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んてんす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7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0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3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3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4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6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3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738600" y="3666960"/>
            <a:ext cx="56674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んじ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から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けんが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5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119480" y="3857760"/>
            <a:ext cx="5058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よや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1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3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59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2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68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698920" y="987480"/>
            <a:ext cx="62769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ff"/>
                </a:solidFill>
                <a:uFillTx/>
                <a:latin typeface="みかちゃん"/>
                <a:ea typeface="みかちゃん"/>
              </a:rPr>
              <a:t>カード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で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はらう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なかなか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パンダ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みる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9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0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7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8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294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300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テニスを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すきで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6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9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す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0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2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5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む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6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0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1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ね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べんきょうし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6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ごは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たべ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あび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4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indefinite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4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5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さんねん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した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2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3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4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ここはどこでしょう？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が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をしなければなりません </a:t>
            </a:r>
            <a:r>
              <a:rPr b="0" lang="fr-FR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をつかってレポートをしてください。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87720" y="412920"/>
            <a:ext cx="60498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Y.OzN_'04"/>
                <a:ea typeface="Y.OzN_'04"/>
              </a:rPr>
              <a:t>どうぶつえん</a:t>
            </a:r>
            <a:endParaRPr b="0" lang="en-US" sz="7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  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348240" y="216072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41120" y="5056200"/>
            <a:ext cx="9236160" cy="14302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とうさんとカリナさん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けっこん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fr-FR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しっていますか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5" name=""/>
          <p:cNvSpPr/>
          <p:nvPr/>
        </p:nvSpPr>
        <p:spPr>
          <a:xfrm>
            <a:off x="2575080" y="565200"/>
            <a:ext cx="2187360" cy="846000"/>
          </a:xfrm>
          <a:prstGeom prst="roundRect">
            <a:avLst>
              <a:gd name="adj" fmla="val 18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かとう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カリナ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3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1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049720" y="4894200"/>
            <a:ext cx="37353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しっていま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0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8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9" name=""/>
          <p:cNvSpPr/>
          <p:nvPr/>
        </p:nvSpPr>
        <p:spPr>
          <a:xfrm>
            <a:off x="5511960" y="6184800"/>
            <a:ext cx="47527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りませんでした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の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3083040" y="5477040"/>
            <a:ext cx="1825560" cy="10983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4511520" y="6394320"/>
            <a:ext cx="3937320" cy="997200"/>
          </a:xfrm>
          <a:prstGeom prst="roundRect">
            <a:avLst>
              <a:gd name="adj" fmla="val 15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じしょけい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4:00:32Z</dcterms:created>
  <dc:creator/>
  <dc:description/>
  <dc:language>en-US</dc:language>
  <cp:lastModifiedBy/>
  <dcterms:modified xsi:type="dcterms:W3CDTF">2016-05-24T19:24:22Z</dcterms:modified>
  <cp:revision>19</cp:revision>
  <dc:subject/>
  <dc:title/>
</cp:coreProperties>
</file>