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6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9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219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032360"/>
            <a:ext cx="437652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 な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た 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たり、…たり し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8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たことが あ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17640" y="2435400"/>
            <a:ext cx="1952640" cy="497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45160" y="996840"/>
            <a:ext cx="2209680" cy="6562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15880" y="5462640"/>
            <a:ext cx="6085080" cy="861840"/>
          </a:xfrm>
          <a:prstGeom prst="roundRect">
            <a:avLst>
              <a:gd name="adj" fmla="val 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1252440" y="5221440"/>
            <a:ext cx="2835360" cy="82548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5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ま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5437080" y="5045040"/>
            <a:ext cx="1635120" cy="1146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811080" y="61056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17640" y="2435400"/>
            <a:ext cx="1952640" cy="497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45160" y="996840"/>
            <a:ext cx="2209680" cy="656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15880" y="5462640"/>
            <a:ext cx="6085080" cy="861840"/>
          </a:xfrm>
          <a:prstGeom prst="roundRect">
            <a:avLst>
              <a:gd name="adj" fmla="val 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252440" y="5221440"/>
            <a:ext cx="2835360" cy="82548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5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ま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5437080" y="5045040"/>
            <a:ext cx="1635120" cy="1146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820800" y="6111720"/>
            <a:ext cx="8572320" cy="12034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おき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した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22200" y="8128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7042320" y="8254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3571920" y="2116080"/>
            <a:ext cx="2103480" cy="1800"/>
          </a:xfrm>
          <a:prstGeom prst="line">
            <a:avLst/>
          </a:prstGeom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0" y="1398600"/>
            <a:ext cx="1764000" cy="143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2720" y="309564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76200" y="1512720"/>
            <a:ext cx="1643040" cy="1492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44720" y="5362560"/>
            <a:ext cx="7032600" cy="1316160"/>
          </a:xfrm>
          <a:prstGeom prst="roundRect">
            <a:avLst>
              <a:gd name="adj" fmla="val 136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ょう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22200" y="8128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7042320" y="8254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2844720" y="5362560"/>
            <a:ext cx="7032600" cy="1316160"/>
          </a:xfrm>
          <a:prstGeom prst="roundRect">
            <a:avLst>
              <a:gd name="adj" fmla="val 136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ょう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てんき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わるく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り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3571920" y="2116080"/>
            <a:ext cx="2103480" cy="1800"/>
          </a:xfrm>
          <a:prstGeom prst="line">
            <a:avLst/>
          </a:prstGeom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0" y="1398600"/>
            <a:ext cx="1764000" cy="1434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2720" y="309564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76200" y="1512720"/>
            <a:ext cx="1643040" cy="14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22200" y="8128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7042320" y="8254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あ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5" name=""/>
          <p:cNvSpPr/>
          <p:nvPr/>
        </p:nvSpPr>
        <p:spPr>
          <a:xfrm>
            <a:off x="3571920" y="2116080"/>
            <a:ext cx="2103480" cy="1800"/>
          </a:xfrm>
          <a:prstGeom prst="line">
            <a:avLst/>
          </a:prstGeom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78040" y="1492200"/>
            <a:ext cx="1763640" cy="143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4520" y="309708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134120" y="1527120"/>
            <a:ext cx="1643040" cy="149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44720" y="4956120"/>
            <a:ext cx="6667560" cy="17226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した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22200" y="8128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7042320" y="825480"/>
            <a:ext cx="1371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_F'04"/>
                <a:ea typeface="Y.Oz_F'04"/>
              </a:rPr>
              <a:t>あ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2844720" y="4956120"/>
            <a:ext cx="6667560" cy="17226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した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てんき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よく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り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3571920" y="2116080"/>
            <a:ext cx="2103480" cy="1800"/>
          </a:xfrm>
          <a:prstGeom prst="line">
            <a:avLst/>
          </a:prstGeom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8040" y="1492200"/>
            <a:ext cx="1763640" cy="1435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4520" y="3097080"/>
            <a:ext cx="2209680" cy="656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34120" y="1527120"/>
            <a:ext cx="164304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19360" y="3597120"/>
            <a:ext cx="701640" cy="451080"/>
          </a:xfrm>
          <a:custGeom>
            <a:avLst/>
            <a:gdLst/>
            <a:ahLst/>
            <a:rect l="l" t="t" r="r" b="b"/>
            <a:pathLst>
              <a:path w="1949" h="1251">
                <a:moveTo>
                  <a:pt x="0" y="1250"/>
                </a:moveTo>
                <a:lnTo>
                  <a:pt x="1948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5583240" y="1481040"/>
            <a:ext cx="530280" cy="833400"/>
          </a:xfrm>
          <a:custGeom>
            <a:avLst/>
            <a:gdLst/>
            <a:ahLst/>
            <a:rect l="l" t="t" r="r" b="b"/>
            <a:pathLst>
              <a:path w="1471" h="2316">
                <a:moveTo>
                  <a:pt x="0" y="2315"/>
                </a:moveTo>
                <a:lnTo>
                  <a:pt x="1470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4908600" y="2209680"/>
            <a:ext cx="569880" cy="595440"/>
          </a:xfrm>
          <a:custGeom>
            <a:avLst/>
            <a:gdLst/>
            <a:ahLst/>
            <a:rect l="l" t="t" r="r" b="b"/>
            <a:pathLst>
              <a:path w="1582" h="1654">
                <a:moveTo>
                  <a:pt x="0" y="1653"/>
                </a:moveTo>
                <a:lnTo>
                  <a:pt x="1581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4246560" y="2924280"/>
            <a:ext cx="635040" cy="542880"/>
          </a:xfrm>
          <a:custGeom>
            <a:avLst/>
            <a:gdLst/>
            <a:ahLst/>
            <a:rect l="l" t="t" r="r" b="b"/>
            <a:pathLst>
              <a:path w="1764" h="1508">
                <a:moveTo>
                  <a:pt x="0" y="1507"/>
                </a:moveTo>
                <a:lnTo>
                  <a:pt x="1763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8916840" y="-595440"/>
            <a:ext cx="3108600" cy="6072480"/>
          </a:xfrm>
          <a:custGeom>
            <a:avLst/>
            <a:gdLst>
              <a:gd name="textAreaLeft" fmla="*/ 360 w 3108600"/>
              <a:gd name="textAreaRight" fmla="*/ 3108240 w 3108600"/>
              <a:gd name="textAreaTop" fmla="*/ 360 h 6072480"/>
              <a:gd name="textAreaBottom" fmla="*/ 6072120 h 6072480"/>
            </a:gdLst>
            <a:ahLst/>
            <a:rect l="textAreaLeft" t="textAreaTop" r="textAreaRight" b="textAreaBottom"/>
            <a:pathLst>
              <a:path w="21600" h="42192">
                <a:moveTo>
                  <a:pt x="11" y="0"/>
                </a:moveTo>
                <a:arcTo wR="11" hR="11" stAng="16200000" swAng="-5400000"/>
                <a:lnTo>
                  <a:pt x="0" y="42181"/>
                </a:lnTo>
                <a:arcTo wR="11" hR="11" stAng="10800000" swAng="-5400000"/>
                <a:lnTo>
                  <a:pt x="21589" y="42192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6667560" y="4140360"/>
            <a:ext cx="2182680" cy="79344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8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979560" y="4603680"/>
            <a:ext cx="218268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519360" y="3597120"/>
            <a:ext cx="701640" cy="451080"/>
          </a:xfrm>
          <a:custGeom>
            <a:avLst/>
            <a:gdLst/>
            <a:ahLst/>
            <a:rect l="l" t="t" r="r" b="b"/>
            <a:pathLst>
              <a:path w="1949" h="1251">
                <a:moveTo>
                  <a:pt x="0" y="1250"/>
                </a:moveTo>
                <a:lnTo>
                  <a:pt x="1948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5583240" y="1481040"/>
            <a:ext cx="530280" cy="833400"/>
          </a:xfrm>
          <a:custGeom>
            <a:avLst/>
            <a:gdLst/>
            <a:ahLst/>
            <a:rect l="l" t="t" r="r" b="b"/>
            <a:pathLst>
              <a:path w="1471" h="2316">
                <a:moveTo>
                  <a:pt x="0" y="2315"/>
                </a:moveTo>
                <a:lnTo>
                  <a:pt x="1470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4908600" y="2209680"/>
            <a:ext cx="569880" cy="595440"/>
          </a:xfrm>
          <a:custGeom>
            <a:avLst/>
            <a:gdLst/>
            <a:ahLst/>
            <a:rect l="l" t="t" r="r" b="b"/>
            <a:pathLst>
              <a:path w="1582" h="1654">
                <a:moveTo>
                  <a:pt x="0" y="1653"/>
                </a:moveTo>
                <a:lnTo>
                  <a:pt x="1581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4246560" y="2924280"/>
            <a:ext cx="635040" cy="542880"/>
          </a:xfrm>
          <a:custGeom>
            <a:avLst/>
            <a:gdLst/>
            <a:ahLst/>
            <a:rect l="l" t="t" r="r" b="b"/>
            <a:pathLst>
              <a:path w="1764" h="1508">
                <a:moveTo>
                  <a:pt x="0" y="1507"/>
                </a:moveTo>
                <a:lnTo>
                  <a:pt x="1763" y="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だんだん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つ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8916840" y="-595440"/>
            <a:ext cx="3108600" cy="6072480"/>
          </a:xfrm>
          <a:custGeom>
            <a:avLst/>
            <a:gdLst>
              <a:gd name="textAreaLeft" fmla="*/ 360 w 3108600"/>
              <a:gd name="textAreaRight" fmla="*/ 3108240 w 3108600"/>
              <a:gd name="textAreaTop" fmla="*/ 360 h 6072480"/>
              <a:gd name="textAreaBottom" fmla="*/ 6072120 h 6072480"/>
            </a:gdLst>
            <a:ahLst/>
            <a:rect l="textAreaLeft" t="textAreaTop" r="textAreaRight" b="textAreaBottom"/>
            <a:pathLst>
              <a:path w="21600" h="42192">
                <a:moveTo>
                  <a:pt x="11" y="0"/>
                </a:moveTo>
                <a:arcTo wR="11" hR="11" stAng="16200000" swAng="-5400000"/>
                <a:lnTo>
                  <a:pt x="0" y="42181"/>
                </a:lnTo>
                <a:arcTo wR="11" hR="11" stAng="10800000" swAng="-5400000"/>
                <a:lnTo>
                  <a:pt x="21589" y="42192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6667560" y="4140360"/>
            <a:ext cx="2182680" cy="79344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8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979560" y="4603680"/>
            <a:ext cx="218268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373560" y="-382680"/>
            <a:ext cx="3108240" cy="6072120"/>
          </a:xfrm>
          <a:custGeom>
            <a:avLst/>
            <a:gdLst>
              <a:gd name="textAreaLeft" fmla="*/ 360 w 3108240"/>
              <a:gd name="textAreaRight" fmla="*/ 3107880 w 3108240"/>
              <a:gd name="textAreaTop" fmla="*/ 360 h 6072120"/>
              <a:gd name="textAreaBottom" fmla="*/ 6071760 h 6072120"/>
            </a:gdLst>
            <a:ahLst/>
            <a:rect l="textAreaLeft" t="textAreaTop" r="textAreaRight" b="textAreaBottom"/>
            <a:pathLst>
              <a:path w="21600" h="42194">
                <a:moveTo>
                  <a:pt x="11" y="0"/>
                </a:moveTo>
                <a:arcTo wR="11" hR="11" stAng="16200000" swAng="-5400000"/>
                <a:lnTo>
                  <a:pt x="0" y="42183"/>
                </a:lnTo>
                <a:arcTo wR="11" hR="11" stAng="10800000" swAng="-5400000"/>
                <a:lnTo>
                  <a:pt x="21589" y="42194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>
            <a:off x="3519360" y="1481040"/>
            <a:ext cx="701640" cy="451080"/>
          </a:xfrm>
          <a:custGeom>
            <a:avLst/>
            <a:gdLst/>
            <a:ahLst/>
            <a:rect l="l" t="t" r="r" b="b"/>
            <a:pathLst>
              <a:path w="1949" h="1251">
                <a:moveTo>
                  <a:pt x="0" y="0"/>
                </a:moveTo>
                <a:lnTo>
                  <a:pt x="1948" y="125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5583240" y="3214800"/>
            <a:ext cx="530280" cy="833400"/>
          </a:xfrm>
          <a:custGeom>
            <a:avLst/>
            <a:gdLst/>
            <a:ahLst/>
            <a:rect l="l" t="t" r="r" b="b"/>
            <a:pathLst>
              <a:path w="1471" h="2316">
                <a:moveTo>
                  <a:pt x="0" y="0"/>
                </a:moveTo>
                <a:lnTo>
                  <a:pt x="1470" y="2315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4908600" y="2725560"/>
            <a:ext cx="569880" cy="595440"/>
          </a:xfrm>
          <a:custGeom>
            <a:avLst/>
            <a:gdLst/>
            <a:ahLst/>
            <a:rect l="l" t="t" r="r" b="b"/>
            <a:pathLst>
              <a:path w="1582" h="1654">
                <a:moveTo>
                  <a:pt x="0" y="0"/>
                </a:moveTo>
                <a:lnTo>
                  <a:pt x="1581" y="1653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4246560" y="2063880"/>
            <a:ext cx="635040" cy="542880"/>
          </a:xfrm>
          <a:custGeom>
            <a:avLst/>
            <a:gdLst/>
            <a:ahLst/>
            <a:rect l="l" t="t" r="r" b="b"/>
            <a:pathLst>
              <a:path w="1764" h="1508">
                <a:moveTo>
                  <a:pt x="0" y="0"/>
                </a:moveTo>
                <a:lnTo>
                  <a:pt x="1763" y="1507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64080"/>
            <a:ext cx="218304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2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979560" y="4603680"/>
            <a:ext cx="218268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0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73560" y="-382680"/>
            <a:ext cx="3108240" cy="6072120"/>
          </a:xfrm>
          <a:custGeom>
            <a:avLst/>
            <a:gdLst>
              <a:gd name="textAreaLeft" fmla="*/ 360 w 3108240"/>
              <a:gd name="textAreaRight" fmla="*/ 3107880 w 3108240"/>
              <a:gd name="textAreaTop" fmla="*/ 360 h 6072120"/>
              <a:gd name="textAreaBottom" fmla="*/ 6071760 h 6072120"/>
            </a:gdLst>
            <a:ahLst/>
            <a:rect l="textAreaLeft" t="textAreaTop" r="textAreaRight" b="textAreaBottom"/>
            <a:pathLst>
              <a:path w="21600" h="42194">
                <a:moveTo>
                  <a:pt x="11" y="0"/>
                </a:moveTo>
                <a:arcTo wR="11" hR="11" stAng="16200000" swAng="-5400000"/>
                <a:lnTo>
                  <a:pt x="0" y="42183"/>
                </a:lnTo>
                <a:arcTo wR="11" hR="11" stAng="10800000" swAng="-5400000"/>
                <a:lnTo>
                  <a:pt x="21589" y="42194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3519360" y="1481040"/>
            <a:ext cx="701640" cy="451080"/>
          </a:xfrm>
          <a:custGeom>
            <a:avLst/>
            <a:gdLst/>
            <a:ahLst/>
            <a:rect l="l" t="t" r="r" b="b"/>
            <a:pathLst>
              <a:path w="1949" h="1251">
                <a:moveTo>
                  <a:pt x="0" y="0"/>
                </a:moveTo>
                <a:lnTo>
                  <a:pt x="1948" y="125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5583240" y="3214800"/>
            <a:ext cx="530280" cy="833400"/>
          </a:xfrm>
          <a:custGeom>
            <a:avLst/>
            <a:gdLst/>
            <a:ahLst/>
            <a:rect l="l" t="t" r="r" b="b"/>
            <a:pathLst>
              <a:path w="1471" h="2316">
                <a:moveTo>
                  <a:pt x="0" y="0"/>
                </a:moveTo>
                <a:lnTo>
                  <a:pt x="1470" y="2315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4908600" y="2725560"/>
            <a:ext cx="569880" cy="595440"/>
          </a:xfrm>
          <a:custGeom>
            <a:avLst/>
            <a:gdLst/>
            <a:ahLst/>
            <a:rect l="l" t="t" r="r" b="b"/>
            <a:pathLst>
              <a:path w="1582" h="1654">
                <a:moveTo>
                  <a:pt x="0" y="0"/>
                </a:moveTo>
                <a:lnTo>
                  <a:pt x="1581" y="1653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4246560" y="2063880"/>
            <a:ext cx="635040" cy="542880"/>
          </a:xfrm>
          <a:custGeom>
            <a:avLst/>
            <a:gdLst/>
            <a:ahLst/>
            <a:rect l="l" t="t" r="r" b="b"/>
            <a:pathLst>
              <a:path w="1764" h="1508">
                <a:moveTo>
                  <a:pt x="0" y="0"/>
                </a:moveTo>
                <a:lnTo>
                  <a:pt x="1763" y="1507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860400" y="5583240"/>
            <a:ext cx="8572680" cy="12034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だんだん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さむ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6819840" y="4564080"/>
            <a:ext cx="218304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2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979560" y="4603680"/>
            <a:ext cx="218268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10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50160" y="3897360"/>
            <a:ext cx="1979640" cy="13143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"/>
          <p:cNvSpPr/>
          <p:nvPr/>
        </p:nvSpPr>
        <p:spPr>
          <a:xfrm>
            <a:off x="3730680" y="23940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2131920"/>
            <a:ext cx="2886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さむ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6141960" y="2160720"/>
            <a:ext cx="30765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たたか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9160" y="1415880"/>
            <a:ext cx="3624120" cy="2881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10080" y="647640"/>
            <a:ext cx="4033800" cy="3119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188200" y="1401840"/>
            <a:ext cx="1717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3571920" y="2513160"/>
            <a:ext cx="1785960" cy="118800"/>
          </a:xfrm>
          <a:custGeom>
            <a:avLst/>
            <a:gdLst/>
            <a:ahLst/>
            <a:rect l="l" t="t" r="r" b="b"/>
            <a:pathLst>
              <a:path w="4962" h="332">
                <a:moveTo>
                  <a:pt x="0" y="331"/>
                </a:moveTo>
                <a:lnTo>
                  <a:pt x="4961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5689440" y="3633840"/>
            <a:ext cx="1684440" cy="917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9160" y="1415880"/>
            <a:ext cx="3624120" cy="288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410080" y="647640"/>
            <a:ext cx="4033800" cy="3119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188200" y="1401840"/>
            <a:ext cx="1717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3571920" y="2513160"/>
            <a:ext cx="1785960" cy="118800"/>
          </a:xfrm>
          <a:custGeom>
            <a:avLst/>
            <a:gdLst/>
            <a:ahLst/>
            <a:rect l="l" t="t" r="r" b="b"/>
            <a:pathLst>
              <a:path w="4962" h="332">
                <a:moveTo>
                  <a:pt x="0" y="331"/>
                </a:moveTo>
                <a:lnTo>
                  <a:pt x="4961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860400" y="5583240"/>
            <a:ext cx="8572680" cy="12034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じょうず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した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5689440" y="3633840"/>
            <a:ext cx="1684440" cy="917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160" y="112680"/>
            <a:ext cx="3105000" cy="2625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306600" y="1322280"/>
            <a:ext cx="6307200" cy="4622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24280" y="2103480"/>
            <a:ext cx="806400" cy="1098360"/>
          </a:xfrm>
          <a:custGeom>
            <a:avLst/>
            <a:gdLst/>
            <a:ahLst/>
            <a:rect l="l" t="t" r="r" b="b"/>
            <a:pathLst>
              <a:path w="2242" h="3051">
                <a:moveTo>
                  <a:pt x="0" y="0"/>
                </a:moveTo>
                <a:lnTo>
                  <a:pt x="2241" y="305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3187800" y="5067360"/>
            <a:ext cx="2539800" cy="846000"/>
          </a:xfrm>
          <a:prstGeom prst="roundRect">
            <a:avLst>
              <a:gd name="adj" fmla="val 18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れいで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647640" y="605952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1160" y="112680"/>
            <a:ext cx="3105000" cy="2625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306600" y="1322280"/>
            <a:ext cx="6307200" cy="4622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924280" y="2103480"/>
            <a:ext cx="806400" cy="1098360"/>
          </a:xfrm>
          <a:custGeom>
            <a:avLst/>
            <a:gdLst/>
            <a:ahLst/>
            <a:rect l="l" t="t" r="r" b="b"/>
            <a:pathLst>
              <a:path w="2242" h="3051">
                <a:moveTo>
                  <a:pt x="0" y="0"/>
                </a:moveTo>
                <a:lnTo>
                  <a:pt x="2241" y="3050"/>
                </a:lnTo>
              </a:path>
            </a:pathLst>
          </a:custGeom>
          <a:noFill/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3187800" y="5067360"/>
            <a:ext cx="2539800" cy="846000"/>
          </a:xfrm>
          <a:prstGeom prst="roundRect">
            <a:avLst>
              <a:gd name="adj" fmla="val 18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れいで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647640" y="605952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れい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した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46600" y="998640"/>
            <a:ext cx="2210040" cy="6562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39080" y="5226120"/>
            <a:ext cx="1600200" cy="753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と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7764480" y="1587600"/>
            <a:ext cx="1951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.Oz_F'04"/>
                <a:ea typeface="Y.Oz_F'04"/>
              </a:rPr>
              <a:t>21</a:t>
            </a: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_F'04"/>
              </a:rPr>
              <a:t>さい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647640" y="605952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646600" y="998640"/>
            <a:ext cx="2210040" cy="6562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39080" y="5226120"/>
            <a:ext cx="1600200" cy="753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と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820800" y="6111720"/>
            <a:ext cx="8572320" cy="12034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21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さい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した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7764480" y="1587600"/>
            <a:ext cx="1951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Y.Oz_F'04"/>
                <a:ea typeface="Y.Oz_F'04"/>
              </a:rPr>
              <a:t>21</a:t>
            </a:r>
            <a:r>
              <a:rPr b="0" lang="ja-JP" sz="5400" spc="-1" strike="noStrike">
                <a:solidFill>
                  <a:srgbClr val="000000"/>
                </a:solidFill>
                <a:latin typeface="Y.Oz_F'04"/>
                <a:ea typeface="Y.Oz_F'04"/>
              </a:rPr>
              <a:t>さい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932120" y="5742000"/>
            <a:ext cx="7289640" cy="144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4351320" y="1044720"/>
            <a:ext cx="4551480" cy="4524120"/>
          </a:xfrm>
          <a:prstGeom prst="ellipse">
            <a:avLst/>
          </a:prstGeom>
          <a:solidFill>
            <a:srgbClr val="c0c0c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3465360" y="2619360"/>
            <a:ext cx="1005120" cy="101916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2870280" y="3279600"/>
            <a:ext cx="488880" cy="50328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2314440" y="3611520"/>
            <a:ext cx="489240" cy="40968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56240" y="1230480"/>
            <a:ext cx="2381400" cy="42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516640" y="4551480"/>
            <a:ext cx="2539800" cy="846000"/>
          </a:xfrm>
          <a:prstGeom prst="roundRect">
            <a:avLst>
              <a:gd name="adj" fmla="val 18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しゃ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2884320" y="5273640"/>
            <a:ext cx="1771920" cy="930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44440" y="3676680"/>
            <a:ext cx="1952640" cy="5029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63480" y="2063880"/>
            <a:ext cx="39020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vouloir devenir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509760" y="299880"/>
            <a:ext cx="9404280" cy="1124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   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しゃ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になり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247680"/>
            <a:ext cx="2544840" cy="1204920"/>
            <a:chOff x="0" y="247680"/>
            <a:chExt cx="2544840" cy="1204920"/>
          </a:xfrm>
        </p:grpSpPr>
        <p:sp>
          <p:nvSpPr>
            <p:cNvPr id="201" name=""/>
            <p:cNvSpPr/>
            <p:nvPr/>
          </p:nvSpPr>
          <p:spPr>
            <a:xfrm>
              <a:off x="0" y="247680"/>
              <a:ext cx="2544840" cy="1204920"/>
            </a:xfrm>
            <a:prstGeom prst="roundRect">
              <a:avLst>
                <a:gd name="adj" fmla="val 1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32120" y="5742000"/>
            <a:ext cx="7289640" cy="144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4351320" y="1044720"/>
            <a:ext cx="4551480" cy="4524120"/>
          </a:xfrm>
          <a:prstGeom prst="ellipse">
            <a:avLst/>
          </a:prstGeom>
          <a:solidFill>
            <a:srgbClr val="c0c0c0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3465360" y="2619360"/>
            <a:ext cx="1005120" cy="101916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2870280" y="3279600"/>
            <a:ext cx="488880" cy="50328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2314440" y="3611520"/>
            <a:ext cx="489240" cy="409680"/>
          </a:xfrm>
          <a:prstGeom prst="ellipse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509760" y="299880"/>
            <a:ext cx="9404280" cy="1124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    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しゃ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になり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56240" y="1230480"/>
            <a:ext cx="2381400" cy="423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516640" y="4551480"/>
            <a:ext cx="2539800" cy="846000"/>
          </a:xfrm>
          <a:prstGeom prst="roundRect">
            <a:avLst>
              <a:gd name="adj" fmla="val 18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しゃ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2884320" y="5273640"/>
            <a:ext cx="1771920" cy="930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247680"/>
            <a:ext cx="2544840" cy="1204920"/>
            <a:chOff x="0" y="247680"/>
            <a:chExt cx="2544840" cy="1204920"/>
          </a:xfrm>
        </p:grpSpPr>
        <p:sp>
          <p:nvSpPr>
            <p:cNvPr id="212" name=""/>
            <p:cNvSpPr/>
            <p:nvPr/>
          </p:nvSpPr>
          <p:spPr>
            <a:xfrm>
              <a:off x="0" y="247680"/>
              <a:ext cx="2544840" cy="1204920"/>
            </a:xfrm>
            <a:prstGeom prst="roundRect">
              <a:avLst>
                <a:gd name="adj" fmla="val 1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5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しょうらい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4440" y="3676680"/>
            <a:ext cx="1952640" cy="5029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63480" y="2063880"/>
            <a:ext cx="390204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vouloir devenir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82480" y="515880"/>
            <a:ext cx="793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やすみのひに なにをし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6191280" y="5821200"/>
            <a:ext cx="2054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92000" y="1150920"/>
            <a:ext cx="2345040" cy="2778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2760" y="3235320"/>
            <a:ext cx="18846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82480" y="515880"/>
            <a:ext cx="793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やすみのひに なにをし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941640" y="2473200"/>
            <a:ext cx="3689640" cy="797040"/>
            <a:chOff x="3941640" y="2473200"/>
            <a:chExt cx="3689640" cy="797040"/>
          </a:xfrm>
        </p:grpSpPr>
        <p:sp>
          <p:nvSpPr>
            <p:cNvPr id="226" name=""/>
            <p:cNvSpPr/>
            <p:nvPr/>
          </p:nvSpPr>
          <p:spPr>
            <a:xfrm>
              <a:off x="3941640" y="2473200"/>
              <a:ext cx="36896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テニスを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した</a:t>
              </a:r>
              <a:r>
                <a:rPr b="0" lang="ja-JP" sz="48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り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95640" y="4219560"/>
            <a:ext cx="3689280" cy="797040"/>
            <a:chOff x="3995640" y="4219560"/>
            <a:chExt cx="3689280" cy="797040"/>
          </a:xfrm>
        </p:grpSpPr>
        <p:sp>
          <p:nvSpPr>
            <p:cNvPr id="228" name=""/>
            <p:cNvSpPr/>
            <p:nvPr/>
          </p:nvSpPr>
          <p:spPr>
            <a:xfrm>
              <a:off x="3995640" y="4219560"/>
              <a:ext cx="368928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かれに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あった</a:t>
              </a:r>
              <a:r>
                <a:rPr b="0" lang="ja-JP" sz="48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り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191280" y="5821200"/>
            <a:ext cx="2054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92000" y="1150920"/>
            <a:ext cx="2345040" cy="2778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12760" y="3235320"/>
            <a:ext cx="1884600" cy="30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50160" y="3897360"/>
            <a:ext cx="1979640" cy="13143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3730680" y="23940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たた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した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2131920"/>
            <a:ext cx="28861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さむ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6141960" y="2160720"/>
            <a:ext cx="30765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たたか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82480" y="515880"/>
            <a:ext cx="793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やすみのひに なにをし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941640" y="2473200"/>
            <a:ext cx="1579680" cy="797040"/>
            <a:chOff x="3941640" y="2473200"/>
            <a:chExt cx="1579680" cy="797040"/>
          </a:xfrm>
        </p:grpSpPr>
        <p:sp>
          <p:nvSpPr>
            <p:cNvPr id="237" name=""/>
            <p:cNvSpPr/>
            <p:nvPr/>
          </p:nvSpPr>
          <p:spPr>
            <a:xfrm>
              <a:off x="3941640" y="2473200"/>
              <a:ext cx="157968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さんぽ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95640" y="4219560"/>
            <a:ext cx="2106720" cy="797040"/>
            <a:chOff x="3995640" y="4219560"/>
            <a:chExt cx="2106720" cy="797040"/>
          </a:xfrm>
        </p:grpSpPr>
        <p:sp>
          <p:nvSpPr>
            <p:cNvPr id="239" name=""/>
            <p:cNvSpPr/>
            <p:nvPr/>
          </p:nvSpPr>
          <p:spPr>
            <a:xfrm>
              <a:off x="3995640" y="4219560"/>
              <a:ext cx="2106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えいがを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191280" y="5821200"/>
            <a:ext cx="2054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82480" y="515880"/>
            <a:ext cx="793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やすみのひに なにをし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941640" y="2473200"/>
            <a:ext cx="3160800" cy="797040"/>
            <a:chOff x="3941640" y="2473200"/>
            <a:chExt cx="3160800" cy="797040"/>
          </a:xfrm>
        </p:grpSpPr>
        <p:sp>
          <p:nvSpPr>
            <p:cNvPr id="246" name=""/>
            <p:cNvSpPr/>
            <p:nvPr/>
          </p:nvSpPr>
          <p:spPr>
            <a:xfrm>
              <a:off x="3941640" y="2473200"/>
              <a:ext cx="31608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さんぽ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した</a:t>
              </a:r>
              <a:r>
                <a:rPr b="0" lang="ja-JP" sz="48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り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95640" y="4219560"/>
            <a:ext cx="3689280" cy="797040"/>
            <a:chOff x="3995640" y="4219560"/>
            <a:chExt cx="3689280" cy="797040"/>
          </a:xfrm>
        </p:grpSpPr>
        <p:sp>
          <p:nvSpPr>
            <p:cNvPr id="248" name=""/>
            <p:cNvSpPr/>
            <p:nvPr/>
          </p:nvSpPr>
          <p:spPr>
            <a:xfrm>
              <a:off x="3995640" y="4219560"/>
              <a:ext cx="368928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えいがを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.OzN_'04"/>
                  <a:ea typeface="Y.OzN_'04"/>
                </a:rPr>
                <a:t>みた</a:t>
              </a:r>
              <a:r>
                <a:rPr b="0" lang="ja-JP" sz="4800" spc="-1" strike="noStrike">
                  <a:solidFill>
                    <a:srgbClr val="ff0000"/>
                  </a:solidFill>
                  <a:latin typeface="Y.OzN_'04"/>
                  <a:ea typeface="Y.OzN_'04"/>
                </a:rPr>
                <a:t>り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191280" y="5821200"/>
            <a:ext cx="2054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505720" y="509256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1809720" y="494820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652320" y="1336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1565280" y="146520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あ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2905200" y="2181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4567320" y="299880"/>
            <a:ext cx="3392280" cy="96552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1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1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た けい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-TA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1552680" y="207792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ま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ち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966960" y="2743200"/>
            <a:ext cx="1677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4879800" y="1363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5792760" y="1490760"/>
            <a:ext cx="11192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7132680" y="2208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>
            <a:off x="5780160" y="210492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5819760" y="279720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の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144360" y="468468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9356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5450040" y="5040360"/>
            <a:ext cx="1452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3236760" y="4697280"/>
            <a:ext cx="215280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3549600" y="4950000"/>
            <a:ext cx="1722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いそ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6929280" y="476244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7242120" y="50148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505720" y="509256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1809720" y="494820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652320" y="1336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1565280" y="146520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あ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2905200" y="2181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3792600"/>
            <a:ext cx="420840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ちり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っ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4567320" y="299880"/>
            <a:ext cx="3392280" cy="96552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1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1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9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た けい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-TA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0" name=""/>
          <p:cNvSpPr/>
          <p:nvPr/>
        </p:nvSpPr>
        <p:spPr>
          <a:xfrm>
            <a:off x="1552680" y="207792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ま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ち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966960" y="2743200"/>
            <a:ext cx="16779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2" name=""/>
          <p:cNvSpPr/>
          <p:nvPr/>
        </p:nvSpPr>
        <p:spPr>
          <a:xfrm>
            <a:off x="2073240" y="1397160"/>
            <a:ext cx="1917720" cy="2230200"/>
          </a:xfrm>
          <a:custGeom>
            <a:avLst/>
            <a:gdLst>
              <a:gd name="textAreaLeft" fmla="*/ 360 w 1917720"/>
              <a:gd name="textAreaRight" fmla="*/ 1917360 w 1917720"/>
              <a:gd name="textAreaTop" fmla="*/ 360 h 2230200"/>
              <a:gd name="textAreaBottom" fmla="*/ 2229840 h 2230200"/>
            </a:gdLst>
            <a:ahLst/>
            <a:rect l="textAreaLeft" t="textAreaTop" r="textAreaRight" b="textAreaBottom"/>
            <a:pathLst>
              <a:path w="21600" h="25119">
                <a:moveTo>
                  <a:pt x="17" y="0"/>
                </a:moveTo>
                <a:arcTo wR="17" hR="17" stAng="16200000" swAng="-5400000"/>
                <a:lnTo>
                  <a:pt x="0" y="25102"/>
                </a:lnTo>
                <a:arcTo wR="17" hR="17" stAng="10800000" swAng="-5400000"/>
                <a:lnTo>
                  <a:pt x="21583" y="25119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った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4879800" y="1363680"/>
            <a:ext cx="2152800" cy="2290680"/>
          </a:xfrm>
          <a:custGeom>
            <a:avLst/>
            <a:gdLst>
              <a:gd name="textAreaLeft" fmla="*/ 360 w 2152800"/>
              <a:gd name="textAreaRight" fmla="*/ 2152440 w 2152800"/>
              <a:gd name="textAreaTop" fmla="*/ 360 h 2290680"/>
              <a:gd name="textAreaBottom" fmla="*/ 2290320 h 2290680"/>
            </a:gdLst>
            <a:ahLst/>
            <a:rect l="textAreaLeft" t="textAreaTop" r="textAreaRight" b="textAreaBottom"/>
            <a:pathLst>
              <a:path w="21600" h="22983">
                <a:moveTo>
                  <a:pt x="15" y="0"/>
                </a:moveTo>
                <a:arcTo wR="15" hR="15" stAng="16200000" swAng="-5400000"/>
                <a:lnTo>
                  <a:pt x="0" y="22968"/>
                </a:lnTo>
                <a:arcTo wR="15" hR="15" stAng="10800000" swAng="-5400000"/>
                <a:lnTo>
                  <a:pt x="21585" y="229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5792760" y="1490760"/>
            <a:ext cx="11192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7132680" y="2208240"/>
            <a:ext cx="145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6" name=""/>
          <p:cNvSpPr/>
          <p:nvPr/>
        </p:nvSpPr>
        <p:spPr>
          <a:xfrm>
            <a:off x="4776840" y="3819600"/>
            <a:ext cx="440676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にびみ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んだ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5780160" y="210492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よ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8" name=""/>
          <p:cNvSpPr/>
          <p:nvPr/>
        </p:nvSpPr>
        <p:spPr>
          <a:xfrm>
            <a:off x="5819760" y="279720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の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9" name=""/>
          <p:cNvSpPr/>
          <p:nvPr/>
        </p:nvSpPr>
        <p:spPr>
          <a:xfrm>
            <a:off x="6354720" y="1384200"/>
            <a:ext cx="1917720" cy="2230560"/>
          </a:xfrm>
          <a:custGeom>
            <a:avLst/>
            <a:gdLst>
              <a:gd name="textAreaLeft" fmla="*/ 360 w 1917720"/>
              <a:gd name="textAreaRight" fmla="*/ 1917360 w 1917720"/>
              <a:gd name="textAreaTop" fmla="*/ 360 h 2230560"/>
              <a:gd name="textAreaBottom" fmla="*/ 2230200 h 2230560"/>
            </a:gdLst>
            <a:ahLst/>
            <a:rect l="textAreaLeft" t="textAreaTop" r="textAreaRight" b="textAreaBottom"/>
            <a:pathLst>
              <a:path w="21600" h="25123">
                <a:moveTo>
                  <a:pt x="17" y="0"/>
                </a:moveTo>
                <a:arcTo wR="17" hR="17" stAng="16200000" swAng="-5400000"/>
                <a:lnTo>
                  <a:pt x="0" y="25106"/>
                </a:lnTo>
                <a:arcTo wR="17" hR="17" stAng="10800000" swAng="-5400000"/>
                <a:lnTo>
                  <a:pt x="21583" y="2512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んだ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144360" y="468468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-85680" y="5867280"/>
            <a:ext cx="31226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い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9356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3" name=""/>
          <p:cNvSpPr/>
          <p:nvPr/>
        </p:nvSpPr>
        <p:spPr>
          <a:xfrm>
            <a:off x="1017720" y="4697280"/>
            <a:ext cx="1917720" cy="10573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た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5450040" y="5040360"/>
            <a:ext cx="1452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.OzN_'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3236760" y="4697280"/>
            <a:ext cx="215280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6" name=""/>
          <p:cNvSpPr/>
          <p:nvPr/>
        </p:nvSpPr>
        <p:spPr>
          <a:xfrm>
            <a:off x="3227400" y="5997600"/>
            <a:ext cx="337176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いだ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3549600" y="4950000"/>
            <a:ext cx="1722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いそ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ぎ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4578480" y="4722840"/>
            <a:ext cx="1917720" cy="10573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いだ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6929280" y="4762440"/>
            <a:ext cx="1565280" cy="11350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6810480" y="5945040"/>
            <a:ext cx="301140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  → し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1" name=""/>
          <p:cNvSpPr/>
          <p:nvPr/>
        </p:nvSpPr>
        <p:spPr>
          <a:xfrm>
            <a:off x="7242120" y="5014800"/>
            <a:ext cx="17226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か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2" name=""/>
          <p:cNvSpPr/>
          <p:nvPr/>
        </p:nvSpPr>
        <p:spPr>
          <a:xfrm>
            <a:off x="7881840" y="4815000"/>
            <a:ext cx="1917720" cy="105732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た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1581120" y="6681960"/>
            <a:ext cx="7332840" cy="877680"/>
          </a:xfrm>
          <a:prstGeom prst="roundRect">
            <a:avLst>
              <a:gd name="adj" fmla="val 181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！！ いきます → いっ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1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3333"/>
                                      </p:to>
                                    </p:animClr>
                                    <p:set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2320" y="13366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977760" y="147780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せ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4567320" y="274680"/>
            <a:ext cx="339228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2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2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743040" y="309708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>
            <a:off x="1069920" y="323856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め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4854600" y="143208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0" name=""/>
          <p:cNvSpPr/>
          <p:nvPr/>
        </p:nvSpPr>
        <p:spPr>
          <a:xfrm>
            <a:off x="5727600" y="1573200"/>
            <a:ext cx="14493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ね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1" name=""/>
          <p:cNvSpPr/>
          <p:nvPr/>
        </p:nvSpPr>
        <p:spPr>
          <a:xfrm>
            <a:off x="4802040" y="33210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5676840" y="3462480"/>
            <a:ext cx="14493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3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た けい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-TA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52320" y="133668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5" name=""/>
          <p:cNvSpPr/>
          <p:nvPr/>
        </p:nvSpPr>
        <p:spPr>
          <a:xfrm>
            <a:off x="977760" y="147780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せ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6" name=""/>
          <p:cNvSpPr/>
          <p:nvPr/>
        </p:nvSpPr>
        <p:spPr>
          <a:xfrm>
            <a:off x="1973160" y="5091120"/>
            <a:ext cx="456588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ます  → 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7" name=""/>
          <p:cNvSpPr/>
          <p:nvPr/>
        </p:nvSpPr>
        <p:spPr>
          <a:xfrm>
            <a:off x="2122560" y="1463760"/>
            <a:ext cx="8776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4567320" y="274680"/>
            <a:ext cx="339228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2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2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グループ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743040" y="309708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0" name=""/>
          <p:cNvSpPr/>
          <p:nvPr/>
        </p:nvSpPr>
        <p:spPr>
          <a:xfrm>
            <a:off x="1069920" y="3238560"/>
            <a:ext cx="1119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>
            <a:off x="2212920" y="3225960"/>
            <a:ext cx="8780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>
            <a:off x="4854600" y="143208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5727600" y="1573200"/>
            <a:ext cx="6667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ね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6323040" y="1560600"/>
            <a:ext cx="8780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4802040" y="33210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6" name=""/>
          <p:cNvSpPr/>
          <p:nvPr/>
        </p:nvSpPr>
        <p:spPr>
          <a:xfrm>
            <a:off x="5676840" y="3462480"/>
            <a:ext cx="6667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7" name=""/>
          <p:cNvSpPr/>
          <p:nvPr/>
        </p:nvSpPr>
        <p:spPr>
          <a:xfrm>
            <a:off x="6272280" y="3448080"/>
            <a:ext cx="8776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1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8" name=""/>
          <p:cNvSpPr/>
          <p:nvPr/>
        </p:nvSpPr>
        <p:spPr>
          <a:xfrm>
            <a:off x="247680" y="195120"/>
            <a:ext cx="4017960" cy="1082880"/>
          </a:xfrm>
          <a:prstGeom prst="roundRect">
            <a:avLst>
              <a:gd name="adj" fmla="val 144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た けい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(forme-TA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2040" y="2872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>
            <a:off x="847800" y="1909800"/>
            <a:ext cx="808992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きます → </a:t>
            </a: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き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1" name=""/>
          <p:cNvSpPr/>
          <p:nvPr/>
        </p:nvSpPr>
        <p:spPr>
          <a:xfrm>
            <a:off x="860400" y="3699000"/>
            <a:ext cx="8064360" cy="14428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します → </a:t>
            </a: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.OzN_'04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397320" y="1254240"/>
            <a:ext cx="489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615960"/>
            <a:ext cx="4908600" cy="225432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5130720" y="736560"/>
            <a:ext cx="4024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さんぽ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した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>
            <a:off x="5216400" y="1533600"/>
            <a:ext cx="3657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えいがを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みた</a:t>
            </a: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7227720" y="2252520"/>
            <a:ext cx="2438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し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6500880" y="2928960"/>
            <a:ext cx="1373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.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8" name=""/>
          <p:cNvSpPr/>
          <p:nvPr/>
        </p:nvSpPr>
        <p:spPr>
          <a:xfrm>
            <a:off x="574560" y="5861160"/>
            <a:ext cx="8685360" cy="134928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mikachan"/>
                <a:ea typeface="mikachan"/>
              </a:rPr>
              <a:t>あさ、おき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mikachan"/>
                <a:ea typeface="mikachan"/>
              </a:rPr>
              <a:t>て </a:t>
            </a:r>
            <a:r>
              <a:rPr b="0" lang="ja-JP" sz="3600" spc="-1" strike="noStrike">
                <a:solidFill>
                  <a:srgbClr val="000000"/>
                </a:solidFill>
                <a:latin typeface="mikachan"/>
                <a:ea typeface="mikachan"/>
              </a:rPr>
              <a:t>シャワー</a:t>
            </a:r>
            <a:r>
              <a:rPr b="0" lang="ja-JP" sz="3600" spc="-1" strike="noStrike">
                <a:solidFill>
                  <a:srgbClr val="800000"/>
                </a:solidFill>
                <a:latin typeface="mikachan"/>
                <a:ea typeface="mikachan"/>
              </a:rPr>
              <a:t>を </a:t>
            </a:r>
            <a:r>
              <a:rPr b="0" lang="ja-JP" sz="3600" spc="-1" strike="noStrike">
                <a:solidFill>
                  <a:srgbClr val="000000"/>
                </a:solidFill>
                <a:latin typeface="mikachan"/>
                <a:ea typeface="mikachan"/>
              </a:rPr>
              <a:t>あび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mikachan"/>
                <a:ea typeface="mikachan"/>
              </a:rPr>
              <a:t>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mikachan"/>
                <a:ea typeface="mikachan"/>
              </a:rPr>
              <a:t>ごはん</a:t>
            </a:r>
            <a:r>
              <a:rPr b="0" lang="ja-JP" sz="3600" spc="-1" strike="noStrike">
                <a:solidFill>
                  <a:srgbClr val="800000"/>
                </a:solidFill>
                <a:latin typeface="mikachan"/>
                <a:ea typeface="mikachan"/>
              </a:rPr>
              <a:t>を </a:t>
            </a:r>
            <a:r>
              <a:rPr b="0" lang="ja-JP" sz="3600" spc="-1" strike="noStrike">
                <a:solidFill>
                  <a:srgbClr val="000000"/>
                </a:solidFill>
                <a:latin typeface="mikachan"/>
                <a:ea typeface="mikachan"/>
              </a:rPr>
              <a:t>たべ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9" name=""/>
          <p:cNvSpPr/>
          <p:nvPr/>
        </p:nvSpPr>
        <p:spPr>
          <a:xfrm>
            <a:off x="2441520" y="4713120"/>
            <a:ext cx="58896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4935600" y="4764240"/>
            <a:ext cx="58896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1" name=""/>
          <p:cNvSpPr/>
          <p:nvPr/>
        </p:nvSpPr>
        <p:spPr>
          <a:xfrm>
            <a:off x="1052640" y="4378320"/>
            <a:ext cx="485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2" name=""/>
          <p:cNvSpPr/>
          <p:nvPr/>
        </p:nvSpPr>
        <p:spPr>
          <a:xfrm>
            <a:off x="3753000" y="4292640"/>
            <a:ext cx="485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4349880"/>
            <a:ext cx="485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5440" y="476280"/>
            <a:ext cx="8267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きのうのばん、なにをしました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5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6191280" y="5821200"/>
            <a:ext cx="2581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し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6402240" y="2711520"/>
            <a:ext cx="1582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6404040" y="4206960"/>
            <a:ext cx="158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82480" y="515880"/>
            <a:ext cx="7770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mikachan"/>
              </a:rPr>
              <a:t>にほんへいって、なにをしたい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1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2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3" name=""/>
          <p:cNvSpPr/>
          <p:nvPr/>
        </p:nvSpPr>
        <p:spPr>
          <a:xfrm>
            <a:off x="5345280" y="5861160"/>
            <a:ext cx="31082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したい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6402240" y="2711520"/>
            <a:ext cx="1582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6404040" y="4206960"/>
            <a:ext cx="158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22520" y="3510000"/>
            <a:ext cx="2306520" cy="1200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4233960" y="24462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482760" y="2146320"/>
            <a:ext cx="30765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たたか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6923160" y="2417760"/>
            <a:ext cx="2198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つ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82480" y="515880"/>
            <a:ext cx="7199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にほんへ いく まえに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なにをしなければなりません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9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0" name=""/>
          <p:cNvSpPr/>
          <p:nvPr/>
        </p:nvSpPr>
        <p:spPr>
          <a:xfrm>
            <a:off x="5345280" y="5133960"/>
            <a:ext cx="3108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しなければ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なりません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1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6402240" y="2711520"/>
            <a:ext cx="1582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6404040" y="4206960"/>
            <a:ext cx="158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82480" y="515880"/>
            <a:ext cx="6715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としょかんで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なにをすることができ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5" name=""/>
          <p:cNvSpPr/>
          <p:nvPr/>
        </p:nvSpPr>
        <p:spPr>
          <a:xfrm>
            <a:off x="3849840" y="2130480"/>
            <a:ext cx="56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3479760" y="2036880"/>
            <a:ext cx="5621400" cy="4933800"/>
          </a:xfrm>
          <a:prstGeom prst="roundRect">
            <a:avLst>
              <a:gd name="adj" fmla="val 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7" name=""/>
          <p:cNvSpPr/>
          <p:nvPr/>
        </p:nvSpPr>
        <p:spPr>
          <a:xfrm>
            <a:off x="5470560" y="5361120"/>
            <a:ext cx="2636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すること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8" name=""/>
          <p:cNvSpPr/>
          <p:nvPr/>
        </p:nvSpPr>
        <p:spPr>
          <a:xfrm>
            <a:off x="2552760" y="6203880"/>
            <a:ext cx="711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etc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6402240" y="2711520"/>
            <a:ext cx="1582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6404040" y="4206960"/>
            <a:ext cx="158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Y.OzN_'04"/>
              </a:rPr>
              <a:t>ー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Y.OzN_'04"/>
              </a:rPr>
              <a:t>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63680" y="3333600"/>
            <a:ext cx="846000" cy="84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2160"/>
            <a:ext cx="4933800" cy="365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27200" y="4613400"/>
            <a:ext cx="9207360" cy="12528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>
            <a:off x="1984320" y="4179960"/>
            <a:ext cx="554040" cy="515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289240" y="4824000"/>
            <a:ext cx="12600" cy="8002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1170000" y="5570640"/>
            <a:ext cx="2832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expérience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22160" y="581040"/>
            <a:ext cx="3708720" cy="2774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H="1" flipV="1">
            <a:off x="2565000" y="1508040"/>
            <a:ext cx="2035080" cy="2764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232240" y="3129120"/>
            <a:ext cx="2822760" cy="818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8361360" y="3633840"/>
            <a:ext cx="1285920" cy="890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1" name=""/>
          <p:cNvSpPr/>
          <p:nvPr/>
        </p:nvSpPr>
        <p:spPr>
          <a:xfrm>
            <a:off x="4630680" y="906480"/>
            <a:ext cx="3946680" cy="1406520"/>
          </a:xfrm>
          <a:prstGeom prst="roundRect">
            <a:avLst>
              <a:gd name="adj" fmla="val 11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っぽん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みかちゃん"/>
              </a:rPr>
              <a:t>(une espèce de tortu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2" name=""/>
          <p:cNvSpPr/>
          <p:nvPr/>
        </p:nvSpPr>
        <p:spPr>
          <a:xfrm>
            <a:off x="357120" y="6178680"/>
            <a:ext cx="919476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63680" y="3333600"/>
            <a:ext cx="846000" cy="84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2160"/>
            <a:ext cx="4933800" cy="365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7200" y="4613400"/>
            <a:ext cx="9207360" cy="12528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6" name=""/>
          <p:cNvSpPr/>
          <p:nvPr/>
        </p:nvSpPr>
        <p:spPr>
          <a:xfrm>
            <a:off x="1984320" y="4179960"/>
            <a:ext cx="554040" cy="515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289240" y="4824000"/>
            <a:ext cx="12600" cy="8002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8" name=""/>
          <p:cNvSpPr/>
          <p:nvPr/>
        </p:nvSpPr>
        <p:spPr>
          <a:xfrm>
            <a:off x="1170000" y="5570640"/>
            <a:ext cx="2832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expérience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2160" y="581040"/>
            <a:ext cx="3708720" cy="27748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H="1" flipV="1">
            <a:off x="2565000" y="1508040"/>
            <a:ext cx="2035080" cy="2764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232240" y="3129120"/>
            <a:ext cx="2822760" cy="818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57120" y="6178680"/>
            <a:ext cx="919476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っぽん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 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たべた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があり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3" name=""/>
          <p:cNvSpPr/>
          <p:nvPr/>
        </p:nvSpPr>
        <p:spPr>
          <a:xfrm>
            <a:off x="8361360" y="3633840"/>
            <a:ext cx="1285920" cy="890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4" name=""/>
          <p:cNvSpPr/>
          <p:nvPr/>
        </p:nvSpPr>
        <p:spPr>
          <a:xfrm>
            <a:off x="4630680" y="906480"/>
            <a:ext cx="3946680" cy="1406520"/>
          </a:xfrm>
          <a:prstGeom prst="roundRect">
            <a:avLst>
              <a:gd name="adj" fmla="val 11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っぽん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みかちゃん"/>
              </a:rPr>
              <a:t>(une espèce de tortu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63680" y="3333600"/>
            <a:ext cx="846000" cy="84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2160"/>
            <a:ext cx="4933800" cy="365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27200" y="4613400"/>
            <a:ext cx="9207360" cy="12528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8" name=""/>
          <p:cNvSpPr/>
          <p:nvPr/>
        </p:nvSpPr>
        <p:spPr>
          <a:xfrm>
            <a:off x="8361360" y="3633840"/>
            <a:ext cx="1285920" cy="890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9" name=""/>
          <p:cNvSpPr/>
          <p:nvPr/>
        </p:nvSpPr>
        <p:spPr>
          <a:xfrm>
            <a:off x="1984320" y="4179960"/>
            <a:ext cx="554040" cy="515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289240" y="4824000"/>
            <a:ext cx="12600" cy="8002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232240" y="3129120"/>
            <a:ext cx="2822760" cy="8189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860480" y="1158840"/>
            <a:ext cx="1855800" cy="1338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833400" y="1722600"/>
            <a:ext cx="706320" cy="2020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70000" y="5570640"/>
            <a:ext cx="2832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expérience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5" name=""/>
          <p:cNvSpPr/>
          <p:nvPr/>
        </p:nvSpPr>
        <p:spPr>
          <a:xfrm>
            <a:off x="357120" y="6178680"/>
            <a:ext cx="919476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363680" y="3333600"/>
            <a:ext cx="846000" cy="84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2160"/>
            <a:ext cx="4933800" cy="3651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27200" y="4613400"/>
            <a:ext cx="9207360" cy="125280"/>
          </a:xfrm>
          <a:prstGeom prst="line">
            <a:avLst/>
          </a:prstGeom>
          <a:ln w="288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9" name=""/>
          <p:cNvSpPr/>
          <p:nvPr/>
        </p:nvSpPr>
        <p:spPr>
          <a:xfrm>
            <a:off x="8361360" y="3633840"/>
            <a:ext cx="1285920" cy="890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0" name=""/>
          <p:cNvSpPr/>
          <p:nvPr/>
        </p:nvSpPr>
        <p:spPr>
          <a:xfrm>
            <a:off x="1984320" y="4179960"/>
            <a:ext cx="554040" cy="515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289240" y="4824000"/>
            <a:ext cx="12600" cy="800280"/>
          </a:xfrm>
          <a:prstGeom prst="line">
            <a:avLst/>
          </a:prstGeom>
          <a:ln w="32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232240" y="3129120"/>
            <a:ext cx="2822760" cy="81896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57120" y="6178680"/>
            <a:ext cx="919476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パンダ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 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みた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があ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60480" y="1158840"/>
            <a:ext cx="1855800" cy="1338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833400" y="1722600"/>
            <a:ext cx="706320" cy="2020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170000" y="5570640"/>
            <a:ext cx="2832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expérience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885960" y="1746360"/>
            <a:ext cx="919476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パンダ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 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みたことがあり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8" name=""/>
          <p:cNvSpPr/>
          <p:nvPr/>
        </p:nvSpPr>
        <p:spPr>
          <a:xfrm>
            <a:off x="858960" y="4405320"/>
            <a:ext cx="9194760" cy="12034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きょねん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、パンダ</a:t>
            </a: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みたことがあり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93440" y="4035600"/>
            <a:ext cx="9204120" cy="1861920"/>
            <a:chOff x="793440" y="4035600"/>
            <a:chExt cx="9204120" cy="1861920"/>
          </a:xfrm>
        </p:grpSpPr>
        <p:sp>
          <p:nvSpPr>
            <p:cNvPr id="420" name=""/>
            <p:cNvSpPr/>
            <p:nvPr/>
          </p:nvSpPr>
          <p:spPr>
            <a:xfrm>
              <a:off x="796680" y="4035600"/>
              <a:ext cx="9197640" cy="18619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793440" y="4035600"/>
              <a:ext cx="9204120" cy="18619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255680"/>
            <a:ext cx="3430440" cy="2487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22440" y="1163520"/>
            <a:ext cx="8162640" cy="2700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4" name=""/>
          <p:cNvSpPr/>
          <p:nvPr/>
        </p:nvSpPr>
        <p:spPr>
          <a:xfrm>
            <a:off x="4065480" y="1976400"/>
            <a:ext cx="1702080" cy="9032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1 fois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011320" y="1442880"/>
            <a:ext cx="3317760" cy="1901880"/>
            <a:chOff x="2011320" y="1442880"/>
            <a:chExt cx="3317760" cy="1901880"/>
          </a:xfrm>
        </p:grpSpPr>
        <p:sp>
          <p:nvSpPr>
            <p:cNvPr id="426" name=""/>
            <p:cNvSpPr/>
            <p:nvPr/>
          </p:nvSpPr>
          <p:spPr>
            <a:xfrm flipH="1">
              <a:off x="2011320" y="1442880"/>
              <a:ext cx="3317760" cy="1901880"/>
            </a:xfrm>
            <a:prstGeom prst="line">
              <a:avLst/>
            </a:prstGeom>
            <a:ln w="25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15640" y="1442880"/>
              <a:ext cx="3311280" cy="1901880"/>
            </a:xfrm>
            <a:prstGeom prst="line">
              <a:avLst/>
            </a:prstGeom>
            <a:ln w="25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579600" y="3425760"/>
            <a:ext cx="2401560" cy="755964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3003480" y="3665520"/>
            <a:ext cx="6096240" cy="2536920"/>
            <a:chOff x="3003480" y="3665520"/>
            <a:chExt cx="6096240" cy="2536920"/>
          </a:xfrm>
        </p:grpSpPr>
        <p:sp>
          <p:nvSpPr>
            <p:cNvPr id="430" name=""/>
            <p:cNvSpPr/>
            <p:nvPr/>
          </p:nvSpPr>
          <p:spPr>
            <a:xfrm>
              <a:off x="3003480" y="3665520"/>
              <a:ext cx="6096240" cy="2536920"/>
            </a:xfrm>
            <a:prstGeom prst="roundRect">
              <a:avLst>
                <a:gd name="adj" fmla="val 706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43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ちゅうごく</a:t>
              </a:r>
              <a:r>
                <a:rPr b="0" lang="ja-JP" sz="44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へ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ありません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676520" y="1255680"/>
            <a:ext cx="3430440" cy="2487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22440" y="1163520"/>
            <a:ext cx="8162640" cy="2700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3" name=""/>
          <p:cNvSpPr/>
          <p:nvPr/>
        </p:nvSpPr>
        <p:spPr>
          <a:xfrm>
            <a:off x="4065480" y="1976400"/>
            <a:ext cx="1702080" cy="90324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1 fois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011320" y="1442880"/>
            <a:ext cx="3317760" cy="1901880"/>
            <a:chOff x="2011320" y="1442880"/>
            <a:chExt cx="3317760" cy="1901880"/>
          </a:xfrm>
        </p:grpSpPr>
        <p:sp>
          <p:nvSpPr>
            <p:cNvPr id="435" name=""/>
            <p:cNvSpPr/>
            <p:nvPr/>
          </p:nvSpPr>
          <p:spPr>
            <a:xfrm flipH="1">
              <a:off x="2011320" y="1442880"/>
              <a:ext cx="3317760" cy="1901880"/>
            </a:xfrm>
            <a:prstGeom prst="line">
              <a:avLst/>
            </a:prstGeom>
            <a:ln w="25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15640" y="1442880"/>
              <a:ext cx="3311280" cy="1901880"/>
            </a:xfrm>
            <a:prstGeom prst="line">
              <a:avLst/>
            </a:prstGeom>
            <a:ln w="25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03480" y="3665520"/>
            <a:ext cx="6096240" cy="2536920"/>
            <a:chOff x="3003480" y="3665520"/>
            <a:chExt cx="6096240" cy="2536920"/>
          </a:xfrm>
        </p:grpSpPr>
        <p:sp>
          <p:nvSpPr>
            <p:cNvPr id="438" name=""/>
            <p:cNvSpPr/>
            <p:nvPr/>
          </p:nvSpPr>
          <p:spPr>
            <a:xfrm>
              <a:off x="3003480" y="3665520"/>
              <a:ext cx="6096240" cy="2536920"/>
            </a:xfrm>
            <a:prstGeom prst="roundRect">
              <a:avLst>
                <a:gd name="adj" fmla="val 706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43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ちゅうごく</a:t>
              </a:r>
              <a:r>
                <a:rPr b="0" lang="ja-JP" sz="44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へ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いちども</a:t>
              </a: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いったことが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ありません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79600" y="3425760"/>
            <a:ext cx="24015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10960" y="249120"/>
            <a:ext cx="679932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1" name=""/>
          <p:cNvSpPr/>
          <p:nvPr/>
        </p:nvSpPr>
        <p:spPr>
          <a:xfrm>
            <a:off x="-274680" y="46980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2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3" name=""/>
          <p:cNvSpPr/>
          <p:nvPr/>
        </p:nvSpPr>
        <p:spPr>
          <a:xfrm>
            <a:off x="608040" y="701640"/>
            <a:ext cx="14493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オペラ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22520" y="3510000"/>
            <a:ext cx="2306520" cy="12002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4233960" y="24462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つ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2146320"/>
            <a:ext cx="30765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たたか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6923160" y="2417760"/>
            <a:ext cx="2198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つ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10960" y="249120"/>
            <a:ext cx="679932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7" name=""/>
          <p:cNvSpPr/>
          <p:nvPr/>
        </p:nvSpPr>
        <p:spPr>
          <a:xfrm>
            <a:off x="-274680" y="46980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9" name=""/>
          <p:cNvSpPr/>
          <p:nvPr/>
        </p:nvSpPr>
        <p:spPr>
          <a:xfrm>
            <a:off x="608040" y="701640"/>
            <a:ext cx="28494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オペラ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たこと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り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3178080" y="604800"/>
            <a:ext cx="6423120" cy="2341440"/>
            <a:chOff x="3178080" y="604800"/>
            <a:chExt cx="6423120" cy="2341440"/>
          </a:xfrm>
        </p:grpSpPr>
        <p:sp>
          <p:nvSpPr>
            <p:cNvPr id="453" name=""/>
            <p:cNvSpPr/>
            <p:nvPr/>
          </p:nvSpPr>
          <p:spPr>
            <a:xfrm>
              <a:off x="3656160" y="604800"/>
              <a:ext cx="5945040" cy="2341440"/>
            </a:xfrm>
            <a:prstGeom prst="roundRect">
              <a:avLst>
                <a:gd name="adj" fmla="val 7653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78080" y="890640"/>
              <a:ext cx="3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78360" y="1069920"/>
              <a:ext cx="5411880" cy="14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いえ、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5819760" y="2619000"/>
            <a:ext cx="25560" cy="11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372280" y="3770280"/>
            <a:ext cx="815760" cy="80964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8" name=""/>
          <p:cNvSpPr/>
          <p:nvPr/>
        </p:nvSpPr>
        <p:spPr>
          <a:xfrm>
            <a:off x="5375160" y="3772080"/>
            <a:ext cx="809640" cy="80928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3178080" y="604800"/>
            <a:ext cx="6423120" cy="2341440"/>
            <a:chOff x="3178080" y="604800"/>
            <a:chExt cx="6423120" cy="2341440"/>
          </a:xfrm>
        </p:grpSpPr>
        <p:sp>
          <p:nvSpPr>
            <p:cNvPr id="462" name=""/>
            <p:cNvSpPr/>
            <p:nvPr/>
          </p:nvSpPr>
          <p:spPr>
            <a:xfrm>
              <a:off x="3656160" y="604800"/>
              <a:ext cx="5945040" cy="2341440"/>
            </a:xfrm>
            <a:prstGeom prst="roundRect">
              <a:avLst>
                <a:gd name="adj" fmla="val 7653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78080" y="890640"/>
              <a:ext cx="3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8360" y="1069920"/>
              <a:ext cx="5411880" cy="1671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432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いえ、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ちども ありません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65" name=""/>
          <p:cNvSpPr/>
          <p:nvPr/>
        </p:nvSpPr>
        <p:spPr>
          <a:xfrm flipV="1">
            <a:off x="5819760" y="2619000"/>
            <a:ext cx="25560" cy="11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372280" y="3770280"/>
            <a:ext cx="815760" cy="80964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7" name=""/>
          <p:cNvSpPr/>
          <p:nvPr/>
        </p:nvSpPr>
        <p:spPr>
          <a:xfrm>
            <a:off x="5375160" y="3772080"/>
            <a:ext cx="809640" cy="80928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-231840" y="331920"/>
            <a:ext cx="7580520" cy="2627280"/>
            <a:chOff x="-231840" y="331920"/>
            <a:chExt cx="7580520" cy="2627280"/>
          </a:xfrm>
        </p:grpSpPr>
        <p:sp>
          <p:nvSpPr>
            <p:cNvPr id="471" name=""/>
            <p:cNvSpPr/>
            <p:nvPr/>
          </p:nvSpPr>
          <p:spPr>
            <a:xfrm>
              <a:off x="263520" y="331920"/>
              <a:ext cx="7085160" cy="2627280"/>
            </a:xfrm>
            <a:prstGeom prst="roundRect">
              <a:avLst>
                <a:gd name="adj" fmla="val 681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231840" y="684360"/>
              <a:ext cx="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1520" y="574560"/>
              <a:ext cx="616896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よかったら、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こんどいっしょに…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5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6" name=""/>
          <p:cNvSpPr/>
          <p:nvPr/>
        </p:nvSpPr>
        <p:spPr>
          <a:xfrm>
            <a:off x="666720" y="2000160"/>
            <a:ext cx="641340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-231840" y="331920"/>
            <a:ext cx="7580520" cy="2627280"/>
            <a:chOff x="-231840" y="331920"/>
            <a:chExt cx="7580520" cy="2627280"/>
          </a:xfrm>
        </p:grpSpPr>
        <p:sp>
          <p:nvSpPr>
            <p:cNvPr id="480" name=""/>
            <p:cNvSpPr/>
            <p:nvPr/>
          </p:nvSpPr>
          <p:spPr>
            <a:xfrm>
              <a:off x="263520" y="331920"/>
              <a:ext cx="7085160" cy="2627280"/>
            </a:xfrm>
            <a:prstGeom prst="roundRect">
              <a:avLst>
                <a:gd name="adj" fmla="val 681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231840" y="684360"/>
              <a:ext cx="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1520" y="574560"/>
              <a:ext cx="616896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よかったら、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こんどいっしょに…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639960" y="4540320"/>
            <a:ext cx="2962440" cy="1440"/>
          </a:xfrm>
          <a:prstGeom prst="line">
            <a:avLst/>
          </a:prstGeom>
          <a:ln w="46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4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66720" y="2000160"/>
            <a:ext cx="641340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Bitstream Vera Serif"/>
              </a:rPr>
              <a:t>みませんか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003480" y="195120"/>
            <a:ext cx="6875640" cy="2195640"/>
            <a:chOff x="3003480" y="195120"/>
            <a:chExt cx="6875640" cy="2195640"/>
          </a:xfrm>
        </p:grpSpPr>
        <p:sp>
          <p:nvSpPr>
            <p:cNvPr id="489" name=""/>
            <p:cNvSpPr/>
            <p:nvPr/>
          </p:nvSpPr>
          <p:spPr>
            <a:xfrm>
              <a:off x="3517920" y="195120"/>
              <a:ext cx="6361200" cy="2195640"/>
            </a:xfrm>
            <a:prstGeom prst="roundRect">
              <a:avLst>
                <a:gd name="adj" fmla="val 8162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03480" y="547560"/>
              <a:ext cx="3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98920" y="770040"/>
              <a:ext cx="6227640" cy="1216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432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ええ</a:t>
              </a: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、いいですね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ぜひ、おねがいしま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5389560" y="3822840"/>
            <a:ext cx="744480" cy="744480"/>
          </a:xfrm>
          <a:prstGeom prst="ellipse">
            <a:avLst/>
          </a:prstGeom>
          <a:noFill/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819760" y="2619000"/>
            <a:ext cx="25560" cy="11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90440" y="290520"/>
            <a:ext cx="679932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7" name=""/>
          <p:cNvSpPr/>
          <p:nvPr/>
        </p:nvSpPr>
        <p:spPr>
          <a:xfrm>
            <a:off x="-274680" y="46980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8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9" name=""/>
          <p:cNvSpPr/>
          <p:nvPr/>
        </p:nvSpPr>
        <p:spPr>
          <a:xfrm>
            <a:off x="608040" y="701640"/>
            <a:ext cx="43498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ポルトガルりょう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0" name=""/>
          <p:cNvSpPr/>
          <p:nvPr/>
        </p:nvSpPr>
        <p:spPr>
          <a:xfrm>
            <a:off x="317520" y="1952640"/>
            <a:ext cx="641340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90440" y="290520"/>
            <a:ext cx="679932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4" name=""/>
          <p:cNvSpPr/>
          <p:nvPr/>
        </p:nvSpPr>
        <p:spPr>
          <a:xfrm>
            <a:off x="-274680" y="46980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5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6" name=""/>
          <p:cNvSpPr/>
          <p:nvPr/>
        </p:nvSpPr>
        <p:spPr>
          <a:xfrm>
            <a:off x="608040" y="701640"/>
            <a:ext cx="1933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スケー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7" name=""/>
          <p:cNvSpPr/>
          <p:nvPr/>
        </p:nvSpPr>
        <p:spPr>
          <a:xfrm>
            <a:off x="507960" y="1920960"/>
            <a:ext cx="641340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0440" y="290520"/>
            <a:ext cx="6799320" cy="2897280"/>
          </a:xfrm>
          <a:prstGeom prst="roundRect">
            <a:avLst>
              <a:gd name="adj" fmla="val 61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1" name=""/>
          <p:cNvSpPr/>
          <p:nvPr/>
        </p:nvSpPr>
        <p:spPr>
          <a:xfrm>
            <a:off x="-274680" y="46980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2" name=""/>
          <p:cNvSpPr/>
          <p:nvPr/>
        </p:nvSpPr>
        <p:spPr>
          <a:xfrm>
            <a:off x="3639960" y="3732120"/>
            <a:ext cx="1382760" cy="1447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Kochi Gothic"/>
                <a:ea typeface="Kochi Gothic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3" name=""/>
          <p:cNvSpPr/>
          <p:nvPr/>
        </p:nvSpPr>
        <p:spPr>
          <a:xfrm>
            <a:off x="608040" y="701640"/>
            <a:ext cx="29001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アルカション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4" name=""/>
          <p:cNvSpPr/>
          <p:nvPr/>
        </p:nvSpPr>
        <p:spPr>
          <a:xfrm>
            <a:off x="365040" y="1857240"/>
            <a:ext cx="6413760" cy="793800"/>
          </a:xfrm>
          <a:prstGeom prst="roundRect">
            <a:avLst>
              <a:gd name="adj" fmla="val 19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90680" y="2568600"/>
            <a:ext cx="2401920" cy="7559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7156440" y="3594240"/>
            <a:ext cx="2152800" cy="65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582480" y="277920"/>
            <a:ext cx="55882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5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は おきな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の ちかくの しま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った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ことがあります</a:t>
            </a: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8" name=""/>
          <p:cNvSpPr/>
          <p:nvPr/>
        </p:nvSpPr>
        <p:spPr>
          <a:xfrm>
            <a:off x="555480" y="294948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うみで およいだ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ろいろなりょうりを たべたり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9" name=""/>
          <p:cNvSpPr/>
          <p:nvPr/>
        </p:nvSpPr>
        <p:spPr>
          <a:xfrm>
            <a:off x="568440" y="5238720"/>
            <a:ext cx="635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5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とても たのしかった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た ぜひ いき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0" name=""/>
          <p:cNvSpPr/>
          <p:nvPr/>
        </p:nvSpPr>
        <p:spPr>
          <a:xfrm>
            <a:off x="3122640" y="1957320"/>
            <a:ext cx="1440" cy="793800"/>
          </a:xfrm>
          <a:custGeom>
            <a:avLst/>
            <a:gdLst/>
            <a:ahLst/>
            <a:rect l="l" t="t" r="r" b="b"/>
            <a:pathLst>
              <a:path w="1" h="2206">
                <a:moveTo>
                  <a:pt x="0" y="0"/>
                </a:moveTo>
                <a:lnTo>
                  <a:pt x="0" y="220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1" name=""/>
          <p:cNvSpPr/>
          <p:nvPr/>
        </p:nvSpPr>
        <p:spPr>
          <a:xfrm>
            <a:off x="3122640" y="4340160"/>
            <a:ext cx="1440" cy="793800"/>
          </a:xfrm>
          <a:custGeom>
            <a:avLst/>
            <a:gdLst/>
            <a:ahLst/>
            <a:rect l="l" t="t" r="r" b="b"/>
            <a:pathLst>
              <a:path w="1" h="2206">
                <a:moveTo>
                  <a:pt x="0" y="0"/>
                </a:moveTo>
                <a:lnTo>
                  <a:pt x="0" y="220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2" name=""/>
          <p:cNvSpPr/>
          <p:nvPr/>
        </p:nvSpPr>
        <p:spPr>
          <a:xfrm>
            <a:off x="6243480" y="741240"/>
            <a:ext cx="3668760" cy="154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あくあフォント"/>
                <a:ea typeface="Y.Oz_F'04"/>
              </a:rPr>
              <a:t>どこ（なに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3" name=""/>
          <p:cNvSpPr/>
          <p:nvPr/>
        </p:nvSpPr>
        <p:spPr>
          <a:xfrm>
            <a:off x="7223040" y="2897280"/>
            <a:ext cx="2103480" cy="1376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あくあフォント"/>
                <a:ea typeface="Y.Oz_F'04"/>
              </a:rPr>
              <a:t>なに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4" name=""/>
          <p:cNvSpPr/>
          <p:nvPr/>
        </p:nvSpPr>
        <p:spPr>
          <a:xfrm>
            <a:off x="7250040" y="4869000"/>
            <a:ext cx="2103480" cy="1376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あくあフォント"/>
                <a:ea typeface="Y.Oz_F'04"/>
              </a:rPr>
              <a:t>どう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51120" y="-1177920"/>
            <a:ext cx="3108240" cy="6072120"/>
          </a:xfrm>
          <a:custGeom>
            <a:avLst/>
            <a:gdLst>
              <a:gd name="textAreaLeft" fmla="*/ 360 w 3108240"/>
              <a:gd name="textAreaRight" fmla="*/ 3107880 w 3108240"/>
              <a:gd name="textAreaTop" fmla="*/ 360 h 6072120"/>
              <a:gd name="textAreaBottom" fmla="*/ 6071760 h 6072120"/>
            </a:gdLst>
            <a:ahLst/>
            <a:rect l="textAreaLeft" t="textAreaTop" r="textAreaRight" b="textAreaBottom"/>
            <a:pathLst>
              <a:path w="21600" h="42194">
                <a:moveTo>
                  <a:pt x="11" y="0"/>
                </a:moveTo>
                <a:arcTo wR="11" hR="11" stAng="16200000" swAng="-5400000"/>
                <a:lnTo>
                  <a:pt x="0" y="42183"/>
                </a:lnTo>
                <a:arcTo wR="11" hR="11" stAng="10800000" swAng="-5400000"/>
                <a:lnTo>
                  <a:pt x="21589" y="42194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3068640" y="24066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484200" y="2232000"/>
            <a:ext cx="2198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つ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6070680" y="2332080"/>
            <a:ext cx="26366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すずし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51120" y="-1177920"/>
            <a:ext cx="3108240" cy="6072120"/>
          </a:xfrm>
          <a:custGeom>
            <a:avLst/>
            <a:gdLst>
              <a:gd name="textAreaLeft" fmla="*/ 360 w 3108240"/>
              <a:gd name="textAreaRight" fmla="*/ 3107880 w 3108240"/>
              <a:gd name="textAreaTop" fmla="*/ 360 h 6072120"/>
              <a:gd name="textAreaBottom" fmla="*/ 6071760 h 6072120"/>
            </a:gdLst>
            <a:ahLst/>
            <a:rect l="textAreaLeft" t="textAreaTop" r="textAreaRight" b="textAreaBottom"/>
            <a:pathLst>
              <a:path w="21600" h="42194">
                <a:moveTo>
                  <a:pt x="11" y="0"/>
                </a:moveTo>
                <a:arcTo wR="11" hR="11" stAng="16200000" swAng="-5400000"/>
                <a:lnTo>
                  <a:pt x="0" y="42183"/>
                </a:lnTo>
                <a:arcTo wR="11" hR="11" stAng="10800000" swAng="-5400000"/>
                <a:lnTo>
                  <a:pt x="21589" y="42194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3068640" y="2406600"/>
            <a:ext cx="228924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すずし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484200" y="2232000"/>
            <a:ext cx="2198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あつ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6070680" y="2332080"/>
            <a:ext cx="26366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すずし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167360" y="2658960"/>
            <a:ext cx="228888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554040" y="2558880"/>
            <a:ext cx="2637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すずし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2558880" y="240192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6865920" y="2602080"/>
            <a:ext cx="2198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さむ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67360" y="2658960"/>
            <a:ext cx="2288880" cy="14400"/>
          </a:xfrm>
          <a:custGeom>
            <a:avLst/>
            <a:gdLst/>
            <a:ahLst/>
            <a:rect l="l" t="t" r="r" b="b"/>
            <a:pathLst>
              <a:path w="6357" h="38">
                <a:moveTo>
                  <a:pt x="0" y="37"/>
                </a:moveTo>
                <a:lnTo>
                  <a:pt x="6356" y="0"/>
                </a:lnTo>
              </a:path>
            </a:pathLst>
          </a:custGeom>
          <a:noFill/>
          <a:ln w="39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860400" y="5608800"/>
            <a:ext cx="8572680" cy="120312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29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さむ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く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なります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558880"/>
            <a:ext cx="2637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すずし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2558880" y="2401920"/>
            <a:ext cx="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6865920" y="2602080"/>
            <a:ext cx="2198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</a:rPr>
              <a:t>さむ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16:24:22Z</dcterms:created>
  <dc:creator/>
  <dc:description/>
  <dc:language>en-US</dc:language>
  <cp:lastModifiedBy/>
  <dcterms:modified xsi:type="dcterms:W3CDTF">2016-05-24T19:24:47Z</dcterms:modified>
  <cp:revision>61</cp:revision>
  <dc:subject/>
  <dc:title/>
</cp:coreProperties>
</file>