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21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40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84680"/>
            <a:ext cx="14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800360" y="4686480"/>
            <a:ext cx="2979720" cy="16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と おもい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と いい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でしょう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55760" y="2300400"/>
            <a:ext cx="4568760" cy="2012760"/>
            <a:chOff x="455760" y="2300400"/>
            <a:chExt cx="4568760" cy="2012760"/>
          </a:xfrm>
        </p:grpSpPr>
        <p:sp>
          <p:nvSpPr>
            <p:cNvPr id="116" name=""/>
            <p:cNvSpPr/>
            <p:nvPr/>
          </p:nvSpPr>
          <p:spPr>
            <a:xfrm>
              <a:off x="4635360" y="3867120"/>
              <a:ext cx="389160" cy="4460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03560" y="3471840"/>
              <a:ext cx="463680" cy="577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5760" y="2300400"/>
              <a:ext cx="3855960" cy="1606320"/>
            </a:xfrm>
            <a:prstGeom prst="roundRect">
              <a:avLst>
                <a:gd name="adj" fmla="val 1114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78200" y="4089240"/>
            <a:ext cx="2473560" cy="34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381400" y="277920"/>
            <a:ext cx="53575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Bitstream Vera Serif"/>
              </a:rPr>
              <a:t>あ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>
            <a:off x="2698920" y="330120"/>
            <a:ext cx="2207880" cy="2011320"/>
          </a:xfrm>
          <a:prstGeom prst="roundRect">
            <a:avLst>
              <a:gd name="adj" fmla="val 79"/>
            </a:avLst>
          </a:pr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2" name=""/>
          <p:cNvSpPr/>
          <p:nvPr/>
        </p:nvSpPr>
        <p:spPr>
          <a:xfrm>
            <a:off x="3559320" y="2249640"/>
            <a:ext cx="2208240" cy="2011320"/>
          </a:xfrm>
          <a:prstGeom prst="roundRect">
            <a:avLst>
              <a:gd name="adj" fmla="val 79"/>
            </a:avLst>
          </a:pr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3" name=""/>
          <p:cNvSpPr/>
          <p:nvPr/>
        </p:nvSpPr>
        <p:spPr>
          <a:xfrm>
            <a:off x="5119560" y="727200"/>
            <a:ext cx="2208240" cy="2011320"/>
          </a:xfrm>
          <a:prstGeom prst="roundRect">
            <a:avLst>
              <a:gd name="adj" fmla="val 79"/>
            </a:avLst>
          </a:pr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4" name=""/>
          <p:cNvSpPr/>
          <p:nvPr/>
        </p:nvSpPr>
        <p:spPr>
          <a:xfrm>
            <a:off x="515880" y="5821200"/>
            <a:ext cx="8083440" cy="979560"/>
          </a:xfrm>
          <a:prstGeom prst="roundRect">
            <a:avLst>
              <a:gd name="adj" fmla="val 1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んだと おもい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81400" y="277920"/>
            <a:ext cx="53575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Bitstream Vera Serif"/>
              </a:rPr>
              <a:t>あ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81400" y="277920"/>
            <a:ext cx="53575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Bitstream Vera Serif"/>
              </a:rPr>
              <a:t>お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7" name=""/>
          <p:cNvSpPr/>
          <p:nvPr/>
        </p:nvSpPr>
        <p:spPr>
          <a:xfrm>
            <a:off x="2698920" y="330120"/>
            <a:ext cx="2207880" cy="2011320"/>
          </a:xfrm>
          <a:prstGeom prst="roundRect">
            <a:avLst>
              <a:gd name="adj" fmla="val 79"/>
            </a:avLst>
          </a:pr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"/>
          <p:cNvSpPr/>
          <p:nvPr/>
        </p:nvSpPr>
        <p:spPr>
          <a:xfrm>
            <a:off x="2278080" y="3841920"/>
            <a:ext cx="2208240" cy="2011320"/>
          </a:xfrm>
          <a:prstGeom prst="roundRect">
            <a:avLst>
              <a:gd name="adj" fmla="val 79"/>
            </a:avLst>
          </a:pr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9" name=""/>
          <p:cNvSpPr/>
          <p:nvPr/>
        </p:nvSpPr>
        <p:spPr>
          <a:xfrm>
            <a:off x="5276880" y="961920"/>
            <a:ext cx="2208240" cy="5205600"/>
          </a:xfrm>
          <a:custGeom>
            <a:avLst/>
            <a:gdLst>
              <a:gd name="textAreaLeft" fmla="*/ 360 w 2208240"/>
              <a:gd name="textAreaRight" fmla="*/ 2207880 w 2208240"/>
              <a:gd name="textAreaTop" fmla="*/ 360 h 5205600"/>
              <a:gd name="textAreaBottom" fmla="*/ 5205240 h 5205600"/>
            </a:gdLst>
            <a:ahLst/>
            <a:rect l="textAreaLeft" t="textAreaTop" r="textAreaRight" b="textAreaBottom"/>
            <a:pathLst>
              <a:path w="21600" h="50914">
                <a:moveTo>
                  <a:pt x="15" y="0"/>
                </a:moveTo>
                <a:arcTo wR="15" hR="15" stAng="16200000" swAng="-5400000"/>
                <a:lnTo>
                  <a:pt x="0" y="50899"/>
                </a:lnTo>
                <a:arcTo wR="15" hR="15" stAng="10800000" swAng="-5400000"/>
                <a:lnTo>
                  <a:pt x="21585" y="50914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0" name=""/>
          <p:cNvSpPr/>
          <p:nvPr/>
        </p:nvSpPr>
        <p:spPr>
          <a:xfrm>
            <a:off x="515880" y="5821200"/>
            <a:ext cx="8083440" cy="979560"/>
          </a:xfrm>
          <a:prstGeom prst="roundRect">
            <a:avLst>
              <a:gd name="adj" fmla="val 1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んだと おもい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381400" y="277920"/>
            <a:ext cx="53575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Bitstream Vera Serif"/>
              </a:rPr>
              <a:t>お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381400" y="277920"/>
            <a:ext cx="53575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Bitstream Vera Serif"/>
              </a:rPr>
              <a:t>ね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3" name=""/>
          <p:cNvSpPr/>
          <p:nvPr/>
        </p:nvSpPr>
        <p:spPr>
          <a:xfrm>
            <a:off x="2698920" y="330120"/>
            <a:ext cx="2207880" cy="2011320"/>
          </a:xfrm>
          <a:prstGeom prst="roundRect">
            <a:avLst>
              <a:gd name="adj" fmla="val 79"/>
            </a:avLst>
          </a:pr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4" name=""/>
          <p:cNvSpPr/>
          <p:nvPr/>
        </p:nvSpPr>
        <p:spPr>
          <a:xfrm>
            <a:off x="2278080" y="3841920"/>
            <a:ext cx="2208240" cy="2011320"/>
          </a:xfrm>
          <a:prstGeom prst="roundRect">
            <a:avLst>
              <a:gd name="adj" fmla="val 79"/>
            </a:avLst>
          </a:pr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5" name=""/>
          <p:cNvSpPr/>
          <p:nvPr/>
        </p:nvSpPr>
        <p:spPr>
          <a:xfrm>
            <a:off x="5010120" y="3429000"/>
            <a:ext cx="3718080" cy="2270160"/>
          </a:xfrm>
          <a:prstGeom prst="roundRect">
            <a:avLst>
              <a:gd name="adj" fmla="val 69"/>
            </a:avLst>
          </a:pr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6" name=""/>
          <p:cNvSpPr/>
          <p:nvPr/>
        </p:nvSpPr>
        <p:spPr>
          <a:xfrm>
            <a:off x="515880" y="5821200"/>
            <a:ext cx="8083440" cy="979560"/>
          </a:xfrm>
          <a:prstGeom prst="roundRect">
            <a:avLst>
              <a:gd name="adj" fmla="val 1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んだと おもい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81400" y="277920"/>
            <a:ext cx="53575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Bitstream Vera Serif"/>
              </a:rPr>
              <a:t>ね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81400" y="277920"/>
            <a:ext cx="53575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Bitstream Vera Serif"/>
              </a:rPr>
              <a:t>が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9" name=""/>
          <p:cNvSpPr/>
          <p:nvPr/>
        </p:nvSpPr>
        <p:spPr>
          <a:xfrm>
            <a:off x="5962680" y="190440"/>
            <a:ext cx="2208240" cy="2963880"/>
          </a:xfrm>
          <a:custGeom>
            <a:avLst/>
            <a:gdLst>
              <a:gd name="textAreaLeft" fmla="*/ 360 w 2208240"/>
              <a:gd name="textAreaRight" fmla="*/ 2207880 w 2208240"/>
              <a:gd name="textAreaTop" fmla="*/ 360 h 2963880"/>
              <a:gd name="textAreaBottom" fmla="*/ 2963520 h 2963880"/>
            </a:gdLst>
            <a:ahLst/>
            <a:rect l="textAreaLeft" t="textAreaTop" r="textAreaRight" b="textAreaBottom"/>
            <a:pathLst>
              <a:path w="21600" h="28990">
                <a:moveTo>
                  <a:pt x="15" y="0"/>
                </a:moveTo>
                <a:arcTo wR="15" hR="15" stAng="16200000" swAng="-5400000"/>
                <a:lnTo>
                  <a:pt x="0" y="28975"/>
                </a:lnTo>
                <a:arcTo wR="15" hR="15" stAng="10800000" swAng="-5400000"/>
                <a:lnTo>
                  <a:pt x="21585" y="28990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0" name=""/>
          <p:cNvSpPr/>
          <p:nvPr/>
        </p:nvSpPr>
        <p:spPr>
          <a:xfrm>
            <a:off x="4667400" y="3622680"/>
            <a:ext cx="2208240" cy="2011320"/>
          </a:xfrm>
          <a:prstGeom prst="roundRect">
            <a:avLst>
              <a:gd name="adj" fmla="val 79"/>
            </a:avLst>
          </a:pr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1" name=""/>
          <p:cNvSpPr/>
          <p:nvPr/>
        </p:nvSpPr>
        <p:spPr>
          <a:xfrm>
            <a:off x="1996920" y="368280"/>
            <a:ext cx="3718080" cy="2925720"/>
          </a:xfrm>
          <a:prstGeom prst="roundRect">
            <a:avLst>
              <a:gd name="adj" fmla="val 51"/>
            </a:avLst>
          </a:pr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515880" y="5821200"/>
            <a:ext cx="8083440" cy="979560"/>
          </a:xfrm>
          <a:prstGeom prst="roundRect">
            <a:avLst>
              <a:gd name="adj" fmla="val 1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んだと おもい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81400" y="277920"/>
            <a:ext cx="53575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Bitstream Vera Serif"/>
              </a:rPr>
              <a:t>が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381400" y="277920"/>
            <a:ext cx="53575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Bitstream Vera Serif"/>
              </a:rPr>
              <a:t>ヌ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5" name=""/>
          <p:cNvSpPr/>
          <p:nvPr/>
        </p:nvSpPr>
        <p:spPr>
          <a:xfrm>
            <a:off x="5962680" y="190440"/>
            <a:ext cx="2208240" cy="2963880"/>
          </a:xfrm>
          <a:custGeom>
            <a:avLst/>
            <a:gdLst>
              <a:gd name="textAreaLeft" fmla="*/ 360 w 2208240"/>
              <a:gd name="textAreaRight" fmla="*/ 2207880 w 2208240"/>
              <a:gd name="textAreaTop" fmla="*/ 360 h 2963880"/>
              <a:gd name="textAreaBottom" fmla="*/ 2963520 h 2963880"/>
            </a:gdLst>
            <a:ahLst/>
            <a:rect l="textAreaLeft" t="textAreaTop" r="textAreaRight" b="textAreaBottom"/>
            <a:pathLst>
              <a:path w="21600" h="28990">
                <a:moveTo>
                  <a:pt x="15" y="0"/>
                </a:moveTo>
                <a:arcTo wR="15" hR="15" stAng="16200000" swAng="-5400000"/>
                <a:lnTo>
                  <a:pt x="0" y="28975"/>
                </a:lnTo>
                <a:arcTo wR="15" hR="15" stAng="10800000" swAng="-5400000"/>
                <a:lnTo>
                  <a:pt x="21585" y="28990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6" name=""/>
          <p:cNvSpPr/>
          <p:nvPr/>
        </p:nvSpPr>
        <p:spPr>
          <a:xfrm>
            <a:off x="4667400" y="3622680"/>
            <a:ext cx="2208240" cy="2011320"/>
          </a:xfrm>
          <a:prstGeom prst="roundRect">
            <a:avLst>
              <a:gd name="adj" fmla="val 79"/>
            </a:avLst>
          </a:pr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1996920" y="368280"/>
            <a:ext cx="3718080" cy="2925720"/>
          </a:xfrm>
          <a:prstGeom prst="roundRect">
            <a:avLst>
              <a:gd name="adj" fmla="val 51"/>
            </a:avLst>
          </a:pr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8" name=""/>
          <p:cNvSpPr/>
          <p:nvPr/>
        </p:nvSpPr>
        <p:spPr>
          <a:xfrm>
            <a:off x="515880" y="5821200"/>
            <a:ext cx="8083440" cy="979560"/>
          </a:xfrm>
          <a:prstGeom prst="roundRect">
            <a:avLst>
              <a:gd name="adj" fmla="val 1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んだと おもい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81200" y="382680"/>
            <a:ext cx="76896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にほんごの しんぶんを よむこと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むずかしいで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" name=""/>
          <p:cNvSpPr/>
          <p:nvPr/>
        </p:nvSpPr>
        <p:spPr>
          <a:xfrm>
            <a:off x="863640" y="2271600"/>
            <a:ext cx="497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YOzFontNP04"/>
                <a:ea typeface="YOzFontNP04"/>
              </a:rPr>
              <a:t>はい、むずかしいで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" name=""/>
          <p:cNvSpPr/>
          <p:nvPr/>
        </p:nvSpPr>
        <p:spPr>
          <a:xfrm>
            <a:off x="819000" y="2822400"/>
            <a:ext cx="73281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えいごの しんぶんを よむこと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むずかしいで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" name=""/>
          <p:cNvSpPr/>
          <p:nvPr/>
        </p:nvSpPr>
        <p:spPr>
          <a:xfrm>
            <a:off x="860400" y="4816440"/>
            <a:ext cx="836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YOzFontNP04"/>
                <a:ea typeface="YOzFontNP04"/>
              </a:rPr>
              <a:t>いいえ、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んなに </a:t>
            </a:r>
            <a:r>
              <a:rPr b="0" lang="ja-JP" sz="3600" spc="-1" strike="noStrike">
                <a:solidFill>
                  <a:srgbClr val="0000ff"/>
                </a:solidFill>
                <a:latin typeface="YOzFontNP04"/>
                <a:ea typeface="YOzFontNP04"/>
              </a:rPr>
              <a:t>むずかしく</a:t>
            </a:r>
            <a:r>
              <a:rPr b="0" lang="ja-JP" sz="36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ないです</a:t>
            </a:r>
            <a:r>
              <a:rPr b="0" lang="ja-JP" sz="3600" spc="-1" strike="noStrike">
                <a:solidFill>
                  <a:srgbClr val="0000ff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95440" y="622440"/>
            <a:ext cx="2033640" cy="4309920"/>
            <a:chOff x="595440" y="622440"/>
            <a:chExt cx="2033640" cy="4309920"/>
          </a:xfrm>
        </p:grpSpPr>
        <p:sp>
          <p:nvSpPr>
            <p:cNvPr id="52" name=""/>
            <p:cNvSpPr/>
            <p:nvPr/>
          </p:nvSpPr>
          <p:spPr>
            <a:xfrm>
              <a:off x="595440" y="622440"/>
              <a:ext cx="1834920" cy="750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1440" y="1362240"/>
              <a:ext cx="1187640" cy="3570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381400" y="277920"/>
            <a:ext cx="53575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Bitstream Vera Serif"/>
              </a:rPr>
              <a:t>ヌ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381400" y="277920"/>
            <a:ext cx="53575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Bitstream Vera Serif"/>
              </a:rPr>
              <a:t>山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1" name=""/>
          <p:cNvSpPr/>
          <p:nvPr/>
        </p:nvSpPr>
        <p:spPr>
          <a:xfrm>
            <a:off x="5962680" y="190440"/>
            <a:ext cx="2208240" cy="2963880"/>
          </a:xfrm>
          <a:custGeom>
            <a:avLst/>
            <a:gdLst>
              <a:gd name="textAreaLeft" fmla="*/ 360 w 2208240"/>
              <a:gd name="textAreaRight" fmla="*/ 2207880 w 2208240"/>
              <a:gd name="textAreaTop" fmla="*/ 360 h 2963880"/>
              <a:gd name="textAreaBottom" fmla="*/ 2963520 h 2963880"/>
            </a:gdLst>
            <a:ahLst/>
            <a:rect l="textAreaLeft" t="textAreaTop" r="textAreaRight" b="textAreaBottom"/>
            <a:pathLst>
              <a:path w="21600" h="28990">
                <a:moveTo>
                  <a:pt x="15" y="0"/>
                </a:moveTo>
                <a:arcTo wR="15" hR="15" stAng="16200000" swAng="-5400000"/>
                <a:lnTo>
                  <a:pt x="0" y="28975"/>
                </a:lnTo>
                <a:arcTo wR="15" hR="15" stAng="10800000" swAng="-5400000"/>
                <a:lnTo>
                  <a:pt x="21585" y="28990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2" name=""/>
          <p:cNvSpPr/>
          <p:nvPr/>
        </p:nvSpPr>
        <p:spPr>
          <a:xfrm>
            <a:off x="4667400" y="3622680"/>
            <a:ext cx="2208240" cy="2011320"/>
          </a:xfrm>
          <a:prstGeom prst="roundRect">
            <a:avLst>
              <a:gd name="adj" fmla="val 79"/>
            </a:avLst>
          </a:pr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3" name=""/>
          <p:cNvSpPr/>
          <p:nvPr/>
        </p:nvSpPr>
        <p:spPr>
          <a:xfrm>
            <a:off x="1996920" y="368280"/>
            <a:ext cx="3718080" cy="2925720"/>
          </a:xfrm>
          <a:prstGeom prst="roundRect">
            <a:avLst>
              <a:gd name="adj" fmla="val 51"/>
            </a:avLst>
          </a:pr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4" name=""/>
          <p:cNvSpPr/>
          <p:nvPr/>
        </p:nvSpPr>
        <p:spPr>
          <a:xfrm>
            <a:off x="515880" y="5821200"/>
            <a:ext cx="8083440" cy="979560"/>
          </a:xfrm>
          <a:prstGeom prst="roundRect">
            <a:avLst>
              <a:gd name="adj" fmla="val 1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んだと おもい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81400" y="277920"/>
            <a:ext cx="53575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Bitstream Vera Serif"/>
              </a:rPr>
              <a:t>山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05120" y="1430280"/>
            <a:ext cx="583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△ 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むずかしいと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おもいません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7" name=""/>
          <p:cNvSpPr/>
          <p:nvPr/>
        </p:nvSpPr>
        <p:spPr>
          <a:xfrm>
            <a:off x="2817720" y="3614760"/>
            <a:ext cx="58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○ 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むずかしくないと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おも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8" name=""/>
          <p:cNvSpPr/>
          <p:nvPr/>
        </p:nvSpPr>
        <p:spPr>
          <a:xfrm>
            <a:off x="5079960" y="2143080"/>
            <a:ext cx="1800" cy="1401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9" name=""/>
          <p:cNvSpPr/>
          <p:nvPr/>
        </p:nvSpPr>
        <p:spPr>
          <a:xfrm>
            <a:off x="1084320" y="343080"/>
            <a:ext cx="25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にほんご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6360" y="1428840"/>
            <a:ext cx="9555120" cy="4932360"/>
          </a:xfrm>
          <a:prstGeom prst="roundRect">
            <a:avLst>
              <a:gd name="adj" fmla="val 2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1" name=""/>
          <p:cNvSpPr/>
          <p:nvPr/>
        </p:nvSpPr>
        <p:spPr>
          <a:xfrm>
            <a:off x="453960" y="1407960"/>
            <a:ext cx="51688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がくせいじゃありません→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2" name=""/>
          <p:cNvSpPr/>
          <p:nvPr/>
        </p:nvSpPr>
        <p:spPr>
          <a:xfrm>
            <a:off x="5079960" y="2143080"/>
            <a:ext cx="1800" cy="1401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3" name=""/>
          <p:cNvSpPr/>
          <p:nvPr/>
        </p:nvSpPr>
        <p:spPr>
          <a:xfrm>
            <a:off x="409680" y="4081320"/>
            <a:ext cx="51688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かなければなりません→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485640" y="5156280"/>
            <a:ext cx="5168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くことができます→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5" name=""/>
          <p:cNvSpPr/>
          <p:nvPr/>
        </p:nvSpPr>
        <p:spPr>
          <a:xfrm>
            <a:off x="501480" y="2298600"/>
            <a:ext cx="51692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ってはいけません→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6" name=""/>
          <p:cNvSpPr/>
          <p:nvPr/>
        </p:nvSpPr>
        <p:spPr>
          <a:xfrm>
            <a:off x="453960" y="3173400"/>
            <a:ext cx="5168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ってもいいです→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7" name=""/>
          <p:cNvSpPr/>
          <p:nvPr/>
        </p:nvSpPr>
        <p:spPr>
          <a:xfrm>
            <a:off x="5554800" y="1454040"/>
            <a:ext cx="349380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がくせいじゃな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8" name=""/>
          <p:cNvSpPr/>
          <p:nvPr/>
        </p:nvSpPr>
        <p:spPr>
          <a:xfrm>
            <a:off x="5540400" y="2390760"/>
            <a:ext cx="3494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いってはいけな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9" name=""/>
          <p:cNvSpPr/>
          <p:nvPr/>
        </p:nvSpPr>
        <p:spPr>
          <a:xfrm>
            <a:off x="5616720" y="3236760"/>
            <a:ext cx="349380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いってもい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0" name=""/>
          <p:cNvSpPr/>
          <p:nvPr/>
        </p:nvSpPr>
        <p:spPr>
          <a:xfrm>
            <a:off x="5462640" y="3983040"/>
            <a:ext cx="43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いかなければならな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1" name=""/>
          <p:cNvSpPr/>
          <p:nvPr/>
        </p:nvSpPr>
        <p:spPr>
          <a:xfrm>
            <a:off x="5432400" y="5172120"/>
            <a:ext cx="3494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いくことができる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2" name=""/>
          <p:cNvSpPr/>
          <p:nvPr/>
        </p:nvSpPr>
        <p:spPr>
          <a:xfrm>
            <a:off x="6283440" y="639288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と おもい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36600" y="117360"/>
            <a:ext cx="9437760" cy="1949400"/>
          </a:xfrm>
          <a:prstGeom prst="roundRect">
            <a:avLst>
              <a:gd name="adj" fmla="val 7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4" name=""/>
          <p:cNvSpPr/>
          <p:nvPr/>
        </p:nvSpPr>
        <p:spPr>
          <a:xfrm>
            <a:off x="633240" y="2103480"/>
            <a:ext cx="1508400" cy="134928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5" name=""/>
          <p:cNvSpPr/>
          <p:nvPr/>
        </p:nvSpPr>
        <p:spPr>
          <a:xfrm>
            <a:off x="7128000" y="3011400"/>
            <a:ext cx="614160" cy="646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6" name=""/>
          <p:cNvSpPr/>
          <p:nvPr/>
        </p:nvSpPr>
        <p:spPr>
          <a:xfrm>
            <a:off x="4397400" y="1517760"/>
            <a:ext cx="3862440" cy="1700280"/>
          </a:xfrm>
          <a:prstGeom prst="roundRect">
            <a:avLst>
              <a:gd name="adj" fmla="val 1056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7" name=""/>
          <p:cNvSpPr/>
          <p:nvPr/>
        </p:nvSpPr>
        <p:spPr>
          <a:xfrm>
            <a:off x="7813800" y="3465360"/>
            <a:ext cx="395280" cy="397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8" name=""/>
          <p:cNvSpPr/>
          <p:nvPr/>
        </p:nvSpPr>
        <p:spPr>
          <a:xfrm>
            <a:off x="4583160" y="184464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かぜをひきました…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9" name=""/>
          <p:cNvSpPr/>
          <p:nvPr/>
        </p:nvSpPr>
        <p:spPr>
          <a:xfrm>
            <a:off x="644400" y="303120"/>
            <a:ext cx="84852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カルメンさんは どうして のどが いた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とおもい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0" name=""/>
          <p:cNvSpPr/>
          <p:nvPr/>
        </p:nvSpPr>
        <p:spPr>
          <a:xfrm>
            <a:off x="600120" y="5070600"/>
            <a:ext cx="6505560" cy="1773000"/>
          </a:xfrm>
          <a:prstGeom prst="wedgeRoundRectCallout">
            <a:avLst>
              <a:gd name="adj1" fmla="val 57430"/>
              <a:gd name="adj2" fmla="val -6651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1" name=""/>
          <p:cNvSpPr/>
          <p:nvPr/>
        </p:nvSpPr>
        <p:spPr>
          <a:xfrm>
            <a:off x="322200" y="5216400"/>
            <a:ext cx="6784920" cy="2140200"/>
          </a:xfrm>
          <a:prstGeom prst="wedgeRoundRectCallout">
            <a:avLst>
              <a:gd name="adj1" fmla="val 55175"/>
              <a:gd name="adj2" fmla="val -6160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2" name=""/>
          <p:cNvSpPr/>
          <p:nvPr/>
        </p:nvSpPr>
        <p:spPr>
          <a:xfrm>
            <a:off x="600120" y="5684760"/>
            <a:ext cx="4416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かぜを ひいた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Bitstream Vera Serif"/>
                <a:ea typeface="YOzFontNP04"/>
              </a:rPr>
              <a:t>から</a:t>
            </a:r>
            <a:r>
              <a:rPr b="0" lang="ja-JP" sz="36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だ</a:t>
            </a: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と</a:t>
            </a: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おも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36600" y="2182680"/>
            <a:ext cx="1430280" cy="2448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905520" y="3648240"/>
            <a:ext cx="2787840" cy="391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36600" y="117360"/>
            <a:ext cx="9437760" cy="1949400"/>
          </a:xfrm>
          <a:prstGeom prst="roundRect">
            <a:avLst>
              <a:gd name="adj" fmla="val 7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6" name=""/>
          <p:cNvSpPr/>
          <p:nvPr/>
        </p:nvSpPr>
        <p:spPr>
          <a:xfrm>
            <a:off x="7128000" y="3011400"/>
            <a:ext cx="614160" cy="646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17760"/>
            <a:ext cx="3862440" cy="1700280"/>
          </a:xfrm>
          <a:prstGeom prst="roundRect">
            <a:avLst>
              <a:gd name="adj" fmla="val 1056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7813800" y="3465360"/>
            <a:ext cx="395280" cy="397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>
            <a:off x="4583160" y="184464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たばこをたくさん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すいました…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0" name=""/>
          <p:cNvSpPr/>
          <p:nvPr/>
        </p:nvSpPr>
        <p:spPr>
          <a:xfrm>
            <a:off x="644400" y="303120"/>
            <a:ext cx="84852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しゃちょうは どうして のどが いた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とおもい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1" name=""/>
          <p:cNvSpPr/>
          <p:nvPr/>
        </p:nvSpPr>
        <p:spPr>
          <a:xfrm>
            <a:off x="600120" y="5070600"/>
            <a:ext cx="6505560" cy="1773000"/>
          </a:xfrm>
          <a:prstGeom prst="wedgeRoundRectCallout">
            <a:avLst>
              <a:gd name="adj1" fmla="val 57430"/>
              <a:gd name="adj2" fmla="val -6651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2" name=""/>
          <p:cNvSpPr/>
          <p:nvPr/>
        </p:nvSpPr>
        <p:spPr>
          <a:xfrm>
            <a:off x="322200" y="5216400"/>
            <a:ext cx="6784920" cy="2140200"/>
          </a:xfrm>
          <a:prstGeom prst="wedgeRoundRectCallout">
            <a:avLst>
              <a:gd name="adj1" fmla="val 55175"/>
              <a:gd name="adj2" fmla="val -6160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3" name=""/>
          <p:cNvSpPr/>
          <p:nvPr/>
        </p:nvSpPr>
        <p:spPr>
          <a:xfrm>
            <a:off x="600120" y="5684760"/>
            <a:ext cx="614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たばこ</a:t>
            </a:r>
            <a:r>
              <a:rPr b="0" lang="ja-JP" sz="36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を</a:t>
            </a: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たくさん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すった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Bitstream Vera Serif"/>
                <a:ea typeface="YOzFontNP04"/>
              </a:rPr>
              <a:t>から</a:t>
            </a:r>
            <a:r>
              <a:rPr b="0" lang="ja-JP" sz="36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だ</a:t>
            </a: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</a:t>
            </a:r>
            <a:r>
              <a:rPr b="0" lang="ja-JP" sz="36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と</a:t>
            </a: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おも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905520" y="3649680"/>
            <a:ext cx="2787840" cy="39117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217520" y="2165400"/>
            <a:ext cx="2274840" cy="29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805120" y="1241280"/>
            <a:ext cx="57564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もしろい？ かんたん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むずかしい？ たのしい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り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7" name=""/>
          <p:cNvSpPr/>
          <p:nvPr/>
        </p:nvSpPr>
        <p:spPr>
          <a:xfrm>
            <a:off x="1984320" y="3122640"/>
            <a:ext cx="12600" cy="1508040"/>
          </a:xfrm>
          <a:custGeom>
            <a:avLst/>
            <a:gdLst/>
            <a:ahLst/>
            <a:rect l="l" t="t" r="r" b="b"/>
            <a:pathLst>
              <a:path w="37" h="4189">
                <a:moveTo>
                  <a:pt x="0" y="0"/>
                </a:moveTo>
                <a:lnTo>
                  <a:pt x="36" y="418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8" name=""/>
          <p:cNvSpPr/>
          <p:nvPr/>
        </p:nvSpPr>
        <p:spPr>
          <a:xfrm>
            <a:off x="1084320" y="31752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ご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9" name=""/>
          <p:cNvSpPr/>
          <p:nvPr/>
        </p:nvSpPr>
        <p:spPr>
          <a:xfrm>
            <a:off x="1057320" y="1455840"/>
            <a:ext cx="1785960" cy="1679400"/>
          </a:xfrm>
          <a:prstGeom prst="ellipse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0" name=""/>
          <p:cNvSpPr/>
          <p:nvPr/>
        </p:nvSpPr>
        <p:spPr>
          <a:xfrm>
            <a:off x="701640" y="4643280"/>
            <a:ext cx="8877240" cy="11908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ご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ついて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どうおもいま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805120" y="1368360"/>
            <a:ext cx="4721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かい？ べんり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そい？ すくない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2" name=""/>
          <p:cNvSpPr/>
          <p:nvPr/>
        </p:nvSpPr>
        <p:spPr>
          <a:xfrm>
            <a:off x="1984320" y="3122640"/>
            <a:ext cx="12600" cy="1508040"/>
          </a:xfrm>
          <a:custGeom>
            <a:avLst/>
            <a:gdLst/>
            <a:ahLst/>
            <a:rect l="l" t="t" r="r" b="b"/>
            <a:pathLst>
              <a:path w="37" h="4189">
                <a:moveTo>
                  <a:pt x="0" y="0"/>
                </a:moveTo>
                <a:lnTo>
                  <a:pt x="36" y="418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3" name=""/>
          <p:cNvSpPr/>
          <p:nvPr/>
        </p:nvSpPr>
        <p:spPr>
          <a:xfrm>
            <a:off x="1084320" y="317520"/>
            <a:ext cx="6721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ボルドーの ろめんでんしゃ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4" name=""/>
          <p:cNvSpPr/>
          <p:nvPr/>
        </p:nvSpPr>
        <p:spPr>
          <a:xfrm>
            <a:off x="1057320" y="1455840"/>
            <a:ext cx="1785960" cy="1679400"/>
          </a:xfrm>
          <a:prstGeom prst="ellipse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5" name=""/>
          <p:cNvSpPr/>
          <p:nvPr/>
        </p:nvSpPr>
        <p:spPr>
          <a:xfrm>
            <a:off x="885960" y="4233960"/>
            <a:ext cx="8520120" cy="1600200"/>
          </a:xfrm>
          <a:prstGeom prst="roundRect">
            <a:avLst>
              <a:gd name="adj" fmla="val 9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ボルドーの ろめんでんしゃ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つい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 おもいま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73360" y="1401840"/>
            <a:ext cx="5587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う</a:t>
            </a:r>
            <a:r>
              <a:rPr b="0" lang="en-US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おもいます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7" name=""/>
          <p:cNvSpPr/>
          <p:nvPr/>
        </p:nvSpPr>
        <p:spPr>
          <a:xfrm>
            <a:off x="1838160" y="3440160"/>
            <a:ext cx="741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う</a:t>
            </a:r>
            <a:r>
              <a:rPr b="0" lang="en-US" sz="6000" spc="-1" strike="noStrike">
                <a:solidFill>
                  <a:srgbClr val="800000"/>
                </a:solidFill>
                <a:latin typeface="YOzFontNP04"/>
                <a:ea typeface="YOzFontNP04"/>
              </a:rPr>
              <a:t>(</a:t>
            </a:r>
            <a:r>
              <a:rPr b="0" lang="ja-JP" sz="6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6000" spc="-1" strike="noStrike">
                <a:solidFill>
                  <a:srgbClr val="800000"/>
                </a:solidFill>
                <a:latin typeface="YOzFontNP04"/>
                <a:ea typeface="YOzFontNP04"/>
              </a:rPr>
              <a:t>)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もいません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8" name=""/>
          <p:cNvSpPr/>
          <p:nvPr/>
        </p:nvSpPr>
        <p:spPr>
          <a:xfrm>
            <a:off x="1044720" y="479520"/>
            <a:ext cx="533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うです 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+ 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もいます 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36560" y="776160"/>
            <a:ext cx="85248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やまださんは えいがが すきですね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まいにち み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5" name=""/>
          <p:cNvSpPr/>
          <p:nvPr/>
        </p:nvSpPr>
        <p:spPr>
          <a:xfrm>
            <a:off x="939960" y="4649760"/>
            <a:ext cx="609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YOzFontNP04"/>
                <a:ea typeface="YOzFontNP04"/>
              </a:rPr>
              <a:t>いいえ、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んなに </a:t>
            </a:r>
            <a:r>
              <a:rPr b="0" lang="ja-JP" sz="3600" spc="-1" strike="noStrike">
                <a:solidFill>
                  <a:srgbClr val="0000ff"/>
                </a:solidFill>
                <a:latin typeface="YOzFontNP04"/>
                <a:ea typeface="YOzFontNP04"/>
              </a:rPr>
              <a:t>み</a:t>
            </a:r>
            <a:r>
              <a:rPr b="0" lang="ja-JP" sz="3600" spc="-1" strike="noStrike" u="sng">
                <a:solidFill>
                  <a:srgbClr val="0000ff"/>
                </a:solidFill>
                <a:uFillTx/>
                <a:latin typeface="YOzFontNP04"/>
                <a:ea typeface="YOzFontNP04"/>
              </a:rPr>
              <a:t>ません</a:t>
            </a:r>
            <a:r>
              <a:rPr b="0" lang="ja-JP" sz="3600" spc="-1" strike="noStrike">
                <a:solidFill>
                  <a:srgbClr val="0000ff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YOzFontNP04"/>
                <a:ea typeface="YOzFontNP04"/>
              </a:rPr>
              <a:t>しゅうに にかいぐらいで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95440" y="1123920"/>
            <a:ext cx="1769760" cy="3807000"/>
            <a:chOff x="595440" y="1123920"/>
            <a:chExt cx="1769760" cy="3807000"/>
          </a:xfrm>
        </p:grpSpPr>
        <p:sp>
          <p:nvSpPr>
            <p:cNvPr id="57" name=""/>
            <p:cNvSpPr/>
            <p:nvPr/>
          </p:nvSpPr>
          <p:spPr>
            <a:xfrm>
              <a:off x="595440" y="1123920"/>
              <a:ext cx="1598400" cy="663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33440" y="1778040"/>
              <a:ext cx="1031760" cy="315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270920" y="4454640"/>
            <a:ext cx="2579400" cy="489096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4670280" y="3716280"/>
            <a:ext cx="3503880" cy="1427400"/>
            <a:chOff x="4670280" y="3716280"/>
            <a:chExt cx="3503880" cy="1427400"/>
          </a:xfrm>
        </p:grpSpPr>
        <p:sp>
          <p:nvSpPr>
            <p:cNvPr id="211" name=""/>
            <p:cNvSpPr/>
            <p:nvPr/>
          </p:nvSpPr>
          <p:spPr>
            <a:xfrm>
              <a:off x="7821720" y="4432320"/>
              <a:ext cx="352440" cy="428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12000" y="4221000"/>
              <a:ext cx="615960" cy="555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70280" y="3716280"/>
              <a:ext cx="2470320" cy="1427400"/>
            </a:xfrm>
            <a:prstGeom prst="roundRect">
              <a:avLst>
                <a:gd name="adj" fmla="val 1255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87480" y="863640"/>
            <a:ext cx="8250120" cy="1114560"/>
          </a:xfrm>
          <a:prstGeom prst="wedgeRoundRectCallout">
            <a:avLst>
              <a:gd name="adj1" fmla="val -21930"/>
              <a:gd name="adj2" fmla="val 28011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5" name=""/>
          <p:cNvSpPr/>
          <p:nvPr/>
        </p:nvSpPr>
        <p:spPr>
          <a:xfrm>
            <a:off x="635040" y="976320"/>
            <a:ext cx="85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わたしは …… と おも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6" name=""/>
          <p:cNvSpPr/>
          <p:nvPr/>
        </p:nvSpPr>
        <p:spPr>
          <a:xfrm>
            <a:off x="2579760" y="2403360"/>
            <a:ext cx="6213240" cy="1568520"/>
          </a:xfrm>
          <a:prstGeom prst="wedgeRoundRectCallout">
            <a:avLst>
              <a:gd name="adj1" fmla="val -55171"/>
              <a:gd name="adj2" fmla="val 14152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075120" y="2689200"/>
            <a:ext cx="5376600" cy="1139760"/>
            <a:chOff x="3075120" y="2689200"/>
            <a:chExt cx="5376600" cy="1139760"/>
          </a:xfrm>
        </p:grpSpPr>
        <p:sp>
          <p:nvSpPr>
            <p:cNvPr id="218" name=""/>
            <p:cNvSpPr/>
            <p:nvPr/>
          </p:nvSpPr>
          <p:spPr>
            <a:xfrm>
              <a:off x="3075120" y="2689200"/>
              <a:ext cx="53766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ロランさん</a:t>
              </a:r>
              <a:r>
                <a:rPr b="0" lang="ja-JP" sz="3600" spc="-1" strike="noStrike">
                  <a:solidFill>
                    <a:srgbClr val="800000"/>
                  </a:solidFill>
                  <a:latin typeface="Bitstream Vera Serif"/>
                  <a:ea typeface="YOzFontNP04"/>
                </a:rPr>
                <a:t>は</a:t>
              </a:r>
              <a:r>
                <a:rPr b="0" lang="en-US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4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…… </a:t>
              </a:r>
              <a:r>
                <a:rPr b="0" lang="ja-JP" sz="3600" spc="-1" strike="noStrike">
                  <a:solidFill>
                    <a:srgbClr val="800000"/>
                  </a:solidFill>
                  <a:latin typeface="Bitstream Vera Serif"/>
                  <a:ea typeface="YOzFontNP04"/>
                </a:rPr>
                <a:t>と</a:t>
              </a:r>
              <a:r>
                <a:rPr b="0" lang="ja-JP" sz="3600" spc="-1" strike="noStrike">
                  <a:solidFill>
                    <a:srgbClr val="ff0000"/>
                  </a:solidFill>
                  <a:latin typeface="Bitstream Vera Serif"/>
                  <a:ea typeface="YOzFontNP04"/>
                </a:rPr>
                <a:t>おもっています</a:t>
              </a: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15880" y="4264200"/>
            <a:ext cx="2347920" cy="32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22440" y="673200"/>
            <a:ext cx="8535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ごはん</a:t>
            </a:r>
            <a:r>
              <a:rPr b="0" lang="ja-JP" sz="36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を</a:t>
            </a: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たべる まえ</a:t>
            </a:r>
            <a:r>
              <a:rPr b="0" lang="ja-JP" sz="36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「いただきます」</a:t>
            </a:r>
            <a:r>
              <a:rPr b="0" lang="ja-JP" sz="36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と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1" name=""/>
          <p:cNvSpPr/>
          <p:nvPr/>
        </p:nvSpPr>
        <p:spPr>
          <a:xfrm>
            <a:off x="6345360" y="3605040"/>
            <a:ext cx="3268440" cy="1157400"/>
          </a:xfrm>
          <a:prstGeom prst="wedgeRoundRectCallout">
            <a:avLst>
              <a:gd name="adj1" fmla="val -82722"/>
              <a:gd name="adj2" fmla="val 5375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ただき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994040" y="3492360"/>
            <a:ext cx="5800680" cy="40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65280" y="466560"/>
            <a:ext cx="4876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ねる まえ</a:t>
            </a:r>
            <a:r>
              <a:rPr b="0" lang="ja-JP" sz="36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なん</a:t>
            </a:r>
            <a:r>
              <a:rPr b="0" lang="ja-JP" sz="36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と</a:t>
            </a: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いい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2173320"/>
            <a:ext cx="9036000" cy="1349280"/>
          </a:xfrm>
          <a:prstGeom prst="roundRect">
            <a:avLst>
              <a:gd name="adj" fmla="val 1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ねる まえ</a:t>
            </a:r>
            <a:r>
              <a:rPr b="0" lang="ja-JP" sz="36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「おやすみなさい」</a:t>
            </a:r>
            <a:r>
              <a:rPr b="0" lang="ja-JP" sz="36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と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5" name=""/>
          <p:cNvSpPr/>
          <p:nvPr/>
        </p:nvSpPr>
        <p:spPr>
          <a:xfrm>
            <a:off x="6418440" y="4103640"/>
            <a:ext cx="3208320" cy="849240"/>
          </a:xfrm>
          <a:prstGeom prst="wedgeRoundRectCallout">
            <a:avLst>
              <a:gd name="adj1" fmla="val -53194"/>
              <a:gd name="adj2" fmla="val 9995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6" name=""/>
          <p:cNvSpPr/>
          <p:nvPr/>
        </p:nvSpPr>
        <p:spPr>
          <a:xfrm>
            <a:off x="7128000" y="4098960"/>
            <a:ext cx="1428480" cy="846000"/>
          </a:xfrm>
          <a:prstGeom prst="roundRect">
            <a:avLst>
              <a:gd name="adj" fmla="val 21236"/>
            </a:avLst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7" name=""/>
          <p:cNvSpPr/>
          <p:nvPr/>
        </p:nvSpPr>
        <p:spPr>
          <a:xfrm>
            <a:off x="5846760" y="4087800"/>
            <a:ext cx="3986280" cy="966960"/>
          </a:xfrm>
          <a:prstGeom prst="wedgeRoundRectCallout">
            <a:avLst>
              <a:gd name="adj1" fmla="val -45958"/>
              <a:gd name="adj2" fmla="val 9540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おやすみなさ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22440" y="617400"/>
            <a:ext cx="85341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「こんにちは」はフランスごで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「</a:t>
            </a: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bonjour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」とい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73000" y="2792520"/>
            <a:ext cx="8531280" cy="1278000"/>
            <a:chOff x="873000" y="2792520"/>
            <a:chExt cx="8531280" cy="1278000"/>
          </a:xfrm>
        </p:grpSpPr>
        <p:sp>
          <p:nvSpPr>
            <p:cNvPr id="230" name=""/>
            <p:cNvSpPr/>
            <p:nvPr/>
          </p:nvSpPr>
          <p:spPr>
            <a:xfrm>
              <a:off x="873000" y="2792520"/>
              <a:ext cx="853128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「</a:t>
              </a:r>
              <a:r>
                <a:rPr b="0" lang="en-US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bonne nuit</a:t>
              </a: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」はにほんごで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4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                </a:t>
              </a: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いいますか。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30480" y="3386160"/>
              <a:ext cx="2946240" cy="684360"/>
            </a:xfrm>
            <a:prstGeom prst="roundRect">
              <a:avLst>
                <a:gd name="adj" fmla="val 50000"/>
              </a:avLst>
            </a:pr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177920" y="3386160"/>
            <a:ext cx="3043080" cy="754200"/>
          </a:xfrm>
          <a:prstGeom prst="roundRect">
            <a:avLst>
              <a:gd name="adj" fmla="val 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と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3" name=""/>
          <p:cNvSpPr/>
          <p:nvPr/>
        </p:nvSpPr>
        <p:spPr>
          <a:xfrm>
            <a:off x="1177920" y="4179960"/>
            <a:ext cx="3043080" cy="753840"/>
          </a:xfrm>
          <a:prstGeom prst="roundRect">
            <a:avLst>
              <a:gd name="adj" fmla="val 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う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5360" y="106200"/>
            <a:ext cx="9671040" cy="2354400"/>
          </a:xfrm>
          <a:prstGeom prst="roundRect">
            <a:avLst>
              <a:gd name="adj" fmla="val 65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5" name=""/>
          <p:cNvSpPr/>
          <p:nvPr/>
        </p:nvSpPr>
        <p:spPr>
          <a:xfrm>
            <a:off x="6286680" y="1882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「……」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6" name=""/>
          <p:cNvSpPr/>
          <p:nvPr/>
        </p:nvSpPr>
        <p:spPr>
          <a:xfrm>
            <a:off x="8783640" y="4802040"/>
            <a:ext cx="1123920" cy="59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90680" y="256860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156440" y="3594240"/>
            <a:ext cx="2152800" cy="6534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306360" y="227160"/>
            <a:ext cx="1047600" cy="2192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60480" y="395280"/>
            <a:ext cx="7780320" cy="733320"/>
          </a:xfrm>
          <a:prstGeom prst="wedgeRoundRectCallout">
            <a:avLst>
              <a:gd name="adj1" fmla="val -58282"/>
              <a:gd name="adj2" fmla="val 1396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りょこう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のしかったで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666880" y="1150920"/>
            <a:ext cx="7089840" cy="3006720"/>
            <a:chOff x="2666880" y="1150920"/>
            <a:chExt cx="7089840" cy="3006720"/>
          </a:xfrm>
        </p:grpSpPr>
        <p:sp>
          <p:nvSpPr>
            <p:cNvPr id="242" name=""/>
            <p:cNvSpPr/>
            <p:nvPr/>
          </p:nvSpPr>
          <p:spPr>
            <a:xfrm>
              <a:off x="2666880" y="1274760"/>
              <a:ext cx="6737400" cy="2473200"/>
            </a:xfrm>
            <a:prstGeom prst="wedgeRoundRectCallout">
              <a:avLst>
                <a:gd name="adj1" fmla="val -56074"/>
                <a:gd name="adj2" fmla="val 44055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43280" y="1150920"/>
              <a:ext cx="6913440" cy="30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なつみさん</a:t>
              </a:r>
              <a:r>
                <a:rPr b="0" lang="ja-JP" sz="3600" spc="-1" strike="noStrike">
                  <a:solidFill>
                    <a:srgbClr val="800000"/>
                  </a:solidFill>
                  <a:latin typeface="Bitstream Vera Serif"/>
                  <a:ea typeface="YOzFontNP04"/>
                </a:rPr>
                <a:t>は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4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「りょこうは</a:t>
              </a:r>
              <a:r>
                <a:rPr b="0" lang="ja-JP" sz="3600" spc="-1" strike="noStrike" u="sng">
                  <a:solidFill>
                    <a:srgbClr val="000000"/>
                  </a:solidFill>
                  <a:uFillTx/>
                  <a:latin typeface="Bitstream Vera Serif"/>
                  <a:ea typeface="YOzFontNP04"/>
                </a:rPr>
                <a:t>たのしかったです</a:t>
              </a: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」</a:t>
              </a:r>
              <a:r>
                <a:rPr b="0" lang="ja-JP" sz="3600" spc="-1" strike="noStrike">
                  <a:solidFill>
                    <a:srgbClr val="800000"/>
                  </a:solidFill>
                  <a:latin typeface="Bitstream Vera Serif"/>
                  <a:ea typeface="YOzFontNP04"/>
                </a:rPr>
                <a:t>と</a:t>
              </a: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いいました。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19320" y="4464000"/>
            <a:ext cx="6913800" cy="3006720"/>
            <a:chOff x="3019320" y="4464000"/>
            <a:chExt cx="6913800" cy="3006720"/>
          </a:xfrm>
        </p:grpSpPr>
        <p:sp>
          <p:nvSpPr>
            <p:cNvPr id="245" name=""/>
            <p:cNvSpPr/>
            <p:nvPr/>
          </p:nvSpPr>
          <p:spPr>
            <a:xfrm>
              <a:off x="3019320" y="4835520"/>
              <a:ext cx="6737400" cy="2473200"/>
            </a:xfrm>
            <a:prstGeom prst="wedgeRoundRectCallout">
              <a:avLst>
                <a:gd name="adj1" fmla="val -62819"/>
                <a:gd name="adj2" fmla="val -91995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19320" y="4464000"/>
              <a:ext cx="6913800" cy="30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なつみさんは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4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りょこう</a:t>
              </a:r>
              <a:r>
                <a:rPr b="0" lang="ja-JP" sz="3600" spc="-1" strike="noStrike">
                  <a:solidFill>
                    <a:srgbClr val="800000"/>
                  </a:solidFill>
                  <a:latin typeface="Bitstream Vera Serif"/>
                  <a:ea typeface="YOzFontNP04"/>
                </a:rPr>
                <a:t>は</a:t>
              </a:r>
              <a:r>
                <a:rPr b="0" lang="ja-JP" sz="3600" spc="-1" strike="noStrike" u="sng">
                  <a:solidFill>
                    <a:srgbClr val="000000"/>
                  </a:solidFill>
                  <a:uFillTx/>
                  <a:latin typeface="Bitstream Vera Serif"/>
                  <a:ea typeface="YOzFontNP04"/>
                </a:rPr>
                <a:t>たのしかった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4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800000"/>
                  </a:solidFill>
                  <a:latin typeface="Bitstream Vera Serif"/>
                  <a:ea typeface="YOzFontNP04"/>
                </a:rPr>
                <a:t>と</a:t>
              </a: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いいました。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5360" y="106200"/>
            <a:ext cx="9671040" cy="2354400"/>
          </a:xfrm>
          <a:prstGeom prst="roundRect">
            <a:avLst>
              <a:gd name="adj" fmla="val 65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8" name=""/>
          <p:cNvSpPr/>
          <p:nvPr/>
        </p:nvSpPr>
        <p:spPr>
          <a:xfrm>
            <a:off x="5626080" y="19987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「……」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9" name=""/>
          <p:cNvSpPr/>
          <p:nvPr/>
        </p:nvSpPr>
        <p:spPr>
          <a:xfrm>
            <a:off x="8783640" y="4802040"/>
            <a:ext cx="1123920" cy="59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90680" y="256860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7156440" y="3594240"/>
            <a:ext cx="2152800" cy="6534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306360" y="227160"/>
            <a:ext cx="1047600" cy="21920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60480" y="395280"/>
            <a:ext cx="7780320" cy="733320"/>
          </a:xfrm>
          <a:prstGeom prst="wedgeRoundRectCallout">
            <a:avLst>
              <a:gd name="adj1" fmla="val -58282"/>
              <a:gd name="adj2" fmla="val 1396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した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すみで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666880" y="1150920"/>
            <a:ext cx="7089840" cy="3006720"/>
            <a:chOff x="2666880" y="1150920"/>
            <a:chExt cx="7089840" cy="3006720"/>
          </a:xfrm>
        </p:grpSpPr>
        <p:sp>
          <p:nvSpPr>
            <p:cNvPr id="255" name=""/>
            <p:cNvSpPr/>
            <p:nvPr/>
          </p:nvSpPr>
          <p:spPr>
            <a:xfrm>
              <a:off x="2666880" y="1274760"/>
              <a:ext cx="6737400" cy="2473200"/>
            </a:xfrm>
            <a:prstGeom prst="wedgeRoundRectCallout">
              <a:avLst>
                <a:gd name="adj1" fmla="val -56074"/>
                <a:gd name="adj2" fmla="val 44055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43280" y="1150920"/>
              <a:ext cx="6913440" cy="30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なつみさん</a:t>
              </a:r>
              <a:r>
                <a:rPr b="0" lang="ja-JP" sz="3600" spc="-1" strike="noStrike">
                  <a:solidFill>
                    <a:srgbClr val="800000"/>
                  </a:solidFill>
                  <a:latin typeface="Bitstream Vera Serif"/>
                  <a:ea typeface="YOzFontNP04"/>
                </a:rPr>
                <a:t>は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4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「あした</a:t>
              </a:r>
              <a:r>
                <a:rPr b="0" lang="ja-JP" sz="3600" spc="-1" strike="noStrike">
                  <a:solidFill>
                    <a:srgbClr val="800000"/>
                  </a:solidFill>
                  <a:latin typeface="Bitstream Vera Serif"/>
                  <a:ea typeface="YOzFontNP04"/>
                </a:rPr>
                <a:t>は</a:t>
              </a:r>
              <a:r>
                <a:rPr b="0" lang="en-US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 </a:t>
              </a:r>
              <a:r>
                <a:rPr b="0" lang="ja-JP" sz="3600" spc="-1" strike="noStrike" u="sng">
                  <a:solidFill>
                    <a:srgbClr val="000000"/>
                  </a:solidFill>
                  <a:uFillTx/>
                  <a:latin typeface="Bitstream Vera Serif"/>
                  <a:ea typeface="YOzFontNP04"/>
                </a:rPr>
                <a:t>やすみです</a:t>
              </a: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」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4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800000"/>
                  </a:solidFill>
                  <a:latin typeface="Bitstream Vera Serif"/>
                  <a:ea typeface="YOzFontNP04"/>
                </a:rPr>
                <a:t>と</a:t>
              </a: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いいました。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019320" y="4464000"/>
            <a:ext cx="6913800" cy="3006720"/>
            <a:chOff x="3019320" y="4464000"/>
            <a:chExt cx="6913800" cy="3006720"/>
          </a:xfrm>
        </p:grpSpPr>
        <p:sp>
          <p:nvSpPr>
            <p:cNvPr id="258" name=""/>
            <p:cNvSpPr/>
            <p:nvPr/>
          </p:nvSpPr>
          <p:spPr>
            <a:xfrm>
              <a:off x="3019320" y="4835520"/>
              <a:ext cx="6737400" cy="2473200"/>
            </a:xfrm>
            <a:prstGeom prst="wedgeRoundRectCallout">
              <a:avLst>
                <a:gd name="adj1" fmla="val -62819"/>
                <a:gd name="adj2" fmla="val -91995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19320" y="4464000"/>
              <a:ext cx="6913800" cy="30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なつみさんは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4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あした</a:t>
              </a:r>
              <a:r>
                <a:rPr b="0" lang="ja-JP" sz="3600" spc="-1" strike="noStrike">
                  <a:solidFill>
                    <a:srgbClr val="800000"/>
                  </a:solidFill>
                  <a:latin typeface="Bitstream Vera Serif"/>
                  <a:ea typeface="YOzFontNP04"/>
                </a:rPr>
                <a:t>は </a:t>
              </a:r>
              <a:r>
                <a:rPr b="0" lang="ja-JP" sz="3600" spc="-1" strike="noStrike" u="sng">
                  <a:solidFill>
                    <a:srgbClr val="000000"/>
                  </a:solidFill>
                  <a:uFillTx/>
                  <a:latin typeface="Bitstream Vera Serif"/>
                  <a:ea typeface="YOzFontNP04"/>
                </a:rPr>
                <a:t>やすみだ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4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800000"/>
                  </a:solidFill>
                  <a:latin typeface="Bitstream Vera Serif"/>
                  <a:ea typeface="YOzFontNP04"/>
                </a:rPr>
                <a:t>と</a:t>
              </a:r>
              <a:r>
                <a:rPr b="0" lang="ja-JP" sz="3600" spc="-1" strike="noStrike">
                  <a:solidFill>
                    <a:srgbClr val="000000"/>
                  </a:solidFill>
                  <a:latin typeface="Bitstream Vera Serif"/>
                  <a:ea typeface="YOzFontNP04"/>
                </a:rPr>
                <a:t>いいました。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dur="indefinite" fill="hold">
                      <p:stCondLst>
                        <p:cond delay="indefinite"/>
                      </p:stCondLst>
                      <p:childTnLst>
                        <p:par>
                          <p:cTn id="3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798720" y="1592280"/>
            <a:ext cx="1285920" cy="1838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58760" y="119160"/>
            <a:ext cx="3416400" cy="1812960"/>
          </a:xfrm>
          <a:prstGeom prst="roundRect">
            <a:avLst>
              <a:gd name="adj" fmla="val 98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2" name=""/>
          <p:cNvSpPr/>
          <p:nvPr/>
        </p:nvSpPr>
        <p:spPr>
          <a:xfrm>
            <a:off x="3341520" y="1420920"/>
            <a:ext cx="463680" cy="554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3" name=""/>
          <p:cNvSpPr/>
          <p:nvPr/>
        </p:nvSpPr>
        <p:spPr>
          <a:xfrm>
            <a:off x="3868560" y="1700280"/>
            <a:ext cx="263880" cy="272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4" name=""/>
          <p:cNvSpPr/>
          <p:nvPr/>
        </p:nvSpPr>
        <p:spPr>
          <a:xfrm>
            <a:off x="4537080" y="247680"/>
            <a:ext cx="50324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あしたのパーティーへ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きますか？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284720" y="3579840"/>
            <a:ext cx="2152440" cy="6534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22200" y="2989440"/>
            <a:ext cx="4322880" cy="1860480"/>
          </a:xfrm>
          <a:prstGeom prst="wedgeRoundRectCallout">
            <a:avLst>
              <a:gd name="adj1" fmla="val 59472"/>
              <a:gd name="adj2" fmla="val 27138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3375000"/>
            <a:ext cx="40212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した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パーティー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く</a:t>
            </a:r>
            <a:r>
              <a:rPr b="0" lang="ja-JP" sz="32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しょう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231840" y="307800"/>
            <a:ext cx="1011240" cy="1670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611360" y="293760"/>
            <a:ext cx="1758960" cy="952560"/>
          </a:xfrm>
          <a:prstGeom prst="wedgeRoundRectCallout">
            <a:avLst>
              <a:gd name="adj1" fmla="val -71657"/>
              <a:gd name="adj2" fmla="val 3609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mikachan"/>
                <a:ea typeface="mikachan"/>
              </a:rPr>
              <a:t>うん、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mikachan"/>
                <a:ea typeface="mikachan"/>
              </a:rPr>
              <a:t>いくよ。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7327800" y="3297240"/>
            <a:ext cx="2049480" cy="71499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1468440" y="1909800"/>
            <a:ext cx="2470320" cy="2043000"/>
            <a:chOff x="1468440" y="1909800"/>
            <a:chExt cx="2470320" cy="2043000"/>
          </a:xfrm>
        </p:grpSpPr>
        <p:sp>
          <p:nvSpPr>
            <p:cNvPr id="272" name=""/>
            <p:cNvSpPr/>
            <p:nvPr/>
          </p:nvSpPr>
          <p:spPr>
            <a:xfrm>
              <a:off x="1468440" y="1909800"/>
              <a:ext cx="2470320" cy="500040"/>
            </a:xfrm>
            <a:prstGeom prst="roundRect">
              <a:avLst>
                <a:gd name="adj" fmla="val 31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YOzFontNP04"/>
                </a:rPr>
                <a:t>80%-99%</a:t>
              </a: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946240" y="2432160"/>
              <a:ext cx="263520" cy="15206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798720" y="1592280"/>
            <a:ext cx="1285920" cy="18381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58760" y="119160"/>
            <a:ext cx="3416400" cy="1812960"/>
          </a:xfrm>
          <a:prstGeom prst="roundRect">
            <a:avLst>
              <a:gd name="adj" fmla="val 98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6" name=""/>
          <p:cNvSpPr/>
          <p:nvPr/>
        </p:nvSpPr>
        <p:spPr>
          <a:xfrm>
            <a:off x="3341520" y="1420920"/>
            <a:ext cx="463680" cy="554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7" name=""/>
          <p:cNvSpPr/>
          <p:nvPr/>
        </p:nvSpPr>
        <p:spPr>
          <a:xfrm>
            <a:off x="3868560" y="1700280"/>
            <a:ext cx="263880" cy="272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8" name=""/>
          <p:cNvSpPr/>
          <p:nvPr/>
        </p:nvSpPr>
        <p:spPr>
          <a:xfrm>
            <a:off x="4762440" y="272880"/>
            <a:ext cx="503244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きのうのレポート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しましたか？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284720" y="3579840"/>
            <a:ext cx="2152440" cy="6534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22200" y="2989440"/>
            <a:ext cx="4322880" cy="1860480"/>
          </a:xfrm>
          <a:prstGeom prst="wedgeRoundRectCallout">
            <a:avLst>
              <a:gd name="adj1" fmla="val 59472"/>
              <a:gd name="adj2" fmla="val 27138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1" name=""/>
          <p:cNvSpPr/>
          <p:nvPr/>
        </p:nvSpPr>
        <p:spPr>
          <a:xfrm>
            <a:off x="468360" y="3375000"/>
            <a:ext cx="36432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う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レポート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た</a:t>
            </a:r>
            <a:r>
              <a:rPr b="0" lang="ja-JP" sz="32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しょう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31840" y="307800"/>
            <a:ext cx="1011240" cy="16704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611360" y="293760"/>
            <a:ext cx="1758960" cy="952560"/>
          </a:xfrm>
          <a:prstGeom prst="wedgeRoundRectCallout">
            <a:avLst>
              <a:gd name="adj1" fmla="val -71657"/>
              <a:gd name="adj2" fmla="val 3609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mikachan"/>
                <a:ea typeface="mikachan"/>
              </a:rPr>
              <a:t>うん、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mikachan"/>
                <a:ea typeface="mikachan"/>
              </a:rPr>
              <a:t>したよ。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7327800" y="3297240"/>
            <a:ext cx="2049480" cy="714996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1468440" y="1909800"/>
            <a:ext cx="2470320" cy="500040"/>
            <a:chOff x="1468440" y="1909800"/>
            <a:chExt cx="2470320" cy="500040"/>
          </a:xfrm>
        </p:grpSpPr>
        <p:sp>
          <p:nvSpPr>
            <p:cNvPr id="286" name=""/>
            <p:cNvSpPr/>
            <p:nvPr/>
          </p:nvSpPr>
          <p:spPr>
            <a:xfrm>
              <a:off x="1468440" y="1909800"/>
              <a:ext cx="2470320" cy="500040"/>
            </a:xfrm>
            <a:prstGeom prst="roundRect">
              <a:avLst>
                <a:gd name="adj" fmla="val 31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YOzFontNP04"/>
                </a:rPr>
                <a:t>80%-99%</a:t>
              </a: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284720" y="3579840"/>
            <a:ext cx="2152440" cy="6534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22200" y="2989440"/>
            <a:ext cx="4322880" cy="1860480"/>
          </a:xfrm>
          <a:prstGeom prst="wedgeRoundRectCallout">
            <a:avLst>
              <a:gd name="adj1" fmla="val 59472"/>
              <a:gd name="adj2" fmla="val 27138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3375000"/>
            <a:ext cx="36432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う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レポート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た</a:t>
            </a:r>
            <a:r>
              <a:rPr b="0" lang="ja-JP" sz="32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しょ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327800" y="3297240"/>
            <a:ext cx="2049480" cy="714996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349200" y="5157720"/>
            <a:ext cx="6388200" cy="2398680"/>
            <a:chOff x="349200" y="5157720"/>
            <a:chExt cx="6388200" cy="2398680"/>
          </a:xfrm>
        </p:grpSpPr>
        <p:pic>
          <p:nvPicPr>
            <p:cNvPr id="292" name="" descr=""/>
            <p:cNvPicPr/>
            <p:nvPr/>
          </p:nvPicPr>
          <p:blipFill>
            <a:blip r:embed="rId3"/>
            <a:stretch/>
          </p:blipFill>
          <p:spPr>
            <a:xfrm>
              <a:off x="349200" y="5305320"/>
              <a:ext cx="143028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2417760" y="5157720"/>
              <a:ext cx="4319640" cy="1855800"/>
            </a:xfrm>
            <a:prstGeom prst="wedgeRoundRectCallout">
              <a:avLst>
                <a:gd name="adj1" fmla="val -70805"/>
                <a:gd name="adj2" fmla="val 1421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63920" y="5543640"/>
            <a:ext cx="364320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う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レポート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た</a:t>
            </a:r>
            <a:r>
              <a:rPr b="0" lang="ja-JP" sz="32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だろう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798720" y="1592280"/>
            <a:ext cx="1285920" cy="18381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58760" y="119160"/>
            <a:ext cx="3416400" cy="1812960"/>
          </a:xfrm>
          <a:prstGeom prst="roundRect">
            <a:avLst>
              <a:gd name="adj" fmla="val 98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7" name=""/>
          <p:cNvSpPr/>
          <p:nvPr/>
        </p:nvSpPr>
        <p:spPr>
          <a:xfrm>
            <a:off x="3341520" y="1420920"/>
            <a:ext cx="463680" cy="554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8" name=""/>
          <p:cNvSpPr/>
          <p:nvPr/>
        </p:nvSpPr>
        <p:spPr>
          <a:xfrm>
            <a:off x="3868560" y="1700280"/>
            <a:ext cx="263880" cy="272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9" name=""/>
          <p:cNvSpPr/>
          <p:nvPr/>
        </p:nvSpPr>
        <p:spPr>
          <a:xfrm>
            <a:off x="1468440" y="1909800"/>
            <a:ext cx="2473200" cy="503280"/>
          </a:xfrm>
          <a:prstGeom prst="roundRect">
            <a:avLst>
              <a:gd name="adj" fmla="val 315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</a:rPr>
              <a:t>80%-99%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0" name=""/>
          <p:cNvSpPr/>
          <p:nvPr/>
        </p:nvSpPr>
        <p:spPr>
          <a:xfrm>
            <a:off x="4762440" y="233280"/>
            <a:ext cx="503244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ちゅうごくへ いったことが ありますか？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284720" y="3579840"/>
            <a:ext cx="2152440" cy="6534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22200" y="2989440"/>
            <a:ext cx="4322880" cy="1860480"/>
          </a:xfrm>
          <a:prstGeom prst="wedgeRoundRectCallout">
            <a:avLst>
              <a:gd name="adj1" fmla="val 59472"/>
              <a:gd name="adj2" fmla="val 27138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3" name=""/>
          <p:cNvSpPr/>
          <p:nvPr/>
        </p:nvSpPr>
        <p:spPr>
          <a:xfrm>
            <a:off x="468360" y="3070080"/>
            <a:ext cx="284328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ゅうごく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ったこと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る</a:t>
            </a:r>
            <a:r>
              <a:rPr b="0" lang="ja-JP" sz="32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しょう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4" name=""/>
          <p:cNvSpPr/>
          <p:nvPr/>
        </p:nvSpPr>
        <p:spPr>
          <a:xfrm>
            <a:off x="1611360" y="293760"/>
            <a:ext cx="1758960" cy="952560"/>
          </a:xfrm>
          <a:prstGeom prst="wedgeRoundRectCallout">
            <a:avLst>
              <a:gd name="adj1" fmla="val -71657"/>
              <a:gd name="adj2" fmla="val 3609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mikachan"/>
                <a:ea typeface="mikachan"/>
              </a:rPr>
              <a:t>うん、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mikachan"/>
                <a:ea typeface="mikachan"/>
              </a:rPr>
              <a:t>あるよ。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7270920" y="3255840"/>
            <a:ext cx="2419200" cy="64008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463680" y="533520"/>
            <a:ext cx="806400" cy="13906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22200" y="2989440"/>
            <a:ext cx="4322880" cy="1860480"/>
          </a:xfrm>
          <a:prstGeom prst="wedgeRoundRectCallout">
            <a:avLst>
              <a:gd name="adj1" fmla="val 59472"/>
              <a:gd name="adj2" fmla="val 27138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8" name=""/>
          <p:cNvSpPr/>
          <p:nvPr/>
        </p:nvSpPr>
        <p:spPr>
          <a:xfrm>
            <a:off x="468360" y="3070080"/>
            <a:ext cx="284328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ゅうごく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ったこと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る</a:t>
            </a:r>
            <a:r>
              <a:rPr b="0" lang="ja-JP" sz="32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でしょう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30040" y="5330880"/>
            <a:ext cx="4319640" cy="1857240"/>
            <a:chOff x="230040" y="5330880"/>
            <a:chExt cx="4319640" cy="1857240"/>
          </a:xfrm>
        </p:grpSpPr>
        <p:sp>
          <p:nvSpPr>
            <p:cNvPr id="310" name=""/>
            <p:cNvSpPr/>
            <p:nvPr/>
          </p:nvSpPr>
          <p:spPr>
            <a:xfrm>
              <a:off x="230040" y="5330880"/>
              <a:ext cx="4319640" cy="1857240"/>
            </a:xfrm>
            <a:prstGeom prst="wedgeRoundRectCallout">
              <a:avLst>
                <a:gd name="adj1" fmla="val 61574"/>
                <a:gd name="adj2" fmla="val -74134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6200" y="5411880"/>
              <a:ext cx="2840040" cy="16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ちゅうごく</a:t>
              </a:r>
              <a:r>
                <a:rPr b="0" lang="ja-JP" sz="32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へ</a:t>
              </a: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いったこと</a:t>
              </a:r>
              <a:r>
                <a:rPr b="0" lang="ja-JP" sz="32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が</a:t>
              </a: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あります</a:t>
              </a:r>
              <a:r>
                <a:rPr b="0" lang="ja-JP" sz="32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よね</a:t>
              </a:r>
              <a:r>
                <a:rPr b="0" lang="ja-JP" sz="32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42880" y="2817720"/>
            <a:ext cx="3859200" cy="1995480"/>
            <a:chOff x="542880" y="2817720"/>
            <a:chExt cx="3859200" cy="1995480"/>
          </a:xfrm>
        </p:grpSpPr>
        <p:sp>
          <p:nvSpPr>
            <p:cNvPr id="313" name=""/>
            <p:cNvSpPr/>
            <p:nvPr/>
          </p:nvSpPr>
          <p:spPr>
            <a:xfrm flipH="1">
              <a:off x="542880" y="2817720"/>
              <a:ext cx="3859200" cy="1995480"/>
            </a:xfrm>
            <a:prstGeom prst="line">
              <a:avLst/>
            </a:prstGeom>
            <a:ln w="10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5760" y="2817720"/>
              <a:ext cx="3852720" cy="1995480"/>
            </a:xfrm>
            <a:prstGeom prst="line">
              <a:avLst/>
            </a:prstGeom>
            <a:ln w="10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328840" y="4735440"/>
            <a:ext cx="146160" cy="1865520"/>
          </a:xfrm>
          <a:custGeom>
            <a:avLst/>
            <a:gdLst/>
            <a:ahLst/>
            <a:rect l="l" t="t" r="r" b="b"/>
            <a:pathLst>
              <a:path w="405" h="5182">
                <a:moveTo>
                  <a:pt x="404" y="0"/>
                </a:moveTo>
                <a:lnTo>
                  <a:pt x="0" y="5181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dur="indefinite" fill="hold">
                      <p:stCondLst>
                        <p:cond delay="indefinite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453960" y="2300400"/>
            <a:ext cx="4568760" cy="2012760"/>
            <a:chOff x="453960" y="2300400"/>
            <a:chExt cx="4568760" cy="2012760"/>
          </a:xfrm>
        </p:grpSpPr>
        <p:sp>
          <p:nvSpPr>
            <p:cNvPr id="60" name=""/>
            <p:cNvSpPr/>
            <p:nvPr/>
          </p:nvSpPr>
          <p:spPr>
            <a:xfrm>
              <a:off x="4633920" y="3867120"/>
              <a:ext cx="388800" cy="4460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02120" y="3470400"/>
              <a:ext cx="463680" cy="577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3960" y="2300400"/>
              <a:ext cx="3854520" cy="1606320"/>
            </a:xfrm>
            <a:prstGeom prst="roundRect">
              <a:avLst>
                <a:gd name="adj" fmla="val 1114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25520" y="36684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おとこの ひとで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（それとも）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おんなの ひとで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" name=""/>
          <p:cNvSpPr/>
          <p:nvPr/>
        </p:nvSpPr>
        <p:spPr>
          <a:xfrm>
            <a:off x="952560" y="283356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おんなのひと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76760" y="4089240"/>
            <a:ext cx="2473200" cy="3472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4322880"/>
            <a:ext cx="4322880" cy="1479600"/>
          </a:xfrm>
          <a:prstGeom prst="wedgeRoundRectCallout">
            <a:avLst>
              <a:gd name="adj1" fmla="val 68300"/>
              <a:gd name="adj2" fmla="val 4798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" name=""/>
          <p:cNvSpPr/>
          <p:nvPr/>
        </p:nvSpPr>
        <p:spPr>
          <a:xfrm>
            <a:off x="557280" y="448452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おんなのひと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Bitstream Vera Serif"/>
                <a:ea typeface="YOzFontNP04"/>
              </a:rPr>
              <a:t>だ</a:t>
            </a:r>
            <a:r>
              <a:rPr b="0" lang="ja-JP" sz="36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と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おもい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7000" y="165240"/>
            <a:ext cx="4384800" cy="41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453960" y="2300400"/>
            <a:ext cx="4568760" cy="2012760"/>
            <a:chOff x="453960" y="2300400"/>
            <a:chExt cx="4568760" cy="2012760"/>
          </a:xfrm>
        </p:grpSpPr>
        <p:sp>
          <p:nvSpPr>
            <p:cNvPr id="70" name=""/>
            <p:cNvSpPr/>
            <p:nvPr/>
          </p:nvSpPr>
          <p:spPr>
            <a:xfrm>
              <a:off x="4633920" y="3867120"/>
              <a:ext cx="388800" cy="4460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02120" y="3470400"/>
              <a:ext cx="463680" cy="577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3960" y="2300400"/>
              <a:ext cx="3854520" cy="1606320"/>
            </a:xfrm>
            <a:prstGeom prst="roundRect">
              <a:avLst>
                <a:gd name="adj" fmla="val 1114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25520" y="36684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まじめで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（それとも）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まじめじゃありません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283356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まじ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76760" y="4089240"/>
            <a:ext cx="2473200" cy="3472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8360" y="4322880"/>
            <a:ext cx="4322880" cy="1479600"/>
          </a:xfrm>
          <a:prstGeom prst="wedgeRoundRectCallout">
            <a:avLst>
              <a:gd name="adj1" fmla="val 68300"/>
              <a:gd name="adj2" fmla="val 4798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7" name=""/>
          <p:cNvSpPr/>
          <p:nvPr/>
        </p:nvSpPr>
        <p:spPr>
          <a:xfrm>
            <a:off x="557280" y="4484520"/>
            <a:ext cx="243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まじめ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Bitstream Vera Serif"/>
                <a:ea typeface="YOzFontNP04"/>
              </a:rPr>
              <a:t>だ</a:t>
            </a:r>
            <a:r>
              <a:rPr b="0" lang="ja-JP" sz="36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と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おもい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7000" y="165240"/>
            <a:ext cx="4384800" cy="41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453960" y="2300400"/>
            <a:ext cx="4568760" cy="2012760"/>
            <a:chOff x="453960" y="2300400"/>
            <a:chExt cx="4568760" cy="2012760"/>
          </a:xfrm>
        </p:grpSpPr>
        <p:sp>
          <p:nvSpPr>
            <p:cNvPr id="80" name=""/>
            <p:cNvSpPr/>
            <p:nvPr/>
          </p:nvSpPr>
          <p:spPr>
            <a:xfrm>
              <a:off x="4633920" y="3867120"/>
              <a:ext cx="388800" cy="4460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02120" y="3470400"/>
              <a:ext cx="463680" cy="577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3960" y="2300400"/>
              <a:ext cx="3854520" cy="1606320"/>
            </a:xfrm>
            <a:prstGeom prst="roundRect">
              <a:avLst>
                <a:gd name="adj" fmla="val 1114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9360" y="235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わかいで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（それとも）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わかくない で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76760" y="4087800"/>
            <a:ext cx="2473200" cy="3471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52560" y="283356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わか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322880"/>
            <a:ext cx="4322880" cy="1479600"/>
          </a:xfrm>
          <a:prstGeom prst="wedgeRoundRectCallout">
            <a:avLst>
              <a:gd name="adj1" fmla="val 68300"/>
              <a:gd name="adj2" fmla="val 4798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7" name=""/>
          <p:cNvSpPr/>
          <p:nvPr/>
        </p:nvSpPr>
        <p:spPr>
          <a:xfrm>
            <a:off x="1069920" y="4425840"/>
            <a:ext cx="243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わかい</a:t>
            </a:r>
            <a:r>
              <a:rPr b="0" lang="ja-JP" sz="36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と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おもい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7000" y="165240"/>
            <a:ext cx="4384800" cy="41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7000" y="165240"/>
            <a:ext cx="4384800" cy="41288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453960" y="2300400"/>
            <a:ext cx="5983200" cy="2012760"/>
            <a:chOff x="453960" y="2300400"/>
            <a:chExt cx="5983200" cy="2012760"/>
          </a:xfrm>
        </p:grpSpPr>
        <p:sp>
          <p:nvSpPr>
            <p:cNvPr id="91" name=""/>
            <p:cNvSpPr/>
            <p:nvPr/>
          </p:nvSpPr>
          <p:spPr>
            <a:xfrm>
              <a:off x="5925960" y="3867120"/>
              <a:ext cx="511200" cy="4460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0480" y="3470400"/>
              <a:ext cx="609840" cy="577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960" y="2300400"/>
              <a:ext cx="5050080" cy="1606320"/>
            </a:xfrm>
            <a:prstGeom prst="roundRect">
              <a:avLst>
                <a:gd name="adj" fmla="val 1114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9360" y="919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なにを してい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76760" y="4087800"/>
            <a:ext cx="2473200" cy="3471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88960" y="2819520"/>
            <a:ext cx="453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べんきょうしてい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322880"/>
            <a:ext cx="4791240" cy="1479600"/>
          </a:xfrm>
          <a:prstGeom prst="wedgeRoundRectCallout">
            <a:avLst>
              <a:gd name="adj1" fmla="val 66504"/>
              <a:gd name="adj2" fmla="val 4798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8" name=""/>
          <p:cNvSpPr/>
          <p:nvPr/>
        </p:nvSpPr>
        <p:spPr>
          <a:xfrm>
            <a:off x="223920" y="4456080"/>
            <a:ext cx="453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べんきょうしている</a:t>
            </a:r>
            <a:r>
              <a:rPr b="0" lang="ja-JP" sz="36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と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おもい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45240" y="355680"/>
            <a:ext cx="4335480" cy="4271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316400" y="3533760"/>
            <a:ext cx="2678040" cy="4684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1120" y="617400"/>
            <a:ext cx="5403960" cy="3733920"/>
          </a:xfrm>
          <a:prstGeom prst="wedgeRoundRectCallout">
            <a:avLst>
              <a:gd name="adj1" fmla="val 40004"/>
              <a:gd name="adj2" fmla="val 52638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2" name=""/>
          <p:cNvSpPr/>
          <p:nvPr/>
        </p:nvSpPr>
        <p:spPr>
          <a:xfrm>
            <a:off x="414360" y="733320"/>
            <a:ext cx="533232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おとこのひと で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あまり わかくないで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あまり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まじめじゃありません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ゲームを して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246240" y="-320760"/>
            <a:ext cx="4446720" cy="1928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703680" y="-593640"/>
            <a:ext cx="5056200" cy="3154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780160" y="-243000"/>
            <a:ext cx="4446360" cy="1928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728800" y="2476440"/>
            <a:ext cx="3889440" cy="755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037120" y="1152360"/>
            <a:ext cx="5041800" cy="2089440"/>
          </a:xfrm>
          <a:prstGeom prst="wedgeRoundRectCallout">
            <a:avLst>
              <a:gd name="adj1" fmla="val -59222"/>
              <a:gd name="adj2" fmla="val 6958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8" name=""/>
          <p:cNvSpPr/>
          <p:nvPr/>
        </p:nvSpPr>
        <p:spPr>
          <a:xfrm>
            <a:off x="5543640" y="1525680"/>
            <a:ext cx="413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めが ふる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と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も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081080" y="800280"/>
            <a:ext cx="2881440" cy="2643120"/>
            <a:chOff x="1081080" y="800280"/>
            <a:chExt cx="2881440" cy="2643120"/>
          </a:xfrm>
        </p:grpSpPr>
        <p:grpSp>
          <p:nvGrpSpPr>
            <p:cNvPr id="110" name=""/>
            <p:cNvGrpSpPr/>
            <p:nvPr/>
          </p:nvGrpSpPr>
          <p:grpSpPr>
            <a:xfrm>
              <a:off x="1081080" y="800280"/>
              <a:ext cx="2881440" cy="2643120"/>
              <a:chOff x="1081080" y="800280"/>
              <a:chExt cx="2881440" cy="2643120"/>
            </a:xfrm>
          </p:grpSpPr>
          <p:sp>
            <p:nvSpPr>
              <p:cNvPr id="111" name=""/>
              <p:cNvSpPr/>
              <p:nvPr/>
            </p:nvSpPr>
            <p:spPr>
              <a:xfrm>
                <a:off x="3322800" y="2930400"/>
                <a:ext cx="639720" cy="513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4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6000" y="2416320"/>
                <a:ext cx="836640" cy="66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4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81080" y="800280"/>
                <a:ext cx="2392200" cy="1703160"/>
              </a:xfrm>
              <a:prstGeom prst="roundRect">
                <a:avLst>
                  <a:gd name="adj" fmla="val 10519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4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1409760" y="979560"/>
              <a:ext cx="1736640" cy="1434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06:02:03Z</dcterms:created>
  <dc:creator/>
  <dc:description/>
  <dc:language>en-US</dc:language>
  <cp:lastModifiedBy/>
  <dcterms:modified xsi:type="dcterms:W3CDTF">2016-05-24T19:25:35Z</dcterms:modified>
  <cp:revision>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