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3240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6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19640" y="4813200"/>
            <a:ext cx="1585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んで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3160" y="7529400"/>
            <a:ext cx="61920" cy="32040"/>
          </a:xfrm>
          <a:custGeom>
            <a:avLst/>
            <a:gdLst/>
            <a:ahLst/>
            <a:rect l="l" t="t" r="r" b="b"/>
            <a:pathLst>
              <a:path w="172" h="86">
                <a:moveTo>
                  <a:pt x="171" y="85"/>
                </a:moveTo>
                <a:lnTo>
                  <a:pt x="0" y="0"/>
                </a:lnTo>
                <a:lnTo>
                  <a:pt x="171" y="8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9200" y="-849240"/>
            <a:ext cx="6191280" cy="514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29360" y="2292480"/>
            <a:ext cx="2913120" cy="547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8720" y="2514600"/>
            <a:ext cx="2514600" cy="5178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77880" y="1249200"/>
            <a:ext cx="5908680" cy="968400"/>
          </a:xfrm>
          <a:prstGeom prst="wedgeRoundRectCallout">
            <a:avLst>
              <a:gd name="adj1" fmla="val 40925"/>
              <a:gd name="adj2" fmla="val 1252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94040" y="1547640"/>
            <a:ext cx="4973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ふってい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06640" y="903240"/>
            <a:ext cx="6693120" cy="5348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023920"/>
            <a:ext cx="298440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72200" y="2782800"/>
            <a:ext cx="2149560" cy="755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8280" y="90360"/>
            <a:ext cx="1971720" cy="1710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Y.OzNP'04"/>
                <a:ea typeface="Y.OzNP'04"/>
              </a:rPr>
              <a:t>!</a:t>
            </a:r>
            <a:r>
              <a:rPr b="0" lang="ja-JP" sz="2800" spc="-1" strike="noStrike">
                <a:solidFill>
                  <a:srgbClr val="000000"/>
                </a:solidFill>
                <a:latin typeface="Y.OzNP'04"/>
                <a:ea typeface="Y.OzNP'04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469520" y="1872720"/>
            <a:ext cx="382680" cy="73980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1160" y="1547640"/>
            <a:ext cx="7559640" cy="997200"/>
          </a:xfrm>
          <a:prstGeom prst="wedgeRoundRectCallout">
            <a:avLst>
              <a:gd name="adj1" fmla="val -41347"/>
              <a:gd name="adj2" fmla="val 1200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93880" y="1755720"/>
            <a:ext cx="667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どうして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くれた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0440" y="1041480"/>
            <a:ext cx="4911840" cy="684000"/>
          </a:xfrm>
          <a:custGeom>
            <a:avLst/>
            <a:gdLst/>
            <a:ahLst/>
            <a:rect l="l" t="t" r="r" b="b"/>
            <a:pathLst>
              <a:path w="13644" h="1902">
                <a:moveTo>
                  <a:pt x="0" y="0"/>
                </a:moveTo>
                <a:lnTo>
                  <a:pt x="13643" y="1901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06640" y="903240"/>
            <a:ext cx="6693120" cy="53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2023920"/>
            <a:ext cx="2984400" cy="755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72200" y="2782800"/>
            <a:ext cx="214956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0560" y="4361040"/>
            <a:ext cx="7323120" cy="1711080"/>
          </a:xfrm>
          <a:prstGeom prst="wedgeRoundRectCallout">
            <a:avLst>
              <a:gd name="adj1" fmla="val 31499"/>
              <a:gd name="adj2" fmla="val -708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746600"/>
            <a:ext cx="72072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るまが こしょうし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1160" y="1547640"/>
            <a:ext cx="7559640" cy="997200"/>
          </a:xfrm>
          <a:prstGeom prst="wedgeRoundRectCallout">
            <a:avLst>
              <a:gd name="adj1" fmla="val -41347"/>
              <a:gd name="adj2" fmla="val 12007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85880" y="1844640"/>
            <a:ext cx="685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どうして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くれた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3640" y="2381400"/>
            <a:ext cx="1220760" cy="2782800"/>
          </a:xfrm>
          <a:custGeom>
            <a:avLst/>
            <a:gdLst/>
            <a:ahLst/>
            <a:rect l="l" t="t" r="r" b="b"/>
            <a:pathLst>
              <a:path w="3391" h="7732">
                <a:moveTo>
                  <a:pt x="3390" y="0"/>
                </a:moveTo>
                <a:lnTo>
                  <a:pt x="0" y="7731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86160" y="2813040"/>
            <a:ext cx="5700600" cy="88920"/>
          </a:xfrm>
          <a:custGeom>
            <a:avLst/>
            <a:gdLst/>
            <a:ahLst/>
            <a:rect l="l" t="t" r="r" b="b"/>
            <a:pathLst>
              <a:path w="15835" h="249">
                <a:moveTo>
                  <a:pt x="0" y="248"/>
                </a:moveTo>
                <a:lnTo>
                  <a:pt x="15834" y="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5640" y="34466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91120" y="3546360"/>
            <a:ext cx="2287440" cy="4562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232760" y="20988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723000" y="4516560"/>
            <a:ext cx="3002040" cy="268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015920" y="2206800"/>
            <a:ext cx="1946520" cy="6418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149400"/>
            <a:ext cx="1971720" cy="1709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P'04 Bold"/>
                <a:ea typeface="Y.OzNP'04 Bold"/>
              </a:rPr>
              <a:t>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1641600"/>
            <a:ext cx="231840" cy="758880"/>
          </a:xfrm>
          <a:custGeom>
            <a:avLst/>
            <a:gdLst/>
            <a:ahLst/>
            <a:rect l="l" t="t" r="r" b="b"/>
            <a:pathLst>
              <a:path w="644" h="2110">
                <a:moveTo>
                  <a:pt x="0" y="2109"/>
                </a:moveTo>
                <a:lnTo>
                  <a:pt x="643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17600" y="1160640"/>
            <a:ext cx="5000760" cy="1041120"/>
          </a:xfrm>
          <a:prstGeom prst="wedgeRoundRectCallout">
            <a:avLst>
              <a:gd name="adj1" fmla="val -47027"/>
              <a:gd name="adj2" fmla="val 144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30440" y="1459080"/>
            <a:ext cx="451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た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75080" y="863640"/>
            <a:ext cx="2782800" cy="476280"/>
          </a:xfrm>
          <a:custGeom>
            <a:avLst/>
            <a:gdLst/>
            <a:ahLst/>
            <a:rect l="l" t="t" r="r" b="b"/>
            <a:pathLst>
              <a:path w="7731" h="1323">
                <a:moveTo>
                  <a:pt x="0" y="0"/>
                </a:moveTo>
                <a:lnTo>
                  <a:pt x="7730" y="1322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75640" y="3446640"/>
            <a:ext cx="2031840" cy="327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78200" y="4255920"/>
            <a:ext cx="2032200" cy="3278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191120" y="3546360"/>
            <a:ext cx="2287440" cy="456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440160" y="5492880"/>
            <a:ext cx="3002040" cy="26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7232760" y="2098800"/>
            <a:ext cx="2531880" cy="546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723000" y="4516560"/>
            <a:ext cx="3002040" cy="268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015920" y="2206800"/>
            <a:ext cx="1946520" cy="6418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17600" y="1160640"/>
            <a:ext cx="5000760" cy="1041120"/>
          </a:xfrm>
          <a:prstGeom prst="wedgeRoundRectCallout">
            <a:avLst>
              <a:gd name="adj1" fmla="val -47027"/>
              <a:gd name="adj2" fmla="val 144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0440" y="1459080"/>
            <a:ext cx="451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た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5080" y="2500200"/>
            <a:ext cx="5105160" cy="1295640"/>
          </a:xfrm>
          <a:prstGeom prst="wedgeRoundRectCallout">
            <a:avLst>
              <a:gd name="adj1" fmla="val 61652"/>
              <a:gd name="adj2" fmla="val -3043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4680" y="2693880"/>
            <a:ext cx="3502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か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い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1800" y="1963800"/>
            <a:ext cx="44280" cy="1235160"/>
          </a:xfrm>
          <a:custGeom>
            <a:avLst/>
            <a:gdLst/>
            <a:ahLst/>
            <a:rect l="l" t="t" r="r" b="b"/>
            <a:pathLst>
              <a:path w="125" h="3432">
                <a:moveTo>
                  <a:pt x="0" y="0"/>
                </a:moveTo>
                <a:lnTo>
                  <a:pt x="124" y="3431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3480" y="900000"/>
            <a:ext cx="9372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「どうして その じしょを かったんですか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○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「やすかった</a:t>
            </a:r>
            <a:r>
              <a:rPr b="0" lang="ja-JP" sz="3600" spc="-1" strike="noStrike">
                <a:solidFill>
                  <a:srgbClr val="ff0000"/>
                </a:solidFill>
                <a:latin typeface="YOzFontN04"/>
                <a:ea typeface="YOzFontN04"/>
              </a:rPr>
              <a:t>んです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。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○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「やすかったです</a:t>
            </a:r>
            <a:r>
              <a:rPr b="0" lang="ja-JP" sz="3600" spc="-1" strike="noStrike">
                <a:solidFill>
                  <a:srgbClr val="ff0000"/>
                </a:solidFill>
                <a:latin typeface="YOzFontN04"/>
                <a:ea typeface="YOzFontN04"/>
              </a:rPr>
              <a:t>から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（かいました）。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×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「やすかった</a:t>
            </a:r>
            <a:r>
              <a:rPr b="0" lang="ja-JP" sz="3600" spc="-1" strike="noStrike">
                <a:solidFill>
                  <a:srgbClr val="ff0000"/>
                </a:solidFill>
                <a:latin typeface="YOzFontN04"/>
                <a:ea typeface="YOzFontN04"/>
              </a:rPr>
              <a:t>んですから</a:t>
            </a:r>
            <a:r>
              <a:rPr b="0" lang="ja-JP" sz="3600" spc="-1" strike="noStrike">
                <a:solidFill>
                  <a:srgbClr val="000000"/>
                </a:solidFill>
                <a:latin typeface="YOzFontN04"/>
                <a:ea typeface="YOzFontN04"/>
              </a:rPr>
              <a:t>。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5400000">
            <a:off x="-538920" y="-2701080"/>
            <a:ext cx="11158560" cy="1008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0000" y="2476440"/>
            <a:ext cx="2152440" cy="6523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290840" y="465120"/>
            <a:ext cx="3959280" cy="2340000"/>
          </a:xfrm>
          <a:prstGeom prst="cloudCallout">
            <a:avLst>
              <a:gd name="adj1" fmla="val -66222"/>
              <a:gd name="adj2" fmla="val 67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0360" y="126036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スーパ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-538920" y="-2701080"/>
            <a:ext cx="11158560" cy="1008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70240" y="365040"/>
            <a:ext cx="2008080" cy="1335240"/>
          </a:xfrm>
          <a:prstGeom prst="cloudCallout">
            <a:avLst>
              <a:gd name="adj1" fmla="val -61606"/>
              <a:gd name="adj2" fmla="val 10654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51400" y="771480"/>
            <a:ext cx="2388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kachan"/>
                <a:ea typeface="mikachan"/>
              </a:rPr>
              <a:t>スーパ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2152800" cy="6515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40360" y="2519280"/>
            <a:ext cx="2168640" cy="6483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1619280"/>
            <a:ext cx="8280360" cy="1260360"/>
          </a:xfrm>
          <a:prstGeom prst="wedgeRoundRectCallout">
            <a:avLst>
              <a:gd name="adj1" fmla="val -30740"/>
              <a:gd name="adj2" fmla="val 96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1079640"/>
            <a:ext cx="2879640" cy="900000"/>
          </a:xfrm>
          <a:custGeom>
            <a:avLst/>
            <a:gdLst/>
            <a:ahLst/>
            <a:rect l="l" t="t" r="r" b="b"/>
            <a:pathLst>
              <a:path w="8001" h="2501">
                <a:moveTo>
                  <a:pt x="0" y="0"/>
                </a:moveTo>
                <a:lnTo>
                  <a:pt x="8000" y="250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00360" y="1979640"/>
            <a:ext cx="7102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0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すみません、スーパーへいきたい</a:t>
            </a:r>
            <a:r>
              <a:rPr b="0" lang="ja-JP" sz="2800" spc="-1" strike="noStrike">
                <a:solidFill>
                  <a:srgbClr val="ff0000"/>
                </a:solidFill>
                <a:latin typeface="mikachan"/>
                <a:ea typeface="mikachan"/>
              </a:rPr>
              <a:t>んですが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ikachan"/>
                <a:ea typeface="mikach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みちを おしえていただけませんか</a:t>
            </a:r>
            <a:r>
              <a:rPr b="0" lang="fr-FR" sz="2800" spc="-1" strike="noStrike">
                <a:solidFill>
                  <a:srgbClr val="000000"/>
                </a:solidFill>
                <a:latin typeface="mikachan"/>
                <a:ea typeface="mikachan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5400000">
            <a:off x="-538920" y="-2701080"/>
            <a:ext cx="11158560" cy="1008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2152800" cy="6515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840360" y="2519280"/>
            <a:ext cx="2168640" cy="648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0" y="1619280"/>
            <a:ext cx="3600360" cy="900000"/>
          </a:xfrm>
          <a:prstGeom prst="wedgeRoundRectCallout">
            <a:avLst>
              <a:gd name="adj1" fmla="val 58837"/>
              <a:gd name="adj2" fmla="val 15355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1933560"/>
            <a:ext cx="2805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ちらです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79640" y="1228680"/>
            <a:ext cx="7554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かんじが わかりませ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2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ボールペンを わすれまし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かいぎしつを さがしていま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280" y="155520"/>
            <a:ext cx="3934080" cy="746280"/>
          </a:xfrm>
          <a:prstGeom prst="roundRect">
            <a:avLst>
              <a:gd name="adj" fmla="val 20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れんしゅ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1080" y="166680"/>
            <a:ext cx="8008920" cy="1992240"/>
          </a:xfrm>
          <a:prstGeom prst="roundRect">
            <a:avLst>
              <a:gd name="adj" fmla="val 900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7760" y="360360"/>
            <a:ext cx="784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んぼう を しってい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かな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8240" y="900000"/>
            <a:ext cx="2471760" cy="1131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3760" y="2160720"/>
            <a:ext cx="158760" cy="877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1840" y="4311720"/>
            <a:ext cx="2767320" cy="1030320"/>
          </a:xfrm>
          <a:prstGeom prst="roundRect">
            <a:avLst>
              <a:gd name="adj" fmla="val 15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ん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90880" y="4309920"/>
            <a:ext cx="484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かなです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9640" y="2879640"/>
            <a:ext cx="1439640" cy="1440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0" anchor="ctr" anchorCtr="1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640720" y="1482840"/>
            <a:ext cx="1471680" cy="445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1200" y="900000"/>
            <a:ext cx="8488440" cy="1079640"/>
          </a:xfrm>
          <a:prstGeom prst="wedgeRoundRectCallout">
            <a:avLst>
              <a:gd name="adj1" fmla="val 9009"/>
              <a:gd name="adj2" fmla="val 132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3240" y="936720"/>
            <a:ext cx="848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ソコンの ちょうしが わるい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うしたらいいですか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19640" y="3030480"/>
            <a:ext cx="3406680" cy="7020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-1979640" y="1425600"/>
            <a:ext cx="4638600" cy="5924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1976040" y="5187600"/>
            <a:ext cx="1446120" cy="3668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099280" y="1482840"/>
            <a:ext cx="2011680" cy="6094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20720" y="539640"/>
            <a:ext cx="8280360" cy="1440000"/>
          </a:xfrm>
          <a:prstGeom prst="wedgeRoundRectCallout">
            <a:avLst>
              <a:gd name="adj1" fmla="val 49828"/>
              <a:gd name="adj2" fmla="val 6294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19640" y="3030480"/>
            <a:ext cx="3406680" cy="702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-1979640" y="1425600"/>
            <a:ext cx="4638600" cy="5924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1976040" y="5187600"/>
            <a:ext cx="1446120" cy="3668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92320" y="752400"/>
            <a:ext cx="62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っと みせてくださ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ゅうりしま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099280" y="1482840"/>
            <a:ext cx="2011680" cy="609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20720" y="539640"/>
            <a:ext cx="8280360" cy="1440000"/>
          </a:xfrm>
          <a:prstGeom prst="wedgeRoundRectCallout">
            <a:avLst>
              <a:gd name="adj1" fmla="val 49828"/>
              <a:gd name="adj2" fmla="val 6294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19640" y="3030480"/>
            <a:ext cx="3406680" cy="7020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-1979640" y="1425600"/>
            <a:ext cx="4638600" cy="5924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flipV="1">
            <a:off x="1976040" y="5187600"/>
            <a:ext cx="1446120" cy="3668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2320" y="752400"/>
            <a:ext cx="62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きやに れんらくし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いで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8680" y="1079640"/>
            <a:ext cx="937584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きょうかしょを わすれました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ます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2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としょかんのカードを なくしました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れに いいます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ろめんでんしゃでボルドーだいがく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で おります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：あした、がっこうを やすまなけれ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りません 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ます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6280" y="155520"/>
            <a:ext cx="3934080" cy="746280"/>
          </a:xfrm>
          <a:prstGeom prst="roundRect">
            <a:avLst>
              <a:gd name="adj" fmla="val 20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れんしゅ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20720" y="720720"/>
            <a:ext cx="4859280" cy="720720"/>
          </a:xfrm>
          <a:prstGeom prst="wedgeRoundRectCallout">
            <a:avLst>
              <a:gd name="adj1" fmla="val -27402"/>
              <a:gd name="adj2" fmla="val 273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4560" y="1440000"/>
            <a:ext cx="4500720" cy="1233360"/>
          </a:xfrm>
          <a:prstGeom prst="wedgeRoundRectCallout">
            <a:avLst>
              <a:gd name="adj1" fmla="val -21157"/>
              <a:gd name="adj2" fmla="val 8768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1979640"/>
            <a:ext cx="1287360" cy="1235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2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900000"/>
            <a:ext cx="4299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をかった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んで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3419640"/>
            <a:ext cx="2700000" cy="1439640"/>
          </a:xfrm>
          <a:custGeom>
            <a:avLst/>
            <a:gdLst/>
            <a:ahLst/>
            <a:rect l="l" t="t" r="r" b="b"/>
            <a:pathLst>
              <a:path w="7501" h="4001">
                <a:moveTo>
                  <a:pt x="7500" y="0"/>
                </a:moveTo>
                <a:lnTo>
                  <a:pt x="0" y="400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65400" y="351000"/>
            <a:ext cx="3478320" cy="3382920"/>
          </a:xfrm>
          <a:custGeom>
            <a:avLst/>
            <a:gdLst/>
            <a:ahLst/>
            <a:rect l="l" t="t" r="r" b="b"/>
            <a:pathLst>
              <a:path w="9663" h="9397">
                <a:moveTo>
                  <a:pt x="0" y="8751"/>
                </a:moveTo>
                <a:cubicBezTo>
                  <a:pt x="419" y="8558"/>
                  <a:pt x="2097" y="9396"/>
                  <a:pt x="2483" y="9038"/>
                </a:cubicBezTo>
                <a:cubicBezTo>
                  <a:pt x="2818" y="8726"/>
                  <a:pt x="5620" y="9220"/>
                  <a:pt x="5983" y="9038"/>
                </a:cubicBezTo>
                <a:cubicBezTo>
                  <a:pt x="6371" y="8845"/>
                  <a:pt x="7451" y="8846"/>
                  <a:pt x="7865" y="8683"/>
                </a:cubicBezTo>
                <a:cubicBezTo>
                  <a:pt x="8257" y="8530"/>
                  <a:pt x="9662" y="5361"/>
                  <a:pt x="9436" y="4775"/>
                </a:cubicBezTo>
                <a:cubicBezTo>
                  <a:pt x="9187" y="4127"/>
                  <a:pt x="9099" y="3291"/>
                  <a:pt x="8685" y="2848"/>
                </a:cubicBezTo>
                <a:cubicBezTo>
                  <a:pt x="8289" y="2425"/>
                  <a:pt x="7934" y="1984"/>
                  <a:pt x="7558" y="1510"/>
                </a:cubicBezTo>
                <a:cubicBezTo>
                  <a:pt x="7201" y="1061"/>
                  <a:pt x="6829" y="758"/>
                  <a:pt x="6466" y="385"/>
                </a:cubicBezTo>
                <a:cubicBezTo>
                  <a:pt x="6129" y="39"/>
                  <a:pt x="5738" y="0"/>
                  <a:pt x="5373" y="63"/>
                </a:cubicBezTo>
                <a:cubicBezTo>
                  <a:pt x="4910" y="144"/>
                  <a:pt x="4423" y="152"/>
                  <a:pt x="4007" y="546"/>
                </a:cubicBezTo>
                <a:lnTo>
                  <a:pt x="3564" y="867"/>
                </a:lnTo>
                <a:lnTo>
                  <a:pt x="3188" y="1242"/>
                </a:lnTo>
                <a:lnTo>
                  <a:pt x="2983" y="140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1058760"/>
            <a:ext cx="2114280" cy="1282680"/>
          </a:xfrm>
          <a:custGeom>
            <a:avLst/>
            <a:gdLst/>
            <a:ahLst/>
            <a:rect l="l" t="t" r="r" b="b"/>
            <a:pathLst>
              <a:path w="5873" h="3561">
                <a:moveTo>
                  <a:pt x="2800" y="60"/>
                </a:moveTo>
                <a:cubicBezTo>
                  <a:pt x="2427" y="318"/>
                  <a:pt x="4310" y="0"/>
                  <a:pt x="3800" y="60"/>
                </a:cubicBezTo>
                <a:cubicBezTo>
                  <a:pt x="3389" y="108"/>
                  <a:pt x="4503" y="763"/>
                  <a:pt x="4800" y="1060"/>
                </a:cubicBezTo>
                <a:cubicBezTo>
                  <a:pt x="5300" y="1560"/>
                  <a:pt x="5872" y="2453"/>
                  <a:pt x="5300" y="2560"/>
                </a:cubicBezTo>
                <a:lnTo>
                  <a:pt x="0" y="356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1046160"/>
            <a:ext cx="2166840" cy="933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1619280"/>
            <a:ext cx="37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のじょ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デート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なんで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46080" y="2700360"/>
            <a:ext cx="3554640" cy="755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80000" y="2700360"/>
            <a:ext cx="2506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97720" y="2519280"/>
            <a:ext cx="24019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0040" y="539640"/>
            <a:ext cx="4900680" cy="2082960"/>
          </a:xfrm>
          <a:prstGeom prst="wedgeRoundRectCallout">
            <a:avLst>
              <a:gd name="adj1" fmla="val -7870"/>
              <a:gd name="adj2" fmla="val 8490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27840" y="1619280"/>
            <a:ext cx="3871800" cy="1079640"/>
          </a:xfrm>
          <a:prstGeom prst="wedgeRoundRectCallout">
            <a:avLst>
              <a:gd name="adj1" fmla="val 3240"/>
              <a:gd name="adj2" fmla="val 13480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61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の パーティー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ことですが</a:t>
            </a:r>
            <a:r>
              <a:rPr b="0" lang="fr-FR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720720"/>
            <a:ext cx="521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。きょう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ーティーに いき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8360" y="1476360"/>
            <a:ext cx="1195560" cy="744480"/>
          </a:xfrm>
          <a:custGeom>
            <a:avLst/>
            <a:gdLst/>
            <a:ahLst/>
            <a:rect l="l" t="t" r="r" b="b"/>
            <a:pathLst>
              <a:path w="3320" h="2066">
                <a:moveTo>
                  <a:pt x="1394" y="79"/>
                </a:moveTo>
                <a:cubicBezTo>
                  <a:pt x="1811" y="0"/>
                  <a:pt x="2258" y="21"/>
                  <a:pt x="2646" y="186"/>
                </a:cubicBezTo>
                <a:cubicBezTo>
                  <a:pt x="3076" y="368"/>
                  <a:pt x="3319" y="1132"/>
                  <a:pt x="2717" y="1402"/>
                </a:cubicBezTo>
                <a:cubicBezTo>
                  <a:pt x="2277" y="1599"/>
                  <a:pt x="1861" y="1864"/>
                  <a:pt x="1394" y="1974"/>
                </a:cubicBezTo>
                <a:cubicBezTo>
                  <a:pt x="1009" y="2065"/>
                  <a:pt x="608" y="1998"/>
                  <a:pt x="215" y="2010"/>
                </a:cubicBezTo>
                <a:lnTo>
                  <a:pt x="0" y="204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040" y="160488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れとデー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んです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4240" y="1119240"/>
            <a:ext cx="2255760" cy="6811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Y.OzE_'04"/>
                <a:ea typeface="Y.OzE_'04"/>
              </a:rPr>
              <a:t>どうし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39800" y="2879640"/>
            <a:ext cx="25005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20720" y="720720"/>
            <a:ext cx="4859280" cy="720720"/>
          </a:xfrm>
          <a:prstGeom prst="wedgeRoundRectCallout">
            <a:avLst>
              <a:gd name="adj1" fmla="val -27402"/>
              <a:gd name="adj2" fmla="val 273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1440000"/>
            <a:ext cx="4500720" cy="1233360"/>
          </a:xfrm>
          <a:prstGeom prst="wedgeRoundRectCallout">
            <a:avLst>
              <a:gd name="adj1" fmla="val -21157"/>
              <a:gd name="adj2" fmla="val 8768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1979640"/>
            <a:ext cx="1287360" cy="1235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2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01600" y="900000"/>
            <a:ext cx="4299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をかった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んだ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419640"/>
            <a:ext cx="2700000" cy="1439640"/>
          </a:xfrm>
          <a:custGeom>
            <a:avLst/>
            <a:gdLst/>
            <a:ahLst/>
            <a:rect l="l" t="t" r="r" b="b"/>
            <a:pathLst>
              <a:path w="7501" h="4001">
                <a:moveTo>
                  <a:pt x="7500" y="0"/>
                </a:moveTo>
                <a:lnTo>
                  <a:pt x="0" y="400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65400" y="351000"/>
            <a:ext cx="3478320" cy="3382920"/>
          </a:xfrm>
          <a:custGeom>
            <a:avLst/>
            <a:gdLst/>
            <a:ahLst/>
            <a:rect l="l" t="t" r="r" b="b"/>
            <a:pathLst>
              <a:path w="9663" h="9397">
                <a:moveTo>
                  <a:pt x="0" y="8751"/>
                </a:moveTo>
                <a:cubicBezTo>
                  <a:pt x="419" y="8558"/>
                  <a:pt x="2097" y="9396"/>
                  <a:pt x="2483" y="9038"/>
                </a:cubicBezTo>
                <a:cubicBezTo>
                  <a:pt x="2818" y="8726"/>
                  <a:pt x="5620" y="9220"/>
                  <a:pt x="5983" y="9038"/>
                </a:cubicBezTo>
                <a:cubicBezTo>
                  <a:pt x="6371" y="8845"/>
                  <a:pt x="7451" y="8846"/>
                  <a:pt x="7865" y="8683"/>
                </a:cubicBezTo>
                <a:cubicBezTo>
                  <a:pt x="8257" y="8530"/>
                  <a:pt x="9662" y="5361"/>
                  <a:pt x="9436" y="4775"/>
                </a:cubicBezTo>
                <a:cubicBezTo>
                  <a:pt x="9187" y="4127"/>
                  <a:pt x="9099" y="3291"/>
                  <a:pt x="8685" y="2848"/>
                </a:cubicBezTo>
                <a:cubicBezTo>
                  <a:pt x="8289" y="2425"/>
                  <a:pt x="7934" y="1984"/>
                  <a:pt x="7558" y="1510"/>
                </a:cubicBezTo>
                <a:cubicBezTo>
                  <a:pt x="7201" y="1061"/>
                  <a:pt x="6829" y="758"/>
                  <a:pt x="6466" y="385"/>
                </a:cubicBezTo>
                <a:cubicBezTo>
                  <a:pt x="6129" y="39"/>
                  <a:pt x="5738" y="0"/>
                  <a:pt x="5373" y="63"/>
                </a:cubicBezTo>
                <a:cubicBezTo>
                  <a:pt x="4910" y="144"/>
                  <a:pt x="4423" y="152"/>
                  <a:pt x="4007" y="546"/>
                </a:cubicBezTo>
                <a:lnTo>
                  <a:pt x="3564" y="867"/>
                </a:lnTo>
                <a:lnTo>
                  <a:pt x="3188" y="1242"/>
                </a:lnTo>
                <a:lnTo>
                  <a:pt x="2983" y="1402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3360" y="1058760"/>
            <a:ext cx="1239840" cy="1101960"/>
          </a:xfrm>
          <a:custGeom>
            <a:avLst/>
            <a:gdLst/>
            <a:ahLst/>
            <a:rect l="l" t="t" r="r" b="b"/>
            <a:pathLst>
              <a:path w="3446" h="3061">
                <a:moveTo>
                  <a:pt x="373" y="60"/>
                </a:moveTo>
                <a:cubicBezTo>
                  <a:pt x="0" y="318"/>
                  <a:pt x="1883" y="0"/>
                  <a:pt x="1373" y="60"/>
                </a:cubicBezTo>
                <a:cubicBezTo>
                  <a:pt x="962" y="108"/>
                  <a:pt x="2076" y="763"/>
                  <a:pt x="2373" y="1060"/>
                </a:cubicBezTo>
                <a:cubicBezTo>
                  <a:pt x="2873" y="1560"/>
                  <a:pt x="3445" y="2453"/>
                  <a:pt x="2873" y="2560"/>
                </a:cubicBezTo>
                <a:lnTo>
                  <a:pt x="73" y="3060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1046160"/>
            <a:ext cx="2166840" cy="933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1619280"/>
            <a:ext cx="414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のじょ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たんじょうびなんだ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300720" y="2700360"/>
            <a:ext cx="2679840" cy="755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46080" y="2700360"/>
            <a:ext cx="35546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0040" y="539640"/>
            <a:ext cx="4900680" cy="2082960"/>
          </a:xfrm>
          <a:prstGeom prst="wedgeRoundRectCallout">
            <a:avLst>
              <a:gd name="adj1" fmla="val -7870"/>
              <a:gd name="adj2" fmla="val 8490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2021040"/>
            <a:ext cx="3871800" cy="1079280"/>
          </a:xfrm>
          <a:prstGeom prst="wedgeRoundRectCallout">
            <a:avLst>
              <a:gd name="adj1" fmla="val 9189"/>
              <a:gd name="adj2" fmla="val 145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61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の パーティー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ことだけど</a:t>
            </a:r>
            <a:r>
              <a:rPr b="0" lang="fr-FR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754200"/>
            <a:ext cx="497232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ーティーに いかない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8360" y="1476360"/>
            <a:ext cx="1195560" cy="744480"/>
          </a:xfrm>
          <a:custGeom>
            <a:avLst/>
            <a:gdLst/>
            <a:ahLst/>
            <a:rect l="l" t="t" r="r" b="b"/>
            <a:pathLst>
              <a:path w="3320" h="2066">
                <a:moveTo>
                  <a:pt x="1394" y="79"/>
                </a:moveTo>
                <a:cubicBezTo>
                  <a:pt x="1811" y="0"/>
                  <a:pt x="2258" y="21"/>
                  <a:pt x="2646" y="186"/>
                </a:cubicBezTo>
                <a:cubicBezTo>
                  <a:pt x="3076" y="368"/>
                  <a:pt x="3319" y="1132"/>
                  <a:pt x="2717" y="1402"/>
                </a:cubicBezTo>
                <a:cubicBezTo>
                  <a:pt x="2277" y="1599"/>
                  <a:pt x="1861" y="1864"/>
                  <a:pt x="1394" y="1974"/>
                </a:cubicBezTo>
                <a:cubicBezTo>
                  <a:pt x="1009" y="2065"/>
                  <a:pt x="608" y="1998"/>
                  <a:pt x="215" y="2010"/>
                </a:cubicBezTo>
                <a:lnTo>
                  <a:pt x="0" y="204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0720" y="180036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れとデート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の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64240" y="1119240"/>
            <a:ext cx="2255760" cy="6811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Y.OzE_'04"/>
                <a:ea typeface="Y.OzE_'04"/>
              </a:rPr>
              <a:t>どうし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39800" y="2879640"/>
            <a:ext cx="2500560" cy="7559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300720" y="3060720"/>
            <a:ext cx="211608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4720" y="5219640"/>
            <a:ext cx="8280360" cy="2160720"/>
          </a:xfrm>
          <a:prstGeom prst="roundRect">
            <a:avLst>
              <a:gd name="adj" fmla="val 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♂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（♀） → んです・ん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♀ → 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んです・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？ ♂♀ → んですか・の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5520" y="206280"/>
            <a:ext cx="2227320" cy="1055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5480" y="2724120"/>
            <a:ext cx="5864400" cy="3422520"/>
          </a:xfrm>
          <a:prstGeom prst="roundRect">
            <a:avLst>
              <a:gd name="adj" fmla="val 46"/>
            </a:avLst>
          </a:prstGeom>
          <a:solidFill>
            <a:srgbClr val="004a4a"/>
          </a:solidFill>
          <a:ln w="180000">
            <a:solidFill>
              <a:srgbClr val="804c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5200" y="1928880"/>
            <a:ext cx="7277040" cy="11905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4800" y="539640"/>
            <a:ext cx="87138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0280" y="2162160"/>
            <a:ext cx="40798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かな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2200" y="425520"/>
            <a:ext cx="1801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ん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1300320"/>
            <a:ext cx="257400" cy="65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7000" y="2082960"/>
            <a:ext cx="2678040" cy="915840"/>
          </a:xfrm>
          <a:prstGeom prst="roundRect">
            <a:avLst>
              <a:gd name="adj" fmla="val 17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78600" y="3781440"/>
            <a:ext cx="1847520" cy="44006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813040" y="3532320"/>
            <a:ext cx="1933560" cy="2241360"/>
            <a:chOff x="2813040" y="3532320"/>
            <a:chExt cx="1933560" cy="2241360"/>
          </a:xfrm>
        </p:grpSpPr>
        <p:sp>
          <p:nvSpPr>
            <p:cNvPr id="65" name=""/>
            <p:cNvSpPr/>
            <p:nvPr/>
          </p:nvSpPr>
          <p:spPr>
            <a:xfrm>
              <a:off x="2813040" y="3956040"/>
              <a:ext cx="1665360" cy="1386000"/>
            </a:xfrm>
            <a:custGeom>
              <a:avLst/>
              <a:gdLst/>
              <a:ahLst/>
              <a:rect l="l" t="t" r="r" b="b"/>
              <a:pathLst>
                <a:path w="4677" h="4342">
                  <a:moveTo>
                    <a:pt x="4594" y="0"/>
                  </a:moveTo>
                  <a:cubicBezTo>
                    <a:pt x="4081" y="227"/>
                    <a:pt x="2604" y="219"/>
                    <a:pt x="2072" y="373"/>
                  </a:cubicBezTo>
                  <a:cubicBezTo>
                    <a:pt x="1573" y="518"/>
                    <a:pt x="1143" y="828"/>
                    <a:pt x="749" y="1158"/>
                  </a:cubicBezTo>
                  <a:cubicBezTo>
                    <a:pt x="355" y="1488"/>
                    <a:pt x="0" y="2008"/>
                    <a:pt x="46" y="2564"/>
                  </a:cubicBezTo>
                  <a:cubicBezTo>
                    <a:pt x="85" y="3035"/>
                    <a:pt x="427" y="3482"/>
                    <a:pt x="914" y="3639"/>
                  </a:cubicBezTo>
                  <a:cubicBezTo>
                    <a:pt x="1361" y="3783"/>
                    <a:pt x="1824" y="4254"/>
                    <a:pt x="2279" y="4217"/>
                  </a:cubicBezTo>
                  <a:cubicBezTo>
                    <a:pt x="2937" y="4164"/>
                    <a:pt x="3606" y="3860"/>
                    <a:pt x="4180" y="4176"/>
                  </a:cubicBezTo>
                  <a:lnTo>
                    <a:pt x="4594" y="4300"/>
                  </a:lnTo>
                  <a:lnTo>
                    <a:pt x="4676" y="4341"/>
                  </a:lnTo>
                </a:path>
              </a:pathLst>
            </a:custGeom>
            <a:noFill/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3960" y="3532320"/>
              <a:ext cx="500040" cy="531720"/>
            </a:xfrm>
            <a:custGeom>
              <a:avLst/>
              <a:gdLst/>
              <a:ahLst/>
              <a:rect l="l" t="t" r="r" b="b"/>
              <a:pathLst>
                <a:path w="1410" h="1670">
                  <a:moveTo>
                    <a:pt x="0" y="1534"/>
                  </a:moveTo>
                  <a:cubicBezTo>
                    <a:pt x="5" y="1231"/>
                    <a:pt x="266" y="0"/>
                    <a:pt x="910" y="666"/>
                  </a:cubicBezTo>
                  <a:cubicBezTo>
                    <a:pt x="1409" y="1183"/>
                    <a:pt x="574" y="1669"/>
                    <a:pt x="207" y="1327"/>
                  </a:cubicBezTo>
                  <a:lnTo>
                    <a:pt x="248" y="1327"/>
                  </a:lnTo>
                </a:path>
              </a:pathLst>
            </a:custGeom>
            <a:noFill/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5520" y="5146560"/>
              <a:ext cx="473040" cy="627120"/>
            </a:xfrm>
            <a:custGeom>
              <a:avLst/>
              <a:gdLst/>
              <a:ahLst/>
              <a:rect l="l" t="t" r="r" b="b"/>
              <a:pathLst>
                <a:path w="1335" h="1970">
                  <a:moveTo>
                    <a:pt x="0" y="165"/>
                  </a:moveTo>
                  <a:cubicBezTo>
                    <a:pt x="172" y="661"/>
                    <a:pt x="260" y="1291"/>
                    <a:pt x="703" y="1571"/>
                  </a:cubicBezTo>
                  <a:cubicBezTo>
                    <a:pt x="1334" y="1969"/>
                    <a:pt x="1069" y="906"/>
                    <a:pt x="1281" y="579"/>
                  </a:cubicBezTo>
                  <a:lnTo>
                    <a:pt x="1075" y="124"/>
                  </a:lnTo>
                  <a:lnTo>
                    <a:pt x="1075" y="0"/>
                  </a:lnTo>
                </a:path>
              </a:pathLst>
            </a:custGeom>
            <a:noFill/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61040" y="3795840"/>
              <a:ext cx="385560" cy="1663560"/>
            </a:xfrm>
            <a:custGeom>
              <a:avLst/>
              <a:gdLst/>
              <a:ahLst/>
              <a:rect l="l" t="t" r="r" b="b"/>
              <a:pathLst>
                <a:path w="1091" h="5211">
                  <a:moveTo>
                    <a:pt x="173" y="1134"/>
                  </a:moveTo>
                  <a:cubicBezTo>
                    <a:pt x="630" y="0"/>
                    <a:pt x="1005" y="921"/>
                    <a:pt x="1041" y="1203"/>
                  </a:cubicBezTo>
                  <a:cubicBezTo>
                    <a:pt x="1090" y="1587"/>
                    <a:pt x="867" y="2146"/>
                    <a:pt x="917" y="2531"/>
                  </a:cubicBezTo>
                  <a:cubicBezTo>
                    <a:pt x="973" y="2957"/>
                    <a:pt x="957" y="3394"/>
                    <a:pt x="917" y="3823"/>
                  </a:cubicBezTo>
                  <a:cubicBezTo>
                    <a:pt x="897" y="4038"/>
                    <a:pt x="888" y="5210"/>
                    <a:pt x="297" y="4662"/>
                  </a:cubicBezTo>
                  <a:cubicBezTo>
                    <a:pt x="0" y="4386"/>
                    <a:pt x="224" y="3940"/>
                    <a:pt x="214" y="3579"/>
                  </a:cubicBezTo>
                  <a:cubicBezTo>
                    <a:pt x="201" y="3149"/>
                    <a:pt x="214" y="2717"/>
                    <a:pt x="214" y="2286"/>
                  </a:cubicBezTo>
                  <a:lnTo>
                    <a:pt x="131" y="1692"/>
                  </a:lnTo>
                  <a:lnTo>
                    <a:pt x="49" y="1308"/>
                  </a:lnTo>
                  <a:lnTo>
                    <a:pt x="90" y="1029"/>
                  </a:lnTo>
                  <a:lnTo>
                    <a:pt x="173" y="1134"/>
                  </a:lnTo>
                </a:path>
              </a:pathLst>
            </a:custGeom>
            <a:noFill/>
            <a:ln w="108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87840" y="4406760"/>
              <a:ext cx="347760" cy="455760"/>
            </a:xfrm>
            <a:custGeom>
              <a:avLst/>
              <a:gdLst/>
              <a:ahLst/>
              <a:rect l="l" t="t" r="r" b="b"/>
              <a:pathLst>
                <a:path w="985" h="1435">
                  <a:moveTo>
                    <a:pt x="984" y="566"/>
                  </a:moveTo>
                  <a:cubicBezTo>
                    <a:pt x="0" y="0"/>
                    <a:pt x="124" y="1270"/>
                    <a:pt x="589" y="1434"/>
                  </a:cubicBezTo>
                  <a:lnTo>
                    <a:pt x="871" y="1021"/>
                  </a:lnTo>
                  <a:lnTo>
                    <a:pt x="984" y="690"/>
                  </a:lnTo>
                  <a:lnTo>
                    <a:pt x="984" y="566"/>
                  </a:lnTo>
                </a:path>
              </a:pathLst>
            </a:custGeom>
            <a:noFill/>
            <a:ln w="72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3240" y="4259160"/>
              <a:ext cx="379440" cy="222480"/>
            </a:xfrm>
            <a:custGeom>
              <a:avLst/>
              <a:gdLst/>
              <a:ahLst/>
              <a:rect l="l" t="t" r="r" b="b"/>
              <a:pathLst>
                <a:path w="1070" h="704">
                  <a:moveTo>
                    <a:pt x="675" y="703"/>
                  </a:moveTo>
                  <a:cubicBezTo>
                    <a:pt x="729" y="463"/>
                    <a:pt x="0" y="154"/>
                    <a:pt x="900" y="0"/>
                  </a:cubicBezTo>
                  <a:lnTo>
                    <a:pt x="1069" y="249"/>
                  </a:lnTo>
                  <a:lnTo>
                    <a:pt x="1069" y="476"/>
                  </a:lnTo>
                  <a:lnTo>
                    <a:pt x="956" y="589"/>
                  </a:lnTo>
                  <a:lnTo>
                    <a:pt x="675" y="703"/>
                  </a:lnTo>
                </a:path>
              </a:pathLst>
            </a:custGeom>
            <a:noFill/>
            <a:ln w="72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14480" y="4775040"/>
              <a:ext cx="204840" cy="36720"/>
            </a:xfrm>
            <a:custGeom>
              <a:avLst/>
              <a:gdLst/>
              <a:ahLst/>
              <a:rect l="l" t="t" r="r" b="b"/>
              <a:pathLst>
                <a:path w="580" h="125">
                  <a:moveTo>
                    <a:pt x="0" y="124"/>
                  </a:moveTo>
                  <a:lnTo>
                    <a:pt x="413" y="0"/>
                  </a:lnTo>
                  <a:lnTo>
                    <a:pt x="579" y="0"/>
                  </a:lnTo>
                </a:path>
              </a:pathLst>
            </a:custGeom>
            <a:noFill/>
            <a:ln w="72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199120" y="5160960"/>
            <a:ext cx="4157640" cy="1312920"/>
          </a:xfrm>
          <a:prstGeom prst="roundRect">
            <a:avLst>
              <a:gd name="adj" fmla="val 13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2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んぼ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920" y="131760"/>
            <a:ext cx="10078920" cy="727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813800" y="322200"/>
            <a:ext cx="1788840" cy="862200"/>
          </a:xfrm>
          <a:prstGeom prst="ellipse">
            <a:avLst/>
          </a:prstGeom>
          <a:noFill/>
          <a:ln w="72000">
            <a:solidFill>
              <a:srgbClr val="ff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39720" y="3511440"/>
            <a:ext cx="7188120" cy="4510080"/>
          </a:xfrm>
          <a:prstGeom prst="roundRect">
            <a:avLst>
              <a:gd name="adj" fmla="val 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0560" y="2887560"/>
            <a:ext cx="464184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5462640" y="987480"/>
            <a:ext cx="2635200" cy="3852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0000" y="3278160"/>
            <a:ext cx="5400720" cy="1708200"/>
          </a:xfrm>
          <a:prstGeom prst="roundRect">
            <a:avLst>
              <a:gd name="adj" fmla="val 10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7920" y="4319640"/>
            <a:ext cx="5349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ぼうしが ほしいで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0360" y="360036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04"/>
                <a:ea typeface="YOzFontN04"/>
              </a:rPr>
              <a:t>あん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0360" y="1260360"/>
            <a:ext cx="194328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いき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かい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いへ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がくせい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06560" y="1519200"/>
            <a:ext cx="23036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9880" y="1274760"/>
            <a:ext cx="6473880" cy="5583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いく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い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いかない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いかなか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かい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かか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かくない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かくなか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いへんな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たいへんだ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YOzFontN04"/>
                <a:ea typeface="YOzFontN04"/>
              </a:rPr>
              <a:t>たいへんじゃないんです たいへんじゃなかったんで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がくせいなんです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OzFontN04"/>
                <a:ea typeface="YOzFontN04"/>
              </a:rPr>
              <a:t>がくせいだったん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YOzFontN04"/>
                <a:ea typeface="YOzFontN04"/>
              </a:rPr>
              <a:t>がくせいじゃないんです がくせいじゃなかったんです</a:t>
            </a:r>
            <a:r>
              <a:rPr b="0" lang="fr-FR" sz="2200" spc="-1" strike="noStrike">
                <a:solidFill>
                  <a:srgbClr val="000000"/>
                </a:solidFill>
                <a:latin typeface="Y.OzNP'04 Bold"/>
                <a:ea typeface="Y.OzNP'04 Bol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2317680"/>
            <a:ext cx="2187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06920" y="3578400"/>
            <a:ext cx="22003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73724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11400" y="1506600"/>
            <a:ext cx="91440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8440" y="2689200"/>
            <a:ext cx="65592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080" y="3938760"/>
            <a:ext cx="47592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73240" y="5148360"/>
            <a:ext cx="96516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0600" y="193680"/>
            <a:ext cx="3003480" cy="930240"/>
          </a:xfrm>
          <a:prstGeom prst="rect">
            <a:avLst/>
          </a:prstGeom>
          <a:noFill/>
          <a:ln w="10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140400" bIns="54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ーんで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10080720" cy="3051000"/>
          </a:xfrm>
          <a:prstGeom prst="roundRect">
            <a:avLst>
              <a:gd name="adj" fmla="val 51"/>
            </a:avLst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385920"/>
            <a:ext cx="25192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E_'04 Bold"/>
                <a:ea typeface="Y.OzE_'04 Bold"/>
              </a:rPr>
              <a:t>あ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39760" y="2546280"/>
            <a:ext cx="2514600" cy="6515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19640" y="1260360"/>
            <a:ext cx="5400720" cy="2160720"/>
          </a:xfrm>
          <a:prstGeom prst="cloudCallout">
            <a:avLst>
              <a:gd name="adj1" fmla="val -72115"/>
              <a:gd name="adj2" fmla="val 246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73520" y="1800360"/>
            <a:ext cx="42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てんきね ♪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13160" y="961920"/>
            <a:ext cx="5676840" cy="545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0360" y="182520"/>
            <a:ext cx="2155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E_'04 Bold"/>
                <a:ea typeface="Y.OzE_'04 Bold"/>
              </a:rPr>
              <a:t>ひ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99200" y="-849240"/>
            <a:ext cx="6191280" cy="514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48000" y="4255920"/>
            <a:ext cx="2995560" cy="1443240"/>
          </a:xfrm>
          <a:custGeom>
            <a:avLst/>
            <a:gdLst/>
            <a:ahLst/>
            <a:rect l="l" t="t" r="r" b="b"/>
            <a:pathLst>
              <a:path w="8323" h="4010">
                <a:moveTo>
                  <a:pt x="0" y="0"/>
                </a:moveTo>
                <a:lnTo>
                  <a:pt x="8322" y="400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200" y="326880"/>
            <a:ext cx="1971720" cy="1710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Y.OzNP'04"/>
                <a:ea typeface="Y.OzNP'04"/>
              </a:rPr>
              <a:t>!</a:t>
            </a:r>
            <a:r>
              <a:rPr b="0" lang="ja-JP" sz="2800" spc="-1" strike="noStrike">
                <a:solidFill>
                  <a:srgbClr val="000000"/>
                </a:solidFill>
                <a:latin typeface="Y.OzNP'04"/>
                <a:ea typeface="Y.OzNP'04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820880"/>
            <a:ext cx="231480" cy="758880"/>
          </a:xfrm>
          <a:custGeom>
            <a:avLst/>
            <a:gdLst/>
            <a:ahLst/>
            <a:rect l="l" t="t" r="r" b="b"/>
            <a:pathLst>
              <a:path w="644" h="2110">
                <a:moveTo>
                  <a:pt x="0" y="2109"/>
                </a:moveTo>
                <a:lnTo>
                  <a:pt x="643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29360" y="2292480"/>
            <a:ext cx="2913120" cy="54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28720" y="2514600"/>
            <a:ext cx="2514600" cy="517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73320" y="1339920"/>
            <a:ext cx="6826320" cy="1000080"/>
          </a:xfrm>
          <a:prstGeom prst="wedgeRoundRectCallout">
            <a:avLst>
              <a:gd name="adj1" fmla="val -49138"/>
              <a:gd name="adj2" fmla="val 1239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6160" y="1636560"/>
            <a:ext cx="6489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めがふっている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んです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30440" y="1041480"/>
            <a:ext cx="4092480" cy="639720"/>
          </a:xfrm>
          <a:custGeom>
            <a:avLst/>
            <a:gdLst/>
            <a:ahLst/>
            <a:rect l="l" t="t" r="r" b="b"/>
            <a:pathLst>
              <a:path w="11370" h="1778">
                <a:moveTo>
                  <a:pt x="0" y="0"/>
                </a:moveTo>
                <a:lnTo>
                  <a:pt x="11369" y="1777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6:20:01Z</dcterms:created>
  <dc:creator/>
  <dc:description/>
  <dc:language>en-US</dc:language>
  <cp:lastModifiedBy/>
  <dcterms:modified xsi:type="dcterms:W3CDTF">2016-05-24T19:27:27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