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0760" y="1027080"/>
            <a:ext cx="49309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1" name=""/>
          <p:cNvSpPr/>
          <p:nvPr/>
        </p:nvSpPr>
        <p:spPr>
          <a:xfrm>
            <a:off x="755640" y="5078520"/>
            <a:ext cx="604368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29" name="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1" name="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5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7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9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3" name=""/>
          <p:cNvSpPr/>
          <p:nvPr/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25" name="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27" name="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7760" y="4390200"/>
            <a:ext cx="27702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8360" y="439020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390200"/>
            <a:ext cx="86043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" name=""/>
          <p:cNvSpPr/>
          <p:nvPr/>
        </p:nvSpPr>
        <p:spPr>
          <a:xfrm>
            <a:off x="7272360" y="7056360"/>
            <a:ext cx="2779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ttp://j-learning.com/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404640"/>
            <a:ext cx="6945120" cy="16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だい </a:t>
            </a:r>
            <a:r>
              <a:rPr b="0" lang="en-US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32 </a:t>
            </a: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か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2025720"/>
            <a:ext cx="48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Y.OzN_'04"/>
                <a:ea typeface="Y.OzN_'04"/>
              </a:rPr>
              <a:t>スライド</a:t>
            </a:r>
            <a:endParaRPr b="0" lang="en-US" sz="9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5" name=""/>
          <p:cNvSpPr/>
          <p:nvPr/>
        </p:nvSpPr>
        <p:spPr>
          <a:xfrm>
            <a:off x="9899640" y="5578560"/>
            <a:ext cx="1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6" name=""/>
          <p:cNvSpPr/>
          <p:nvPr/>
        </p:nvSpPr>
        <p:spPr>
          <a:xfrm>
            <a:off x="2205000" y="4694400"/>
            <a:ext cx="50198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〜たほうが いいです（よ）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〜たら どうですか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〜でしょう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〜かもしれません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08000" y="3335400"/>
            <a:ext cx="3392640" cy="5632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17560" y="2309760"/>
            <a:ext cx="1176480" cy="1376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787920" y="2898720"/>
            <a:ext cx="3562200" cy="6029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35040" y="1434960"/>
            <a:ext cx="6332400" cy="1422720"/>
          </a:xfrm>
          <a:prstGeom prst="wedgeRoundRectCallout">
            <a:avLst>
              <a:gd name="adj1" fmla="val 31458"/>
              <a:gd name="adj2" fmla="val 8626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5" name=""/>
          <p:cNvSpPr/>
          <p:nvPr/>
        </p:nvSpPr>
        <p:spPr>
          <a:xfrm>
            <a:off x="2565360" y="270000"/>
            <a:ext cx="7094520" cy="125100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just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たばこ 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/ ×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すう  ○すわない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6" name=""/>
          <p:cNvSpPr/>
          <p:nvPr/>
        </p:nvSpPr>
        <p:spPr>
          <a:xfrm>
            <a:off x="1270080" y="1658880"/>
            <a:ext cx="4317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たばこを すわない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ほうがい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108000" y="3335400"/>
            <a:ext cx="3392640" cy="5632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17560" y="2309760"/>
            <a:ext cx="1176480" cy="1376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787920" y="2898720"/>
            <a:ext cx="3562200" cy="602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5040" y="1434960"/>
            <a:ext cx="7434360" cy="1351080"/>
          </a:xfrm>
          <a:prstGeom prst="wedgeRoundRectCallout">
            <a:avLst>
              <a:gd name="adj1" fmla="val 19379"/>
              <a:gd name="adj2" fmla="val 93416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1" name=""/>
          <p:cNvSpPr/>
          <p:nvPr/>
        </p:nvSpPr>
        <p:spPr>
          <a:xfrm>
            <a:off x="546120" y="264960"/>
            <a:ext cx="9198000" cy="112428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just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うちへかえって ○すぐねる </a:t>
            </a: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×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すぐねない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2" name=""/>
          <p:cNvSpPr/>
          <p:nvPr/>
        </p:nvSpPr>
        <p:spPr>
          <a:xfrm>
            <a:off x="909720" y="164628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うちへ かえって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just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すぐねたほうがい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98720" y="703440"/>
            <a:ext cx="7603920" cy="1608120"/>
          </a:xfrm>
          <a:prstGeom prst="wedgeRoundRectCallout">
            <a:avLst>
              <a:gd name="adj1" fmla="val -45481"/>
              <a:gd name="adj2" fmla="val 9563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4" name=""/>
          <p:cNvSpPr/>
          <p:nvPr/>
        </p:nvSpPr>
        <p:spPr>
          <a:xfrm>
            <a:off x="2276640" y="1162080"/>
            <a:ext cx="685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やすんだほうが いいですよ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4480" y="1539720"/>
            <a:ext cx="2104920" cy="7560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359160" y="3281400"/>
            <a:ext cx="6388200" cy="4280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87440" y="55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やすみます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480" y="1539720"/>
            <a:ext cx="2104920" cy="7560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359160" y="3281400"/>
            <a:ext cx="6388200" cy="4280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19360" y="561960"/>
            <a:ext cx="7603920" cy="1608120"/>
          </a:xfrm>
          <a:prstGeom prst="wedgeRoundRectCallout">
            <a:avLst>
              <a:gd name="adj1" fmla="val -45481"/>
              <a:gd name="adj2" fmla="val 9563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1" name=""/>
          <p:cNvSpPr/>
          <p:nvPr/>
        </p:nvSpPr>
        <p:spPr>
          <a:xfrm>
            <a:off x="1996920" y="1020600"/>
            <a:ext cx="55882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やすんだらどうですか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2" name=""/>
          <p:cNvSpPr/>
          <p:nvPr/>
        </p:nvSpPr>
        <p:spPr>
          <a:xfrm>
            <a:off x="384120" y="436680"/>
            <a:ext cx="1828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やすみます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480" y="1539720"/>
            <a:ext cx="2104920" cy="7560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32160" y="3281400"/>
            <a:ext cx="6388200" cy="428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19360" y="561960"/>
            <a:ext cx="7603920" cy="1608120"/>
          </a:xfrm>
          <a:prstGeom prst="wedgeRoundRectCallout">
            <a:avLst>
              <a:gd name="adj1" fmla="val -45481"/>
              <a:gd name="adj2" fmla="val 9563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6" name=""/>
          <p:cNvSpPr/>
          <p:nvPr/>
        </p:nvSpPr>
        <p:spPr>
          <a:xfrm>
            <a:off x="1944720" y="687240"/>
            <a:ext cx="762156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むりをしないほうがいいですよ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just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just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Y.OzN_'04"/>
                <a:ea typeface="Y.OzN_'04"/>
              </a:rPr>
              <a:t>cf. × </a:t>
            </a:r>
            <a:r>
              <a:rPr b="0" lang="ja-JP" sz="2800" spc="-1" strike="noStrike">
                <a:solidFill>
                  <a:srgbClr val="000000"/>
                </a:solidFill>
                <a:latin typeface="Y.OzN_'04"/>
                <a:ea typeface="Y.OzN_'04"/>
              </a:rPr>
              <a:t>むりをしなかったらどうですか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7" name=""/>
          <p:cNvSpPr/>
          <p:nvPr/>
        </p:nvSpPr>
        <p:spPr>
          <a:xfrm>
            <a:off x="384120" y="436680"/>
            <a:ext cx="2441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むりをしません→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57800" y="2106720"/>
            <a:ext cx="2449800" cy="755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" y="2200320"/>
            <a:ext cx="2489040" cy="7559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952640" y="3513240"/>
            <a:ext cx="7604280" cy="1608120"/>
          </a:xfrm>
          <a:prstGeom prst="wedgeRoundRectCallout">
            <a:avLst>
              <a:gd name="adj1" fmla="val -49796"/>
              <a:gd name="adj2" fmla="val -6553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1" name=""/>
          <p:cNvSpPr/>
          <p:nvPr/>
        </p:nvSpPr>
        <p:spPr>
          <a:xfrm>
            <a:off x="1635120" y="420840"/>
            <a:ext cx="7078680" cy="1422360"/>
          </a:xfrm>
          <a:prstGeom prst="wedgeRoundRectCallout">
            <a:avLst>
              <a:gd name="adj1" fmla="val 20212"/>
              <a:gd name="adj2" fmla="val 97115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ごがじょうずに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just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なりたいん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2200320"/>
            <a:ext cx="2489040" cy="7559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033640" y="5046840"/>
            <a:ext cx="7603920" cy="1608120"/>
          </a:xfrm>
          <a:prstGeom prst="wedgeRoundRectCallout">
            <a:avLst>
              <a:gd name="adj1" fmla="val -52949"/>
              <a:gd name="adj2" fmla="val -15098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4" name=""/>
          <p:cNvSpPr/>
          <p:nvPr/>
        </p:nvSpPr>
        <p:spPr>
          <a:xfrm>
            <a:off x="403200" y="258840"/>
            <a:ext cx="833292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1) </a:t>
            </a: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ともだちが いないんです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just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2) </a:t>
            </a: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かのじょが ほしいんです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just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3) </a:t>
            </a: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ふゆやすみに いく ばしょを まだ きめて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just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いないんですよ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5" name=""/>
          <p:cNvSpPr/>
          <p:nvPr/>
        </p:nvSpPr>
        <p:spPr>
          <a:xfrm>
            <a:off x="4540320" y="2309760"/>
            <a:ext cx="5092560" cy="1166760"/>
          </a:xfrm>
          <a:prstGeom prst="wedgeRectCallout">
            <a:avLst>
              <a:gd name="adj1" fmla="val 49495"/>
              <a:gd name="adj2" fmla="val -79620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6" name=""/>
          <p:cNvSpPr/>
          <p:nvPr/>
        </p:nvSpPr>
        <p:spPr>
          <a:xfrm>
            <a:off x="3797280" y="1808280"/>
            <a:ext cx="1527120" cy="846000"/>
          </a:xfrm>
          <a:prstGeom prst="line">
            <a:avLst/>
          </a:prstGeom>
          <a:ln w="108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60520" y="1187280"/>
            <a:ext cx="1763640" cy="1435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347920" y="1227240"/>
            <a:ext cx="1763640" cy="1434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214880" y="1254240"/>
            <a:ext cx="1763640" cy="1434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465280" y="574560"/>
            <a:ext cx="13716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Mincho"/>
                <a:ea typeface="Y.OzN_'04"/>
              </a:rPr>
              <a:t>きの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1" name=""/>
          <p:cNvSpPr/>
          <p:nvPr/>
        </p:nvSpPr>
        <p:spPr>
          <a:xfrm>
            <a:off x="390600" y="547560"/>
            <a:ext cx="1828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Mincho"/>
                <a:ea typeface="Y.OzN_'04"/>
              </a:rPr>
              <a:t>おととい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2" name=""/>
          <p:cNvSpPr/>
          <p:nvPr/>
        </p:nvSpPr>
        <p:spPr>
          <a:xfrm>
            <a:off x="4410000" y="574560"/>
            <a:ext cx="13716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Mincho"/>
                <a:ea typeface="Y.OzN_'04"/>
              </a:rPr>
              <a:t>きょ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3" name=""/>
          <p:cNvSpPr/>
          <p:nvPr/>
        </p:nvSpPr>
        <p:spPr>
          <a:xfrm>
            <a:off x="6862680" y="1434960"/>
            <a:ext cx="1187640" cy="11876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4" name=""/>
          <p:cNvSpPr/>
          <p:nvPr/>
        </p:nvSpPr>
        <p:spPr>
          <a:xfrm>
            <a:off x="6719760" y="601560"/>
            <a:ext cx="13716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Mincho"/>
                <a:ea typeface="Y.OzN_'04"/>
              </a:rPr>
              <a:t>あした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550200" y="1332000"/>
            <a:ext cx="1763640" cy="1434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0320" y="3209760"/>
            <a:ext cx="5910120" cy="1722600"/>
          </a:xfrm>
          <a:prstGeom prst="roundRect">
            <a:avLst>
              <a:gd name="adj" fmla="val 1042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just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あした</a:t>
            </a:r>
            <a:r>
              <a:rPr b="0" lang="ja-JP" sz="3600" spc="-1" strike="noStrike">
                <a:solidFill>
                  <a:srgbClr val="800000"/>
                </a:solidFill>
                <a:latin typeface="Y.OzN_'04"/>
                <a:ea typeface="Y.OzN_'04"/>
              </a:rPr>
              <a:t>も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あめ</a:t>
            </a:r>
            <a:r>
              <a:rPr b="0" lang="ja-JP" sz="3600" spc="-1" strike="noStrike">
                <a:solidFill>
                  <a:srgbClr val="ff0000"/>
                </a:solidFill>
                <a:latin typeface="Y.OzN_'04"/>
                <a:ea typeface="Y.OzN_'04"/>
              </a:rPr>
              <a:t>でしょう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7" name=""/>
          <p:cNvSpPr/>
          <p:nvPr/>
        </p:nvSpPr>
        <p:spPr>
          <a:xfrm>
            <a:off x="4552920" y="2557440"/>
            <a:ext cx="2114640" cy="1201680"/>
          </a:xfrm>
          <a:custGeom>
            <a:avLst/>
            <a:gdLst/>
            <a:ahLst/>
            <a:rect l="l" t="t" r="r" b="b"/>
            <a:pathLst>
              <a:path w="5873" h="3336">
                <a:moveTo>
                  <a:pt x="5872" y="0"/>
                </a:moveTo>
                <a:lnTo>
                  <a:pt x="0" y="3335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370560" y="3100320"/>
            <a:ext cx="2311560" cy="686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465280" y="574560"/>
            <a:ext cx="13716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Mincho"/>
                <a:ea typeface="Y.OzN_'04"/>
              </a:rPr>
              <a:t>きの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0" name=""/>
          <p:cNvSpPr/>
          <p:nvPr/>
        </p:nvSpPr>
        <p:spPr>
          <a:xfrm>
            <a:off x="390600" y="547560"/>
            <a:ext cx="1828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Mincho"/>
                <a:ea typeface="Y.OzN_'04"/>
              </a:rPr>
              <a:t>おととい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1" name=""/>
          <p:cNvSpPr/>
          <p:nvPr/>
        </p:nvSpPr>
        <p:spPr>
          <a:xfrm>
            <a:off x="4410000" y="574560"/>
            <a:ext cx="13716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Mincho"/>
                <a:ea typeface="Y.OzN_'04"/>
              </a:rPr>
              <a:t>きょ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2" name=""/>
          <p:cNvSpPr/>
          <p:nvPr/>
        </p:nvSpPr>
        <p:spPr>
          <a:xfrm>
            <a:off x="6862680" y="1434960"/>
            <a:ext cx="1187640" cy="11876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3" name=""/>
          <p:cNvSpPr/>
          <p:nvPr/>
        </p:nvSpPr>
        <p:spPr>
          <a:xfrm>
            <a:off x="6719760" y="601560"/>
            <a:ext cx="13716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Mincho"/>
                <a:ea typeface="Y.OzN_'04"/>
              </a:rPr>
              <a:t>あした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550200" y="1096920"/>
            <a:ext cx="1760400" cy="167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0320" y="3209760"/>
            <a:ext cx="5910120" cy="1722600"/>
          </a:xfrm>
          <a:prstGeom prst="roundRect">
            <a:avLst>
              <a:gd name="adj" fmla="val 10421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あした</a:t>
            </a:r>
            <a:r>
              <a:rPr b="0" lang="ja-JP" sz="3600" spc="-1" strike="noStrike">
                <a:solidFill>
                  <a:srgbClr val="800000"/>
                </a:solidFill>
                <a:latin typeface="Y.OzN_'04"/>
                <a:ea typeface="Y.OzN_'04"/>
              </a:rPr>
              <a:t>も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はれ</a:t>
            </a:r>
            <a:r>
              <a:rPr b="0" lang="ja-JP" sz="3600" spc="-1" strike="noStrike">
                <a:solidFill>
                  <a:srgbClr val="ff0000"/>
                </a:solidFill>
                <a:latin typeface="Y.OzN_'04"/>
                <a:ea typeface="Y.OzN_'04"/>
              </a:rPr>
              <a:t>でしょう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6" name=""/>
          <p:cNvSpPr/>
          <p:nvPr/>
        </p:nvSpPr>
        <p:spPr>
          <a:xfrm>
            <a:off x="4552920" y="2557440"/>
            <a:ext cx="2114640" cy="1201680"/>
          </a:xfrm>
          <a:custGeom>
            <a:avLst/>
            <a:gdLst/>
            <a:ahLst/>
            <a:rect l="l" t="t" r="r" b="b"/>
            <a:pathLst>
              <a:path w="5873" h="3336">
                <a:moveTo>
                  <a:pt x="5872" y="0"/>
                </a:moveTo>
                <a:lnTo>
                  <a:pt x="0" y="3335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332400" y="3170160"/>
            <a:ext cx="2592360" cy="7189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14280" y="1014480"/>
            <a:ext cx="1735200" cy="1712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2257560" y="1039680"/>
            <a:ext cx="1734840" cy="1712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4111560" y="1104840"/>
            <a:ext cx="1735200" cy="17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69920" y="895320"/>
            <a:ext cx="6099120" cy="4265640"/>
          </a:xfrm>
          <a:prstGeom prst="rect">
            <a:avLst/>
          </a:prstGeom>
          <a:solidFill>
            <a:srgbClr val="00ffff"/>
          </a:solidFill>
          <a:ln w="144000">
            <a:solidFill>
              <a:srgbClr val="333333"/>
            </a:solidFill>
            <a:round/>
          </a:ln>
          <a:effectLst>
            <a:outerShdw dist="560028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009800"/>
            <a:ext cx="6505560" cy="6099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278320" y="2257560"/>
            <a:ext cx="3942000" cy="7559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92040" y="1219320"/>
            <a:ext cx="1852560" cy="70488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Kochi Mincho"/>
                <a:ea typeface="Kochi Mincho"/>
              </a:rPr>
              <a:t>あし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5" name=""/>
          <p:cNvSpPr/>
          <p:nvPr/>
        </p:nvSpPr>
        <p:spPr>
          <a:xfrm>
            <a:off x="398520" y="5075280"/>
            <a:ext cx="7548480" cy="1677960"/>
          </a:xfrm>
          <a:prstGeom prst="wedgeRoundRectCallout">
            <a:avLst>
              <a:gd name="adj1" fmla="val 47925"/>
              <a:gd name="adj2" fmla="val -12622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6" name=""/>
          <p:cNvSpPr/>
          <p:nvPr/>
        </p:nvSpPr>
        <p:spPr>
          <a:xfrm>
            <a:off x="822240" y="5545080"/>
            <a:ext cx="615312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東京ははれる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でしょう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(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はれでしょう</a:t>
            </a: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7" name=""/>
          <p:cNvSpPr/>
          <p:nvPr/>
        </p:nvSpPr>
        <p:spPr>
          <a:xfrm>
            <a:off x="3251160" y="2795760"/>
            <a:ext cx="1484280" cy="11998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479760" y="2998800"/>
            <a:ext cx="862200" cy="817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481040" y="3568680"/>
            <a:ext cx="755640" cy="615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3705120" y="1509840"/>
            <a:ext cx="674640" cy="438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2313000" y="3270240"/>
            <a:ext cx="861840" cy="81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1720" y="1949400"/>
            <a:ext cx="2449800" cy="755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8240" y="312840"/>
            <a:ext cx="8018640" cy="2019240"/>
          </a:xfrm>
          <a:prstGeom prst="wedgeRoundRectCallout">
            <a:avLst>
              <a:gd name="adj1" fmla="val -27666"/>
              <a:gd name="adj2" fmla="val 10422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" name=""/>
          <p:cNvSpPr/>
          <p:nvPr/>
        </p:nvSpPr>
        <p:spPr>
          <a:xfrm>
            <a:off x="860400" y="587520"/>
            <a:ext cx="4800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日本人のともだちに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フランスの おみやげを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あげたいんですが…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53240" y="434880"/>
            <a:ext cx="1492200" cy="1482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17560" y="2614680"/>
            <a:ext cx="2311560" cy="68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69920" y="895320"/>
            <a:ext cx="6099120" cy="4265640"/>
          </a:xfrm>
          <a:prstGeom prst="rect">
            <a:avLst/>
          </a:prstGeom>
          <a:solidFill>
            <a:srgbClr val="00ffff"/>
          </a:solidFill>
          <a:ln w="144000">
            <a:solidFill>
              <a:srgbClr val="333333"/>
            </a:solidFill>
            <a:round/>
          </a:ln>
          <a:effectLst>
            <a:outerShdw dist="560028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009800"/>
            <a:ext cx="6505560" cy="6099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278320" y="2257560"/>
            <a:ext cx="3942000" cy="7559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20840" y="1204920"/>
            <a:ext cx="1852560" cy="70488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Kochi Mincho"/>
                <a:ea typeface="Kochi Mincho"/>
              </a:rPr>
              <a:t>あし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6" name=""/>
          <p:cNvSpPr/>
          <p:nvPr/>
        </p:nvSpPr>
        <p:spPr>
          <a:xfrm>
            <a:off x="398520" y="5075280"/>
            <a:ext cx="7548480" cy="1677960"/>
          </a:xfrm>
          <a:prstGeom prst="wedgeRoundRectCallout">
            <a:avLst>
              <a:gd name="adj1" fmla="val 47925"/>
              <a:gd name="adj2" fmla="val -12622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7" name=""/>
          <p:cNvSpPr/>
          <p:nvPr/>
        </p:nvSpPr>
        <p:spPr>
          <a:xfrm>
            <a:off x="822240" y="5545080"/>
            <a:ext cx="615312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おおさかもはれる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でしょう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(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はれでしょう</a:t>
            </a: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8" name=""/>
          <p:cNvSpPr/>
          <p:nvPr/>
        </p:nvSpPr>
        <p:spPr>
          <a:xfrm>
            <a:off x="2212920" y="3122640"/>
            <a:ext cx="1484280" cy="12002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479760" y="2998800"/>
            <a:ext cx="862200" cy="817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481040" y="3568680"/>
            <a:ext cx="755640" cy="615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705120" y="1509840"/>
            <a:ext cx="674640" cy="438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2313000" y="3270240"/>
            <a:ext cx="861840" cy="81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9920" y="895320"/>
            <a:ext cx="6099120" cy="4265640"/>
          </a:xfrm>
          <a:prstGeom prst="rect">
            <a:avLst/>
          </a:prstGeom>
          <a:solidFill>
            <a:srgbClr val="00ffff"/>
          </a:solidFill>
          <a:ln w="144000">
            <a:solidFill>
              <a:srgbClr val="333333"/>
            </a:solidFill>
            <a:round/>
          </a:ln>
          <a:effectLst>
            <a:outerShdw dist="560028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009800"/>
            <a:ext cx="6505560" cy="6099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278320" y="2257560"/>
            <a:ext cx="3942000" cy="7559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60360" y="1095480"/>
            <a:ext cx="1852560" cy="70488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Kochi Mincho"/>
                <a:ea typeface="Kochi Mincho"/>
              </a:rPr>
              <a:t>あし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7" name=""/>
          <p:cNvSpPr/>
          <p:nvPr/>
        </p:nvSpPr>
        <p:spPr>
          <a:xfrm>
            <a:off x="398520" y="5075280"/>
            <a:ext cx="7548480" cy="1677960"/>
          </a:xfrm>
          <a:prstGeom prst="wedgeRoundRectCallout">
            <a:avLst>
              <a:gd name="adj1" fmla="val 47925"/>
              <a:gd name="adj2" fmla="val -12622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5545080"/>
            <a:ext cx="68580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ふくおかはあめがふる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でしょう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(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あめでしょう</a:t>
            </a: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9" name=""/>
          <p:cNvSpPr/>
          <p:nvPr/>
        </p:nvSpPr>
        <p:spPr>
          <a:xfrm>
            <a:off x="1089000" y="3108240"/>
            <a:ext cx="1484280" cy="12002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479760" y="2998800"/>
            <a:ext cx="862200" cy="817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1481040" y="3568680"/>
            <a:ext cx="755640" cy="615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3705120" y="1509840"/>
            <a:ext cx="674640" cy="438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2313000" y="3270240"/>
            <a:ext cx="861840" cy="81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69920" y="895320"/>
            <a:ext cx="6099120" cy="4265640"/>
          </a:xfrm>
          <a:prstGeom prst="rect">
            <a:avLst/>
          </a:prstGeom>
          <a:solidFill>
            <a:srgbClr val="00ffff"/>
          </a:solidFill>
          <a:ln w="144000">
            <a:solidFill>
              <a:srgbClr val="333333"/>
            </a:solidFill>
            <a:round/>
          </a:ln>
          <a:effectLst>
            <a:outerShdw dist="560028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1009800"/>
            <a:ext cx="6505560" cy="6099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278320" y="2257560"/>
            <a:ext cx="3942000" cy="7559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60360" y="1095480"/>
            <a:ext cx="1852560" cy="70488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Kochi Mincho"/>
                <a:ea typeface="Kochi Mincho"/>
              </a:rPr>
              <a:t>あし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8" name=""/>
          <p:cNvSpPr/>
          <p:nvPr/>
        </p:nvSpPr>
        <p:spPr>
          <a:xfrm>
            <a:off x="398520" y="5075280"/>
            <a:ext cx="7548480" cy="1677960"/>
          </a:xfrm>
          <a:prstGeom prst="wedgeRoundRectCallout">
            <a:avLst>
              <a:gd name="adj1" fmla="val 47925"/>
              <a:gd name="adj2" fmla="val -12622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9" name=""/>
          <p:cNvSpPr/>
          <p:nvPr/>
        </p:nvSpPr>
        <p:spPr>
          <a:xfrm>
            <a:off x="822240" y="5545080"/>
            <a:ext cx="615312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さっぽろはくもる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でしょう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(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くもりでしょう</a:t>
            </a: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0" name=""/>
          <p:cNvSpPr/>
          <p:nvPr/>
        </p:nvSpPr>
        <p:spPr>
          <a:xfrm>
            <a:off x="3349800" y="1217520"/>
            <a:ext cx="1484280" cy="120024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479760" y="2998800"/>
            <a:ext cx="862200" cy="817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1481040" y="3568680"/>
            <a:ext cx="755640" cy="615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3705120" y="1509840"/>
            <a:ext cx="674640" cy="438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2313000" y="3270240"/>
            <a:ext cx="861840" cy="81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9920" y="895320"/>
            <a:ext cx="6099120" cy="4265640"/>
          </a:xfrm>
          <a:prstGeom prst="rect">
            <a:avLst/>
          </a:prstGeom>
          <a:solidFill>
            <a:srgbClr val="00ffff"/>
          </a:solidFill>
          <a:ln w="144000">
            <a:solidFill>
              <a:srgbClr val="333333"/>
            </a:solidFill>
            <a:round/>
          </a:ln>
          <a:effectLst>
            <a:outerShdw dist="560028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009800"/>
            <a:ext cx="6505560" cy="6099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278320" y="2257560"/>
            <a:ext cx="3942000" cy="755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60360" y="1095480"/>
            <a:ext cx="1852560" cy="70488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Kochi Mincho"/>
                <a:ea typeface="Kochi Mincho"/>
              </a:rPr>
              <a:t>あした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99" name=""/>
          <p:cNvSpPr/>
          <p:nvPr/>
        </p:nvSpPr>
        <p:spPr>
          <a:xfrm>
            <a:off x="398520" y="5075280"/>
            <a:ext cx="7548480" cy="1677960"/>
          </a:xfrm>
          <a:prstGeom prst="wedgeRoundRectCallout">
            <a:avLst>
              <a:gd name="adj1" fmla="val 47925"/>
              <a:gd name="adj2" fmla="val -12622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0" name=""/>
          <p:cNvSpPr/>
          <p:nvPr/>
        </p:nvSpPr>
        <p:spPr>
          <a:xfrm>
            <a:off x="822240" y="5545080"/>
            <a:ext cx="615312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東京はさむい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でしょう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1" name=""/>
          <p:cNvSpPr/>
          <p:nvPr/>
        </p:nvSpPr>
        <p:spPr>
          <a:xfrm>
            <a:off x="2959200" y="3160800"/>
            <a:ext cx="1735200" cy="704880"/>
          </a:xfrm>
          <a:prstGeom prst="ellipse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96480" bIns="36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3333"/>
                </a:solidFill>
                <a:latin typeface="Kochi Gothic"/>
                <a:ea typeface="Kochi Gothic"/>
              </a:rPr>
              <a:t>3°c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36680" y="-198360"/>
            <a:ext cx="8586720" cy="4591080"/>
          </a:xfrm>
          <a:prstGeom prst="cloudCallout">
            <a:avLst>
              <a:gd name="adj1" fmla="val -48013"/>
              <a:gd name="adj2" fmla="val 2462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3" name=""/>
          <p:cNvSpPr/>
          <p:nvPr/>
        </p:nvSpPr>
        <p:spPr>
          <a:xfrm>
            <a:off x="2111400" y="622440"/>
            <a:ext cx="74581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.OzN_'04"/>
                <a:ea typeface="Y.OzN_'04"/>
              </a:rPr>
              <a:t>トムさんは、あまりまじめじゃありません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.OzN_'04"/>
                <a:ea typeface="Y.OzN_'04"/>
              </a:rPr>
              <a:t>おとといも、きのうも、きょうも、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.OzN_'04"/>
                <a:ea typeface="Y.OzN_'04"/>
              </a:rPr>
              <a:t>大学をやすみました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4" name=""/>
          <p:cNvSpPr/>
          <p:nvPr/>
        </p:nvSpPr>
        <p:spPr>
          <a:xfrm>
            <a:off x="2424240" y="1770120"/>
            <a:ext cx="1440" cy="2872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5" name=""/>
          <p:cNvSpPr/>
          <p:nvPr/>
        </p:nvSpPr>
        <p:spPr>
          <a:xfrm>
            <a:off x="2031840" y="2071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Gothic"/>
                <a:ea typeface="Y.OzN_'04"/>
              </a:rPr>
              <a:t>あした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6" name=""/>
          <p:cNvSpPr/>
          <p:nvPr/>
        </p:nvSpPr>
        <p:spPr>
          <a:xfrm>
            <a:off x="4071960" y="2084400"/>
            <a:ext cx="4878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やすむ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Bitstream Vera Serif"/>
                <a:ea typeface="Y.OzN_'04"/>
              </a:rPr>
              <a:t>でしょう</a:t>
            </a:r>
            <a:r>
              <a:rPr b="0" lang="ja-JP" sz="40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795760" y="2822400"/>
            <a:ext cx="4020840" cy="63025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12840" y="3008160"/>
            <a:ext cx="2473200" cy="34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3767040" y="284040"/>
            <a:ext cx="6504120" cy="2654280"/>
            <a:chOff x="3767040" y="284040"/>
            <a:chExt cx="6504120" cy="2654280"/>
          </a:xfrm>
        </p:grpSpPr>
        <p:sp>
          <p:nvSpPr>
            <p:cNvPr id="210" name=""/>
            <p:cNvSpPr/>
            <p:nvPr/>
          </p:nvSpPr>
          <p:spPr>
            <a:xfrm>
              <a:off x="3767040" y="284040"/>
              <a:ext cx="6124680" cy="2654280"/>
            </a:xfrm>
            <a:prstGeom prst="wedgeRoundRectCallout">
              <a:avLst>
                <a:gd name="adj1" fmla="val -1745"/>
                <a:gd name="adj2" fmla="val 79935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81520" y="614520"/>
              <a:ext cx="638964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そうですね。でんわをかけたとき、</a:t>
              </a:r>
              <a:endParaRPr b="0" lang="en-US" sz="2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いつも 田中さんが でるし、</a:t>
              </a:r>
              <a:endParaRPr b="0" lang="en-US" sz="2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やすみの日は いつも ともだちと</a:t>
              </a:r>
              <a:endParaRPr b="0" lang="en-US" sz="2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あそびに いくし…</a:t>
              </a:r>
              <a:endParaRPr b="0" lang="en-US" sz="2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9920" y="2022480"/>
              <a:ext cx="0" cy="28404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033800" y="2320920"/>
            <a:ext cx="5943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Y.OzN_'04"/>
                <a:ea typeface="Y.OzN_'04"/>
              </a:rPr>
              <a:t>たぶん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、どくしん</a:t>
            </a:r>
            <a:r>
              <a:rPr b="0" lang="ja-JP" sz="36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でしょう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2274840"/>
            <a:ext cx="5987880" cy="88740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Y.OzN_'04"/>
                <a:ea typeface="Y.OzN_'04"/>
              </a:rPr>
              <a:t>たぶん</a:t>
            </a: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けっこんしていない</a:t>
            </a:r>
            <a:r>
              <a:rPr b="0" lang="ja-JP" sz="3200" spc="-1" strike="noStrike">
                <a:solidFill>
                  <a:srgbClr val="ff0000"/>
                </a:solidFill>
                <a:latin typeface="Y.OzN_'04"/>
                <a:ea typeface="Y.OzN_'04"/>
              </a:rPr>
              <a:t>でしょう</a:t>
            </a: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17480" y="2333520"/>
            <a:ext cx="2449440" cy="7559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078600" y="3270240"/>
            <a:ext cx="2311200" cy="6864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41280" y="511200"/>
            <a:ext cx="3368880" cy="1776240"/>
          </a:xfrm>
          <a:prstGeom prst="wedgeRoundRectCallout">
            <a:avLst>
              <a:gd name="adj1" fmla="val -9907"/>
              <a:gd name="adj2" fmla="val 72379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田中さんは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けっこんしていま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989520" y="3177720"/>
            <a:ext cx="257040" cy="763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9" name=""/>
          <p:cNvSpPr/>
          <p:nvPr/>
        </p:nvSpPr>
        <p:spPr>
          <a:xfrm>
            <a:off x="3502080" y="3963960"/>
            <a:ext cx="1220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どくしん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3767040" y="284040"/>
            <a:ext cx="6504120" cy="2654280"/>
            <a:chOff x="3767040" y="284040"/>
            <a:chExt cx="6504120" cy="2654280"/>
          </a:xfrm>
        </p:grpSpPr>
        <p:sp>
          <p:nvSpPr>
            <p:cNvPr id="221" name=""/>
            <p:cNvSpPr/>
            <p:nvPr/>
          </p:nvSpPr>
          <p:spPr>
            <a:xfrm>
              <a:off x="3767040" y="284040"/>
              <a:ext cx="6124680" cy="2654280"/>
            </a:xfrm>
            <a:prstGeom prst="wedgeRoundRectCallout">
              <a:avLst>
                <a:gd name="adj1" fmla="val -1745"/>
                <a:gd name="adj2" fmla="val 79935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81520" y="614520"/>
              <a:ext cx="638964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ええ、</a:t>
              </a:r>
              <a:endParaRPr b="0" lang="en-US" sz="2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みゆきさんは、りょうりがじょうず</a:t>
              </a:r>
              <a:endParaRPr b="0" lang="en-US" sz="2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だし、フランスりょうりを よく</a:t>
              </a:r>
              <a:endParaRPr b="0" lang="en-US" sz="2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たべているし、</a:t>
              </a:r>
              <a:endParaRPr b="0" lang="en-US" sz="2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79920" y="2022480"/>
              <a:ext cx="0" cy="28404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038480" y="2135160"/>
            <a:ext cx="5402520" cy="88740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Y.OzN_'04"/>
                <a:ea typeface="Y.OzN_'04"/>
              </a:rPr>
              <a:t>きっと</a:t>
            </a: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おいしい</a:t>
            </a:r>
            <a:r>
              <a:rPr b="0" lang="ja-JP" sz="3200" spc="-1" strike="noStrike">
                <a:solidFill>
                  <a:srgbClr val="ff0000"/>
                </a:solidFill>
                <a:latin typeface="Y.OzN_'04"/>
                <a:ea typeface="Y.OzN_'04"/>
              </a:rPr>
              <a:t>でしょう</a:t>
            </a: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17480" y="2333520"/>
            <a:ext cx="2449440" cy="7559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149880" y="2998800"/>
            <a:ext cx="2311560" cy="6864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41280" y="511200"/>
            <a:ext cx="3368880" cy="1776240"/>
          </a:xfrm>
          <a:prstGeom prst="wedgeRoundRectCallout">
            <a:avLst>
              <a:gd name="adj1" fmla="val -9907"/>
              <a:gd name="adj2" fmla="val 72379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きょうのパーティー、たのしみですね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みゆきさんが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フランスりょうりを つくったんですよね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3767040" y="284040"/>
            <a:ext cx="6504120" cy="2654280"/>
            <a:chOff x="3767040" y="284040"/>
            <a:chExt cx="6504120" cy="2654280"/>
          </a:xfrm>
        </p:grpSpPr>
        <p:sp>
          <p:nvSpPr>
            <p:cNvPr id="229" name=""/>
            <p:cNvSpPr/>
            <p:nvPr/>
          </p:nvSpPr>
          <p:spPr>
            <a:xfrm>
              <a:off x="3767040" y="284040"/>
              <a:ext cx="6124680" cy="2654280"/>
            </a:xfrm>
            <a:prstGeom prst="wedgeRoundRectCallout">
              <a:avLst>
                <a:gd name="adj1" fmla="val -1745"/>
                <a:gd name="adj2" fmla="val 79935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81520" y="614520"/>
              <a:ext cx="638964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そうですね。でんわをかけたとき、</a:t>
              </a:r>
              <a:endParaRPr b="0" lang="en-US" sz="2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いつも 田中さんが でるし、</a:t>
              </a:r>
              <a:endParaRPr b="0" lang="en-US" sz="2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やすみの日は いつも ともだちと</a:t>
              </a:r>
              <a:endParaRPr b="0" lang="en-US" sz="2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あそびに いくし…</a:t>
              </a:r>
              <a:endParaRPr b="0" lang="en-US" sz="2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9920" y="2022480"/>
              <a:ext cx="0" cy="28404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684600" y="2206800"/>
            <a:ext cx="6039000" cy="88740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Y.OzN_'04"/>
                <a:ea typeface="Y.OzN_'04"/>
              </a:rPr>
              <a:t>たぶん</a:t>
            </a: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かのじょがいないから</a:t>
            </a:r>
            <a:r>
              <a:rPr b="0" lang="ja-JP" sz="3200" spc="-1" strike="noStrike">
                <a:solidFill>
                  <a:srgbClr val="ff0000"/>
                </a:solidFill>
                <a:latin typeface="Y.OzN_'04"/>
                <a:ea typeface="Y.OzN_'04"/>
              </a:rPr>
              <a:t>でしょう</a:t>
            </a: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17480" y="2333520"/>
            <a:ext cx="2449440" cy="7559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149880" y="2998800"/>
            <a:ext cx="2311560" cy="68644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41280" y="511200"/>
            <a:ext cx="3368880" cy="1776240"/>
          </a:xfrm>
          <a:prstGeom prst="wedgeRoundRectCallout">
            <a:avLst>
              <a:gd name="adj1" fmla="val -9907"/>
              <a:gd name="adj2" fmla="val 72379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どうして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田中さんは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けっこんしない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んですか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052880" y="3178080"/>
            <a:ext cx="179280" cy="519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37" name=""/>
          <p:cNvSpPr/>
          <p:nvPr/>
        </p:nvSpPr>
        <p:spPr>
          <a:xfrm>
            <a:off x="3335400" y="3759120"/>
            <a:ext cx="335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かのじょがいませんから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3767040" y="284040"/>
            <a:ext cx="6504120" cy="2654280"/>
            <a:chOff x="3767040" y="284040"/>
            <a:chExt cx="6504120" cy="2654280"/>
          </a:xfrm>
        </p:grpSpPr>
        <p:sp>
          <p:nvSpPr>
            <p:cNvPr id="239" name=""/>
            <p:cNvSpPr/>
            <p:nvPr/>
          </p:nvSpPr>
          <p:spPr>
            <a:xfrm>
              <a:off x="3767040" y="284040"/>
              <a:ext cx="6124680" cy="2654280"/>
            </a:xfrm>
            <a:prstGeom prst="wedgeRoundRectCallout">
              <a:avLst>
                <a:gd name="adj1" fmla="val -1745"/>
                <a:gd name="adj2" fmla="val 79935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81520" y="614520"/>
              <a:ext cx="638964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そうですね。でんわをかけたとき、</a:t>
              </a:r>
              <a:endParaRPr b="0" lang="en-US" sz="2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いつも 田中さんが でるし、</a:t>
              </a:r>
              <a:endParaRPr b="0" lang="en-US" sz="2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やすみの日は いつも ともだちと</a:t>
              </a:r>
              <a:endParaRPr b="0" lang="en-US" sz="2800" spc="-1" strike="noStrike">
                <a:solidFill>
                  <a:srgbClr val="000000"/>
                </a:solidFill>
                <a:latin typeface="Bitstream Vera Serif"/>
              </a:endParaRPr>
            </a:p>
            <a:p>
              <a:pPr>
                <a:lnSpc>
                  <a:spcPct val="11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Y.OzN_'04"/>
                  <a:ea typeface="Y.OzN_'04"/>
                </a:rPr>
                <a:t>あそびに いくし…</a:t>
              </a:r>
              <a:endParaRPr b="0" lang="en-US" sz="28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79920" y="2022480"/>
              <a:ext cx="0" cy="28404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684600" y="2206800"/>
            <a:ext cx="5832360" cy="887400"/>
          </a:xfrm>
          <a:prstGeom prst="roundRect">
            <a:avLst>
              <a:gd name="adj" fmla="val 17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Y.OzN_'04"/>
                <a:ea typeface="Y.OzN_'04"/>
              </a:rPr>
              <a:t>たぶん</a:t>
            </a: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かのじょがいないん</a:t>
            </a:r>
            <a:r>
              <a:rPr b="0" lang="ja-JP" sz="3200" spc="-1" strike="noStrike">
                <a:solidFill>
                  <a:srgbClr val="ff0000"/>
                </a:solidFill>
                <a:latin typeface="Y.OzN_'04"/>
                <a:ea typeface="Y.OzN_'04"/>
              </a:rPr>
              <a:t>でしょう</a:t>
            </a: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17480" y="2333520"/>
            <a:ext cx="2449440" cy="7559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149880" y="2998800"/>
            <a:ext cx="2311560" cy="6864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41280" y="511200"/>
            <a:ext cx="3368880" cy="1776240"/>
          </a:xfrm>
          <a:prstGeom prst="wedgeRoundRectCallout">
            <a:avLst>
              <a:gd name="adj1" fmla="val -9907"/>
              <a:gd name="adj2" fmla="val 72379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どうして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田中さんは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けっこんしない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itstream Vera Serif"/>
                <a:ea typeface="Y.OzN_'04"/>
              </a:rPr>
              <a:t>んですか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095480" y="1566720"/>
            <a:ext cx="6321240" cy="1189080"/>
            <a:chOff x="1095480" y="1566720"/>
            <a:chExt cx="6321240" cy="1189080"/>
          </a:xfrm>
        </p:grpSpPr>
        <p:sp>
          <p:nvSpPr>
            <p:cNvPr id="247" name=""/>
            <p:cNvSpPr/>
            <p:nvPr/>
          </p:nvSpPr>
          <p:spPr>
            <a:xfrm>
              <a:off x="1095480" y="1566720"/>
              <a:ext cx="2435040" cy="675000"/>
            </a:xfrm>
            <a:prstGeom prst="ellipse">
              <a:avLst/>
            </a:prstGeom>
            <a:noFill/>
            <a:ln w="72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54280" y="2001960"/>
              <a:ext cx="3862440" cy="753840"/>
            </a:xfrm>
            <a:prstGeom prst="line">
              <a:avLst/>
            </a:prstGeom>
            <a:ln w="720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249" name=""/>
          <p:cNvSpPr/>
          <p:nvPr/>
        </p:nvSpPr>
        <p:spPr>
          <a:xfrm flipV="1">
            <a:off x="4052880" y="3178080"/>
            <a:ext cx="179280" cy="519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0" name=""/>
          <p:cNvSpPr/>
          <p:nvPr/>
        </p:nvSpPr>
        <p:spPr>
          <a:xfrm>
            <a:off x="3335400" y="3759120"/>
            <a:ext cx="335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かのじょがいませんから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 flipV="1">
            <a:off x="1330200" y="961560"/>
            <a:ext cx="1800" cy="6061320"/>
          </a:xfrm>
          <a:prstGeom prst="line">
            <a:avLst/>
          </a:prstGeom>
          <a:ln w="25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2" name=""/>
          <p:cNvSpPr/>
          <p:nvPr/>
        </p:nvSpPr>
        <p:spPr>
          <a:xfrm>
            <a:off x="5622840" y="3209760"/>
            <a:ext cx="3797280" cy="117504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でしょう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3" name=""/>
          <p:cNvSpPr/>
          <p:nvPr/>
        </p:nvSpPr>
        <p:spPr>
          <a:xfrm>
            <a:off x="1657440" y="757080"/>
            <a:ext cx="2217600" cy="495360"/>
          </a:xfrm>
          <a:prstGeom prst="roundRect">
            <a:avLst>
              <a:gd name="adj" fmla="val 31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4" name=""/>
          <p:cNvSpPr/>
          <p:nvPr/>
        </p:nvSpPr>
        <p:spPr>
          <a:xfrm>
            <a:off x="1800360" y="1787400"/>
            <a:ext cx="3614760" cy="1135080"/>
          </a:xfrm>
          <a:prstGeom prst="roundRect">
            <a:avLst>
              <a:gd name="adj" fmla="val 13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きっと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5" name=""/>
          <p:cNvSpPr/>
          <p:nvPr/>
        </p:nvSpPr>
        <p:spPr>
          <a:xfrm>
            <a:off x="1774800" y="3889440"/>
            <a:ext cx="3614760" cy="1135080"/>
          </a:xfrm>
          <a:prstGeom prst="roundRect">
            <a:avLst>
              <a:gd name="adj" fmla="val 13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36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たぶん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6" name=""/>
          <p:cNvSpPr/>
          <p:nvPr/>
        </p:nvSpPr>
        <p:spPr>
          <a:xfrm>
            <a:off x="1592280" y="6458040"/>
            <a:ext cx="2217600" cy="495360"/>
          </a:xfrm>
          <a:prstGeom prst="roundRect">
            <a:avLst>
              <a:gd name="adj" fmla="val 31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60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ー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1720" y="1949400"/>
            <a:ext cx="244980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8240" y="312840"/>
            <a:ext cx="8018640" cy="2019240"/>
          </a:xfrm>
          <a:prstGeom prst="wedgeRoundRectCallout">
            <a:avLst>
              <a:gd name="adj1" fmla="val -27666"/>
              <a:gd name="adj2" fmla="val 10422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4" name=""/>
          <p:cNvSpPr/>
          <p:nvPr/>
        </p:nvSpPr>
        <p:spPr>
          <a:xfrm>
            <a:off x="4330800" y="8668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なにかいいもの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800000"/>
                </a:solidFill>
                <a:latin typeface="Y.OzN_'04"/>
                <a:ea typeface="Y.OzN_'04"/>
              </a:rPr>
              <a:t>が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ありません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93880" y="544680"/>
            <a:ext cx="1492200" cy="1482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97000" y="879480"/>
            <a:ext cx="1560600" cy="1109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912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Kochi Gothic"/>
                <a:ea typeface="Kochi Gothic"/>
              </a:rPr>
              <a:t>いい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586320" y="1411200"/>
            <a:ext cx="469800" cy="316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8" name=""/>
          <p:cNvSpPr/>
          <p:nvPr/>
        </p:nvSpPr>
        <p:spPr>
          <a:xfrm>
            <a:off x="3416400" y="722160"/>
            <a:ext cx="573120" cy="5875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ochi 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03440" y="2728800"/>
            <a:ext cx="2376360" cy="722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750960" y="1168560"/>
            <a:ext cx="6603840" cy="18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 u="sng">
                <a:solidFill>
                  <a:srgbClr val="000000"/>
                </a:solidFill>
                <a:uFillTx/>
                <a:latin typeface="Y.OzN_'04"/>
                <a:ea typeface="Y.OzN_'04"/>
              </a:rPr>
              <a:t>わたし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は らいげつ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× 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へ いくでしょう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8" name=""/>
          <p:cNvSpPr/>
          <p:nvPr/>
        </p:nvSpPr>
        <p:spPr>
          <a:xfrm>
            <a:off x="793800" y="3909960"/>
            <a:ext cx="736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○ 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へ いく よてい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   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にほんへ いく つもり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50960" y="1168560"/>
            <a:ext cx="812808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× 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あしたは もくようびでしょう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(100%)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0" name=""/>
          <p:cNvSpPr/>
          <p:nvPr/>
        </p:nvSpPr>
        <p:spPr>
          <a:xfrm>
            <a:off x="906480" y="2533680"/>
            <a:ext cx="71121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○ 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あしたは もくようび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2728800"/>
            <a:ext cx="7278840" cy="3156120"/>
          </a:xfrm>
          <a:prstGeom prst="cloudCallout">
            <a:avLst>
              <a:gd name="adj1" fmla="val 59569"/>
              <a:gd name="adj2" fmla="val 1262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60520" y="1187280"/>
            <a:ext cx="1763640" cy="14353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465280" y="574560"/>
            <a:ext cx="13716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きの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4" name=""/>
          <p:cNvSpPr/>
          <p:nvPr/>
        </p:nvSpPr>
        <p:spPr>
          <a:xfrm>
            <a:off x="390600" y="547560"/>
            <a:ext cx="1828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おととい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5" name=""/>
          <p:cNvSpPr/>
          <p:nvPr/>
        </p:nvSpPr>
        <p:spPr>
          <a:xfrm>
            <a:off x="4410000" y="574560"/>
            <a:ext cx="13716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きょう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6" name=""/>
          <p:cNvSpPr/>
          <p:nvPr/>
        </p:nvSpPr>
        <p:spPr>
          <a:xfrm>
            <a:off x="6862680" y="1434960"/>
            <a:ext cx="1187640" cy="118764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7" name=""/>
          <p:cNvSpPr/>
          <p:nvPr/>
        </p:nvSpPr>
        <p:spPr>
          <a:xfrm>
            <a:off x="6719760" y="601560"/>
            <a:ext cx="13716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Kochi Mincho"/>
                <a:ea typeface="Kochi Mincho"/>
              </a:rPr>
              <a:t>あした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68" name=""/>
          <p:cNvSpPr/>
          <p:nvPr/>
        </p:nvSpPr>
        <p:spPr>
          <a:xfrm>
            <a:off x="4552920" y="2557440"/>
            <a:ext cx="2114640" cy="1201680"/>
          </a:xfrm>
          <a:custGeom>
            <a:avLst/>
            <a:gdLst/>
            <a:ahLst/>
            <a:rect l="l" t="t" r="r" b="b"/>
            <a:pathLst>
              <a:path w="5873" h="3336">
                <a:moveTo>
                  <a:pt x="5872" y="0"/>
                </a:moveTo>
                <a:lnTo>
                  <a:pt x="0" y="3335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401920" y="1197000"/>
            <a:ext cx="1643040" cy="1492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4260960" y="1512720"/>
            <a:ext cx="1896840" cy="12398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7435800" y="4246560"/>
            <a:ext cx="2473200" cy="34718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53880" y="3720960"/>
            <a:ext cx="6824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あしたは あめ</a:t>
            </a:r>
            <a:r>
              <a:rPr b="0" lang="ja-JP" sz="3600" spc="-1" strike="noStrike">
                <a:solidFill>
                  <a:srgbClr val="ff0000"/>
                </a:solidFill>
                <a:latin typeface="Y.OzN_'04"/>
                <a:ea typeface="Y.OzN_'04"/>
              </a:rPr>
              <a:t>かもしれません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はれ</a:t>
            </a:r>
            <a:r>
              <a:rPr b="0" lang="ja-JP" sz="3600" spc="-1" strike="noStrike">
                <a:solidFill>
                  <a:srgbClr val="ff0000"/>
                </a:solidFill>
                <a:latin typeface="Y.OzN_'04"/>
                <a:ea typeface="Y.OzN_'04"/>
              </a:rPr>
              <a:t>かもしれません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1663560"/>
            <a:ext cx="4862520" cy="2872080"/>
          </a:xfrm>
          <a:prstGeom prst="cloudCallout">
            <a:avLst>
              <a:gd name="adj1" fmla="val 66365"/>
              <a:gd name="adj2" fmla="val 543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4" name=""/>
          <p:cNvSpPr/>
          <p:nvPr/>
        </p:nvSpPr>
        <p:spPr>
          <a:xfrm>
            <a:off x="247680" y="130320"/>
            <a:ext cx="8847000" cy="1869840"/>
          </a:xfrm>
          <a:prstGeom prst="roundRect">
            <a:avLst>
              <a:gd name="adj" fmla="val 8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Kochi Gothic"/>
                <a:ea typeface="Y.OzN_'04"/>
              </a:rPr>
              <a:t>いま</a:t>
            </a:r>
            <a:r>
              <a:rPr b="0" lang="en-US" sz="2800" spc="-1" strike="noStrike">
                <a:solidFill>
                  <a:srgbClr val="000000"/>
                </a:solidFill>
                <a:latin typeface="Kochi Gothic"/>
                <a:ea typeface="Y.OzN_'04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Kochi Gothic"/>
                <a:ea typeface="Y.OzN_'04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Kochi Gothic"/>
                <a:ea typeface="Y.OzN_'04"/>
              </a:rPr>
              <a:t>30</a:t>
            </a:r>
            <a:r>
              <a:rPr b="0" lang="ja-JP" sz="2800" spc="-1" strike="noStrike">
                <a:solidFill>
                  <a:srgbClr val="000000"/>
                </a:solidFill>
                <a:latin typeface="Kochi Gothic"/>
                <a:ea typeface="Y.OzN_'04"/>
              </a:rPr>
              <a:t>です。</a:t>
            </a:r>
            <a:r>
              <a:rPr b="0" lang="en-US" sz="2800" spc="-1" strike="noStrike">
                <a:solidFill>
                  <a:srgbClr val="000000"/>
                </a:solidFill>
                <a:latin typeface="Kochi Gothic"/>
                <a:ea typeface="Y.OzN_'04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Kochi Gothic"/>
                <a:ea typeface="Y.OzN_'04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Kochi Gothic"/>
                <a:ea typeface="Y.OzN_'04"/>
              </a:rPr>
              <a:t>35</a:t>
            </a:r>
            <a:r>
              <a:rPr b="0" lang="ja-JP" sz="2800" spc="-1" strike="noStrike">
                <a:solidFill>
                  <a:srgbClr val="000000"/>
                </a:solidFill>
                <a:latin typeface="Kochi Gothic"/>
                <a:ea typeface="Y.OzN_'04"/>
              </a:rPr>
              <a:t>のろめんでんしゃに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ochi Gothic"/>
                <a:ea typeface="Y.OzN_'04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Kochi Gothic"/>
                <a:ea typeface="Y.OzN_'04"/>
              </a:rPr>
              <a:t>まにあうでしょうか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Kochi Gothic"/>
                <a:ea typeface="Y.OzN_'04"/>
              </a:rPr>
              <a:t>わかりません。もう おそいですから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5" name=""/>
          <p:cNvSpPr/>
          <p:nvPr/>
        </p:nvSpPr>
        <p:spPr>
          <a:xfrm>
            <a:off x="630360" y="1581120"/>
            <a:ext cx="691920" cy="126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6" name=""/>
          <p:cNvSpPr/>
          <p:nvPr/>
        </p:nvSpPr>
        <p:spPr>
          <a:xfrm>
            <a:off x="1596960" y="1405080"/>
            <a:ext cx="71121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Y.OzN_'04"/>
              </a:rPr>
              <a:t>まにあわない</a:t>
            </a:r>
            <a:r>
              <a:rPr b="0" lang="ja-JP" sz="4000" spc="-1" strike="noStrike">
                <a:solidFill>
                  <a:srgbClr val="ff0000"/>
                </a:solidFill>
                <a:latin typeface="Kochi Gothic"/>
                <a:ea typeface="Y.OzN_'04"/>
              </a:rPr>
              <a:t>かもしれません</a:t>
            </a: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Y.OzN_'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22160" y="1919160"/>
            <a:ext cx="3202200" cy="2100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929120" y="3035160"/>
            <a:ext cx="5041800" cy="47181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3017880" y="2786040"/>
            <a:ext cx="1376280" cy="12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1663560"/>
            <a:ext cx="4862520" cy="2872080"/>
          </a:xfrm>
          <a:prstGeom prst="cloudCallout">
            <a:avLst>
              <a:gd name="adj1" fmla="val 66365"/>
              <a:gd name="adj2" fmla="val 543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1" name=""/>
          <p:cNvSpPr/>
          <p:nvPr/>
        </p:nvSpPr>
        <p:spPr>
          <a:xfrm>
            <a:off x="247680" y="130320"/>
            <a:ext cx="8847000" cy="1657080"/>
          </a:xfrm>
          <a:prstGeom prst="roundRect">
            <a:avLst>
              <a:gd name="adj" fmla="val 93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Kochi Gothic"/>
                <a:ea typeface="Y.OzN_'04"/>
              </a:rPr>
              <a:t>でも、いそいだら、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2" name=""/>
          <p:cNvSpPr/>
          <p:nvPr/>
        </p:nvSpPr>
        <p:spPr>
          <a:xfrm>
            <a:off x="630360" y="1363680"/>
            <a:ext cx="691920" cy="1260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3" name=""/>
          <p:cNvSpPr/>
          <p:nvPr/>
        </p:nvSpPr>
        <p:spPr>
          <a:xfrm>
            <a:off x="1892160" y="1147680"/>
            <a:ext cx="7105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640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Y.OzN_'04"/>
              </a:rPr>
              <a:t>まにあう</a:t>
            </a:r>
            <a:r>
              <a:rPr b="0" lang="ja-JP" sz="4000" spc="-1" strike="noStrike">
                <a:solidFill>
                  <a:srgbClr val="ff0000"/>
                </a:solidFill>
                <a:latin typeface="Kochi Gothic"/>
                <a:ea typeface="Y.OzN_'04"/>
              </a:rPr>
              <a:t>かもしれません</a:t>
            </a:r>
            <a:r>
              <a:rPr b="0" lang="ja-JP" sz="4000" spc="-1" strike="noStrike">
                <a:solidFill>
                  <a:srgbClr val="000000"/>
                </a:solidFill>
                <a:latin typeface="Kochi Gothic"/>
                <a:ea typeface="Y.OzN_'04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929120" y="3035160"/>
            <a:ext cx="5041800" cy="47181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871560" y="2013120"/>
            <a:ext cx="3568680" cy="28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-852480" y="-923760"/>
            <a:ext cx="11444400" cy="3938400"/>
          </a:xfrm>
          <a:prstGeom prst="cloudCallout">
            <a:avLst>
              <a:gd name="adj1" fmla="val -24041"/>
              <a:gd name="adj2" fmla="val 56495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7" name=""/>
          <p:cNvSpPr/>
          <p:nvPr/>
        </p:nvSpPr>
        <p:spPr>
          <a:xfrm>
            <a:off x="587520" y="509760"/>
            <a:ext cx="532764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.OzN_'04"/>
                <a:ea typeface="Y.OzN_'04"/>
              </a:rPr>
              <a:t>カルメンさんは、まじめです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.OzN_'04"/>
                <a:ea typeface="Y.OzN_'04"/>
              </a:rPr>
              <a:t>いつも大学へ きます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Y.OzN_'04"/>
                <a:ea typeface="Y.OzN_'04"/>
              </a:rPr>
              <a:t>でも、きょうはやすみです。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8" name=""/>
          <p:cNvSpPr/>
          <p:nvPr/>
        </p:nvSpPr>
        <p:spPr>
          <a:xfrm>
            <a:off x="900000" y="1657440"/>
            <a:ext cx="1800" cy="28728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9" name=""/>
          <p:cNvSpPr/>
          <p:nvPr/>
        </p:nvSpPr>
        <p:spPr>
          <a:xfrm>
            <a:off x="757080" y="1957320"/>
            <a:ext cx="6469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びょうき</a:t>
            </a:r>
            <a:r>
              <a:rPr b="0" lang="ja-JP" sz="4000" spc="-1" strike="noStrike" u="sng">
                <a:solidFill>
                  <a:srgbClr val="ff0000"/>
                </a:solidFill>
                <a:uFillTx/>
                <a:latin typeface="Y.OzN_'04"/>
                <a:ea typeface="Y.OzN_'04"/>
              </a:rPr>
              <a:t>かもしれません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0" name=""/>
          <p:cNvSpPr/>
          <p:nvPr/>
        </p:nvSpPr>
        <p:spPr>
          <a:xfrm>
            <a:off x="630360" y="1871640"/>
            <a:ext cx="6824520" cy="717480"/>
          </a:xfrm>
          <a:prstGeom prst="roundRect">
            <a:avLst>
              <a:gd name="adj" fmla="val 21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びょうきな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Y.OzN_'04"/>
                <a:ea typeface="Y.OzN_'04"/>
              </a:rPr>
              <a:t>の</a:t>
            </a:r>
            <a:r>
              <a:rPr b="0" lang="ja-JP" sz="3200" spc="-1" strike="noStrike">
                <a:solidFill>
                  <a:srgbClr val="ff0000"/>
                </a:solidFill>
                <a:latin typeface="Y.OzN_'04"/>
                <a:ea typeface="Y.OzN_'04"/>
              </a:rPr>
              <a:t>かもしれません</a:t>
            </a:r>
            <a:r>
              <a:rPr b="0" lang="ja-JP" sz="3200" spc="-1" strike="noStrike">
                <a:solidFill>
                  <a:srgbClr val="000000"/>
                </a:solidFill>
                <a:latin typeface="Y.OzN_'04"/>
                <a:ea typeface="Y.OzN_'04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1" name=""/>
          <p:cNvSpPr/>
          <p:nvPr/>
        </p:nvSpPr>
        <p:spPr>
          <a:xfrm>
            <a:off x="4888080" y="1281240"/>
            <a:ext cx="2717640" cy="507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2" name=""/>
          <p:cNvSpPr/>
          <p:nvPr/>
        </p:nvSpPr>
        <p:spPr>
          <a:xfrm>
            <a:off x="3468600" y="1606680"/>
            <a:ext cx="1465200" cy="369720"/>
          </a:xfrm>
          <a:custGeom>
            <a:avLst/>
            <a:gdLst/>
            <a:ahLst/>
            <a:rect l="l" t="t" r="r" b="b"/>
            <a:pathLst>
              <a:path w="4068" h="1029">
                <a:moveTo>
                  <a:pt x="4067" y="0"/>
                </a:moveTo>
                <a:lnTo>
                  <a:pt x="0" y="1028"/>
                </a:lnTo>
              </a:path>
            </a:pathLst>
          </a:custGeom>
          <a:noFill/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314440" y="2957400"/>
            <a:ext cx="4478400" cy="6608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14280" y="2781360"/>
            <a:ext cx="2473200" cy="34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flipV="1">
            <a:off x="2414520" y="2085840"/>
            <a:ext cx="5973840" cy="287496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98360" y="4087800"/>
            <a:ext cx="2473560" cy="34718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-468360" y="-482760"/>
            <a:ext cx="7818480" cy="3938760"/>
          </a:xfrm>
          <a:prstGeom prst="cloudCallout">
            <a:avLst>
              <a:gd name="adj1" fmla="val -19092"/>
              <a:gd name="adj2" fmla="val 8103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8112240" y="0"/>
            <a:ext cx="1643040" cy="4888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57280" y="693720"/>
            <a:ext cx="40640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デート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かのじょができた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0" name=""/>
          <p:cNvSpPr/>
          <p:nvPr/>
        </p:nvSpPr>
        <p:spPr>
          <a:xfrm>
            <a:off x="2095560" y="803160"/>
            <a:ext cx="5079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なのかもしれません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1" name=""/>
          <p:cNvSpPr/>
          <p:nvPr/>
        </p:nvSpPr>
        <p:spPr>
          <a:xfrm>
            <a:off x="1676520" y="2289240"/>
            <a:ext cx="4572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のかもしれません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 flipH="1" flipV="1">
            <a:off x="1314000" y="309240"/>
            <a:ext cx="19080" cy="6713640"/>
          </a:xfrm>
          <a:prstGeom prst="line">
            <a:avLst/>
          </a:prstGeom>
          <a:ln w="252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3" name=""/>
          <p:cNvSpPr/>
          <p:nvPr/>
        </p:nvSpPr>
        <p:spPr>
          <a:xfrm>
            <a:off x="5505480" y="3209760"/>
            <a:ext cx="4319640" cy="1175040"/>
          </a:xfrm>
          <a:prstGeom prst="roundRect">
            <a:avLst>
              <a:gd name="adj" fmla="val 13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Y.OzN_'04"/>
                <a:ea typeface="Y.OzN_'04"/>
              </a:rPr>
              <a:t>かもしれません</a:t>
            </a:r>
            <a:endParaRPr b="0" lang="en-US" sz="4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4" name=""/>
          <p:cNvSpPr/>
          <p:nvPr/>
        </p:nvSpPr>
        <p:spPr>
          <a:xfrm>
            <a:off x="1657440" y="757080"/>
            <a:ext cx="2217600" cy="495360"/>
          </a:xfrm>
          <a:prstGeom prst="roundRect">
            <a:avLst>
              <a:gd name="adj" fmla="val 31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60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ー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2327400"/>
            <a:ext cx="3614760" cy="1135080"/>
          </a:xfrm>
          <a:prstGeom prst="roundRect">
            <a:avLst>
              <a:gd name="adj" fmla="val 13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もしかすると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もしかしたら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6" name=""/>
          <p:cNvSpPr/>
          <p:nvPr/>
        </p:nvSpPr>
        <p:spPr>
          <a:xfrm>
            <a:off x="1787400" y="4084560"/>
            <a:ext cx="3614760" cy="1135080"/>
          </a:xfrm>
          <a:prstGeom prst="roundRect">
            <a:avLst>
              <a:gd name="adj" fmla="val 13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ひょっとすると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みかちゃん"/>
              </a:rPr>
              <a:t>ひょっとしたら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7" name=""/>
          <p:cNvSpPr/>
          <p:nvPr/>
        </p:nvSpPr>
        <p:spPr>
          <a:xfrm>
            <a:off x="1749600" y="6458040"/>
            <a:ext cx="2217600" cy="495360"/>
          </a:xfrm>
          <a:prstGeom prst="roundRect">
            <a:avLst>
              <a:gd name="adj" fmla="val 31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Bitstream Vera Serif"/>
              </a:rPr>
              <a:t>ー</a:t>
            </a: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62080" y="2610000"/>
            <a:ext cx="7365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でしょう 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/ 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だろう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かもしれません </a:t>
            </a:r>
            <a:r>
              <a:rPr b="0" lang="en-US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/ </a:t>
            </a: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かもしれない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1428840"/>
            <a:ext cx="6686640" cy="723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ていねいけい </a:t>
            </a:r>
            <a:r>
              <a:rPr b="0" lang="en-US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/ </a:t>
            </a: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ふつうけい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1720" y="1949400"/>
            <a:ext cx="244980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4040" y="324000"/>
            <a:ext cx="6489720" cy="1847880"/>
          </a:xfrm>
          <a:prstGeom prst="wedgeRoundRectCallout">
            <a:avLst>
              <a:gd name="adj1" fmla="val 39662"/>
              <a:gd name="adj2" fmla="val 8992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2" name=""/>
          <p:cNvSpPr/>
          <p:nvPr/>
        </p:nvSpPr>
        <p:spPr>
          <a:xfrm>
            <a:off x="1030320" y="584280"/>
            <a:ext cx="555624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そうですね……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just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Y.OzN_'04"/>
                <a:ea typeface="Y.OzN_'04"/>
              </a:rPr>
              <a:t>ワインはどうです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 algn="just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03440" y="2728800"/>
            <a:ext cx="2376360" cy="7220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49520" y="1730520"/>
            <a:ext cx="5365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cf. &lt; </a:t>
            </a: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ワインがいいですよ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11720" y="1949400"/>
            <a:ext cx="244980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0600" y="334800"/>
            <a:ext cx="7902720" cy="1878120"/>
          </a:xfrm>
          <a:prstGeom prst="wedgeRoundRectCallout">
            <a:avLst>
              <a:gd name="adj1" fmla="val 33356"/>
              <a:gd name="adj2" fmla="val 64986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7" name=""/>
          <p:cNvSpPr/>
          <p:nvPr/>
        </p:nvSpPr>
        <p:spPr>
          <a:xfrm>
            <a:off x="730080" y="46980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184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Kochi Gothic"/>
                <a:ea typeface="Y.OzN_'04"/>
              </a:rPr>
              <a:t>京子さん、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Kochi Gothic"/>
                <a:ea typeface="Y.OzN_'04"/>
              </a:rPr>
              <a:t>中国へ 行ったことがありますよね。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Kochi Gothic"/>
                <a:ea typeface="Y.OzN_'04"/>
              </a:rPr>
              <a:t>わたしも行きたいんですが、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8" name=""/>
          <p:cNvSpPr/>
          <p:nvPr/>
        </p:nvSpPr>
        <p:spPr>
          <a:xfrm>
            <a:off x="770040" y="1514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Kochi Gothic"/>
                <a:ea typeface="Y.OzN_'04"/>
              </a:rPr>
              <a:t>どこかいいところ</a:t>
            </a:r>
            <a:r>
              <a:rPr b="0" lang="ja-JP" sz="3600" spc="-1" strike="noStrike">
                <a:solidFill>
                  <a:srgbClr val="800000"/>
                </a:solidFill>
                <a:latin typeface="Kochi Gothic"/>
                <a:ea typeface="Y.OzN_'04"/>
              </a:rPr>
              <a:t>を</a:t>
            </a:r>
            <a:r>
              <a:rPr b="0" lang="ja-JP" sz="3600" spc="-1" strike="noStrike">
                <a:solidFill>
                  <a:srgbClr val="000000"/>
                </a:solidFill>
                <a:latin typeface="Kochi Gothic"/>
                <a:ea typeface="Y.OzN_'04"/>
              </a:rPr>
              <a:t>しりませんか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3440" y="2730600"/>
            <a:ext cx="2376360" cy="7219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85840" y="2398680"/>
            <a:ext cx="426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cf.</a:t>
            </a: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どこかおもしろいところ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どこかきれいなところ </a:t>
            </a:r>
            <a:r>
              <a:rPr b="0" lang="en-US" sz="2400" spc="-1" strike="noStrike">
                <a:solidFill>
                  <a:srgbClr val="000000"/>
                </a:solidFill>
                <a:latin typeface="Y.OzN_'04"/>
                <a:ea typeface="Y.OzN_'04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1720" y="1949400"/>
            <a:ext cx="2449800" cy="7559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03440" y="2728800"/>
            <a:ext cx="2376360" cy="722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43080" y="393840"/>
            <a:ext cx="83851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1)</a:t>
            </a:r>
            <a:r>
              <a:rPr b="0" lang="ja-JP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やきゅうを いっしょにする ともだちが ほしいんですが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2)</a:t>
            </a:r>
            <a:r>
              <a:rPr b="0" lang="ja-JP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きょうとで とまるところが まだ みつからないんですが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）にほんじんの パーティーに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YOzFontP04"/>
                <a:ea typeface="YOzFontP04"/>
              </a:rPr>
              <a:t>わたしの くにの りょうりを もっていくんですが…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22240" y="2217600"/>
            <a:ext cx="547920" cy="547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5" name=""/>
          <p:cNvSpPr/>
          <p:nvPr/>
        </p:nvSpPr>
        <p:spPr>
          <a:xfrm>
            <a:off x="639720" y="326880"/>
            <a:ext cx="7737480" cy="2217960"/>
          </a:xfrm>
          <a:prstGeom prst="roundRect">
            <a:avLst>
              <a:gd name="adj" fmla="val 8093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6" name=""/>
          <p:cNvSpPr/>
          <p:nvPr/>
        </p:nvSpPr>
        <p:spPr>
          <a:xfrm>
            <a:off x="860400" y="587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.OzN_'04"/>
              </a:rPr>
              <a:t>けっこんしたいんだけど…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35000" y="2557440"/>
            <a:ext cx="2419560" cy="6524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017720" y="2779560"/>
            <a:ext cx="457200" cy="482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11746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7760" bIns="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みかちゃん"/>
                <a:ea typeface="Y.OzN_'04"/>
              </a:rPr>
              <a:t>だれかいい人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600" spc="-1" strike="noStrike">
                <a:solidFill>
                  <a:srgbClr val="800000"/>
                </a:solidFill>
                <a:latin typeface="みかちゃん"/>
                <a:ea typeface="Y.OzN_'04"/>
              </a:rPr>
              <a:t>が</a:t>
            </a:r>
            <a:r>
              <a:rPr b="0" lang="ja-JP" sz="3600" spc="-1" strike="noStrike">
                <a:solidFill>
                  <a:srgbClr val="000000"/>
                </a:solidFill>
                <a:latin typeface="みかちゃん"/>
                <a:ea typeface="Y.OzN_'04"/>
              </a:rPr>
              <a:t>いないかな。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05520" y="455760"/>
            <a:ext cx="2995560" cy="3549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18080" y="2570040"/>
            <a:ext cx="3914640" cy="2270160"/>
          </a:xfrm>
          <a:prstGeom prst="roundRect">
            <a:avLst>
              <a:gd name="adj" fmla="val 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2" name=""/>
          <p:cNvSpPr/>
          <p:nvPr/>
        </p:nvSpPr>
        <p:spPr>
          <a:xfrm>
            <a:off x="7375680" y="457200"/>
            <a:ext cx="782640" cy="80820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1840" bIns="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ochi 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108000" y="3335400"/>
            <a:ext cx="3392640" cy="5632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17560" y="2309760"/>
            <a:ext cx="1176480" cy="1376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787920" y="2898720"/>
            <a:ext cx="3562200" cy="6029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19160" y="912960"/>
            <a:ext cx="6640560" cy="1569960"/>
          </a:xfrm>
          <a:prstGeom prst="wedgeRoundRectCallout">
            <a:avLst>
              <a:gd name="adj1" fmla="val -36263"/>
              <a:gd name="adj2" fmla="val 9952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のどがいたくて、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ねつがあるんです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108000" y="3335400"/>
            <a:ext cx="3392640" cy="5632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17560" y="2309760"/>
            <a:ext cx="1176480" cy="1376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787920" y="2898720"/>
            <a:ext cx="3562200" cy="6029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327480" y="979560"/>
            <a:ext cx="4332240" cy="1503360"/>
          </a:xfrm>
          <a:prstGeom prst="wedgeRoundRectCallout">
            <a:avLst>
              <a:gd name="adj1" fmla="val 6962"/>
              <a:gd name="adj2" fmla="val 114236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Y.OzN_'04"/>
                <a:ea typeface="Y.OzN_'04"/>
              </a:rPr>
              <a:t>かぜですね。</a:t>
            </a:r>
            <a:endParaRPr b="0" lang="en-US" sz="4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06:08:27Z</dcterms:created>
  <dc:creator/>
  <dc:description/>
  <dc:language>en-US</dc:language>
  <cp:lastModifiedBy/>
  <dcterms:modified xsi:type="dcterms:W3CDTF">2016-05-24T19:29:09Z</dcterms:modified>
  <cp:revision>6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