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310760" y="1027080"/>
            <a:ext cx="49309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196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8" name=""/>
          <p:cNvSpPr/>
          <p:nvPr/>
        </p:nvSpPr>
        <p:spPr>
          <a:xfrm>
            <a:off x="755640" y="5078520"/>
            <a:ext cx="604368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6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8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0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2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4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39440" y="439020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836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860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3944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860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776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836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3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4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5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6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" name=""/>
          <p:cNvSpPr/>
          <p:nvPr/>
        </p:nvSpPr>
        <p:spPr>
          <a:xfrm>
            <a:off x="7272360" y="7056360"/>
            <a:ext cx="2779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http://j-learning.com/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4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4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4.png"/><Relationship Id="rId19" Type="http://schemas.openxmlformats.org/officeDocument/2006/relationships/image" Target="../media/image6.png"/><Relationship Id="rId20" Type="http://schemas.openxmlformats.org/officeDocument/2006/relationships/image" Target="../media/image7.png"/><Relationship Id="rId21" Type="http://schemas.openxmlformats.org/officeDocument/2006/relationships/image" Target="../media/image9.png"/><Relationship Id="rId22" Type="http://schemas.openxmlformats.org/officeDocument/2006/relationships/image" Target="../media/image7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4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4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4.png"/><Relationship Id="rId19" Type="http://schemas.openxmlformats.org/officeDocument/2006/relationships/image" Target="../media/image6.png"/><Relationship Id="rId20" Type="http://schemas.openxmlformats.org/officeDocument/2006/relationships/image" Target="../media/image7.png"/><Relationship Id="rId21" Type="http://schemas.openxmlformats.org/officeDocument/2006/relationships/image" Target="../media/image9.png"/><Relationship Id="rId22" Type="http://schemas.openxmlformats.org/officeDocument/2006/relationships/image" Target="../media/image7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4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4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4.png"/><Relationship Id="rId19" Type="http://schemas.openxmlformats.org/officeDocument/2006/relationships/image" Target="../media/image6.png"/><Relationship Id="rId20" Type="http://schemas.openxmlformats.org/officeDocument/2006/relationships/image" Target="../media/image7.png"/><Relationship Id="rId21" Type="http://schemas.openxmlformats.org/officeDocument/2006/relationships/image" Target="../media/image9.png"/><Relationship Id="rId22" Type="http://schemas.openxmlformats.org/officeDocument/2006/relationships/image" Target="../media/image7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4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4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4.png"/><Relationship Id="rId19" Type="http://schemas.openxmlformats.org/officeDocument/2006/relationships/image" Target="../media/image6.png"/><Relationship Id="rId20" Type="http://schemas.openxmlformats.org/officeDocument/2006/relationships/image" Target="../media/image7.png"/><Relationship Id="rId21" Type="http://schemas.openxmlformats.org/officeDocument/2006/relationships/image" Target="../media/image9.png"/><Relationship Id="rId22" Type="http://schemas.openxmlformats.org/officeDocument/2006/relationships/image" Target="../media/image7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19280" y="404640"/>
            <a:ext cx="6945120" cy="16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.OzN_'04"/>
                <a:ea typeface="Y.OzN_'04"/>
              </a:rPr>
              <a:t>だい </a:t>
            </a:r>
            <a:r>
              <a:rPr b="0" lang="en-US" sz="9600" spc="-1" strike="noStrike">
                <a:solidFill>
                  <a:srgbClr val="000000"/>
                </a:solidFill>
                <a:latin typeface="Y.OzN_'04"/>
                <a:ea typeface="Y.OzN_'04"/>
              </a:rPr>
              <a:t>34 </a:t>
            </a:r>
            <a:r>
              <a:rPr b="0" lang="ja-JP" sz="9600" spc="-1" strike="noStrike">
                <a:solidFill>
                  <a:srgbClr val="000000"/>
                </a:solidFill>
                <a:latin typeface="Y.OzN_'04"/>
                <a:ea typeface="Y.OzN_'04"/>
              </a:rPr>
              <a:t>か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4" name=""/>
          <p:cNvSpPr/>
          <p:nvPr/>
        </p:nvSpPr>
        <p:spPr>
          <a:xfrm>
            <a:off x="2700360" y="2025720"/>
            <a:ext cx="48783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.OzN_'04"/>
                <a:ea typeface="Y.OzN_'04"/>
              </a:rPr>
              <a:t>スライド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5" name=""/>
          <p:cNvSpPr/>
          <p:nvPr/>
        </p:nvSpPr>
        <p:spPr>
          <a:xfrm>
            <a:off x="9899640" y="5578560"/>
            <a:ext cx="14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6" name=""/>
          <p:cNvSpPr/>
          <p:nvPr/>
        </p:nvSpPr>
        <p:spPr>
          <a:xfrm>
            <a:off x="2517840" y="3724200"/>
            <a:ext cx="5081400" cy="37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〜とおりに… </a:t>
            </a:r>
            <a:r>
              <a:rPr b="0" lang="en-US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/ </a:t>
            </a: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〜とおり…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〜あとで…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〜て </a:t>
            </a:r>
            <a:r>
              <a:rPr b="0" lang="en-US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/ </a:t>
            </a: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〜ないで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〜ずにいます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〜ずにはいられません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〜かわりに…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7" name=""/>
          <p:cNvSpPr/>
          <p:nvPr/>
        </p:nvSpPr>
        <p:spPr>
          <a:xfrm>
            <a:off x="5529240" y="4284720"/>
            <a:ext cx="14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412920" y="270000"/>
            <a:ext cx="5143320" cy="3703680"/>
            <a:chOff x="412920" y="270000"/>
            <a:chExt cx="5143320" cy="3703680"/>
          </a:xfrm>
        </p:grpSpPr>
        <p:sp>
          <p:nvSpPr>
            <p:cNvPr id="169" name=""/>
            <p:cNvSpPr/>
            <p:nvPr/>
          </p:nvSpPr>
          <p:spPr>
            <a:xfrm>
              <a:off x="412920" y="270000"/>
              <a:ext cx="5143320" cy="3395520"/>
            </a:xfrm>
            <a:prstGeom prst="roundRect">
              <a:avLst>
                <a:gd name="adj" fmla="val 5278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800440" y="385920"/>
              <a:ext cx="2512800" cy="1871640"/>
              <a:chOff x="2800440" y="385920"/>
              <a:chExt cx="2512800" cy="1871640"/>
            </a:xfrm>
          </p:grpSpPr>
          <p:sp>
            <p:nvSpPr>
              <p:cNvPr id="171" name=""/>
              <p:cNvSpPr/>
              <p:nvPr/>
            </p:nvSpPr>
            <p:spPr>
              <a:xfrm>
                <a:off x="2800440" y="385920"/>
                <a:ext cx="2512800" cy="1871640"/>
              </a:xfrm>
              <a:custGeom>
                <a:avLst/>
                <a:gdLst/>
                <a:ahLst/>
                <a:rect l="l" t="t" r="r" b="b"/>
                <a:pathLst>
                  <a:path w="6991" h="5207">
                    <a:moveTo>
                      <a:pt x="0" y="5206"/>
                    </a:moveTo>
                    <a:lnTo>
                      <a:pt x="0" y="0"/>
                    </a:lnTo>
                    <a:lnTo>
                      <a:pt x="6990" y="0"/>
                    </a:lnTo>
                    <a:lnTo>
                      <a:pt x="6990" y="5206"/>
                    </a:lnTo>
                    <a:lnTo>
                      <a:pt x="0" y="5206"/>
                    </a:lnTo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</p:grpSp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588960" y="816120"/>
              <a:ext cx="2660760" cy="3157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4668840" y="1496880"/>
            <a:ext cx="2184480" cy="4505400"/>
          </a:xfrm>
          <a:prstGeom prst="rect">
            <a:avLst/>
          </a:prstGeom>
          <a:ln w="0">
            <a:noFill/>
          </a:ln>
        </p:spPr>
      </p:pic>
      <p:grpSp>
        <p:nvGrpSpPr>
          <p:cNvPr id="174" name=""/>
          <p:cNvGrpSpPr/>
          <p:nvPr/>
        </p:nvGrpSpPr>
        <p:grpSpPr>
          <a:xfrm>
            <a:off x="2502000" y="398520"/>
            <a:ext cx="6991200" cy="3565440"/>
            <a:chOff x="2502000" y="398520"/>
            <a:chExt cx="6991200" cy="3565440"/>
          </a:xfrm>
        </p:grpSpPr>
        <p:sp>
          <p:nvSpPr>
            <p:cNvPr id="175" name=""/>
            <p:cNvSpPr/>
            <p:nvPr/>
          </p:nvSpPr>
          <p:spPr>
            <a:xfrm>
              <a:off x="5473800" y="1521000"/>
              <a:ext cx="1120680" cy="30924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473800" y="1833480"/>
              <a:ext cx="1120680" cy="30960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502000" y="398520"/>
              <a:ext cx="2868480" cy="2030400"/>
            </a:xfrm>
            <a:prstGeom prst="ellipse">
              <a:avLst/>
            </a:prstGeom>
            <a:noFill/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94520" y="782640"/>
              <a:ext cx="2398680" cy="3181320"/>
            </a:xfrm>
            <a:prstGeom prst="ellipse">
              <a:avLst/>
            </a:prstGeom>
            <a:noFill/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596880" y="4592520"/>
            <a:ext cx="9482040" cy="137952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0" name=""/>
          <p:cNvSpPr/>
          <p:nvPr/>
        </p:nvSpPr>
        <p:spPr>
          <a:xfrm>
            <a:off x="85680" y="6041880"/>
            <a:ext cx="9866520" cy="137952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1" name=""/>
          <p:cNvSpPr/>
          <p:nvPr/>
        </p:nvSpPr>
        <p:spPr>
          <a:xfrm>
            <a:off x="1154160" y="4910040"/>
            <a:ext cx="7315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P04"/>
                <a:ea typeface="YOzFontP04"/>
              </a:rPr>
              <a:t>テレビでみた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P04"/>
                <a:ea typeface="YOzFontP04"/>
              </a:rPr>
              <a:t>とおり</a:t>
            </a:r>
            <a:r>
              <a:rPr b="0" lang="ja-JP" sz="4800" spc="-1" strike="noStrike">
                <a:solidFill>
                  <a:srgbClr val="000000"/>
                </a:solidFill>
                <a:latin typeface="YOzFontP04"/>
                <a:ea typeface="YOzFontP04"/>
              </a:rPr>
              <a:t>です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2" name=""/>
          <p:cNvSpPr/>
          <p:nvPr/>
        </p:nvSpPr>
        <p:spPr>
          <a:xfrm>
            <a:off x="646200" y="6512040"/>
            <a:ext cx="838188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P04"/>
                <a:ea typeface="YOzFontP04"/>
              </a:rPr>
              <a:t>テレビでみた</a:t>
            </a:r>
            <a:r>
              <a:rPr b="0" lang="ja-JP" sz="4400" spc="-1" strike="noStrike" u="sng">
                <a:solidFill>
                  <a:srgbClr val="ff0000"/>
                </a:solidFill>
                <a:uFillTx/>
                <a:latin typeface="YOzFontP04"/>
                <a:ea typeface="YOzFontP04"/>
              </a:rPr>
              <a:t>とおり</a:t>
            </a:r>
            <a:r>
              <a:rPr b="0" lang="ja-JP" sz="4400" spc="-1" strike="noStrike">
                <a:solidFill>
                  <a:srgbClr val="000000"/>
                </a:solidFill>
                <a:latin typeface="YOzFontP04"/>
                <a:ea typeface="YOzFontP04"/>
              </a:rPr>
              <a:t>大きいで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125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657440" y="2176560"/>
            <a:ext cx="6119640" cy="75596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27160" y="326880"/>
            <a:ext cx="6141960" cy="2857680"/>
          </a:xfrm>
          <a:prstGeom prst="roundRect">
            <a:avLst>
              <a:gd name="adj" fmla="val 627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06600" y="1023840"/>
            <a:ext cx="2038320" cy="57736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12760" y="3255840"/>
            <a:ext cx="2530440" cy="4137120"/>
          </a:xfrm>
          <a:custGeom>
            <a:avLst/>
            <a:gdLst>
              <a:gd name="textAreaLeft" fmla="*/ 360 w 2530440"/>
              <a:gd name="textAreaRight" fmla="*/ 2530080 w 2530440"/>
              <a:gd name="textAreaTop" fmla="*/ 360 h 4137120"/>
              <a:gd name="textAreaBottom" fmla="*/ 4136760 h 4137120"/>
            </a:gdLst>
            <a:ahLst/>
            <a:rect l="textAreaLeft" t="textAreaTop" r="textAreaRight" b="textAreaBottom"/>
            <a:pathLst>
              <a:path w="21600" h="35313">
                <a:moveTo>
                  <a:pt x="13" y="0"/>
                </a:moveTo>
                <a:arcTo wR="13" hR="13" stAng="16200000" swAng="-5400000"/>
                <a:lnTo>
                  <a:pt x="0" y="35300"/>
                </a:lnTo>
                <a:arcTo wR="13" hR="13" stAng="10800000" swAng="-5400000"/>
                <a:lnTo>
                  <a:pt x="21587" y="35313"/>
                </a:lnTo>
                <a:arcTo wR="13" hR="13" stAng="5400000" swAng="-5400000"/>
                <a:lnTo>
                  <a:pt x="21600" y="13"/>
                </a:lnTo>
                <a:arcTo wR="13" hR="13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7" name=""/>
          <p:cNvSpPr/>
          <p:nvPr/>
        </p:nvSpPr>
        <p:spPr>
          <a:xfrm>
            <a:off x="582480" y="554040"/>
            <a:ext cx="1524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Kochi Gothic"/>
                <a:ea typeface="Kochi Gothic"/>
              </a:rPr>
              <a:t>きのう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8" name=""/>
          <p:cNvSpPr/>
          <p:nvPr/>
        </p:nvSpPr>
        <p:spPr>
          <a:xfrm>
            <a:off x="171360" y="6013440"/>
            <a:ext cx="9766440" cy="137952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せんせいがいった</a:t>
            </a:r>
            <a:r>
              <a:rPr b="0" lang="ja-JP" sz="3600" spc="-1" strike="noStrike" u="sng">
                <a:solidFill>
                  <a:srgbClr val="ff0000"/>
                </a:solidFill>
                <a:uFillTx/>
                <a:latin typeface="YOzFontP04"/>
                <a:ea typeface="YOzFontP04"/>
              </a:rPr>
              <a:t>とおり</a:t>
            </a:r>
            <a:r>
              <a:rPr b="0" lang="ja-JP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、むずかしいです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9" name=""/>
          <p:cNvSpPr/>
          <p:nvPr/>
        </p:nvSpPr>
        <p:spPr>
          <a:xfrm>
            <a:off x="2584440" y="1316160"/>
            <a:ext cx="3538440" cy="1224000"/>
          </a:xfrm>
          <a:prstGeom prst="wedgeRoundRectCallout">
            <a:avLst>
              <a:gd name="adj1" fmla="val -75199"/>
              <a:gd name="adj2" fmla="val 678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P04"/>
                <a:ea typeface="YOzFontP04"/>
              </a:rPr>
              <a:t>こんどのテストは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P04"/>
                <a:ea typeface="YOzFontP04"/>
              </a:rPr>
              <a:t>むずかしいですよ。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0" name=""/>
          <p:cNvSpPr/>
          <p:nvPr/>
        </p:nvSpPr>
        <p:spPr>
          <a:xfrm>
            <a:off x="6437160" y="2263680"/>
            <a:ext cx="5605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900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Kochi Gothic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1" name=""/>
          <p:cNvSpPr/>
          <p:nvPr/>
        </p:nvSpPr>
        <p:spPr>
          <a:xfrm>
            <a:off x="7140600" y="3719520"/>
            <a:ext cx="5605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9008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Kochi Gothic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71360" y="6014880"/>
            <a:ext cx="9766440" cy="137952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P04"/>
                <a:ea typeface="YOzFontP04"/>
              </a:rPr>
              <a:t>しごと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P04"/>
                <a:ea typeface="YOzFontP04"/>
              </a:rPr>
              <a:t>のあとで</a:t>
            </a:r>
            <a:r>
              <a:rPr b="0" lang="ja-JP" sz="4800" spc="-1" strike="noStrike">
                <a:solidFill>
                  <a:srgbClr val="000000"/>
                </a:solidFill>
                <a:latin typeface="YOzFontP04"/>
                <a:ea typeface="YOzFontP04"/>
              </a:rPr>
              <a:t>、えいがをみます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3" name=""/>
          <p:cNvSpPr/>
          <p:nvPr/>
        </p:nvSpPr>
        <p:spPr>
          <a:xfrm rot="12780000">
            <a:off x="6686640" y="1486080"/>
            <a:ext cx="101520" cy="3093840"/>
          </a:xfrm>
          <a:custGeom>
            <a:avLst/>
            <a:gdLst>
              <a:gd name="textAreaLeft" fmla="*/ 360 w 101520"/>
              <a:gd name="textAreaRight" fmla="*/ 101160 w 101520"/>
              <a:gd name="textAreaTop" fmla="*/ 360 h 3093840"/>
              <a:gd name="textAreaBottom" fmla="*/ 3093480 h 3093840"/>
            </a:gdLst>
            <a:ahLst/>
            <a:rect l="textAreaLeft" t="textAreaTop" r="textAreaRight" b="textAreaBottom"/>
            <a:pathLst>
              <a:path w="21600" h="656014">
                <a:moveTo>
                  <a:pt x="337" y="0"/>
                </a:moveTo>
                <a:arcTo wR="337" hR="337" stAng="16200000" swAng="-5400000"/>
                <a:lnTo>
                  <a:pt x="0" y="655677"/>
                </a:lnTo>
                <a:arcTo wR="337" hR="337" stAng="10800000" swAng="-5400000"/>
                <a:lnTo>
                  <a:pt x="21263" y="656014"/>
                </a:lnTo>
                <a:arcTo wR="337" hR="337" stAng="5400000" swAng="-5400000"/>
                <a:lnTo>
                  <a:pt x="21600" y="337"/>
                </a:lnTo>
                <a:arcTo wR="337" hR="337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4" name=""/>
          <p:cNvSpPr/>
          <p:nvPr/>
        </p:nvSpPr>
        <p:spPr>
          <a:xfrm>
            <a:off x="4683240" y="2116080"/>
            <a:ext cx="1269720" cy="1800"/>
          </a:xfrm>
          <a:prstGeom prst="line">
            <a:avLst/>
          </a:prstGeom>
          <a:ln w="324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5" name=""/>
          <p:cNvSpPr/>
          <p:nvPr/>
        </p:nvSpPr>
        <p:spPr>
          <a:xfrm>
            <a:off x="4471920" y="104760"/>
            <a:ext cx="277920" cy="4286160"/>
          </a:xfrm>
          <a:custGeom>
            <a:avLst/>
            <a:gdLst>
              <a:gd name="textAreaLeft" fmla="*/ 360 w 277920"/>
              <a:gd name="textAreaRight" fmla="*/ 277560 w 277920"/>
              <a:gd name="textAreaTop" fmla="*/ 360 h 4286160"/>
              <a:gd name="textAreaBottom" fmla="*/ 4285800 h 4286160"/>
            </a:gdLst>
            <a:ahLst/>
            <a:rect l="textAreaLeft" t="textAreaTop" r="textAreaRight" b="textAreaBottom"/>
            <a:pathLst>
              <a:path w="21600" h="332718">
                <a:moveTo>
                  <a:pt x="124" y="0"/>
                </a:moveTo>
                <a:arcTo wR="124" hR="124" stAng="16200000" swAng="-5400000"/>
                <a:lnTo>
                  <a:pt x="0" y="332594"/>
                </a:lnTo>
                <a:arcTo wR="124" hR="124" stAng="10800000" swAng="-5400000"/>
                <a:lnTo>
                  <a:pt x="21476" y="332718"/>
                </a:lnTo>
                <a:arcTo wR="124" hR="124" stAng="5400000" swAng="-5400000"/>
                <a:lnTo>
                  <a:pt x="21600" y="124"/>
                </a:lnTo>
                <a:arcTo wR="124" hR="124" stAng="0" swAng="-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6" name=""/>
          <p:cNvSpPr/>
          <p:nvPr/>
        </p:nvSpPr>
        <p:spPr>
          <a:xfrm>
            <a:off x="2077920" y="388800"/>
            <a:ext cx="2108160" cy="1490760"/>
          </a:xfrm>
          <a:prstGeom prst="roundRect">
            <a:avLst>
              <a:gd name="adj" fmla="val 106"/>
            </a:avLst>
          </a:prstGeom>
          <a:gradFill rotWithShape="0">
            <a:gsLst>
              <a:gs pos="0">
                <a:srgbClr val="000000"/>
              </a:gs>
              <a:gs pos="100000">
                <a:srgbClr val="ff6633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211560" y="1268280"/>
            <a:ext cx="1004760" cy="30528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992160" y="1380960"/>
            <a:ext cx="2471760" cy="22323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55680" y="596880"/>
            <a:ext cx="879480" cy="919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0" name=""/>
          <p:cNvSpPr/>
          <p:nvPr/>
        </p:nvSpPr>
        <p:spPr>
          <a:xfrm>
            <a:off x="430200" y="679320"/>
            <a:ext cx="739800" cy="744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1" name=""/>
          <p:cNvSpPr/>
          <p:nvPr/>
        </p:nvSpPr>
        <p:spPr>
          <a:xfrm>
            <a:off x="814320" y="1122480"/>
            <a:ext cx="158760" cy="201600"/>
          </a:xfrm>
          <a:prstGeom prst="line">
            <a:avLst/>
          </a:prstGeom>
          <a:ln w="10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791640" y="696960"/>
            <a:ext cx="25560" cy="428400"/>
          </a:xfrm>
          <a:prstGeom prst="line">
            <a:avLst/>
          </a:prstGeom>
          <a:ln w="10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3" name=""/>
          <p:cNvSpPr/>
          <p:nvPr/>
        </p:nvSpPr>
        <p:spPr>
          <a:xfrm>
            <a:off x="5846760" y="671400"/>
            <a:ext cx="4902120" cy="2943360"/>
          </a:xfrm>
          <a:prstGeom prst="roundRect">
            <a:avLst>
              <a:gd name="adj" fmla="val 51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6103800" y="1758960"/>
            <a:ext cx="1140120" cy="15508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 flipV="1">
            <a:off x="7435800" y="1503000"/>
            <a:ext cx="698400" cy="34452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6" name=""/>
          <p:cNvSpPr/>
          <p:nvPr/>
        </p:nvSpPr>
        <p:spPr>
          <a:xfrm>
            <a:off x="8061480" y="711360"/>
            <a:ext cx="2411280" cy="1265040"/>
          </a:xfrm>
          <a:prstGeom prst="roundRect">
            <a:avLst>
              <a:gd name="adj" fmla="val 125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8082000" y="717480"/>
            <a:ext cx="2384280" cy="12524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6578640" y="1558800"/>
            <a:ext cx="1177920" cy="20545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5899320" y="2062080"/>
            <a:ext cx="1139760" cy="15512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98520" y="4351320"/>
            <a:ext cx="6411960" cy="137952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いつ、えいがをみますか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1" name=""/>
          <p:cNvSpPr/>
          <p:nvPr/>
        </p:nvSpPr>
        <p:spPr>
          <a:xfrm>
            <a:off x="1635120" y="5416560"/>
            <a:ext cx="482760" cy="89532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2" name=""/>
          <p:cNvSpPr/>
          <p:nvPr/>
        </p:nvSpPr>
        <p:spPr>
          <a:xfrm>
            <a:off x="7711920" y="4556160"/>
            <a:ext cx="18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3" name=""/>
          <p:cNvSpPr/>
          <p:nvPr/>
        </p:nvSpPr>
        <p:spPr>
          <a:xfrm>
            <a:off x="216000" y="3494160"/>
            <a:ext cx="2232000" cy="677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しごと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71360" y="6014880"/>
            <a:ext cx="9766440" cy="137952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しごとが</a:t>
            </a:r>
            <a:r>
              <a:rPr b="0" lang="ja-JP" sz="3600" spc="-1" strike="noStrike" u="sng">
                <a:solidFill>
                  <a:srgbClr val="ff0000"/>
                </a:solidFill>
                <a:uFillTx/>
                <a:latin typeface="YOzFontP04"/>
                <a:ea typeface="YOzFontP04"/>
              </a:rPr>
              <a:t>おわったあとで</a:t>
            </a:r>
            <a:r>
              <a:rPr b="0" lang="ja-JP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、テニスをします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5" name=""/>
          <p:cNvSpPr/>
          <p:nvPr/>
        </p:nvSpPr>
        <p:spPr>
          <a:xfrm>
            <a:off x="398520" y="4351320"/>
            <a:ext cx="6411960" cy="137952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いつ、テニスをしますか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6" name=""/>
          <p:cNvSpPr/>
          <p:nvPr/>
        </p:nvSpPr>
        <p:spPr>
          <a:xfrm>
            <a:off x="1635120" y="5416560"/>
            <a:ext cx="482760" cy="89532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7" name=""/>
          <p:cNvSpPr/>
          <p:nvPr/>
        </p:nvSpPr>
        <p:spPr>
          <a:xfrm>
            <a:off x="5538960" y="1639800"/>
            <a:ext cx="3814560" cy="2718000"/>
          </a:xfrm>
          <a:prstGeom prst="roundRect">
            <a:avLst>
              <a:gd name="adj" fmla="val 56"/>
            </a:avLst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8" name=""/>
          <p:cNvSpPr/>
          <p:nvPr/>
        </p:nvSpPr>
        <p:spPr>
          <a:xfrm>
            <a:off x="5538960" y="3033720"/>
            <a:ext cx="3824280" cy="163440"/>
          </a:xfrm>
          <a:prstGeom prst="roundRect">
            <a:avLst>
              <a:gd name="adj" fmla="val 97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9" name=""/>
          <p:cNvSpPr/>
          <p:nvPr/>
        </p:nvSpPr>
        <p:spPr>
          <a:xfrm rot="12780000">
            <a:off x="6686640" y="1486080"/>
            <a:ext cx="101520" cy="3093840"/>
          </a:xfrm>
          <a:custGeom>
            <a:avLst/>
            <a:gdLst>
              <a:gd name="textAreaLeft" fmla="*/ 360 w 101520"/>
              <a:gd name="textAreaRight" fmla="*/ 101160 w 101520"/>
              <a:gd name="textAreaTop" fmla="*/ 360 h 3093840"/>
              <a:gd name="textAreaBottom" fmla="*/ 3093480 h 3093840"/>
            </a:gdLst>
            <a:ahLst/>
            <a:rect l="textAreaLeft" t="textAreaTop" r="textAreaRight" b="textAreaBottom"/>
            <a:pathLst>
              <a:path w="21600" h="656014">
                <a:moveTo>
                  <a:pt x="337" y="0"/>
                </a:moveTo>
                <a:arcTo wR="337" hR="337" stAng="16200000" swAng="-5400000"/>
                <a:lnTo>
                  <a:pt x="0" y="655677"/>
                </a:lnTo>
                <a:arcTo wR="337" hR="337" stAng="10800000" swAng="-5400000"/>
                <a:lnTo>
                  <a:pt x="21263" y="656014"/>
                </a:lnTo>
                <a:arcTo wR="337" hR="337" stAng="5400000" swAng="-5400000"/>
                <a:lnTo>
                  <a:pt x="21600" y="337"/>
                </a:lnTo>
                <a:arcTo wR="337" hR="337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0" name=""/>
          <p:cNvSpPr/>
          <p:nvPr/>
        </p:nvSpPr>
        <p:spPr>
          <a:xfrm>
            <a:off x="4683240" y="2116080"/>
            <a:ext cx="1269720" cy="1800"/>
          </a:xfrm>
          <a:prstGeom prst="line">
            <a:avLst/>
          </a:prstGeom>
          <a:ln w="324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1" name=""/>
          <p:cNvSpPr/>
          <p:nvPr/>
        </p:nvSpPr>
        <p:spPr>
          <a:xfrm>
            <a:off x="4471920" y="104760"/>
            <a:ext cx="277920" cy="4286160"/>
          </a:xfrm>
          <a:custGeom>
            <a:avLst/>
            <a:gdLst>
              <a:gd name="textAreaLeft" fmla="*/ 360 w 277920"/>
              <a:gd name="textAreaRight" fmla="*/ 277560 w 277920"/>
              <a:gd name="textAreaTop" fmla="*/ 360 h 4286160"/>
              <a:gd name="textAreaBottom" fmla="*/ 4285800 h 4286160"/>
            </a:gdLst>
            <a:ahLst/>
            <a:rect l="textAreaLeft" t="textAreaTop" r="textAreaRight" b="textAreaBottom"/>
            <a:pathLst>
              <a:path w="21600" h="332718">
                <a:moveTo>
                  <a:pt x="124" y="0"/>
                </a:moveTo>
                <a:arcTo wR="124" hR="124" stAng="16200000" swAng="-5400000"/>
                <a:lnTo>
                  <a:pt x="0" y="332594"/>
                </a:lnTo>
                <a:arcTo wR="124" hR="124" stAng="10800000" swAng="-5400000"/>
                <a:lnTo>
                  <a:pt x="21476" y="332718"/>
                </a:lnTo>
                <a:arcTo wR="124" hR="124" stAng="5400000" swAng="-5400000"/>
                <a:lnTo>
                  <a:pt x="21600" y="124"/>
                </a:lnTo>
                <a:arcTo wR="124" hR="124" stAng="0" swAng="-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2" name=""/>
          <p:cNvSpPr/>
          <p:nvPr/>
        </p:nvSpPr>
        <p:spPr>
          <a:xfrm>
            <a:off x="2077920" y="388800"/>
            <a:ext cx="2108160" cy="1490760"/>
          </a:xfrm>
          <a:prstGeom prst="roundRect">
            <a:avLst>
              <a:gd name="adj" fmla="val 106"/>
            </a:avLst>
          </a:prstGeom>
          <a:gradFill rotWithShape="0">
            <a:gsLst>
              <a:gs pos="0">
                <a:srgbClr val="000000"/>
              </a:gs>
              <a:gs pos="100000">
                <a:srgbClr val="ff6633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211560" y="1268280"/>
            <a:ext cx="1004760" cy="30528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992160" y="1380960"/>
            <a:ext cx="2471760" cy="22323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55680" y="596880"/>
            <a:ext cx="879480" cy="919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6" name=""/>
          <p:cNvSpPr/>
          <p:nvPr/>
        </p:nvSpPr>
        <p:spPr>
          <a:xfrm>
            <a:off x="430200" y="679320"/>
            <a:ext cx="739800" cy="744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7" name=""/>
          <p:cNvSpPr/>
          <p:nvPr/>
        </p:nvSpPr>
        <p:spPr>
          <a:xfrm>
            <a:off x="814320" y="1122480"/>
            <a:ext cx="158760" cy="201600"/>
          </a:xfrm>
          <a:prstGeom prst="line">
            <a:avLst/>
          </a:prstGeom>
          <a:ln w="10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791640" y="696960"/>
            <a:ext cx="25560" cy="428400"/>
          </a:xfrm>
          <a:prstGeom prst="line">
            <a:avLst/>
          </a:prstGeom>
          <a:ln w="10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6137280" y="584280"/>
            <a:ext cx="2874960" cy="35416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646280" y="3603600"/>
            <a:ext cx="4263840" cy="677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P04"/>
                <a:ea typeface="YOzFontP04"/>
              </a:rPr>
              <a:t>しごとがおわりました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52360" y="4695840"/>
            <a:ext cx="9471240" cy="1905120"/>
          </a:xfrm>
          <a:prstGeom prst="roundRect">
            <a:avLst>
              <a:gd name="adj" fmla="val 8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シャワー</a:t>
            </a:r>
            <a:r>
              <a:rPr b="0" lang="ja-JP" sz="44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あび</a:t>
            </a:r>
            <a:r>
              <a:rPr b="0" lang="ja-JP" sz="44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たあとで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ごはん</a:t>
            </a:r>
            <a:r>
              <a:rPr b="0" lang="ja-JP" sz="4400" spc="-1" strike="noStrike">
                <a:solidFill>
                  <a:srgbClr val="800000"/>
                </a:solidFill>
                <a:latin typeface="Y.OzN_'04"/>
                <a:ea typeface="Y.OzN_'04"/>
              </a:rPr>
              <a:t>を</a:t>
            </a:r>
            <a:r>
              <a:rPr b="0" lang="ja-JP" sz="4400" spc="-1" strike="noStrike">
                <a:solidFill>
                  <a:srgbClr val="000000"/>
                </a:solidFill>
                <a:latin typeface="Y.OzN_'04"/>
                <a:ea typeface="Y.OzN_'04"/>
              </a:rPr>
              <a:t>たべま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2" name=""/>
          <p:cNvSpPr/>
          <p:nvPr/>
        </p:nvSpPr>
        <p:spPr>
          <a:xfrm>
            <a:off x="412920" y="2701800"/>
            <a:ext cx="6411600" cy="137952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いつ、ごはんを たべますか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779560" y="1454040"/>
            <a:ext cx="7380360" cy="58896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71360" y="6014880"/>
            <a:ext cx="9766440" cy="137952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-2305080" y="-1414440"/>
            <a:ext cx="7732800" cy="54212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958680" y="1198440"/>
            <a:ext cx="3961080" cy="190188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7" name=""/>
          <p:cNvSpPr/>
          <p:nvPr/>
        </p:nvSpPr>
        <p:spPr>
          <a:xfrm>
            <a:off x="507960" y="6465960"/>
            <a:ext cx="95011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P04"/>
                <a:ea typeface="YOzFontP04"/>
              </a:rPr>
              <a:t>しょうゆ</a:t>
            </a:r>
            <a:r>
              <a:rPr b="0" lang="ja-JP" sz="4400" spc="-1" strike="noStrike">
                <a:solidFill>
                  <a:srgbClr val="800000"/>
                </a:solidFill>
                <a:latin typeface="YOzFontP04"/>
                <a:ea typeface="YOzFontP04"/>
              </a:rPr>
              <a:t>を</a:t>
            </a:r>
            <a:r>
              <a:rPr b="0" lang="ja-JP" sz="4400" spc="-1" strike="noStrike" u="sng">
                <a:solidFill>
                  <a:srgbClr val="ff0000"/>
                </a:solidFill>
                <a:uFillTx/>
                <a:latin typeface="YOzFontP04"/>
                <a:ea typeface="YOzFontP04"/>
              </a:rPr>
              <a:t>つけて</a:t>
            </a:r>
            <a:r>
              <a:rPr b="0" lang="ja-JP" sz="4400" spc="-1" strike="noStrike">
                <a:solidFill>
                  <a:srgbClr val="000000"/>
                </a:solidFill>
                <a:latin typeface="YOzFontP04"/>
                <a:ea typeface="YOzFontP04"/>
              </a:rPr>
              <a:t>さしみ</a:t>
            </a:r>
            <a:r>
              <a:rPr b="0" lang="ja-JP" sz="4400" spc="-1" strike="noStrike">
                <a:solidFill>
                  <a:srgbClr val="800000"/>
                </a:solidFill>
                <a:latin typeface="YOzFontP04"/>
                <a:ea typeface="YOzFontP04"/>
              </a:rPr>
              <a:t>を</a:t>
            </a:r>
            <a:r>
              <a:rPr b="0" lang="ja-JP" sz="4400" spc="-1" strike="noStrike">
                <a:solidFill>
                  <a:srgbClr val="000000"/>
                </a:solidFill>
                <a:latin typeface="YOzFontP04"/>
                <a:ea typeface="YOzFontP04"/>
              </a:rPr>
              <a:t>たべま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081080" y="1577880"/>
            <a:ext cx="5089680" cy="497520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9" name=""/>
          <p:cNvSpPr/>
          <p:nvPr/>
        </p:nvSpPr>
        <p:spPr>
          <a:xfrm>
            <a:off x="173160" y="6014880"/>
            <a:ext cx="10048680" cy="137952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0" name=""/>
          <p:cNvSpPr/>
          <p:nvPr/>
        </p:nvSpPr>
        <p:spPr>
          <a:xfrm>
            <a:off x="461880" y="6434280"/>
            <a:ext cx="96519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さとう</a:t>
            </a:r>
            <a:r>
              <a:rPr b="0" lang="ja-JP" sz="4000" spc="-1" strike="noStrike">
                <a:solidFill>
                  <a:srgbClr val="800000"/>
                </a:solidFill>
                <a:latin typeface="YOzFontP04"/>
                <a:ea typeface="YOzFontP04"/>
              </a:rPr>
              <a:t>を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YOzFontP04"/>
                <a:ea typeface="YOzFontP04"/>
              </a:rPr>
              <a:t>いれないで</a:t>
            </a: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コーヒー</a:t>
            </a:r>
            <a:r>
              <a:rPr b="0" lang="ja-JP" sz="4000" spc="-1" strike="noStrike">
                <a:solidFill>
                  <a:srgbClr val="800000"/>
                </a:solidFill>
                <a:latin typeface="YOzFontP04"/>
                <a:ea typeface="YOzFontP04"/>
              </a:rPr>
              <a:t>を</a:t>
            </a: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のみま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dur="indefinite" fill="hold">
                      <p:stCondLst>
                        <p:cond delay="indefinite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2325600" y="1533600"/>
            <a:ext cx="7089840" cy="48848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-277920" y="0"/>
            <a:ext cx="3951360" cy="4402080"/>
          </a:xfrm>
          <a:prstGeom prst="rect">
            <a:avLst/>
          </a:prstGeom>
          <a:ln w="0">
            <a:noFill/>
          </a:ln>
        </p:spPr>
      </p:pic>
      <p:grpSp>
        <p:nvGrpSpPr>
          <p:cNvPr id="243" name=""/>
          <p:cNvGrpSpPr/>
          <p:nvPr/>
        </p:nvGrpSpPr>
        <p:grpSpPr>
          <a:xfrm>
            <a:off x="-360" y="198360"/>
            <a:ext cx="3095640" cy="3238560"/>
            <a:chOff x="-360" y="198360"/>
            <a:chExt cx="3095640" cy="3238560"/>
          </a:xfrm>
        </p:grpSpPr>
        <p:sp>
          <p:nvSpPr>
            <p:cNvPr id="244" name=""/>
            <p:cNvSpPr/>
            <p:nvPr/>
          </p:nvSpPr>
          <p:spPr>
            <a:xfrm>
              <a:off x="2520" y="198360"/>
              <a:ext cx="3089880" cy="323856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-360" y="198360"/>
              <a:ext cx="3095640" cy="323856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173160" y="6016680"/>
            <a:ext cx="9707400" cy="137952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7" name=""/>
          <p:cNvSpPr/>
          <p:nvPr/>
        </p:nvSpPr>
        <p:spPr>
          <a:xfrm>
            <a:off x="492120" y="6357960"/>
            <a:ext cx="9907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 u="sng">
                <a:solidFill>
                  <a:srgbClr val="ff0000"/>
                </a:solidFill>
                <a:uFillTx/>
                <a:latin typeface="YOzFontP04"/>
                <a:ea typeface="YOzFontP04"/>
              </a:rPr>
              <a:t>ねないで</a:t>
            </a:r>
            <a:r>
              <a:rPr b="0" lang="ja-JP" sz="6000" spc="-1" strike="noStrike">
                <a:solidFill>
                  <a:srgbClr val="000000"/>
                </a:solidFill>
                <a:latin typeface="YOzFontP04"/>
                <a:ea typeface="YOzFontP04"/>
              </a:rPr>
              <a:t>べんきょうします。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dur="indefinite" fill="hold">
                      <p:stCondLst>
                        <p:cond delay="indefinite"/>
                      </p:stCondLst>
                      <p:childTnLst>
                        <p:par>
                          <p:cTn id="1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081080" y="1577880"/>
            <a:ext cx="5089680" cy="497520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9" name=""/>
          <p:cNvSpPr/>
          <p:nvPr/>
        </p:nvSpPr>
        <p:spPr>
          <a:xfrm>
            <a:off x="173160" y="6014880"/>
            <a:ext cx="10048680" cy="137952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0" name=""/>
          <p:cNvSpPr/>
          <p:nvPr/>
        </p:nvSpPr>
        <p:spPr>
          <a:xfrm>
            <a:off x="461880" y="6573960"/>
            <a:ext cx="100584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YOzFontP04"/>
                <a:ea typeface="YOzFontP04"/>
              </a:rPr>
              <a:t>さとう</a:t>
            </a:r>
            <a:r>
              <a:rPr b="0" lang="ja-JP" sz="4400" spc="-1" strike="noStrike">
                <a:solidFill>
                  <a:srgbClr val="800000"/>
                </a:solidFill>
                <a:latin typeface="YOzFontP04"/>
                <a:ea typeface="YOzFontP04"/>
              </a:rPr>
              <a:t>を</a:t>
            </a:r>
            <a:r>
              <a:rPr b="0" lang="ja-JP" sz="4400" spc="-1" strike="noStrike" u="sng">
                <a:solidFill>
                  <a:srgbClr val="ff0000"/>
                </a:solidFill>
                <a:uFillTx/>
                <a:latin typeface="YOzFontP04"/>
                <a:ea typeface="YOzFontP04"/>
              </a:rPr>
              <a:t>いれずに</a:t>
            </a:r>
            <a:r>
              <a:rPr b="0" lang="ja-JP" sz="4400" spc="-1" strike="noStrike">
                <a:solidFill>
                  <a:srgbClr val="000000"/>
                </a:solidFill>
                <a:latin typeface="YOzFontP04"/>
                <a:ea typeface="YOzFontP04"/>
              </a:rPr>
              <a:t>コーヒー</a:t>
            </a:r>
            <a:r>
              <a:rPr b="0" lang="ja-JP" sz="4400" spc="-1" strike="noStrike">
                <a:solidFill>
                  <a:srgbClr val="800000"/>
                </a:solidFill>
                <a:latin typeface="YOzFontP04"/>
                <a:ea typeface="YOzFontP04"/>
              </a:rPr>
              <a:t>を</a:t>
            </a:r>
            <a:r>
              <a:rPr b="0" lang="ja-JP" sz="4400" spc="-1" strike="noStrike">
                <a:solidFill>
                  <a:srgbClr val="000000"/>
                </a:solidFill>
                <a:latin typeface="YOzFontP04"/>
                <a:ea typeface="YOzFontP04"/>
              </a:rPr>
              <a:t>のみます。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2325600" y="1533600"/>
            <a:ext cx="7089840" cy="48848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51360" cy="4402080"/>
          </a:xfrm>
          <a:prstGeom prst="rect">
            <a:avLst/>
          </a:prstGeom>
          <a:ln w="0">
            <a:noFill/>
          </a:ln>
        </p:spPr>
      </p:pic>
      <p:grpSp>
        <p:nvGrpSpPr>
          <p:cNvPr id="253" name=""/>
          <p:cNvGrpSpPr/>
          <p:nvPr/>
        </p:nvGrpSpPr>
        <p:grpSpPr>
          <a:xfrm>
            <a:off x="70920" y="198360"/>
            <a:ext cx="3095640" cy="3238560"/>
            <a:chOff x="70920" y="198360"/>
            <a:chExt cx="3095640" cy="3238560"/>
          </a:xfrm>
        </p:grpSpPr>
        <p:sp>
          <p:nvSpPr>
            <p:cNvPr id="254" name=""/>
            <p:cNvSpPr/>
            <p:nvPr/>
          </p:nvSpPr>
          <p:spPr>
            <a:xfrm>
              <a:off x="74160" y="198360"/>
              <a:ext cx="3089160" cy="323856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70920" y="198360"/>
              <a:ext cx="3095640" cy="323856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173160" y="6016680"/>
            <a:ext cx="9707400" cy="137952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7" name=""/>
          <p:cNvSpPr/>
          <p:nvPr/>
        </p:nvSpPr>
        <p:spPr>
          <a:xfrm>
            <a:off x="708120" y="6357960"/>
            <a:ext cx="9145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 u="sng">
                <a:solidFill>
                  <a:srgbClr val="ff0000"/>
                </a:solidFill>
                <a:uFillTx/>
                <a:latin typeface="YOzFontP04"/>
                <a:ea typeface="YOzFontP04"/>
              </a:rPr>
              <a:t>ねずに</a:t>
            </a:r>
            <a:r>
              <a:rPr b="0" lang="ja-JP" sz="6000" spc="-1" strike="noStrike">
                <a:solidFill>
                  <a:srgbClr val="000000"/>
                </a:solidFill>
                <a:latin typeface="YOzFontP04"/>
                <a:ea typeface="YOzFontP04"/>
              </a:rPr>
              <a:t>べんきょうします。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dur="indefinite" fill="hold">
                      <p:stCondLst>
                        <p:cond delay="indefinite"/>
                      </p:stCondLst>
                      <p:childTnLst>
                        <p:par>
                          <p:cTn id="1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25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dur="indefinite" fill="hold">
                      <p:stCondLst>
                        <p:cond delay="indefinite"/>
                      </p:stCondLst>
                      <p:childTnLst>
                        <p:par>
                          <p:cTn id="1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09520" y="700200"/>
            <a:ext cx="1630440" cy="2658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089160" y="770040"/>
            <a:ext cx="1630440" cy="2658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04840" y="3403440"/>
            <a:ext cx="1630440" cy="2659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14280" y="0"/>
            <a:ext cx="2025720" cy="3260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3119400" y="98280"/>
            <a:ext cx="2049480" cy="3305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3402000" y="1512720"/>
            <a:ext cx="2300400" cy="2189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7"/>
          <a:stretch/>
        </p:blipFill>
        <p:spPr>
          <a:xfrm>
            <a:off x="3132000" y="3516480"/>
            <a:ext cx="1630440" cy="2658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8"/>
          <a:stretch/>
        </p:blipFill>
        <p:spPr>
          <a:xfrm>
            <a:off x="3198960" y="2590920"/>
            <a:ext cx="2222280" cy="3541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9"/>
          <a:stretch/>
        </p:blipFill>
        <p:spPr>
          <a:xfrm>
            <a:off x="3733920" y="1582560"/>
            <a:ext cx="1001520" cy="552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0"/>
          <a:stretch/>
        </p:blipFill>
        <p:spPr>
          <a:xfrm>
            <a:off x="4680000" y="1724040"/>
            <a:ext cx="725400" cy="331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1"/>
          <a:stretch/>
        </p:blipFill>
        <p:spPr>
          <a:xfrm>
            <a:off x="515880" y="1484280"/>
            <a:ext cx="2300400" cy="2189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2"/>
          <a:stretch/>
        </p:blipFill>
        <p:spPr>
          <a:xfrm>
            <a:off x="847800" y="1554120"/>
            <a:ext cx="1001520" cy="552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3"/>
          <a:stretch/>
        </p:blipFill>
        <p:spPr>
          <a:xfrm>
            <a:off x="1795320" y="1695600"/>
            <a:ext cx="725760" cy="331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4"/>
          <a:stretch/>
        </p:blipFill>
        <p:spPr>
          <a:xfrm>
            <a:off x="135000" y="2451240"/>
            <a:ext cx="2273400" cy="3747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5"/>
          <a:stretch/>
        </p:blipFill>
        <p:spPr>
          <a:xfrm>
            <a:off x="417600" y="4216320"/>
            <a:ext cx="2300040" cy="2189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6"/>
          <a:stretch/>
        </p:blipFill>
        <p:spPr>
          <a:xfrm>
            <a:off x="749160" y="4286160"/>
            <a:ext cx="1001880" cy="552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7"/>
          <a:stretch/>
        </p:blipFill>
        <p:spPr>
          <a:xfrm>
            <a:off x="1697040" y="4425840"/>
            <a:ext cx="725400" cy="331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8"/>
          <a:stretch/>
        </p:blipFill>
        <p:spPr>
          <a:xfrm>
            <a:off x="3303720" y="4300560"/>
            <a:ext cx="2300040" cy="2189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9"/>
          <a:stretch/>
        </p:blipFill>
        <p:spPr>
          <a:xfrm>
            <a:off x="3635280" y="4300560"/>
            <a:ext cx="1001880" cy="552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0"/>
          <a:stretch/>
        </p:blipFill>
        <p:spPr>
          <a:xfrm>
            <a:off x="4583160" y="4440240"/>
            <a:ext cx="725400" cy="331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1"/>
          <a:stretch/>
        </p:blipFill>
        <p:spPr>
          <a:xfrm>
            <a:off x="6877080" y="2135160"/>
            <a:ext cx="2990880" cy="6515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2"/>
          <a:stretch/>
        </p:blipFill>
        <p:spPr>
          <a:xfrm>
            <a:off x="4680000" y="1724040"/>
            <a:ext cx="725400" cy="331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805280" y="403200"/>
            <a:ext cx="4233960" cy="1873440"/>
          </a:xfrm>
          <a:prstGeom prst="wedgeRoundRectCallout">
            <a:avLst>
              <a:gd name="adj1" fmla="val 31518"/>
              <a:gd name="adj2" fmla="val 86967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1" name=""/>
          <p:cNvSpPr/>
          <p:nvPr/>
        </p:nvSpPr>
        <p:spPr>
          <a:xfrm>
            <a:off x="5132520" y="507960"/>
            <a:ext cx="406404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わたしが いう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ff0000"/>
                </a:solidFill>
                <a:latin typeface="YOzFontP04"/>
                <a:ea typeface="YOzFontP04"/>
              </a:rPr>
              <a:t>とおりに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いってください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655640" y="1731960"/>
            <a:ext cx="638028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〜ないで…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〜ずに…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	</a:t>
            </a:r>
            <a:r>
              <a:rPr b="0" lang="ja-JP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! </a:t>
            </a:r>
            <a:r>
              <a:rPr b="0" lang="ja-JP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しないで→</a:t>
            </a:r>
            <a:r>
              <a:rPr b="0" lang="ja-JP" sz="3600" spc="-1" strike="noStrike">
                <a:solidFill>
                  <a:srgbClr val="ff0000"/>
                </a:solidFill>
                <a:latin typeface="YOzFontP04"/>
                <a:ea typeface="YOzFontP04"/>
              </a:rPr>
              <a:t>せずに</a:t>
            </a:r>
            <a:r>
              <a:rPr b="0" lang="ja-JP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5670720" y="2955960"/>
            <a:ext cx="2419200" cy="64008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0" y="5432400"/>
            <a:ext cx="9880560" cy="137952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P04"/>
                <a:ea typeface="YOzFontP04"/>
              </a:rPr>
              <a:t>たばこ</a:t>
            </a:r>
            <a:r>
              <a:rPr b="0" lang="ja-JP" sz="4800" spc="-1" strike="noStrike">
                <a:solidFill>
                  <a:srgbClr val="800000"/>
                </a:solidFill>
                <a:latin typeface="YOzFontP04"/>
                <a:ea typeface="YOzFontP04"/>
              </a:rPr>
              <a:t>を</a:t>
            </a:r>
            <a:r>
              <a:rPr b="0" lang="ja-JP" sz="4800" spc="-1" strike="noStrike">
                <a:solidFill>
                  <a:srgbClr val="000000"/>
                </a:solidFill>
                <a:latin typeface="YOzFontP04"/>
                <a:ea typeface="YOzFontP04"/>
              </a:rPr>
              <a:t>すわ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P04"/>
                <a:ea typeface="YOzFontP04"/>
              </a:rPr>
              <a:t>ないで</a:t>
            </a:r>
            <a:r>
              <a:rPr b="0" lang="ja-JP" sz="4800" spc="-1" strike="noStrike">
                <a:solidFill>
                  <a:srgbClr val="ff0000"/>
                </a:solidFill>
                <a:latin typeface="YOzFontP04"/>
                <a:ea typeface="YOzFontP04"/>
              </a:rPr>
              <a:t>います</a:t>
            </a:r>
            <a:r>
              <a:rPr b="0" lang="ja-JP" sz="4800" spc="-1" strike="noStrike">
                <a:solidFill>
                  <a:srgbClr val="000000"/>
                </a:solidFill>
                <a:latin typeface="YOzFontP04"/>
                <a:ea typeface="YOzFontP04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1" name=""/>
          <p:cNvSpPr/>
          <p:nvPr/>
        </p:nvSpPr>
        <p:spPr>
          <a:xfrm>
            <a:off x="1847880" y="2289240"/>
            <a:ext cx="7591320" cy="1440"/>
          </a:xfrm>
          <a:prstGeom prst="line">
            <a:avLst/>
          </a:prstGeom>
          <a:ln w="25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2" name=""/>
          <p:cNvSpPr/>
          <p:nvPr/>
        </p:nvSpPr>
        <p:spPr>
          <a:xfrm>
            <a:off x="1797120" y="150840"/>
            <a:ext cx="1927080" cy="4255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3" name=""/>
          <p:cNvSpPr/>
          <p:nvPr/>
        </p:nvSpPr>
        <p:spPr>
          <a:xfrm>
            <a:off x="1592280" y="369720"/>
            <a:ext cx="2332080" cy="3910320"/>
          </a:xfrm>
          <a:prstGeom prst="line">
            <a:avLst/>
          </a:prstGeom>
          <a:ln w="108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589040" y="369720"/>
            <a:ext cx="2338560" cy="3910320"/>
          </a:xfrm>
          <a:prstGeom prst="line">
            <a:avLst/>
          </a:prstGeom>
          <a:ln w="108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5" name=""/>
          <p:cNvSpPr/>
          <p:nvPr/>
        </p:nvSpPr>
        <p:spPr>
          <a:xfrm>
            <a:off x="369720" y="2174760"/>
            <a:ext cx="1478160" cy="241560"/>
          </a:xfrm>
          <a:prstGeom prst="roundRect">
            <a:avLst>
              <a:gd name="adj" fmla="val 657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6" name=""/>
          <p:cNvSpPr/>
          <p:nvPr/>
        </p:nvSpPr>
        <p:spPr>
          <a:xfrm>
            <a:off x="128520" y="5694480"/>
            <a:ext cx="9809280" cy="137952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YOzFontP04"/>
                <a:ea typeface="YOzFontP04"/>
              </a:rPr>
              <a:t>たばこ</a:t>
            </a:r>
            <a:r>
              <a:rPr b="0" lang="ja-JP" sz="6000" spc="-1" strike="noStrike">
                <a:solidFill>
                  <a:srgbClr val="800000"/>
                </a:solidFill>
                <a:latin typeface="YOzFontP04"/>
                <a:ea typeface="YOzFontP04"/>
              </a:rPr>
              <a:t>を</a:t>
            </a:r>
            <a:r>
              <a:rPr b="0" lang="ja-JP" sz="6000" spc="-1" strike="noStrike">
                <a:solidFill>
                  <a:srgbClr val="000000"/>
                </a:solidFill>
                <a:latin typeface="YOzFontP04"/>
                <a:ea typeface="YOzFontP04"/>
              </a:rPr>
              <a:t>すわ</a:t>
            </a:r>
            <a:r>
              <a:rPr b="0" lang="ja-JP" sz="6000" spc="-1" strike="noStrike" u="sng">
                <a:solidFill>
                  <a:srgbClr val="ff0000"/>
                </a:solidFill>
                <a:uFillTx/>
                <a:latin typeface="YOzFontP04"/>
                <a:ea typeface="YOzFontP04"/>
              </a:rPr>
              <a:t>ずに</a:t>
            </a:r>
            <a:r>
              <a:rPr b="0" lang="ja-JP" sz="6000" spc="-1" strike="noStrike">
                <a:solidFill>
                  <a:srgbClr val="ff0000"/>
                </a:solidFill>
                <a:latin typeface="YOzFontP04"/>
                <a:ea typeface="YOzFontP04"/>
              </a:rPr>
              <a:t>います</a:t>
            </a:r>
            <a:r>
              <a:rPr b="0" lang="ja-JP" sz="6000" spc="-1" strike="noStrike">
                <a:solidFill>
                  <a:srgbClr val="000000"/>
                </a:solidFill>
                <a:latin typeface="YOzFontP04"/>
                <a:ea typeface="YOzFontP04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dur="indefinite" fill="hold">
                      <p:stCondLst>
                        <p:cond delay="indefinite"/>
                      </p:stCondLst>
                      <p:childTnLst>
                        <p:par>
                          <p:cTn id="1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28520" y="5448240"/>
            <a:ext cx="9809280" cy="137952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OzFontP04"/>
                <a:ea typeface="YOzFontP04"/>
              </a:rPr>
              <a:t>かたづけ</a:t>
            </a:r>
            <a:r>
              <a:rPr b="0" lang="ja-JP" sz="4800" spc="-1" strike="noStrike" u="sng">
                <a:solidFill>
                  <a:srgbClr val="ff0000"/>
                </a:solidFill>
                <a:uFillTx/>
                <a:latin typeface="YOzFontP04"/>
                <a:ea typeface="YOzFontP04"/>
              </a:rPr>
              <a:t>ないで</a:t>
            </a:r>
            <a:r>
              <a:rPr b="0" lang="ja-JP" sz="4800" spc="-1" strike="noStrike">
                <a:solidFill>
                  <a:srgbClr val="ff0000"/>
                </a:solidFill>
                <a:latin typeface="YOzFontP04"/>
                <a:ea typeface="YOzFontP04"/>
              </a:rPr>
              <a:t>います</a:t>
            </a:r>
            <a:r>
              <a:rPr b="0" lang="ja-JP" sz="4800" spc="-1" strike="noStrike">
                <a:solidFill>
                  <a:srgbClr val="000000"/>
                </a:solidFill>
                <a:latin typeface="YOzFontP04"/>
                <a:ea typeface="YOzFontP04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8" name=""/>
          <p:cNvSpPr/>
          <p:nvPr/>
        </p:nvSpPr>
        <p:spPr>
          <a:xfrm>
            <a:off x="144360" y="5695920"/>
            <a:ext cx="9809280" cy="137952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YOzFontP04"/>
                <a:ea typeface="YOzFontP04"/>
              </a:rPr>
              <a:t>かたづけ</a:t>
            </a:r>
            <a:r>
              <a:rPr b="0" lang="ja-JP" sz="6000" spc="-1" strike="noStrike" u="sng">
                <a:solidFill>
                  <a:srgbClr val="ff0000"/>
                </a:solidFill>
                <a:uFillTx/>
                <a:latin typeface="YOzFontP04"/>
                <a:ea typeface="YOzFontP04"/>
              </a:rPr>
              <a:t>ずに</a:t>
            </a:r>
            <a:r>
              <a:rPr b="0" lang="ja-JP" sz="6000" spc="-1" strike="noStrike">
                <a:solidFill>
                  <a:srgbClr val="ff0000"/>
                </a:solidFill>
                <a:latin typeface="YOzFontP04"/>
                <a:ea typeface="YOzFontP04"/>
              </a:rPr>
              <a:t>います</a:t>
            </a:r>
            <a:r>
              <a:rPr b="0" lang="ja-JP" sz="6000" spc="-1" strike="noStrike">
                <a:solidFill>
                  <a:srgbClr val="000000"/>
                </a:solidFill>
                <a:latin typeface="YOzFontP04"/>
                <a:ea typeface="YOzFontP04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dur="indefinite" fill="hold">
                      <p:stCondLst>
                        <p:cond delay="indefinite"/>
                      </p:stCondLst>
                      <p:childTnLst>
                        <p:par>
                          <p:cTn id="1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dur="indefinite" fill="hold">
                      <p:stCondLst>
                        <p:cond delay="indefinite"/>
                      </p:stCondLst>
                      <p:childTnLst>
                        <p:par>
                          <p:cTn id="1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5961240" y="317520"/>
            <a:ext cx="3471840" cy="26049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6883560" y="673200"/>
            <a:ext cx="1514160" cy="45482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3784680" y="3075120"/>
            <a:ext cx="5373720" cy="260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2128680" y="2901960"/>
            <a:ext cx="6363000" cy="43783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3360600" y="447840"/>
            <a:ext cx="2271960" cy="22716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84240" y="6073920"/>
            <a:ext cx="9808920" cy="137952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5"/>
          <a:stretch/>
        </p:blipFill>
        <p:spPr>
          <a:xfrm>
            <a:off x="0" y="111240"/>
            <a:ext cx="3214800" cy="39718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723960" y="649620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YOzFontP04"/>
                <a:ea typeface="YOzFontP04"/>
              </a:rPr>
              <a:t>のま</a:t>
            </a:r>
            <a:r>
              <a:rPr b="0" lang="ja-JP" sz="6000" spc="-1" strike="noStrike" u="sng">
                <a:solidFill>
                  <a:srgbClr val="ff0000"/>
                </a:solidFill>
                <a:uFillTx/>
                <a:latin typeface="YOzFontP04"/>
                <a:ea typeface="YOzFontP04"/>
              </a:rPr>
              <a:t>ずには</a:t>
            </a:r>
            <a:r>
              <a:rPr b="0" lang="ja-JP" sz="6000" spc="-1" strike="noStrike">
                <a:solidFill>
                  <a:srgbClr val="ff0000"/>
                </a:solidFill>
                <a:latin typeface="YOzFontP04"/>
                <a:ea typeface="YOzFontP04"/>
              </a:rPr>
              <a:t>いられません</a:t>
            </a:r>
            <a:r>
              <a:rPr b="0" lang="ja-JP" sz="6000" spc="-1" strike="noStrike">
                <a:solidFill>
                  <a:srgbClr val="000000"/>
                </a:solidFill>
                <a:latin typeface="YOzFontP04"/>
                <a:ea typeface="YOzFontP04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2801880"/>
            <a:ext cx="4033800" cy="2154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P04"/>
                <a:ea typeface="YOzFontP04"/>
              </a:rPr>
              <a:t>テストも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P04"/>
                <a:ea typeface="YOzFontP04"/>
              </a:rPr>
              <a:t>できなかったし、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P04"/>
                <a:ea typeface="YOzFontP04"/>
              </a:rPr>
              <a:t>さいふも なくしたし…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dur="indefinite" fill="hold">
                      <p:stCondLst>
                        <p:cond delay="indefinite"/>
                      </p:stCondLst>
                      <p:childTnLst>
                        <p:par>
                          <p:cTn id="1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85760" y="270000"/>
            <a:ext cx="3213000" cy="3213000"/>
          </a:xfrm>
          <a:prstGeom prst="roundRect">
            <a:avLst>
              <a:gd name="adj" fmla="val 5579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281720" y="3143160"/>
            <a:ext cx="2467080" cy="71056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679320" y="263520"/>
            <a:ext cx="1892520" cy="3147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766800" y="1081080"/>
            <a:ext cx="1828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73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みかちゃん"/>
              </a:rPr>
              <a:t>!!!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1144440" y="3224160"/>
            <a:ext cx="2489400" cy="75596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3854520" y="3487680"/>
            <a:ext cx="3335400" cy="1225440"/>
          </a:xfrm>
          <a:prstGeom prst="wedgeRoundRectCallout">
            <a:avLst>
              <a:gd name="adj1" fmla="val -76495"/>
              <a:gd name="adj2" fmla="val 16000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P04"/>
                <a:ea typeface="YOzFontP04"/>
              </a:rPr>
              <a:t>じつは…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3943080" y="3429000"/>
            <a:ext cx="3105000" cy="1469880"/>
            <a:chOff x="3943080" y="3429000"/>
            <a:chExt cx="3105000" cy="1469880"/>
          </a:xfrm>
        </p:grpSpPr>
        <p:sp>
          <p:nvSpPr>
            <p:cNvPr id="285" name=""/>
            <p:cNvSpPr/>
            <p:nvPr/>
          </p:nvSpPr>
          <p:spPr>
            <a:xfrm>
              <a:off x="3946320" y="3429000"/>
              <a:ext cx="3098520" cy="146988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3943080" y="3429000"/>
              <a:ext cx="3105000" cy="146988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3341520" y="519120"/>
            <a:ext cx="1535400" cy="21826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5156280" y="442800"/>
            <a:ext cx="3689280" cy="542880"/>
          </a:xfrm>
          <a:prstGeom prst="wedgeRoundRectCallout">
            <a:avLst>
              <a:gd name="adj1" fmla="val -73972"/>
              <a:gd name="adj2" fmla="val 98870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P04"/>
                <a:ea typeface="YOzFontP04"/>
              </a:rPr>
              <a:t>だれにも はなさないでね。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85760" y="270000"/>
            <a:ext cx="3213000" cy="3213000"/>
          </a:xfrm>
          <a:prstGeom prst="roundRect">
            <a:avLst>
              <a:gd name="adj" fmla="val 5579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1193760" y="3276720"/>
            <a:ext cx="2411280" cy="73072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7281720" y="3143160"/>
            <a:ext cx="2467080" cy="71056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679320" y="263520"/>
            <a:ext cx="2040120" cy="31478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766800" y="1081080"/>
            <a:ext cx="1828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73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みかちゃん"/>
              </a:rPr>
              <a:t>!!!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4" name=""/>
          <p:cNvSpPr/>
          <p:nvPr/>
        </p:nvSpPr>
        <p:spPr>
          <a:xfrm>
            <a:off x="130320" y="5450040"/>
            <a:ext cx="9808920" cy="137952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96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言わ</a:t>
            </a:r>
            <a:r>
              <a:rPr b="0" lang="ja-JP" sz="6000" spc="-1" strike="noStrike" u="sng">
                <a:solidFill>
                  <a:srgbClr val="ff0000"/>
                </a:solidFill>
                <a:uFillTx/>
                <a:latin typeface="みかちゃん"/>
                <a:ea typeface="みかちゃん"/>
              </a:rPr>
              <a:t>ずには</a:t>
            </a:r>
            <a:r>
              <a:rPr b="0" lang="ja-JP" sz="6000" spc="-1" strike="noStrike">
                <a:solidFill>
                  <a:srgbClr val="ff0000"/>
                </a:solidFill>
                <a:latin typeface="みかちゃん"/>
                <a:ea typeface="みかちゃん"/>
              </a:rPr>
              <a:t>いられません</a:t>
            </a:r>
            <a:r>
              <a:rPr b="0" lang="ja-JP" sz="6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5" name=""/>
          <p:cNvSpPr/>
          <p:nvPr/>
        </p:nvSpPr>
        <p:spPr>
          <a:xfrm>
            <a:off x="130320" y="5450040"/>
            <a:ext cx="9808920" cy="137952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YOzFontP04"/>
                <a:ea typeface="YOzFontP04"/>
              </a:rPr>
              <a:t>はなさ</a:t>
            </a:r>
            <a:r>
              <a:rPr b="0" lang="ja-JP" sz="6000" spc="-1" strike="noStrike" u="sng">
                <a:solidFill>
                  <a:srgbClr val="ff0000"/>
                </a:solidFill>
                <a:uFillTx/>
                <a:latin typeface="YOzFontP04"/>
                <a:ea typeface="YOzFontP04"/>
              </a:rPr>
              <a:t>ずには</a:t>
            </a:r>
            <a:r>
              <a:rPr b="0" lang="ja-JP" sz="6000" spc="-1" strike="noStrike">
                <a:solidFill>
                  <a:srgbClr val="ff0000"/>
                </a:solidFill>
                <a:latin typeface="YOzFontP04"/>
                <a:ea typeface="YOzFontP04"/>
              </a:rPr>
              <a:t>いられません</a:t>
            </a:r>
            <a:r>
              <a:rPr b="0" lang="ja-JP" sz="6000" spc="-1" strike="noStrike">
                <a:solidFill>
                  <a:srgbClr val="000000"/>
                </a:solidFill>
                <a:latin typeface="YOzFontP04"/>
                <a:ea typeface="YOzFontP04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6" name=""/>
          <p:cNvSpPr/>
          <p:nvPr/>
        </p:nvSpPr>
        <p:spPr>
          <a:xfrm>
            <a:off x="3530520" y="3019320"/>
            <a:ext cx="4265640" cy="1501920"/>
          </a:xfrm>
          <a:prstGeom prst="wedgeRoundRectCallout">
            <a:avLst>
              <a:gd name="adj1" fmla="val -69958"/>
              <a:gd name="adj2" fmla="val 44342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P04"/>
                <a:ea typeface="YOzFontP04"/>
              </a:rPr>
              <a:t>しゃちょうとみゆきさんが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OzFontP04"/>
                <a:ea typeface="YOzFontP04"/>
              </a:rPr>
              <a:t>けっこんするんですよ。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7" name=""/>
          <p:cNvSpPr/>
          <p:nvPr/>
        </p:nvSpPr>
        <p:spPr>
          <a:xfrm>
            <a:off x="3867120" y="1352520"/>
            <a:ext cx="3659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P04"/>
                <a:ea typeface="YOzFontP04"/>
              </a:rPr>
              <a:t>はなしてはいけませんが、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P04"/>
                <a:ea typeface="YOzFontP04"/>
              </a:rPr>
              <a:t>はなしてしまいます →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907920" y="1262160"/>
            <a:ext cx="939816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まいばん、ビールを のんでいますが、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きょうは ビールが ありません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でも、ワインを かいました。ですから…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9" name=""/>
          <p:cNvSpPr/>
          <p:nvPr/>
        </p:nvSpPr>
        <p:spPr>
          <a:xfrm>
            <a:off x="906480" y="3238560"/>
            <a:ext cx="8451720" cy="1203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0" name=""/>
          <p:cNvSpPr/>
          <p:nvPr/>
        </p:nvSpPr>
        <p:spPr>
          <a:xfrm>
            <a:off x="1233360" y="36100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ビールの </a:t>
            </a:r>
            <a:r>
              <a:rPr b="0" lang="ja-JP" sz="3600" spc="-1" strike="noStrike">
                <a:solidFill>
                  <a:srgbClr val="ff0000"/>
                </a:solidFill>
                <a:latin typeface="YOzFontP04"/>
                <a:ea typeface="YOzFontP04"/>
              </a:rPr>
              <a:t>かわりに </a:t>
            </a:r>
            <a:r>
              <a:rPr b="0" lang="ja-JP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ワインを のみます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dur="indefinite" fill="hold">
                      <p:stCondLst>
                        <p:cond delay="indefinite"/>
                      </p:stCondLst>
                      <p:childTnLst>
                        <p:par>
                          <p:cTn id="1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907920" y="1262160"/>
            <a:ext cx="838224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きょうは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やまだ せんせいは やすみでした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でも、さとうせんせいが きました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2" name=""/>
          <p:cNvSpPr/>
          <p:nvPr/>
        </p:nvSpPr>
        <p:spPr>
          <a:xfrm>
            <a:off x="906480" y="3238560"/>
            <a:ext cx="8629560" cy="1766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3" name=""/>
          <p:cNvSpPr/>
          <p:nvPr/>
        </p:nvSpPr>
        <p:spPr>
          <a:xfrm>
            <a:off x="1233360" y="3610080"/>
            <a:ext cx="685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やまだせんせいの </a:t>
            </a:r>
            <a:r>
              <a:rPr b="0" lang="ja-JP" sz="4000" spc="-1" strike="noStrike">
                <a:solidFill>
                  <a:srgbClr val="ff0000"/>
                </a:solidFill>
                <a:latin typeface="YOzFontP04"/>
                <a:ea typeface="YOzFontP04"/>
              </a:rPr>
              <a:t>かわりに 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さとうせんせいが きました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dur="indefinite" fill="hold">
                      <p:stCondLst>
                        <p:cond delay="indefinite"/>
                      </p:stCondLst>
                      <p:childTnLst>
                        <p:par>
                          <p:cTn id="1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907920" y="126216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わたしは しんぶんを よみませんが、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インターネットで ニュースを みま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5" name=""/>
          <p:cNvSpPr/>
          <p:nvPr/>
        </p:nvSpPr>
        <p:spPr>
          <a:xfrm>
            <a:off x="890640" y="3876840"/>
            <a:ext cx="8629560" cy="1766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6" name=""/>
          <p:cNvSpPr/>
          <p:nvPr/>
        </p:nvSpPr>
        <p:spPr>
          <a:xfrm>
            <a:off x="1217520" y="42480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しんぶんを よむ </a:t>
            </a:r>
            <a:r>
              <a:rPr b="0" lang="ja-JP" sz="3600" spc="-1" strike="noStrike">
                <a:solidFill>
                  <a:srgbClr val="ff0000"/>
                </a:solidFill>
                <a:latin typeface="YOzFontP04"/>
                <a:ea typeface="YOzFontP04"/>
              </a:rPr>
              <a:t>かわりに 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インターネットで ニュースを みます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dur="indefinite" fill="hold">
                      <p:stCondLst>
                        <p:cond delay="indefinite"/>
                      </p:stCondLst>
                      <p:childTnLst>
                        <p:par>
                          <p:cTn id="1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09520" y="700200"/>
            <a:ext cx="1630440" cy="2658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089160" y="770040"/>
            <a:ext cx="1630440" cy="26589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04840" y="3403440"/>
            <a:ext cx="1630440" cy="2659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314280" y="0"/>
            <a:ext cx="2025720" cy="3260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3119400" y="98280"/>
            <a:ext cx="2049480" cy="3305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3402000" y="1512720"/>
            <a:ext cx="2300400" cy="2189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3132000" y="3516480"/>
            <a:ext cx="1630440" cy="2658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8"/>
          <a:stretch/>
        </p:blipFill>
        <p:spPr>
          <a:xfrm>
            <a:off x="3198960" y="2590920"/>
            <a:ext cx="2222280" cy="3541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9"/>
          <a:stretch/>
        </p:blipFill>
        <p:spPr>
          <a:xfrm>
            <a:off x="3733920" y="1582560"/>
            <a:ext cx="1001520" cy="552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0"/>
          <a:stretch/>
        </p:blipFill>
        <p:spPr>
          <a:xfrm>
            <a:off x="4680000" y="1724040"/>
            <a:ext cx="725400" cy="331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1"/>
          <a:stretch/>
        </p:blipFill>
        <p:spPr>
          <a:xfrm>
            <a:off x="515880" y="1484280"/>
            <a:ext cx="2300400" cy="2189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2"/>
          <a:stretch/>
        </p:blipFill>
        <p:spPr>
          <a:xfrm>
            <a:off x="847800" y="1554120"/>
            <a:ext cx="1001520" cy="552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3"/>
          <a:stretch/>
        </p:blipFill>
        <p:spPr>
          <a:xfrm>
            <a:off x="1795320" y="1695600"/>
            <a:ext cx="725760" cy="3315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4"/>
          <a:stretch/>
        </p:blipFill>
        <p:spPr>
          <a:xfrm>
            <a:off x="135000" y="2451240"/>
            <a:ext cx="2273400" cy="3747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5"/>
          <a:stretch/>
        </p:blipFill>
        <p:spPr>
          <a:xfrm>
            <a:off x="417600" y="4216320"/>
            <a:ext cx="2300040" cy="21891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6"/>
          <a:stretch/>
        </p:blipFill>
        <p:spPr>
          <a:xfrm>
            <a:off x="749160" y="4286160"/>
            <a:ext cx="1001880" cy="552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7"/>
          <a:stretch/>
        </p:blipFill>
        <p:spPr>
          <a:xfrm>
            <a:off x="1697040" y="4425840"/>
            <a:ext cx="725400" cy="331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8"/>
          <a:stretch/>
        </p:blipFill>
        <p:spPr>
          <a:xfrm>
            <a:off x="3303720" y="4300560"/>
            <a:ext cx="2300040" cy="2189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9"/>
          <a:stretch/>
        </p:blipFill>
        <p:spPr>
          <a:xfrm>
            <a:off x="3635280" y="4300560"/>
            <a:ext cx="1001880" cy="552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0"/>
          <a:stretch/>
        </p:blipFill>
        <p:spPr>
          <a:xfrm>
            <a:off x="4583160" y="4440240"/>
            <a:ext cx="725400" cy="331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1"/>
          <a:stretch/>
        </p:blipFill>
        <p:spPr>
          <a:xfrm>
            <a:off x="6877080" y="2135160"/>
            <a:ext cx="2990880" cy="6515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2"/>
          <a:stretch/>
        </p:blipFill>
        <p:spPr>
          <a:xfrm>
            <a:off x="4680000" y="1724040"/>
            <a:ext cx="725400" cy="331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754520" y="403200"/>
            <a:ext cx="4983120" cy="1873440"/>
          </a:xfrm>
          <a:prstGeom prst="wedgeRoundRectCallout">
            <a:avLst>
              <a:gd name="adj1" fmla="val 19254"/>
              <a:gd name="adj2" fmla="val 86967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5" name=""/>
          <p:cNvSpPr/>
          <p:nvPr/>
        </p:nvSpPr>
        <p:spPr>
          <a:xfrm>
            <a:off x="5119560" y="893880"/>
            <a:ext cx="431820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Hello.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Nice to meet you.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09520" y="700200"/>
            <a:ext cx="1630440" cy="265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089160" y="770040"/>
            <a:ext cx="1630440" cy="265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04840" y="3403440"/>
            <a:ext cx="1630440" cy="2659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314280" y="0"/>
            <a:ext cx="2025720" cy="3260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3119400" y="98280"/>
            <a:ext cx="2049480" cy="3305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3402000" y="1512720"/>
            <a:ext cx="2300400" cy="2189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3132000" y="3516480"/>
            <a:ext cx="1630440" cy="2658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>
            <a:off x="3198960" y="2590920"/>
            <a:ext cx="2222280" cy="3541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9"/>
          <a:stretch/>
        </p:blipFill>
        <p:spPr>
          <a:xfrm>
            <a:off x="3733920" y="1582560"/>
            <a:ext cx="1001520" cy="552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0"/>
          <a:stretch/>
        </p:blipFill>
        <p:spPr>
          <a:xfrm>
            <a:off x="4680000" y="1724040"/>
            <a:ext cx="725400" cy="331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1"/>
          <a:stretch/>
        </p:blipFill>
        <p:spPr>
          <a:xfrm>
            <a:off x="515880" y="1484280"/>
            <a:ext cx="2300400" cy="2189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2"/>
          <a:stretch/>
        </p:blipFill>
        <p:spPr>
          <a:xfrm>
            <a:off x="847800" y="1554120"/>
            <a:ext cx="1001520" cy="552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3"/>
          <a:stretch/>
        </p:blipFill>
        <p:spPr>
          <a:xfrm>
            <a:off x="1795320" y="1695600"/>
            <a:ext cx="725760" cy="331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4"/>
          <a:stretch/>
        </p:blipFill>
        <p:spPr>
          <a:xfrm>
            <a:off x="135000" y="2451240"/>
            <a:ext cx="2273400" cy="3747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5"/>
          <a:stretch/>
        </p:blipFill>
        <p:spPr>
          <a:xfrm>
            <a:off x="417600" y="4216320"/>
            <a:ext cx="2300040" cy="2189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6"/>
          <a:stretch/>
        </p:blipFill>
        <p:spPr>
          <a:xfrm>
            <a:off x="749160" y="4286160"/>
            <a:ext cx="1001880" cy="552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7"/>
          <a:stretch/>
        </p:blipFill>
        <p:spPr>
          <a:xfrm>
            <a:off x="1697040" y="4425840"/>
            <a:ext cx="725400" cy="331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8"/>
          <a:stretch/>
        </p:blipFill>
        <p:spPr>
          <a:xfrm>
            <a:off x="3303720" y="4300560"/>
            <a:ext cx="2300040" cy="2189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9"/>
          <a:stretch/>
        </p:blipFill>
        <p:spPr>
          <a:xfrm>
            <a:off x="3635280" y="4300560"/>
            <a:ext cx="1001880" cy="552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0"/>
          <a:stretch/>
        </p:blipFill>
        <p:spPr>
          <a:xfrm>
            <a:off x="4583160" y="4440240"/>
            <a:ext cx="725400" cy="331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1"/>
          <a:stretch/>
        </p:blipFill>
        <p:spPr>
          <a:xfrm>
            <a:off x="6877080" y="2135160"/>
            <a:ext cx="2990880" cy="6515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2"/>
          <a:stretch/>
        </p:blipFill>
        <p:spPr>
          <a:xfrm>
            <a:off x="4680000" y="1724040"/>
            <a:ext cx="725400" cy="331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754520" y="403200"/>
            <a:ext cx="4983120" cy="1873440"/>
          </a:xfrm>
          <a:prstGeom prst="wedgeRoundRectCallout">
            <a:avLst>
              <a:gd name="adj1" fmla="val -55300"/>
              <a:gd name="adj2" fmla="val 90736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9" name=""/>
          <p:cNvSpPr/>
          <p:nvPr/>
        </p:nvSpPr>
        <p:spPr>
          <a:xfrm>
            <a:off x="5119560" y="893880"/>
            <a:ext cx="431820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Hello.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Nice to meet you.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0" name=""/>
          <p:cNvSpPr/>
          <p:nvPr/>
        </p:nvSpPr>
        <p:spPr>
          <a:xfrm>
            <a:off x="4118040" y="179280"/>
            <a:ext cx="860400" cy="898560"/>
          </a:xfrm>
          <a:prstGeom prst="ellipse">
            <a:avLst/>
          </a:prstGeom>
          <a:noFill/>
          <a:ln w="108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1" name=""/>
          <p:cNvSpPr/>
          <p:nvPr/>
        </p:nvSpPr>
        <p:spPr>
          <a:xfrm>
            <a:off x="192240" y="5927760"/>
            <a:ext cx="9594720" cy="1423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2" name=""/>
          <p:cNvSpPr/>
          <p:nvPr/>
        </p:nvSpPr>
        <p:spPr>
          <a:xfrm>
            <a:off x="500040" y="6375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せんせい が いった </a:t>
            </a:r>
            <a:r>
              <a:rPr b="0" lang="ja-JP" sz="3600" spc="-1" strike="noStrike">
                <a:solidFill>
                  <a:srgbClr val="ff0000"/>
                </a:solidFill>
                <a:latin typeface="YOzFontP04"/>
                <a:ea typeface="YOzFontP04"/>
              </a:rPr>
              <a:t>とおりに</a:t>
            </a:r>
            <a:r>
              <a:rPr b="0" lang="en-US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 いいました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09520" y="700200"/>
            <a:ext cx="1630440" cy="26589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089160" y="770040"/>
            <a:ext cx="1630440" cy="2658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204840" y="3403440"/>
            <a:ext cx="1630440" cy="2659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314280" y="0"/>
            <a:ext cx="2025720" cy="3260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3119400" y="98280"/>
            <a:ext cx="2049480" cy="3305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3402000" y="1512720"/>
            <a:ext cx="2300400" cy="21891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3132000" y="3516480"/>
            <a:ext cx="1630440" cy="26589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3198960" y="2590920"/>
            <a:ext cx="2222280" cy="35416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9"/>
          <a:stretch/>
        </p:blipFill>
        <p:spPr>
          <a:xfrm>
            <a:off x="3733920" y="1582560"/>
            <a:ext cx="1001520" cy="552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0"/>
          <a:stretch/>
        </p:blipFill>
        <p:spPr>
          <a:xfrm>
            <a:off x="4680000" y="1724040"/>
            <a:ext cx="725400" cy="331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1"/>
          <a:stretch/>
        </p:blipFill>
        <p:spPr>
          <a:xfrm>
            <a:off x="515880" y="1484280"/>
            <a:ext cx="2300400" cy="2189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2"/>
          <a:stretch/>
        </p:blipFill>
        <p:spPr>
          <a:xfrm>
            <a:off x="847800" y="1554120"/>
            <a:ext cx="1001520" cy="552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3"/>
          <a:stretch/>
        </p:blipFill>
        <p:spPr>
          <a:xfrm>
            <a:off x="1795320" y="1695600"/>
            <a:ext cx="725760" cy="331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4"/>
          <a:stretch/>
        </p:blipFill>
        <p:spPr>
          <a:xfrm>
            <a:off x="135000" y="2451240"/>
            <a:ext cx="2273400" cy="3747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5"/>
          <a:stretch/>
        </p:blipFill>
        <p:spPr>
          <a:xfrm>
            <a:off x="417600" y="4216320"/>
            <a:ext cx="2300040" cy="21891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6"/>
          <a:stretch/>
        </p:blipFill>
        <p:spPr>
          <a:xfrm>
            <a:off x="749160" y="4286160"/>
            <a:ext cx="1001880" cy="552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7"/>
          <a:stretch/>
        </p:blipFill>
        <p:spPr>
          <a:xfrm>
            <a:off x="1697040" y="4425840"/>
            <a:ext cx="725400" cy="331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8"/>
          <a:stretch/>
        </p:blipFill>
        <p:spPr>
          <a:xfrm>
            <a:off x="3303720" y="4300560"/>
            <a:ext cx="2300040" cy="21891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9"/>
          <a:stretch/>
        </p:blipFill>
        <p:spPr>
          <a:xfrm>
            <a:off x="3635280" y="4300560"/>
            <a:ext cx="1001880" cy="5526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0"/>
          <a:stretch/>
        </p:blipFill>
        <p:spPr>
          <a:xfrm>
            <a:off x="4583160" y="4440240"/>
            <a:ext cx="725400" cy="331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1"/>
          <a:stretch/>
        </p:blipFill>
        <p:spPr>
          <a:xfrm>
            <a:off x="6877080" y="2135160"/>
            <a:ext cx="2990880" cy="6515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2"/>
          <a:stretch/>
        </p:blipFill>
        <p:spPr>
          <a:xfrm>
            <a:off x="4680000" y="1724040"/>
            <a:ext cx="725400" cy="331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406520" y="635040"/>
            <a:ext cx="4983120" cy="1873080"/>
          </a:xfrm>
          <a:prstGeom prst="wedgeRoundRectCallout">
            <a:avLst>
              <a:gd name="adj1" fmla="val -55300"/>
              <a:gd name="adj2" fmla="val 90736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6" name=""/>
          <p:cNvSpPr/>
          <p:nvPr/>
        </p:nvSpPr>
        <p:spPr>
          <a:xfrm>
            <a:off x="1771560" y="1123920"/>
            <a:ext cx="431820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He</a:t>
            </a:r>
            <a:r>
              <a:rPr b="0" lang="en-US" sz="4000" spc="-1" strike="noStrike">
                <a:solidFill>
                  <a:srgbClr val="ff0000"/>
                </a:solidFill>
                <a:latin typeface="YOzFontP04"/>
                <a:ea typeface="YOzFontP04"/>
              </a:rPr>
              <a:t>rr</a:t>
            </a:r>
            <a:r>
              <a:rPr b="0" lang="en-US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o.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Nice to </a:t>
            </a:r>
            <a:r>
              <a:rPr b="0" lang="en-US" sz="4000" spc="-1" strike="noStrike">
                <a:solidFill>
                  <a:srgbClr val="ff0000"/>
                </a:solidFill>
                <a:latin typeface="YOzFontP04"/>
                <a:ea typeface="YOzFontP04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eet you.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809520" y="641520"/>
            <a:ext cx="971640" cy="971280"/>
            <a:chOff x="3809520" y="641520"/>
            <a:chExt cx="971640" cy="971280"/>
          </a:xfrm>
        </p:grpSpPr>
        <p:sp>
          <p:nvSpPr>
            <p:cNvPr id="148" name=""/>
            <p:cNvSpPr/>
            <p:nvPr/>
          </p:nvSpPr>
          <p:spPr>
            <a:xfrm flipH="1">
              <a:off x="3809520" y="641520"/>
              <a:ext cx="971640" cy="97128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12760" y="641520"/>
              <a:ext cx="965520" cy="97128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92240" y="5927760"/>
            <a:ext cx="9594720" cy="1423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1" name=""/>
          <p:cNvSpPr/>
          <p:nvPr/>
        </p:nvSpPr>
        <p:spPr>
          <a:xfrm>
            <a:off x="500040" y="637704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せんせい が いった </a:t>
            </a:r>
            <a:r>
              <a:rPr b="0" lang="ja-JP" sz="3600" spc="-1" strike="noStrike">
                <a:solidFill>
                  <a:srgbClr val="ff0000"/>
                </a:solidFill>
                <a:latin typeface="YOzFontP04"/>
                <a:ea typeface="YOzFontP04"/>
              </a:rPr>
              <a:t>とおりに</a:t>
            </a:r>
            <a:r>
              <a:rPr b="0" lang="en-US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いいませんでした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051440" y="2346480"/>
            <a:ext cx="2458800" cy="484812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3" name=""/>
          <p:cNvSpPr/>
          <p:nvPr/>
        </p:nvSpPr>
        <p:spPr>
          <a:xfrm>
            <a:off x="241200" y="384120"/>
            <a:ext cx="9482400" cy="137952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4" name=""/>
          <p:cNvSpPr/>
          <p:nvPr/>
        </p:nvSpPr>
        <p:spPr>
          <a:xfrm>
            <a:off x="585720" y="723960"/>
            <a:ext cx="8636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せんせい</a:t>
            </a:r>
            <a:r>
              <a:rPr b="0" lang="ja-JP" sz="4000" spc="-1" strike="noStrike">
                <a:solidFill>
                  <a:srgbClr val="800000"/>
                </a:solidFill>
                <a:latin typeface="YOzFontP04"/>
                <a:ea typeface="YOzFontP04"/>
              </a:rPr>
              <a:t>が</a:t>
            </a: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かいた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YOzFontP04"/>
                <a:ea typeface="YOzFontP04"/>
              </a:rPr>
              <a:t>とおり</a:t>
            </a:r>
            <a:r>
              <a:rPr b="0" lang="ja-JP" sz="4000" spc="-1" strike="noStrike" u="sng">
                <a:solidFill>
                  <a:srgbClr val="800000"/>
                </a:solidFill>
                <a:uFillTx/>
                <a:latin typeface="YOzFontP04"/>
                <a:ea typeface="YOzFontP04"/>
              </a:rPr>
              <a:t>に</a:t>
            </a: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かきま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63600" y="151128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せんせいが いう とおりに いいましょう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6" name=""/>
          <p:cNvSpPr/>
          <p:nvPr/>
        </p:nvSpPr>
        <p:spPr>
          <a:xfrm>
            <a:off x="287280" y="301680"/>
            <a:ext cx="6591240" cy="84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はやくちことば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7" name=""/>
          <p:cNvSpPr/>
          <p:nvPr/>
        </p:nvSpPr>
        <p:spPr>
          <a:xfrm>
            <a:off x="317520" y="3144960"/>
            <a:ext cx="960120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1</a:t>
            </a:r>
            <a:r>
              <a:rPr b="0" lang="ja-JP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） となりの きゃくは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よく かきくう きゃくだ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2) </a:t>
            </a:r>
            <a:r>
              <a:rPr b="0" lang="ja-JP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ぼうずが びょうぶに じょうずに ぼうずの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えを かいた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YOzFontP04"/>
                <a:ea typeface="YOzFontP04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55680" y="852480"/>
            <a:ext cx="6070680" cy="50180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485800" y="2459160"/>
            <a:ext cx="1143000" cy="88092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0" name=""/>
          <p:cNvSpPr/>
          <p:nvPr/>
        </p:nvSpPr>
        <p:spPr>
          <a:xfrm>
            <a:off x="511200" y="5884920"/>
            <a:ext cx="9482040" cy="1379520"/>
          </a:xfrm>
          <a:prstGeom prst="roundRect">
            <a:avLst>
              <a:gd name="adj" fmla="val 11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1" name=""/>
          <p:cNvSpPr/>
          <p:nvPr/>
        </p:nvSpPr>
        <p:spPr>
          <a:xfrm>
            <a:off x="892080" y="6357960"/>
            <a:ext cx="9144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せつめいしょ</a:t>
            </a:r>
            <a:r>
              <a:rPr b="0" lang="ja-JP" sz="4000" spc="-1" strike="noStrike">
                <a:solidFill>
                  <a:srgbClr val="800000"/>
                </a:solidFill>
                <a:latin typeface="YOzFontP04"/>
                <a:ea typeface="YOzFontP04"/>
              </a:rPr>
              <a:t>の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YOzFontP04"/>
                <a:ea typeface="YOzFontP04"/>
              </a:rPr>
              <a:t>とおり</a:t>
            </a:r>
            <a:r>
              <a:rPr b="0" lang="ja-JP" sz="4000" spc="-1" strike="noStrike" u="sng">
                <a:solidFill>
                  <a:srgbClr val="800000"/>
                </a:solidFill>
                <a:uFillTx/>
                <a:latin typeface="YOzFontP04"/>
                <a:ea typeface="YOzFontP04"/>
              </a:rPr>
              <a:t>に</a:t>
            </a: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くみたてま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800520" y="957240"/>
            <a:ext cx="3800520" cy="1924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909960" y="1477800"/>
            <a:ext cx="2914560" cy="291492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4" name=""/>
          <p:cNvSpPr/>
          <p:nvPr/>
        </p:nvSpPr>
        <p:spPr>
          <a:xfrm>
            <a:off x="4492800" y="4478400"/>
            <a:ext cx="5202000" cy="2786040"/>
          </a:xfrm>
          <a:prstGeom prst="roundRect">
            <a:avLst>
              <a:gd name="adj" fmla="val 5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-423720" y="2506680"/>
            <a:ext cx="2411280" cy="73072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1708200" y="1506600"/>
            <a:ext cx="2662200" cy="8566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514760" y="51577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やじるし</a:t>
            </a:r>
            <a:r>
              <a:rPr b="0" lang="ja-JP" sz="4000" spc="-1" strike="noStrike">
                <a:solidFill>
                  <a:srgbClr val="800000"/>
                </a:solidFill>
                <a:latin typeface="YOzFontP04"/>
                <a:ea typeface="YOzFontP04"/>
              </a:rPr>
              <a:t>の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YOzFontP04"/>
                <a:ea typeface="YOzFontP04"/>
              </a:rPr>
              <a:t>とおり</a:t>
            </a:r>
            <a:r>
              <a:rPr b="0" lang="ja-JP" sz="4000" spc="-1" strike="noStrike" u="sng">
                <a:solidFill>
                  <a:srgbClr val="800000"/>
                </a:solidFill>
                <a:uFillTx/>
                <a:latin typeface="YOzFontP04"/>
                <a:ea typeface="YOzFontP04"/>
              </a:rPr>
              <a:t>に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OzFontP04"/>
                <a:ea typeface="YOzFontP04"/>
              </a:rPr>
              <a:t>いきま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2:25:38Z</dcterms:created>
  <dc:creator/>
  <dc:description/>
  <dc:language>en-US</dc:language>
  <cp:lastModifiedBy/>
  <dcterms:modified xsi:type="dcterms:W3CDTF">2016-05-24T19:29:31Z</dcterms:modified>
  <cp:revision>5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nfo 1">
    <vt:lpwstr/>
  </property>
  <property fmtid="{D5CDD505-2E9C-101B-9397-08002B2CF9AE}" pid="3" name="Info 2">
    <vt:lpwstr/>
  </property>
  <property fmtid="{D5CDD505-2E9C-101B-9397-08002B2CF9AE}" pid="4" name="Info 3">
    <vt:lpwstr/>
  </property>
  <property fmtid="{D5CDD505-2E9C-101B-9397-08002B2CF9AE}" pid="5" name="Info 4">
    <vt:lpwstr/>
  </property>
</Properties>
</file>