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20.png" ContentType="image/png"/>
  <Override PartName="/ppt/media/image57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68.png" ContentType="image/png"/>
  <Override PartName="/ppt/media/image31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58.png" ContentType="image/png"/>
  <Override PartName="/ppt/media/image21.png" ContentType="image/png"/>
  <Override PartName="/ppt/media/image60.png" ContentType="image/png"/>
  <Override PartName="/ppt/media/image23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1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3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3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4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4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4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4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4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5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5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5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2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5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5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6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6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6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6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6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7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7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7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2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7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7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8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8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8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8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8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9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9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9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2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9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9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0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80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2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2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3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3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3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7.png"/><Relationship Id="rId11" Type="http://schemas.openxmlformats.org/officeDocument/2006/relationships/image" Target="../media/image20.png"/><Relationship Id="rId12" Type="http://schemas.openxmlformats.org/officeDocument/2006/relationships/image" Target="../media/image1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7.png"/><Relationship Id="rId11" Type="http://schemas.openxmlformats.org/officeDocument/2006/relationships/image" Target="../media/image15.png"/><Relationship Id="rId12" Type="http://schemas.openxmlformats.org/officeDocument/2006/relationships/image" Target="../media/image23.png"/><Relationship Id="rId13" Type="http://schemas.openxmlformats.org/officeDocument/2006/relationships/image" Target="../media/image20.png"/><Relationship Id="rId14" Type="http://schemas.openxmlformats.org/officeDocument/2006/relationships/image" Target="../media/image24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7.png"/><Relationship Id="rId11" Type="http://schemas.openxmlformats.org/officeDocument/2006/relationships/image" Target="../media/image15.png"/><Relationship Id="rId12" Type="http://schemas.openxmlformats.org/officeDocument/2006/relationships/image" Target="../media/image23.png"/><Relationship Id="rId13" Type="http://schemas.openxmlformats.org/officeDocument/2006/relationships/image" Target="../media/image20.png"/><Relationship Id="rId14" Type="http://schemas.openxmlformats.org/officeDocument/2006/relationships/image" Target="../media/image24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9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2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2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2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7.png"/><Relationship Id="rId11" Type="http://schemas.openxmlformats.org/officeDocument/2006/relationships/image" Target="../media/image23.png"/><Relationship Id="rId12" Type="http://schemas.openxmlformats.org/officeDocument/2006/relationships/image" Target="../media/image20.png"/><Relationship Id="rId13" Type="http://schemas.openxmlformats.org/officeDocument/2006/relationships/image" Target="../media/image49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7.png"/><Relationship Id="rId11" Type="http://schemas.openxmlformats.org/officeDocument/2006/relationships/image" Target="../media/image23.png"/><Relationship Id="rId12" Type="http://schemas.openxmlformats.org/officeDocument/2006/relationships/image" Target="../media/image20.png"/><Relationship Id="rId13" Type="http://schemas.openxmlformats.org/officeDocument/2006/relationships/image" Target="../media/image49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7.png"/><Relationship Id="rId11" Type="http://schemas.openxmlformats.org/officeDocument/2006/relationships/image" Target="../media/image23.png"/><Relationship Id="rId12" Type="http://schemas.openxmlformats.org/officeDocument/2006/relationships/image" Target="../media/image20.png"/><Relationship Id="rId13" Type="http://schemas.openxmlformats.org/officeDocument/2006/relationships/image" Target="../media/image49.png"/><Relationship Id="rId14" Type="http://schemas.openxmlformats.org/officeDocument/2006/relationships/image" Target="../media/image50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5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5.png"/><Relationship Id="rId8" Type="http://schemas.openxmlformats.org/officeDocument/2006/relationships/image" Target="../media/image46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50.png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404640"/>
            <a:ext cx="6945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 </a:t>
            </a:r>
            <a:r>
              <a:rPr b="0" lang="en-US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41 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2025720"/>
            <a:ext cx="487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78560"/>
            <a:ext cx="1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"/>
          <p:cNvSpPr/>
          <p:nvPr/>
        </p:nvSpPr>
        <p:spPr>
          <a:xfrm>
            <a:off x="1808280" y="4160880"/>
            <a:ext cx="2438280" cy="22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しあげ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ただき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ださい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やり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1576440" y="2195640"/>
            <a:ext cx="4522680" cy="5360760"/>
            <a:chOff x="1576440" y="2195640"/>
            <a:chExt cx="4522680" cy="5360760"/>
          </a:xfrm>
        </p:grpSpPr>
        <p:grpSp>
          <p:nvGrpSpPr>
            <p:cNvPr id="183" name=""/>
            <p:cNvGrpSpPr/>
            <p:nvPr/>
          </p:nvGrpSpPr>
          <p:grpSpPr>
            <a:xfrm>
              <a:off x="1576440" y="2195640"/>
              <a:ext cx="4522680" cy="5360760"/>
              <a:chOff x="1576440" y="2195640"/>
              <a:chExt cx="4522680" cy="5360760"/>
            </a:xfrm>
          </p:grpSpPr>
          <p:pic>
            <p:nvPicPr>
              <p:cNvPr id="18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76520" y="2536920"/>
                <a:ext cx="2622600" cy="501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76440" y="2195640"/>
                <a:ext cx="1892160" cy="46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6" name=""/>
          <p:cNvGrpSpPr/>
          <p:nvPr/>
        </p:nvGrpSpPr>
        <p:grpSpPr>
          <a:xfrm>
            <a:off x="2406600" y="4087800"/>
            <a:ext cx="3979800" cy="2065320"/>
            <a:chOff x="2406600" y="4087800"/>
            <a:chExt cx="3979800" cy="2065320"/>
          </a:xfrm>
        </p:grpSpPr>
        <p:sp>
          <p:nvSpPr>
            <p:cNvPr id="187" name=""/>
            <p:cNvSpPr/>
            <p:nvPr/>
          </p:nvSpPr>
          <p:spPr>
            <a:xfrm>
              <a:off x="2406600" y="4087800"/>
              <a:ext cx="3979800" cy="206532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3"/>
            <a:stretch/>
          </p:blipFill>
          <p:spPr>
            <a:xfrm>
              <a:off x="4465800" y="4568760"/>
              <a:ext cx="1022040" cy="8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"/>
          <p:cNvSpPr/>
          <p:nvPr/>
        </p:nvSpPr>
        <p:spPr>
          <a:xfrm>
            <a:off x="5421240" y="2593800"/>
            <a:ext cx="15242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0" name=""/>
          <p:cNvSpPr/>
          <p:nvPr/>
        </p:nvSpPr>
        <p:spPr>
          <a:xfrm>
            <a:off x="736560" y="6919920"/>
            <a:ext cx="1523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885960" y="2357280"/>
            <a:ext cx="679320" cy="1035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2190600" y="1614600"/>
            <a:ext cx="520920" cy="7128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776680" y="1711440"/>
            <a:ext cx="2485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Happy Birthday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4" name=""/>
          <p:cNvSpPr/>
          <p:nvPr/>
        </p:nvSpPr>
        <p:spPr>
          <a:xfrm>
            <a:off x="3470400" y="2211480"/>
            <a:ext cx="248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o You...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5" name=""/>
          <p:cNvSpPr/>
          <p:nvPr/>
        </p:nvSpPr>
        <p:spPr>
          <a:xfrm>
            <a:off x="425520" y="169920"/>
            <a:ext cx="8307360" cy="1298520"/>
          </a:xfrm>
          <a:prstGeom prst="roundRect">
            <a:avLst>
              <a:gd name="adj" fmla="val 120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6" name=""/>
          <p:cNvSpPr/>
          <p:nvPr/>
        </p:nvSpPr>
        <p:spPr>
          <a:xfrm>
            <a:off x="2166840" y="355680"/>
            <a:ext cx="660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なつみ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た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たっ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げました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6656400" y="3603600"/>
            <a:ext cx="2448000" cy="7039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493560" y="282600"/>
            <a:ext cx="1365480" cy="1704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166840" y="355680"/>
            <a:ext cx="5666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0" name=""/>
          <p:cNvSpPr/>
          <p:nvPr/>
        </p:nvSpPr>
        <p:spPr>
          <a:xfrm>
            <a:off x="5486400" y="6678720"/>
            <a:ext cx="1523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1576440" y="2195640"/>
            <a:ext cx="4522680" cy="5360760"/>
            <a:chOff x="1576440" y="2195640"/>
            <a:chExt cx="4522680" cy="5360760"/>
          </a:xfrm>
        </p:grpSpPr>
        <p:grpSp>
          <p:nvGrpSpPr>
            <p:cNvPr id="202" name=""/>
            <p:cNvGrpSpPr/>
            <p:nvPr/>
          </p:nvGrpSpPr>
          <p:grpSpPr>
            <a:xfrm>
              <a:off x="1576440" y="2195640"/>
              <a:ext cx="4522680" cy="5360760"/>
              <a:chOff x="1576440" y="2195640"/>
              <a:chExt cx="4522680" cy="5360760"/>
            </a:xfrm>
          </p:grpSpPr>
          <p:pic>
            <p:nvPicPr>
              <p:cNvPr id="20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76520" y="2536920"/>
                <a:ext cx="2622600" cy="501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76440" y="2195640"/>
                <a:ext cx="1892160" cy="46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05" name=""/>
          <p:cNvGrpSpPr/>
          <p:nvPr/>
        </p:nvGrpSpPr>
        <p:grpSpPr>
          <a:xfrm>
            <a:off x="2546280" y="4103640"/>
            <a:ext cx="3841920" cy="2048040"/>
            <a:chOff x="2546280" y="4103640"/>
            <a:chExt cx="3841920" cy="2048040"/>
          </a:xfrm>
        </p:grpSpPr>
        <p:sp>
          <p:nvSpPr>
            <p:cNvPr id="206" name=""/>
            <p:cNvSpPr/>
            <p:nvPr/>
          </p:nvSpPr>
          <p:spPr>
            <a:xfrm>
              <a:off x="2546280" y="4103640"/>
              <a:ext cx="3841920" cy="204804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4465800" y="4568760"/>
              <a:ext cx="1022040" cy="8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8" name=""/>
          <p:cNvSpPr/>
          <p:nvPr/>
        </p:nvSpPr>
        <p:spPr>
          <a:xfrm>
            <a:off x="5421240" y="2593800"/>
            <a:ext cx="15242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9" name=""/>
          <p:cNvSpPr/>
          <p:nvPr/>
        </p:nvSpPr>
        <p:spPr>
          <a:xfrm>
            <a:off x="765000" y="6850080"/>
            <a:ext cx="2032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885960" y="2357280"/>
            <a:ext cx="679320" cy="1035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2190600" y="1614600"/>
            <a:ext cx="520920" cy="712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776680" y="1711440"/>
            <a:ext cx="2485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Happy Birthday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3" name=""/>
          <p:cNvSpPr/>
          <p:nvPr/>
        </p:nvSpPr>
        <p:spPr>
          <a:xfrm>
            <a:off x="3470400" y="2211480"/>
            <a:ext cx="248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o You...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4" name=""/>
          <p:cNvSpPr/>
          <p:nvPr/>
        </p:nvSpPr>
        <p:spPr>
          <a:xfrm>
            <a:off x="425520" y="169920"/>
            <a:ext cx="8891640" cy="1285920"/>
          </a:xfrm>
          <a:prstGeom prst="roundRect">
            <a:avLst>
              <a:gd name="adj" fmla="val 120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5" name=""/>
          <p:cNvSpPr/>
          <p:nvPr/>
        </p:nvSpPr>
        <p:spPr>
          <a:xfrm>
            <a:off x="2166840" y="355680"/>
            <a:ext cx="7340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なつみ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た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たっ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げました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6427800" y="3503520"/>
            <a:ext cx="2448000" cy="70390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166840" y="341280"/>
            <a:ext cx="5666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6678720"/>
            <a:ext cx="1523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1576440" y="2195640"/>
            <a:ext cx="4522680" cy="5360760"/>
            <a:chOff x="1576440" y="2195640"/>
            <a:chExt cx="4522680" cy="5360760"/>
          </a:xfrm>
        </p:grpSpPr>
        <p:grpSp>
          <p:nvGrpSpPr>
            <p:cNvPr id="220" name=""/>
            <p:cNvGrpSpPr/>
            <p:nvPr/>
          </p:nvGrpSpPr>
          <p:grpSpPr>
            <a:xfrm>
              <a:off x="1576440" y="2195640"/>
              <a:ext cx="4522680" cy="5360760"/>
              <a:chOff x="1576440" y="2195640"/>
              <a:chExt cx="4522680" cy="5360760"/>
            </a:xfrm>
          </p:grpSpPr>
          <p:pic>
            <p:nvPicPr>
              <p:cNvPr id="22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76520" y="2536920"/>
                <a:ext cx="2622600" cy="501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76440" y="2195640"/>
                <a:ext cx="1892160" cy="46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3" name=""/>
          <p:cNvGrpSpPr/>
          <p:nvPr/>
        </p:nvGrpSpPr>
        <p:grpSpPr>
          <a:xfrm>
            <a:off x="4465800" y="4568760"/>
            <a:ext cx="1922400" cy="1584360"/>
            <a:chOff x="4465800" y="4568760"/>
            <a:chExt cx="1922400" cy="1584360"/>
          </a:xfrm>
        </p:grpSpPr>
        <p:sp>
          <p:nvSpPr>
            <p:cNvPr id="224" name=""/>
            <p:cNvSpPr/>
            <p:nvPr/>
          </p:nvSpPr>
          <p:spPr>
            <a:xfrm>
              <a:off x="4554360" y="4589640"/>
              <a:ext cx="1833840" cy="156348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3"/>
            <a:stretch/>
          </p:blipFill>
          <p:spPr>
            <a:xfrm>
              <a:off x="4465800" y="4568760"/>
              <a:ext cx="1022040" cy="8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"/>
          <p:cNvSpPr/>
          <p:nvPr/>
        </p:nvSpPr>
        <p:spPr>
          <a:xfrm>
            <a:off x="5421240" y="2593800"/>
            <a:ext cx="15242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7" name=""/>
          <p:cNvSpPr/>
          <p:nvPr/>
        </p:nvSpPr>
        <p:spPr>
          <a:xfrm>
            <a:off x="5484960" y="6678720"/>
            <a:ext cx="1523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885960" y="2357280"/>
            <a:ext cx="679320" cy="1035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2190600" y="1614600"/>
            <a:ext cx="520920" cy="712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776680" y="1711440"/>
            <a:ext cx="2485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Happy Birthday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1" name=""/>
          <p:cNvSpPr/>
          <p:nvPr/>
        </p:nvSpPr>
        <p:spPr>
          <a:xfrm>
            <a:off x="3470400" y="2211480"/>
            <a:ext cx="248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o You...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2" name=""/>
          <p:cNvSpPr/>
          <p:nvPr/>
        </p:nvSpPr>
        <p:spPr>
          <a:xfrm>
            <a:off x="425520" y="169920"/>
            <a:ext cx="8307360" cy="1298520"/>
          </a:xfrm>
          <a:prstGeom prst="roundRect">
            <a:avLst>
              <a:gd name="adj" fmla="val 120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3" name=""/>
          <p:cNvSpPr/>
          <p:nvPr/>
        </p:nvSpPr>
        <p:spPr>
          <a:xfrm>
            <a:off x="2203560" y="355680"/>
            <a:ext cx="660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なつみ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ギター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ひい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げました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6669000" y="3478320"/>
            <a:ext cx="2448000" cy="7038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471600" y="387360"/>
            <a:ext cx="1143000" cy="13032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203560" y="355680"/>
            <a:ext cx="5665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7" name=""/>
          <p:cNvSpPr/>
          <p:nvPr/>
        </p:nvSpPr>
        <p:spPr>
          <a:xfrm>
            <a:off x="765000" y="6850080"/>
            <a:ext cx="2032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576440" y="2195640"/>
            <a:ext cx="4522680" cy="5360760"/>
            <a:chOff x="1576440" y="2195640"/>
            <a:chExt cx="4522680" cy="5360760"/>
          </a:xfrm>
        </p:grpSpPr>
        <p:grpSp>
          <p:nvGrpSpPr>
            <p:cNvPr id="239" name=""/>
            <p:cNvGrpSpPr/>
            <p:nvPr/>
          </p:nvGrpSpPr>
          <p:grpSpPr>
            <a:xfrm>
              <a:off x="1576440" y="2195640"/>
              <a:ext cx="4522680" cy="5360760"/>
              <a:chOff x="1576440" y="2195640"/>
              <a:chExt cx="4522680" cy="5360760"/>
            </a:xfrm>
          </p:grpSpPr>
          <p:pic>
            <p:nvPicPr>
              <p:cNvPr id="24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76520" y="2536920"/>
                <a:ext cx="2622600" cy="501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76440" y="2195640"/>
                <a:ext cx="1892160" cy="46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2" name=""/>
          <p:cNvGrpSpPr/>
          <p:nvPr/>
        </p:nvGrpSpPr>
        <p:grpSpPr>
          <a:xfrm>
            <a:off x="4465800" y="4568760"/>
            <a:ext cx="2008080" cy="1490760"/>
            <a:chOff x="4465800" y="4568760"/>
            <a:chExt cx="2008080" cy="1490760"/>
          </a:xfrm>
        </p:grpSpPr>
        <p:sp>
          <p:nvSpPr>
            <p:cNvPr id="243" name=""/>
            <p:cNvSpPr/>
            <p:nvPr/>
          </p:nvSpPr>
          <p:spPr>
            <a:xfrm>
              <a:off x="4495680" y="4754520"/>
              <a:ext cx="1978200" cy="130500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3"/>
            <a:stretch/>
          </p:blipFill>
          <p:spPr>
            <a:xfrm>
              <a:off x="4465800" y="4568760"/>
              <a:ext cx="1022040" cy="89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/>
          <p:cNvSpPr/>
          <p:nvPr/>
        </p:nvSpPr>
        <p:spPr>
          <a:xfrm>
            <a:off x="5421240" y="2593800"/>
            <a:ext cx="15242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6" name=""/>
          <p:cNvSpPr/>
          <p:nvPr/>
        </p:nvSpPr>
        <p:spPr>
          <a:xfrm>
            <a:off x="5484960" y="6678720"/>
            <a:ext cx="1523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885960" y="2357280"/>
            <a:ext cx="679320" cy="1035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2190600" y="1614600"/>
            <a:ext cx="520920" cy="712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776680" y="1711440"/>
            <a:ext cx="2485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Happy Birthday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0" name=""/>
          <p:cNvSpPr/>
          <p:nvPr/>
        </p:nvSpPr>
        <p:spPr>
          <a:xfrm>
            <a:off x="3470400" y="2211480"/>
            <a:ext cx="248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o You...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1" name=""/>
          <p:cNvSpPr/>
          <p:nvPr/>
        </p:nvSpPr>
        <p:spPr>
          <a:xfrm>
            <a:off x="425520" y="169920"/>
            <a:ext cx="8307360" cy="1298520"/>
          </a:xfrm>
          <a:prstGeom prst="roundRect">
            <a:avLst>
              <a:gd name="adj" fmla="val 120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2" name=""/>
          <p:cNvSpPr/>
          <p:nvPr/>
        </p:nvSpPr>
        <p:spPr>
          <a:xfrm>
            <a:off x="2203560" y="355680"/>
            <a:ext cx="660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なつみ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ギター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ひい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げました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6743880" y="3452760"/>
            <a:ext cx="2447640" cy="7039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203560" y="355680"/>
            <a:ext cx="5665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5" name=""/>
          <p:cNvSpPr/>
          <p:nvPr/>
        </p:nvSpPr>
        <p:spPr>
          <a:xfrm>
            <a:off x="765000" y="6850080"/>
            <a:ext cx="2032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0" y="-360"/>
            <a:ext cx="9389880" cy="6862680"/>
            <a:chOff x="0" y="-360"/>
            <a:chExt cx="9389880" cy="6862680"/>
          </a:xfrm>
        </p:grpSpPr>
        <p:sp>
          <p:nvSpPr>
            <p:cNvPr id="257" name=""/>
            <p:cNvSpPr/>
            <p:nvPr/>
          </p:nvSpPr>
          <p:spPr>
            <a:xfrm>
              <a:off x="2079000" y="4775400"/>
              <a:ext cx="7310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0" y="4802400"/>
              <a:ext cx="2066400" cy="2059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2079000" y="-360"/>
              <a:ext cx="0" cy="4842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408480" y="359568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963720" y="3200400"/>
            <a:ext cx="2333520" cy="24098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0" y="4973760"/>
            <a:ext cx="2333520" cy="2409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5869080" y="337032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7311960" y="343692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5856120" y="2179800"/>
            <a:ext cx="1914840" cy="18856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5896080" y="1001880"/>
            <a:ext cx="1914480" cy="1885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8"/>
          <a:stretch/>
        </p:blipFill>
        <p:spPr>
          <a:xfrm>
            <a:off x="7232760" y="224640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9"/>
          <a:stretch/>
        </p:blipFill>
        <p:spPr>
          <a:xfrm>
            <a:off x="7311960" y="1068480"/>
            <a:ext cx="1914480" cy="18856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0"/>
          <a:stretch/>
        </p:blipFill>
        <p:spPr>
          <a:xfrm>
            <a:off x="2786040" y="5195880"/>
            <a:ext cx="1914480" cy="18860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0" y="2036880"/>
            <a:ext cx="1349280" cy="1349280"/>
          </a:xfrm>
          <a:prstGeom prst="roundRect">
            <a:avLst>
              <a:gd name="adj" fmla="val 1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1" name=""/>
          <p:cNvSpPr/>
          <p:nvPr/>
        </p:nvSpPr>
        <p:spPr>
          <a:xfrm>
            <a:off x="2476440" y="185760"/>
            <a:ext cx="7458120" cy="1878120"/>
          </a:xfrm>
          <a:prstGeom prst="roundRect">
            <a:avLst>
              <a:gd name="adj" fmla="val 8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2" name=""/>
          <p:cNvSpPr/>
          <p:nvPr/>
        </p:nvSpPr>
        <p:spPr>
          <a:xfrm>
            <a:off x="3649680" y="236520"/>
            <a:ext cx="622764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ひっこ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つだっ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もらいまし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3" name=""/>
          <p:cNvSpPr/>
          <p:nvPr/>
        </p:nvSpPr>
        <p:spPr>
          <a:xfrm>
            <a:off x="3665520" y="2846520"/>
            <a:ext cx="1523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4" name=""/>
          <p:cNvSpPr/>
          <p:nvPr/>
        </p:nvSpPr>
        <p:spPr>
          <a:xfrm>
            <a:off x="8317080" y="5648400"/>
            <a:ext cx="1523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1"/>
          <a:stretch/>
        </p:blipFill>
        <p:spPr>
          <a:xfrm>
            <a:off x="0" y="254160"/>
            <a:ext cx="1784520" cy="35463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0" y="2306520"/>
            <a:ext cx="1349280" cy="1587600"/>
          </a:xfrm>
          <a:custGeom>
            <a:avLst/>
            <a:gdLst>
              <a:gd name="textAreaLeft" fmla="*/ 360 w 1349280"/>
              <a:gd name="textAreaRight" fmla="*/ 1348920 w 1349280"/>
              <a:gd name="textAreaTop" fmla="*/ 360 h 1587600"/>
              <a:gd name="textAreaBottom" fmla="*/ 1587240 h 1587600"/>
            </a:gdLst>
            <a:ahLst/>
            <a:rect l="textAreaLeft" t="textAreaTop" r="textAreaRight" b="textAreaBottom"/>
            <a:pathLst>
              <a:path w="21600" h="25414">
                <a:moveTo>
                  <a:pt x="25" y="0"/>
                </a:moveTo>
                <a:arcTo wR="25" hR="25" stAng="16200000" swAng="-5400000"/>
                <a:lnTo>
                  <a:pt x="0" y="25389"/>
                </a:lnTo>
                <a:arcTo wR="25" hR="25" stAng="10800000" swAng="-5400000"/>
                <a:lnTo>
                  <a:pt x="21575" y="25414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338120" y="2827440"/>
            <a:ext cx="7651800" cy="8508960"/>
            <a:chOff x="1338120" y="2827440"/>
            <a:chExt cx="7651800" cy="8508960"/>
          </a:xfrm>
        </p:grpSpPr>
        <p:grpSp>
          <p:nvGrpSpPr>
            <p:cNvPr id="278" name=""/>
            <p:cNvGrpSpPr/>
            <p:nvPr/>
          </p:nvGrpSpPr>
          <p:grpSpPr>
            <a:xfrm>
              <a:off x="3263400" y="3948120"/>
              <a:ext cx="2775240" cy="1584000"/>
              <a:chOff x="3263400" y="3948120"/>
              <a:chExt cx="2775240" cy="1584000"/>
            </a:xfrm>
          </p:grpSpPr>
          <p:sp>
            <p:nvSpPr>
              <p:cNvPr id="279" name=""/>
              <p:cNvSpPr/>
              <p:nvPr/>
            </p:nvSpPr>
            <p:spPr>
              <a:xfrm flipH="1">
                <a:off x="3263400" y="4636080"/>
                <a:ext cx="2775240" cy="896040"/>
              </a:xfrm>
              <a:prstGeom prst="line">
                <a:avLst/>
              </a:prstGeom>
              <a:ln w="10800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pic>
            <p:nvPicPr>
              <p:cNvPr id="28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162680" y="3948120"/>
                <a:ext cx="1019880" cy="891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81" name="" descr=""/>
            <p:cNvPicPr/>
            <p:nvPr/>
          </p:nvPicPr>
          <p:blipFill>
            <a:blip r:embed="rId13"/>
            <a:stretch/>
          </p:blipFill>
          <p:spPr>
            <a:xfrm>
              <a:off x="1338120" y="3780000"/>
              <a:ext cx="2492640" cy="755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14"/>
            <a:stretch/>
          </p:blipFill>
          <p:spPr>
            <a:xfrm>
              <a:off x="6043680" y="2827440"/>
              <a:ext cx="2946240" cy="755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3" name="" descr=""/>
          <p:cNvPicPr/>
          <p:nvPr/>
        </p:nvPicPr>
        <p:blipFill>
          <a:blip r:embed="rId15"/>
          <a:stretch/>
        </p:blipFill>
        <p:spPr>
          <a:xfrm>
            <a:off x="2144880" y="282600"/>
            <a:ext cx="1365120" cy="1704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649680" y="237960"/>
            <a:ext cx="622764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0" y="-360"/>
            <a:ext cx="9389880" cy="6862680"/>
            <a:chOff x="0" y="-360"/>
            <a:chExt cx="9389880" cy="6862680"/>
          </a:xfrm>
        </p:grpSpPr>
        <p:sp>
          <p:nvSpPr>
            <p:cNvPr id="286" name=""/>
            <p:cNvSpPr/>
            <p:nvPr/>
          </p:nvSpPr>
          <p:spPr>
            <a:xfrm>
              <a:off x="2079000" y="4775400"/>
              <a:ext cx="7310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0" y="4802400"/>
              <a:ext cx="2066400" cy="2059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079000" y="-360"/>
              <a:ext cx="0" cy="4842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408480" y="359568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963720" y="3200400"/>
            <a:ext cx="2333520" cy="24098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0" y="4973760"/>
            <a:ext cx="2333520" cy="24098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5869080" y="337032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7311960" y="343692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5856120" y="2179800"/>
            <a:ext cx="1914840" cy="18856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5896080" y="1001880"/>
            <a:ext cx="1914480" cy="18856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7232760" y="224640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9"/>
          <a:stretch/>
        </p:blipFill>
        <p:spPr>
          <a:xfrm>
            <a:off x="7311960" y="1068480"/>
            <a:ext cx="1914480" cy="18856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0"/>
          <a:stretch/>
        </p:blipFill>
        <p:spPr>
          <a:xfrm>
            <a:off x="2786040" y="5195880"/>
            <a:ext cx="1914480" cy="18860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2036880"/>
            <a:ext cx="1349280" cy="1349280"/>
          </a:xfrm>
          <a:prstGeom prst="roundRect">
            <a:avLst>
              <a:gd name="adj" fmla="val 1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037040" y="3373560"/>
            <a:ext cx="2774880" cy="1584360"/>
            <a:chOff x="4037040" y="3373560"/>
            <a:chExt cx="2774880" cy="1584360"/>
          </a:xfrm>
        </p:grpSpPr>
        <p:sp>
          <p:nvSpPr>
            <p:cNvPr id="301" name=""/>
            <p:cNvSpPr/>
            <p:nvPr/>
          </p:nvSpPr>
          <p:spPr>
            <a:xfrm>
              <a:off x="4037040" y="4060800"/>
              <a:ext cx="2774880" cy="89712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302" name="" descr=""/>
            <p:cNvPicPr/>
            <p:nvPr/>
          </p:nvPicPr>
          <p:blipFill>
            <a:blip r:embed="rId11"/>
            <a:stretch/>
          </p:blipFill>
          <p:spPr>
            <a:xfrm>
              <a:off x="4889520" y="3373560"/>
              <a:ext cx="1022400" cy="8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>
            <a:off x="2476440" y="185760"/>
            <a:ext cx="7458120" cy="1878120"/>
          </a:xfrm>
          <a:prstGeom prst="roundRect">
            <a:avLst>
              <a:gd name="adj" fmla="val 8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4" name=""/>
          <p:cNvSpPr/>
          <p:nvPr/>
        </p:nvSpPr>
        <p:spPr>
          <a:xfrm>
            <a:off x="3649680" y="236520"/>
            <a:ext cx="622764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（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）ひっこ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つだっ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れまし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5" name=""/>
          <p:cNvSpPr/>
          <p:nvPr/>
        </p:nvSpPr>
        <p:spPr>
          <a:xfrm>
            <a:off x="3665520" y="2846520"/>
            <a:ext cx="1523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6" name=""/>
          <p:cNvSpPr/>
          <p:nvPr/>
        </p:nvSpPr>
        <p:spPr>
          <a:xfrm>
            <a:off x="8085240" y="5691240"/>
            <a:ext cx="1523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2"/>
          <a:stretch/>
        </p:blipFill>
        <p:spPr>
          <a:xfrm>
            <a:off x="6168960" y="3298680"/>
            <a:ext cx="2495520" cy="7560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3"/>
          <a:stretch/>
        </p:blipFill>
        <p:spPr>
          <a:xfrm>
            <a:off x="0" y="254160"/>
            <a:ext cx="1784520" cy="35463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0" y="2306520"/>
            <a:ext cx="1349280" cy="1587600"/>
          </a:xfrm>
          <a:custGeom>
            <a:avLst/>
            <a:gdLst>
              <a:gd name="textAreaLeft" fmla="*/ 360 w 1349280"/>
              <a:gd name="textAreaRight" fmla="*/ 1348920 w 1349280"/>
              <a:gd name="textAreaTop" fmla="*/ 360 h 1587600"/>
              <a:gd name="textAreaBottom" fmla="*/ 1587240 h 1587600"/>
            </a:gdLst>
            <a:ahLst/>
            <a:rect l="textAreaLeft" t="textAreaTop" r="textAreaRight" b="textAreaBottom"/>
            <a:pathLst>
              <a:path w="21600" h="25414">
                <a:moveTo>
                  <a:pt x="25" y="0"/>
                </a:moveTo>
                <a:arcTo wR="25" hR="25" stAng="16200000" swAng="-5400000"/>
                <a:lnTo>
                  <a:pt x="0" y="25389"/>
                </a:lnTo>
                <a:arcTo wR="25" hR="25" stAng="10800000" swAng="-5400000"/>
                <a:lnTo>
                  <a:pt x="21575" y="25414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4"/>
          <a:stretch/>
        </p:blipFill>
        <p:spPr>
          <a:xfrm>
            <a:off x="1262160" y="2262240"/>
            <a:ext cx="2949480" cy="75596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5"/>
          <a:stretch/>
        </p:blipFill>
        <p:spPr>
          <a:xfrm>
            <a:off x="1933560" y="282600"/>
            <a:ext cx="1365120" cy="1704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649680" y="237960"/>
            <a:ext cx="622764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0" y="-360"/>
            <a:ext cx="9389880" cy="6862680"/>
            <a:chOff x="0" y="-360"/>
            <a:chExt cx="9389880" cy="6862680"/>
          </a:xfrm>
        </p:grpSpPr>
        <p:sp>
          <p:nvSpPr>
            <p:cNvPr id="314" name=""/>
            <p:cNvSpPr/>
            <p:nvPr/>
          </p:nvSpPr>
          <p:spPr>
            <a:xfrm>
              <a:off x="2079000" y="4775400"/>
              <a:ext cx="7310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0" y="4802400"/>
              <a:ext cx="2066400" cy="2059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079000" y="-360"/>
              <a:ext cx="0" cy="4842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408480" y="359568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963720" y="3200400"/>
            <a:ext cx="2333520" cy="24098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0" y="4973760"/>
            <a:ext cx="2333520" cy="24098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5869080" y="337032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5"/>
          <a:stretch/>
        </p:blipFill>
        <p:spPr>
          <a:xfrm>
            <a:off x="7311960" y="343692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6"/>
          <a:stretch/>
        </p:blipFill>
        <p:spPr>
          <a:xfrm>
            <a:off x="5856120" y="2179800"/>
            <a:ext cx="1914840" cy="18856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7"/>
          <a:stretch/>
        </p:blipFill>
        <p:spPr>
          <a:xfrm>
            <a:off x="5896080" y="1001880"/>
            <a:ext cx="1914480" cy="18856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8"/>
          <a:stretch/>
        </p:blipFill>
        <p:spPr>
          <a:xfrm>
            <a:off x="7232760" y="224640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7311960" y="1068480"/>
            <a:ext cx="1914480" cy="18856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10"/>
          <a:stretch/>
        </p:blipFill>
        <p:spPr>
          <a:xfrm>
            <a:off x="2786040" y="5195880"/>
            <a:ext cx="1914480" cy="18860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0" y="2036880"/>
            <a:ext cx="1349280" cy="1349280"/>
          </a:xfrm>
          <a:prstGeom prst="roundRect">
            <a:avLst>
              <a:gd name="adj" fmla="val 1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4037040" y="3373560"/>
            <a:ext cx="2774880" cy="1584360"/>
            <a:chOff x="4037040" y="3373560"/>
            <a:chExt cx="2774880" cy="1584360"/>
          </a:xfrm>
        </p:grpSpPr>
        <p:sp>
          <p:nvSpPr>
            <p:cNvPr id="329" name=""/>
            <p:cNvSpPr/>
            <p:nvPr/>
          </p:nvSpPr>
          <p:spPr>
            <a:xfrm>
              <a:off x="4037040" y="4060800"/>
              <a:ext cx="2774880" cy="89712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330" name="" descr=""/>
            <p:cNvPicPr/>
            <p:nvPr/>
          </p:nvPicPr>
          <p:blipFill>
            <a:blip r:embed="rId11"/>
            <a:stretch/>
          </p:blipFill>
          <p:spPr>
            <a:xfrm>
              <a:off x="4889520" y="3373560"/>
              <a:ext cx="1022400" cy="8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"/>
          <p:cNvSpPr/>
          <p:nvPr/>
        </p:nvSpPr>
        <p:spPr>
          <a:xfrm>
            <a:off x="2476440" y="185760"/>
            <a:ext cx="7429680" cy="2135160"/>
          </a:xfrm>
          <a:prstGeom prst="roundRect">
            <a:avLst>
              <a:gd name="adj" fmla="val 74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2" name=""/>
          <p:cNvSpPr/>
          <p:nvPr/>
        </p:nvSpPr>
        <p:spPr>
          <a:xfrm>
            <a:off x="3649680" y="236520"/>
            <a:ext cx="618660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（きょうこさんの）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ひっこ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つだっ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げまし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3" name=""/>
          <p:cNvSpPr/>
          <p:nvPr/>
        </p:nvSpPr>
        <p:spPr>
          <a:xfrm>
            <a:off x="3665520" y="2846520"/>
            <a:ext cx="1523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4" name=""/>
          <p:cNvSpPr/>
          <p:nvPr/>
        </p:nvSpPr>
        <p:spPr>
          <a:xfrm>
            <a:off x="8085240" y="5691240"/>
            <a:ext cx="2031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2"/>
          <a:stretch/>
        </p:blipFill>
        <p:spPr>
          <a:xfrm>
            <a:off x="6067440" y="3538440"/>
            <a:ext cx="2495520" cy="75596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3"/>
          <a:stretch/>
        </p:blipFill>
        <p:spPr>
          <a:xfrm>
            <a:off x="0" y="254160"/>
            <a:ext cx="1784520" cy="35463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0" y="2306520"/>
            <a:ext cx="1349280" cy="1587600"/>
          </a:xfrm>
          <a:custGeom>
            <a:avLst/>
            <a:gdLst>
              <a:gd name="textAreaLeft" fmla="*/ 360 w 1349280"/>
              <a:gd name="textAreaRight" fmla="*/ 1348920 w 1349280"/>
              <a:gd name="textAreaTop" fmla="*/ 360 h 1587600"/>
              <a:gd name="textAreaBottom" fmla="*/ 1587240 h 1587600"/>
            </a:gdLst>
            <a:ahLst/>
            <a:rect l="textAreaLeft" t="textAreaTop" r="textAreaRight" b="textAreaBottom"/>
            <a:pathLst>
              <a:path w="21600" h="25414">
                <a:moveTo>
                  <a:pt x="25" y="0"/>
                </a:moveTo>
                <a:arcTo wR="25" hR="25" stAng="16200000" swAng="-5400000"/>
                <a:lnTo>
                  <a:pt x="0" y="25389"/>
                </a:lnTo>
                <a:arcTo wR="25" hR="25" stAng="10800000" swAng="-5400000"/>
                <a:lnTo>
                  <a:pt x="21575" y="25414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4"/>
          <a:stretch/>
        </p:blipFill>
        <p:spPr>
          <a:xfrm>
            <a:off x="1009800" y="2881440"/>
            <a:ext cx="2949480" cy="75596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15"/>
          <a:stretch/>
        </p:blipFill>
        <p:spPr>
          <a:xfrm>
            <a:off x="2292480" y="492120"/>
            <a:ext cx="1143000" cy="1303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649680" y="237960"/>
            <a:ext cx="622764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369720" y="1905120"/>
            <a:ext cx="9661680" cy="537984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4037040" y="2897280"/>
            <a:ext cx="1913040" cy="1201680"/>
            <a:chOff x="4037040" y="2897280"/>
            <a:chExt cx="1913040" cy="1201680"/>
          </a:xfrm>
        </p:grpSpPr>
        <p:sp>
          <p:nvSpPr>
            <p:cNvPr id="343" name=""/>
            <p:cNvSpPr/>
            <p:nvPr/>
          </p:nvSpPr>
          <p:spPr>
            <a:xfrm flipH="1">
              <a:off x="4037040" y="3419640"/>
              <a:ext cx="1913040" cy="67932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4658040" y="2897280"/>
              <a:ext cx="70236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"/>
          <p:cNvSpPr/>
          <p:nvPr/>
        </p:nvSpPr>
        <p:spPr>
          <a:xfrm>
            <a:off x="676440" y="146160"/>
            <a:ext cx="8199360" cy="1731960"/>
          </a:xfrm>
          <a:prstGeom prst="roundRect">
            <a:avLst>
              <a:gd name="adj" fmla="val 8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6" name=""/>
          <p:cNvSpPr/>
          <p:nvPr/>
        </p:nvSpPr>
        <p:spPr>
          <a:xfrm>
            <a:off x="1851120" y="198360"/>
            <a:ext cx="694692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べんきょう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しえ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もらいまし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239760" y="282600"/>
            <a:ext cx="1365120" cy="1704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1851120" y="198360"/>
            <a:ext cx="694692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69720" y="1905120"/>
            <a:ext cx="9661680" cy="5379840"/>
          </a:xfrm>
          <a:prstGeom prst="rect">
            <a:avLst/>
          </a:prstGeom>
          <a:ln w="0">
            <a:noFill/>
          </a:ln>
        </p:spPr>
      </p:pic>
      <p:grpSp>
        <p:nvGrpSpPr>
          <p:cNvPr id="350" name=""/>
          <p:cNvGrpSpPr/>
          <p:nvPr/>
        </p:nvGrpSpPr>
        <p:grpSpPr>
          <a:xfrm>
            <a:off x="4475160" y="2870280"/>
            <a:ext cx="1913040" cy="1201680"/>
            <a:chOff x="4475160" y="2870280"/>
            <a:chExt cx="1913040" cy="1201680"/>
          </a:xfrm>
        </p:grpSpPr>
        <p:sp>
          <p:nvSpPr>
            <p:cNvPr id="351" name=""/>
            <p:cNvSpPr/>
            <p:nvPr/>
          </p:nvSpPr>
          <p:spPr>
            <a:xfrm>
              <a:off x="4475160" y="3392640"/>
              <a:ext cx="1913040" cy="67932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352" name="" descr=""/>
            <p:cNvPicPr/>
            <p:nvPr/>
          </p:nvPicPr>
          <p:blipFill>
            <a:blip r:embed="rId2"/>
            <a:stretch/>
          </p:blipFill>
          <p:spPr>
            <a:xfrm>
              <a:off x="5064120" y="2870280"/>
              <a:ext cx="70488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3" name=""/>
          <p:cNvSpPr/>
          <p:nvPr/>
        </p:nvSpPr>
        <p:spPr>
          <a:xfrm>
            <a:off x="676440" y="146160"/>
            <a:ext cx="8199360" cy="1731960"/>
          </a:xfrm>
          <a:prstGeom prst="roundRect">
            <a:avLst>
              <a:gd name="adj" fmla="val 8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4" name=""/>
          <p:cNvSpPr/>
          <p:nvPr/>
        </p:nvSpPr>
        <p:spPr>
          <a:xfrm>
            <a:off x="1868400" y="249120"/>
            <a:ext cx="694692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（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）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べんきょう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しえ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れまし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239760" y="284040"/>
            <a:ext cx="1365120" cy="1704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866960" y="266760"/>
            <a:ext cx="6946920" cy="15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369720" y="1906560"/>
            <a:ext cx="9661680" cy="538020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4475160" y="2870280"/>
            <a:ext cx="1913040" cy="1201680"/>
            <a:chOff x="4475160" y="2870280"/>
            <a:chExt cx="1913040" cy="1201680"/>
          </a:xfrm>
        </p:grpSpPr>
        <p:sp>
          <p:nvSpPr>
            <p:cNvPr id="359" name=""/>
            <p:cNvSpPr/>
            <p:nvPr/>
          </p:nvSpPr>
          <p:spPr>
            <a:xfrm>
              <a:off x="4475160" y="3392640"/>
              <a:ext cx="1913040" cy="67932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360" name="" descr=""/>
            <p:cNvPicPr/>
            <p:nvPr/>
          </p:nvPicPr>
          <p:blipFill>
            <a:blip r:embed="rId2"/>
            <a:stretch/>
          </p:blipFill>
          <p:spPr>
            <a:xfrm>
              <a:off x="5064120" y="2870280"/>
              <a:ext cx="70488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1" name=""/>
          <p:cNvSpPr/>
          <p:nvPr/>
        </p:nvSpPr>
        <p:spPr>
          <a:xfrm>
            <a:off x="676440" y="146160"/>
            <a:ext cx="8199360" cy="1731960"/>
          </a:xfrm>
          <a:prstGeom prst="roundRect">
            <a:avLst>
              <a:gd name="adj" fmla="val 8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2" name=""/>
          <p:cNvSpPr/>
          <p:nvPr/>
        </p:nvSpPr>
        <p:spPr>
          <a:xfrm>
            <a:off x="1851120" y="198360"/>
            <a:ext cx="694692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べんきょう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しえ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げまし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274680" y="243000"/>
            <a:ext cx="1378080" cy="11779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851120" y="198360"/>
            <a:ext cx="694692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28640" y="2165400"/>
            <a:ext cx="8636040" cy="7047000"/>
            <a:chOff x="728640" y="2165400"/>
            <a:chExt cx="8636040" cy="70470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6919920" y="2165400"/>
              <a:ext cx="2444760" cy="70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728640" y="2690640"/>
              <a:ext cx="2921040" cy="652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 flipV="1">
              <a:off x="4083120" y="4170240"/>
              <a:ext cx="2332080" cy="3024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46160" y="5952960"/>
            <a:ext cx="5013360" cy="1362240"/>
          </a:xfrm>
          <a:prstGeom prst="roundRect">
            <a:avLst>
              <a:gd name="adj" fmla="val 2132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んじょうび、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めでとう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2" name=""/>
          <p:cNvSpPr/>
          <p:nvPr/>
        </p:nvSpPr>
        <p:spPr>
          <a:xfrm>
            <a:off x="6548400" y="6099120"/>
            <a:ext cx="3532320" cy="1243080"/>
          </a:xfrm>
          <a:prstGeom prst="roundRect">
            <a:avLst>
              <a:gd name="adj" fmla="val 1444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りがとう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3" name=""/>
          <p:cNvSpPr/>
          <p:nvPr/>
        </p:nvSpPr>
        <p:spPr>
          <a:xfrm>
            <a:off x="131760" y="2368440"/>
            <a:ext cx="1812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4" name=""/>
          <p:cNvSpPr/>
          <p:nvPr/>
        </p:nvSpPr>
        <p:spPr>
          <a:xfrm>
            <a:off x="5445000" y="2567160"/>
            <a:ext cx="1812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5" name=""/>
          <p:cNvSpPr/>
          <p:nvPr/>
        </p:nvSpPr>
        <p:spPr>
          <a:xfrm>
            <a:off x="687240" y="317520"/>
            <a:ext cx="9195120" cy="1111320"/>
          </a:xfrm>
          <a:prstGeom prst="roundRect">
            <a:avLst>
              <a:gd name="adj" fmla="val 13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6" name=""/>
          <p:cNvSpPr/>
          <p:nvPr/>
        </p:nvSpPr>
        <p:spPr>
          <a:xfrm>
            <a:off x="2036880" y="369720"/>
            <a:ext cx="609912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なつみ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プレゼント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げまし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93560" y="282600"/>
            <a:ext cx="1365480" cy="17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534440" y="2523960"/>
            <a:ext cx="2038320" cy="65516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2320920" y="3492360"/>
            <a:ext cx="2362320" cy="54514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1590840" y="4282920"/>
            <a:ext cx="1919160" cy="21243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5732640" y="5713560"/>
            <a:ext cx="4179600" cy="925200"/>
          </a:xfrm>
          <a:prstGeom prst="roundRect">
            <a:avLst>
              <a:gd name="adj" fmla="val 1941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9" name=""/>
          <p:cNvSpPr/>
          <p:nvPr/>
        </p:nvSpPr>
        <p:spPr>
          <a:xfrm>
            <a:off x="5992920" y="5951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ちましょう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0" name=""/>
          <p:cNvSpPr/>
          <p:nvPr/>
        </p:nvSpPr>
        <p:spPr>
          <a:xfrm>
            <a:off x="225360" y="5807160"/>
            <a:ext cx="4041720" cy="1349280"/>
          </a:xfrm>
          <a:prstGeom prst="roundRect">
            <a:avLst>
              <a:gd name="adj" fmla="val 1329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みません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ねがいし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1" name=""/>
          <p:cNvSpPr/>
          <p:nvPr/>
        </p:nvSpPr>
        <p:spPr>
          <a:xfrm>
            <a:off x="677880" y="173160"/>
            <a:ext cx="8199360" cy="1731960"/>
          </a:xfrm>
          <a:prstGeom prst="roundRect">
            <a:avLst>
              <a:gd name="adj" fmla="val 8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2" name=""/>
          <p:cNvSpPr/>
          <p:nvPr/>
        </p:nvSpPr>
        <p:spPr>
          <a:xfrm>
            <a:off x="2647800" y="347760"/>
            <a:ext cx="6946920" cy="15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         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en-US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)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ほ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っ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もらいまし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3" name=""/>
          <p:cNvSpPr/>
          <p:nvPr/>
        </p:nvSpPr>
        <p:spPr>
          <a:xfrm>
            <a:off x="2368440" y="317520"/>
            <a:ext cx="25275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>
            <a:off x="239760" y="284040"/>
            <a:ext cx="1365120" cy="17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622440" y="1955880"/>
            <a:ext cx="2038320" cy="65516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5513400" y="2922480"/>
            <a:ext cx="2362320" cy="54514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6473880" y="3436920"/>
            <a:ext cx="1919160" cy="2124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25360" y="3757680"/>
            <a:ext cx="4179960" cy="925560"/>
          </a:xfrm>
          <a:prstGeom prst="roundRect">
            <a:avLst>
              <a:gd name="adj" fmla="val 1941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9" name=""/>
          <p:cNvSpPr/>
          <p:nvPr/>
        </p:nvSpPr>
        <p:spPr>
          <a:xfrm>
            <a:off x="503280" y="394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ちましょう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0" name=""/>
          <p:cNvSpPr/>
          <p:nvPr/>
        </p:nvSpPr>
        <p:spPr>
          <a:xfrm>
            <a:off x="677880" y="147600"/>
            <a:ext cx="8199360" cy="1731960"/>
          </a:xfrm>
          <a:prstGeom prst="roundRect">
            <a:avLst>
              <a:gd name="adj" fmla="val 8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1" name=""/>
          <p:cNvSpPr/>
          <p:nvPr/>
        </p:nvSpPr>
        <p:spPr>
          <a:xfrm>
            <a:off x="2009880" y="237960"/>
            <a:ext cx="694692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en-US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)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ほ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っ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れまし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2" name=""/>
          <p:cNvSpPr/>
          <p:nvPr/>
        </p:nvSpPr>
        <p:spPr>
          <a:xfrm>
            <a:off x="2023920" y="252360"/>
            <a:ext cx="3049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239760" y="284040"/>
            <a:ext cx="1365120" cy="1704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5853240" y="5807160"/>
            <a:ext cx="4041720" cy="1349280"/>
          </a:xfrm>
          <a:prstGeom prst="roundRect">
            <a:avLst>
              <a:gd name="adj" fmla="val 1329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みません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ねがいし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dur="indefinite" fill="hold">
                      <p:stCondLst>
                        <p:cond delay="indefinite"/>
                      </p:stCondLst>
                      <p:childTnLst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723960" y="1955880"/>
            <a:ext cx="2038320" cy="655164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5513400" y="2986200"/>
            <a:ext cx="2362320" cy="54514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6448320" y="3500280"/>
            <a:ext cx="1919520" cy="21243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225360" y="3757680"/>
            <a:ext cx="4179960" cy="925560"/>
          </a:xfrm>
          <a:prstGeom prst="roundRect">
            <a:avLst>
              <a:gd name="adj" fmla="val 1941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9" name=""/>
          <p:cNvSpPr/>
          <p:nvPr/>
        </p:nvSpPr>
        <p:spPr>
          <a:xfrm>
            <a:off x="503280" y="394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ちましょう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0" name=""/>
          <p:cNvSpPr/>
          <p:nvPr/>
        </p:nvSpPr>
        <p:spPr>
          <a:xfrm>
            <a:off x="677880" y="147600"/>
            <a:ext cx="8199360" cy="1731960"/>
          </a:xfrm>
          <a:prstGeom prst="roundRect">
            <a:avLst>
              <a:gd name="adj" fmla="val 88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1" name=""/>
          <p:cNvSpPr/>
          <p:nvPr/>
        </p:nvSpPr>
        <p:spPr>
          <a:xfrm>
            <a:off x="2009880" y="237960"/>
            <a:ext cx="694692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en-US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)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ほ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っ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げまし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2" name=""/>
          <p:cNvSpPr/>
          <p:nvPr/>
        </p:nvSpPr>
        <p:spPr>
          <a:xfrm>
            <a:off x="2023920" y="252360"/>
            <a:ext cx="2538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770040" y="458640"/>
            <a:ext cx="1143000" cy="13035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2009880" y="237960"/>
            <a:ext cx="694692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5" name=""/>
          <p:cNvSpPr/>
          <p:nvPr/>
        </p:nvSpPr>
        <p:spPr>
          <a:xfrm>
            <a:off x="5853240" y="5807160"/>
            <a:ext cx="4041720" cy="1349280"/>
          </a:xfrm>
          <a:prstGeom prst="roundRect">
            <a:avLst>
              <a:gd name="adj" fmla="val 1329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すみません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ねがいし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1711440" y="190440"/>
            <a:ext cx="2422440" cy="15480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152280" y="239760"/>
            <a:ext cx="1347840" cy="495360"/>
          </a:xfrm>
          <a:prstGeom prst="roundRect">
            <a:avLst>
              <a:gd name="adj" fmla="val 36218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これ、どうぞ。</a:t>
            </a:r>
            <a:endParaRPr b="0" lang="en-US" sz="1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8" name=""/>
          <p:cNvSpPr/>
          <p:nvPr/>
        </p:nvSpPr>
        <p:spPr>
          <a:xfrm>
            <a:off x="2805120" y="773280"/>
            <a:ext cx="1289160" cy="682560"/>
          </a:xfrm>
          <a:prstGeom prst="roundRect">
            <a:avLst>
              <a:gd name="adj" fmla="val 2627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りがとう</a:t>
            </a:r>
            <a:endParaRPr b="0" lang="en-US" sz="1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YOzFontNP04"/>
                <a:ea typeface="YOzFontNP04"/>
              </a:rPr>
              <a:t>ございます。</a:t>
            </a:r>
            <a:endParaRPr b="0" lang="en-US" sz="1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439560" y="1058760"/>
            <a:ext cx="1146240" cy="2660760"/>
            <a:chOff x="439560" y="1058760"/>
            <a:chExt cx="1146240" cy="2660760"/>
          </a:xfrm>
        </p:grpSpPr>
        <p:pic>
          <p:nvPicPr>
            <p:cNvPr id="400" name="" descr=""/>
            <p:cNvPicPr/>
            <p:nvPr/>
          </p:nvPicPr>
          <p:blipFill>
            <a:blip r:embed="rId2"/>
            <a:stretch/>
          </p:blipFill>
          <p:spPr>
            <a:xfrm>
              <a:off x="439560" y="1058760"/>
              <a:ext cx="1101960" cy="266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/>
            <p:cNvPicPr/>
            <p:nvPr/>
          </p:nvPicPr>
          <p:blipFill>
            <a:blip r:embed="rId3"/>
            <a:stretch/>
          </p:blipFill>
          <p:spPr>
            <a:xfrm>
              <a:off x="1181160" y="1655640"/>
              <a:ext cx="404640" cy="1217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1998720" y="1135080"/>
            <a:ext cx="1116000" cy="27446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5"/>
          <a:stretch/>
        </p:blipFill>
        <p:spPr>
          <a:xfrm>
            <a:off x="2349360" y="703440"/>
            <a:ext cx="497160" cy="5680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6"/>
          <a:stretch/>
        </p:blipFill>
        <p:spPr>
          <a:xfrm>
            <a:off x="3835440" y="3219480"/>
            <a:ext cx="1219320" cy="41068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7"/>
          <a:stretch/>
        </p:blipFill>
        <p:spPr>
          <a:xfrm>
            <a:off x="5419800" y="2349360"/>
            <a:ext cx="3362400" cy="2148120"/>
          </a:xfrm>
          <a:prstGeom prst="rect">
            <a:avLst/>
          </a:prstGeom>
          <a:ln w="0">
            <a:noFill/>
          </a:ln>
        </p:spPr>
      </p:pic>
      <p:grpSp>
        <p:nvGrpSpPr>
          <p:cNvPr id="406" name=""/>
          <p:cNvGrpSpPr/>
          <p:nvPr/>
        </p:nvGrpSpPr>
        <p:grpSpPr>
          <a:xfrm>
            <a:off x="6165720" y="2763720"/>
            <a:ext cx="2452680" cy="3299040"/>
            <a:chOff x="6165720" y="2763720"/>
            <a:chExt cx="2452680" cy="3299040"/>
          </a:xfrm>
        </p:grpSpPr>
        <p:pic>
          <p:nvPicPr>
            <p:cNvPr id="407" name="" descr=""/>
            <p:cNvPicPr/>
            <p:nvPr/>
          </p:nvPicPr>
          <p:blipFill>
            <a:blip r:embed="rId8"/>
            <a:stretch/>
          </p:blipFill>
          <p:spPr>
            <a:xfrm>
              <a:off x="6165720" y="3197160"/>
              <a:ext cx="149076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9"/>
            <a:stretch/>
          </p:blipFill>
          <p:spPr>
            <a:xfrm>
              <a:off x="6432480" y="2763720"/>
              <a:ext cx="2185920" cy="140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"/>
          <p:cNvSpPr/>
          <p:nvPr/>
        </p:nvSpPr>
        <p:spPr>
          <a:xfrm>
            <a:off x="6148440" y="4429080"/>
            <a:ext cx="2630520" cy="73080"/>
          </a:xfrm>
          <a:prstGeom prst="roundRect">
            <a:avLst>
              <a:gd name="adj" fmla="val 2171"/>
            </a:avLst>
          </a:prstGeom>
          <a:solidFill>
            <a:srgbClr val="4c1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0" name=""/>
          <p:cNvSpPr/>
          <p:nvPr/>
        </p:nvSpPr>
        <p:spPr>
          <a:xfrm>
            <a:off x="6184800" y="4429080"/>
            <a:ext cx="2716200" cy="3003480"/>
          </a:xfrm>
          <a:custGeom>
            <a:avLst/>
            <a:gdLst>
              <a:gd name="textAreaLeft" fmla="*/ 360 w 2716200"/>
              <a:gd name="textAreaRight" fmla="*/ 2715840 w 2716200"/>
              <a:gd name="textAreaTop" fmla="*/ 360 h 3003480"/>
              <a:gd name="textAreaBottom" fmla="*/ 3003120 h 3003480"/>
            </a:gdLst>
            <a:ahLst/>
            <a:rect l="textAreaLeft" t="textAreaTop" r="textAreaRight" b="textAreaBottom"/>
            <a:pathLst>
              <a:path w="21600" h="23884">
                <a:moveTo>
                  <a:pt x="12" y="0"/>
                </a:moveTo>
                <a:arcTo wR="12" hR="12" stAng="16200000" swAng="-5400000"/>
                <a:lnTo>
                  <a:pt x="0" y="23872"/>
                </a:lnTo>
                <a:arcTo wR="12" hR="12" stAng="10800000" swAng="-5400000"/>
                <a:lnTo>
                  <a:pt x="21588" y="23884"/>
                </a:lnTo>
                <a:arcTo wR="12" hR="12" stAng="5400000" swAng="-5400000"/>
                <a:lnTo>
                  <a:pt x="21600" y="12"/>
                </a:lnTo>
                <a:arcTo wR="12" hR="1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795840" y="5083200"/>
            <a:ext cx="6280200" cy="2127240"/>
            <a:chOff x="3795840" y="5083200"/>
            <a:chExt cx="6280200" cy="2127240"/>
          </a:xfrm>
        </p:grpSpPr>
        <p:sp>
          <p:nvSpPr>
            <p:cNvPr id="412" name=""/>
            <p:cNvSpPr/>
            <p:nvPr/>
          </p:nvSpPr>
          <p:spPr>
            <a:xfrm>
              <a:off x="3795840" y="5083200"/>
              <a:ext cx="6280200" cy="2127240"/>
            </a:xfrm>
            <a:prstGeom prst="roundRect">
              <a:avLst>
                <a:gd name="adj" fmla="val 2145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33080"/>
                  <a:tab algn="l" pos="9882360"/>
                  <a:tab algn="l" pos="10331280"/>
                  <a:tab algn="l" pos="10780560"/>
                  <a:tab algn="l" pos="1078236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	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775040" y="5334120"/>
              <a:ext cx="20289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640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わたし</a:t>
              </a:r>
              <a:r>
                <a:rPr b="0" lang="ja-JP" sz="4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は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987720" y="5889600"/>
            <a:ext cx="6416640" cy="1247760"/>
            <a:chOff x="3987720" y="5889600"/>
            <a:chExt cx="6416640" cy="1247760"/>
          </a:xfrm>
        </p:grpSpPr>
        <p:sp>
          <p:nvSpPr>
            <p:cNvPr id="415" name=""/>
            <p:cNvSpPr/>
            <p:nvPr/>
          </p:nvSpPr>
          <p:spPr>
            <a:xfrm>
              <a:off x="3987720" y="5889600"/>
              <a:ext cx="6416640" cy="12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640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ロランさん</a:t>
              </a:r>
              <a:r>
                <a:rPr b="0" lang="ja-JP" sz="4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に </a:t>
              </a: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かさ</a:t>
              </a:r>
              <a:r>
                <a:rPr b="0" lang="ja-JP" sz="4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を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かしてあげました</a:t>
              </a: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0"/>
          <a:stretch/>
        </p:blipFill>
        <p:spPr>
          <a:xfrm>
            <a:off x="2246400" y="5396040"/>
            <a:ext cx="1365120" cy="17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dur="indefinite" fill="hold">
                      <p:stCondLst>
                        <p:cond delay="indefinite"/>
                      </p:stCondLst>
                      <p:childTnLst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1711440" y="190440"/>
            <a:ext cx="2422440" cy="154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52280" y="239760"/>
            <a:ext cx="1347840" cy="495360"/>
          </a:xfrm>
          <a:prstGeom prst="roundRect">
            <a:avLst>
              <a:gd name="adj" fmla="val 36218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これ、どうぞ。</a:t>
            </a:r>
            <a:endParaRPr b="0" lang="en-US" sz="1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9" name=""/>
          <p:cNvSpPr/>
          <p:nvPr/>
        </p:nvSpPr>
        <p:spPr>
          <a:xfrm>
            <a:off x="2805120" y="773280"/>
            <a:ext cx="1289160" cy="682560"/>
          </a:xfrm>
          <a:prstGeom prst="roundRect">
            <a:avLst>
              <a:gd name="adj" fmla="val 2627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りがとう</a:t>
            </a:r>
            <a:endParaRPr b="0" lang="en-US" sz="1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YOzFontNP04"/>
                <a:ea typeface="YOzFontNP04"/>
              </a:rPr>
              <a:t>ございます。</a:t>
            </a:r>
            <a:endParaRPr b="0" lang="en-US" sz="1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439560" y="1058760"/>
            <a:ext cx="1146240" cy="2660760"/>
            <a:chOff x="439560" y="1058760"/>
            <a:chExt cx="1146240" cy="2660760"/>
          </a:xfrm>
        </p:grpSpPr>
        <p:pic>
          <p:nvPicPr>
            <p:cNvPr id="421" name="" descr=""/>
            <p:cNvPicPr/>
            <p:nvPr/>
          </p:nvPicPr>
          <p:blipFill>
            <a:blip r:embed="rId2"/>
            <a:stretch/>
          </p:blipFill>
          <p:spPr>
            <a:xfrm>
              <a:off x="439560" y="1058760"/>
              <a:ext cx="1101960" cy="266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3"/>
            <a:stretch/>
          </p:blipFill>
          <p:spPr>
            <a:xfrm>
              <a:off x="1181160" y="1655640"/>
              <a:ext cx="404640" cy="1217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3" name="" descr=""/>
          <p:cNvPicPr/>
          <p:nvPr/>
        </p:nvPicPr>
        <p:blipFill>
          <a:blip r:embed="rId4"/>
          <a:stretch/>
        </p:blipFill>
        <p:spPr>
          <a:xfrm>
            <a:off x="1998720" y="1135080"/>
            <a:ext cx="1116000" cy="274464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5"/>
          <a:stretch/>
        </p:blipFill>
        <p:spPr>
          <a:xfrm>
            <a:off x="2349360" y="703440"/>
            <a:ext cx="497160" cy="5680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6"/>
          <a:stretch/>
        </p:blipFill>
        <p:spPr>
          <a:xfrm>
            <a:off x="3835440" y="3219480"/>
            <a:ext cx="1219320" cy="410688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7"/>
          <a:stretch/>
        </p:blipFill>
        <p:spPr>
          <a:xfrm>
            <a:off x="5419800" y="2349360"/>
            <a:ext cx="3362400" cy="2148120"/>
          </a:xfrm>
          <a:prstGeom prst="rect">
            <a:avLst/>
          </a:prstGeom>
          <a:ln w="0">
            <a:noFill/>
          </a:ln>
        </p:spPr>
      </p:pic>
      <p:grpSp>
        <p:nvGrpSpPr>
          <p:cNvPr id="427" name=""/>
          <p:cNvGrpSpPr/>
          <p:nvPr/>
        </p:nvGrpSpPr>
        <p:grpSpPr>
          <a:xfrm>
            <a:off x="6165720" y="2763720"/>
            <a:ext cx="2452680" cy="3299040"/>
            <a:chOff x="6165720" y="2763720"/>
            <a:chExt cx="2452680" cy="3299040"/>
          </a:xfrm>
        </p:grpSpPr>
        <p:pic>
          <p:nvPicPr>
            <p:cNvPr id="428" name="" descr=""/>
            <p:cNvPicPr/>
            <p:nvPr/>
          </p:nvPicPr>
          <p:blipFill>
            <a:blip r:embed="rId8"/>
            <a:stretch/>
          </p:blipFill>
          <p:spPr>
            <a:xfrm>
              <a:off x="6165720" y="3197160"/>
              <a:ext cx="149076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9"/>
            <a:stretch/>
          </p:blipFill>
          <p:spPr>
            <a:xfrm>
              <a:off x="6432480" y="2763720"/>
              <a:ext cx="2185920" cy="140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0" name=""/>
          <p:cNvSpPr/>
          <p:nvPr/>
        </p:nvSpPr>
        <p:spPr>
          <a:xfrm>
            <a:off x="6148440" y="4429080"/>
            <a:ext cx="2630520" cy="73080"/>
          </a:xfrm>
          <a:prstGeom prst="roundRect">
            <a:avLst>
              <a:gd name="adj" fmla="val 2171"/>
            </a:avLst>
          </a:prstGeom>
          <a:solidFill>
            <a:srgbClr val="4c1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31" name=""/>
          <p:cNvSpPr/>
          <p:nvPr/>
        </p:nvSpPr>
        <p:spPr>
          <a:xfrm>
            <a:off x="6184800" y="4429080"/>
            <a:ext cx="2716200" cy="3003480"/>
          </a:xfrm>
          <a:custGeom>
            <a:avLst/>
            <a:gdLst>
              <a:gd name="textAreaLeft" fmla="*/ 360 w 2716200"/>
              <a:gd name="textAreaRight" fmla="*/ 2715840 w 2716200"/>
              <a:gd name="textAreaTop" fmla="*/ 360 h 3003480"/>
              <a:gd name="textAreaBottom" fmla="*/ 3003120 h 3003480"/>
            </a:gdLst>
            <a:ahLst/>
            <a:rect l="textAreaLeft" t="textAreaTop" r="textAreaRight" b="textAreaBottom"/>
            <a:pathLst>
              <a:path w="21600" h="23884">
                <a:moveTo>
                  <a:pt x="12" y="0"/>
                </a:moveTo>
                <a:arcTo wR="12" hR="12" stAng="16200000" swAng="-5400000"/>
                <a:lnTo>
                  <a:pt x="0" y="23872"/>
                </a:lnTo>
                <a:arcTo wR="12" hR="12" stAng="10800000" swAng="-5400000"/>
                <a:lnTo>
                  <a:pt x="21588" y="23884"/>
                </a:lnTo>
                <a:arcTo wR="12" hR="12" stAng="5400000" swAng="-5400000"/>
                <a:lnTo>
                  <a:pt x="21600" y="12"/>
                </a:lnTo>
                <a:arcTo wR="12" hR="1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795840" y="5083200"/>
            <a:ext cx="6280200" cy="2127240"/>
            <a:chOff x="3795840" y="5083200"/>
            <a:chExt cx="6280200" cy="2127240"/>
          </a:xfrm>
        </p:grpSpPr>
        <p:sp>
          <p:nvSpPr>
            <p:cNvPr id="433" name=""/>
            <p:cNvSpPr/>
            <p:nvPr/>
          </p:nvSpPr>
          <p:spPr>
            <a:xfrm>
              <a:off x="3795840" y="5083200"/>
              <a:ext cx="6280200" cy="2127240"/>
            </a:xfrm>
            <a:prstGeom prst="roundRect">
              <a:avLst>
                <a:gd name="adj" fmla="val 2145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33080"/>
                  <a:tab algn="l" pos="9882360"/>
                  <a:tab algn="l" pos="10331280"/>
                  <a:tab algn="l" pos="10780560"/>
                  <a:tab algn="l" pos="1078236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	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775040" y="5334120"/>
              <a:ext cx="20289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640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わたし</a:t>
              </a:r>
              <a:r>
                <a:rPr b="0" lang="ja-JP" sz="4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は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127400" y="5977080"/>
            <a:ext cx="6416640" cy="1247760"/>
            <a:chOff x="4127400" y="5977080"/>
            <a:chExt cx="6416640" cy="1247760"/>
          </a:xfrm>
        </p:grpSpPr>
        <p:sp>
          <p:nvSpPr>
            <p:cNvPr id="436" name=""/>
            <p:cNvSpPr/>
            <p:nvPr/>
          </p:nvSpPr>
          <p:spPr>
            <a:xfrm>
              <a:off x="4127400" y="5977080"/>
              <a:ext cx="6416640" cy="12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640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きょうこさん</a:t>
              </a:r>
              <a:r>
                <a:rPr b="0" lang="ja-JP" sz="4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に </a:t>
              </a: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かさ</a:t>
              </a:r>
              <a:r>
                <a:rPr b="0" lang="ja-JP" sz="4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を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かしてもらいました</a:t>
              </a: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437" name="" descr=""/>
          <p:cNvPicPr/>
          <p:nvPr/>
        </p:nvPicPr>
        <p:blipFill>
          <a:blip r:embed="rId10"/>
          <a:stretch/>
        </p:blipFill>
        <p:spPr>
          <a:xfrm>
            <a:off x="2639880" y="5705640"/>
            <a:ext cx="1143000" cy="130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1711440" y="190440"/>
            <a:ext cx="2422440" cy="15480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152280" y="239760"/>
            <a:ext cx="1347840" cy="495360"/>
          </a:xfrm>
          <a:prstGeom prst="roundRect">
            <a:avLst>
              <a:gd name="adj" fmla="val 36218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これ、どうぞ。</a:t>
            </a:r>
            <a:endParaRPr b="0" lang="en-US" sz="1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0" name=""/>
          <p:cNvSpPr/>
          <p:nvPr/>
        </p:nvSpPr>
        <p:spPr>
          <a:xfrm>
            <a:off x="2805120" y="773280"/>
            <a:ext cx="1289160" cy="682560"/>
          </a:xfrm>
          <a:prstGeom prst="roundRect">
            <a:avLst>
              <a:gd name="adj" fmla="val 2627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りがとう</a:t>
            </a:r>
            <a:endParaRPr b="0" lang="en-US" sz="1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YOzFontNP04"/>
                <a:ea typeface="YOzFontNP04"/>
              </a:rPr>
              <a:t>ございます。</a:t>
            </a:r>
            <a:endParaRPr b="0" lang="en-US" sz="1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39560" y="1058760"/>
            <a:ext cx="1146240" cy="2660760"/>
            <a:chOff x="439560" y="1058760"/>
            <a:chExt cx="1146240" cy="2660760"/>
          </a:xfrm>
        </p:grpSpPr>
        <p:pic>
          <p:nvPicPr>
            <p:cNvPr id="442" name="" descr=""/>
            <p:cNvPicPr/>
            <p:nvPr/>
          </p:nvPicPr>
          <p:blipFill>
            <a:blip r:embed="rId2"/>
            <a:stretch/>
          </p:blipFill>
          <p:spPr>
            <a:xfrm>
              <a:off x="439560" y="1058760"/>
              <a:ext cx="1101960" cy="266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" descr=""/>
            <p:cNvPicPr/>
            <p:nvPr/>
          </p:nvPicPr>
          <p:blipFill>
            <a:blip r:embed="rId3"/>
            <a:stretch/>
          </p:blipFill>
          <p:spPr>
            <a:xfrm>
              <a:off x="1181160" y="1655640"/>
              <a:ext cx="404640" cy="1217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1998720" y="1135080"/>
            <a:ext cx="1116000" cy="274464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5"/>
          <a:stretch/>
        </p:blipFill>
        <p:spPr>
          <a:xfrm>
            <a:off x="2349360" y="703440"/>
            <a:ext cx="497160" cy="5680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6"/>
          <a:stretch/>
        </p:blipFill>
        <p:spPr>
          <a:xfrm>
            <a:off x="3835440" y="3219480"/>
            <a:ext cx="1219320" cy="410688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7"/>
          <a:stretch/>
        </p:blipFill>
        <p:spPr>
          <a:xfrm>
            <a:off x="5419800" y="2349360"/>
            <a:ext cx="3362400" cy="214812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6165720" y="2763720"/>
            <a:ext cx="2452680" cy="3299040"/>
            <a:chOff x="6165720" y="2763720"/>
            <a:chExt cx="2452680" cy="3299040"/>
          </a:xfrm>
        </p:grpSpPr>
        <p:pic>
          <p:nvPicPr>
            <p:cNvPr id="449" name="" descr=""/>
            <p:cNvPicPr/>
            <p:nvPr/>
          </p:nvPicPr>
          <p:blipFill>
            <a:blip r:embed="rId8"/>
            <a:stretch/>
          </p:blipFill>
          <p:spPr>
            <a:xfrm>
              <a:off x="6165720" y="3197160"/>
              <a:ext cx="149076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9"/>
            <a:stretch/>
          </p:blipFill>
          <p:spPr>
            <a:xfrm>
              <a:off x="6432480" y="2763720"/>
              <a:ext cx="2185920" cy="140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1" name=""/>
          <p:cNvSpPr/>
          <p:nvPr/>
        </p:nvSpPr>
        <p:spPr>
          <a:xfrm>
            <a:off x="6148440" y="4429080"/>
            <a:ext cx="2630520" cy="73080"/>
          </a:xfrm>
          <a:prstGeom prst="roundRect">
            <a:avLst>
              <a:gd name="adj" fmla="val 2171"/>
            </a:avLst>
          </a:prstGeom>
          <a:solidFill>
            <a:srgbClr val="4c1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2" name=""/>
          <p:cNvSpPr/>
          <p:nvPr/>
        </p:nvSpPr>
        <p:spPr>
          <a:xfrm>
            <a:off x="6184800" y="4429080"/>
            <a:ext cx="2716200" cy="3003480"/>
          </a:xfrm>
          <a:custGeom>
            <a:avLst/>
            <a:gdLst>
              <a:gd name="textAreaLeft" fmla="*/ 360 w 2716200"/>
              <a:gd name="textAreaRight" fmla="*/ 2715840 w 2716200"/>
              <a:gd name="textAreaTop" fmla="*/ 360 h 3003480"/>
              <a:gd name="textAreaBottom" fmla="*/ 3003120 h 3003480"/>
            </a:gdLst>
            <a:ahLst/>
            <a:rect l="textAreaLeft" t="textAreaTop" r="textAreaRight" b="textAreaBottom"/>
            <a:pathLst>
              <a:path w="21600" h="23884">
                <a:moveTo>
                  <a:pt x="12" y="0"/>
                </a:moveTo>
                <a:arcTo wR="12" hR="12" stAng="16200000" swAng="-5400000"/>
                <a:lnTo>
                  <a:pt x="0" y="23872"/>
                </a:lnTo>
                <a:arcTo wR="12" hR="12" stAng="10800000" swAng="-5400000"/>
                <a:lnTo>
                  <a:pt x="21588" y="23884"/>
                </a:lnTo>
                <a:arcTo wR="12" hR="12" stAng="5400000" swAng="-5400000"/>
                <a:lnTo>
                  <a:pt x="21600" y="12"/>
                </a:lnTo>
                <a:arcTo wR="12" hR="1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3795840" y="5083200"/>
            <a:ext cx="6280200" cy="2127240"/>
            <a:chOff x="3795840" y="5083200"/>
            <a:chExt cx="6280200" cy="2127240"/>
          </a:xfrm>
        </p:grpSpPr>
        <p:sp>
          <p:nvSpPr>
            <p:cNvPr id="454" name=""/>
            <p:cNvSpPr/>
            <p:nvPr/>
          </p:nvSpPr>
          <p:spPr>
            <a:xfrm>
              <a:off x="3795840" y="5083200"/>
              <a:ext cx="6280200" cy="2127240"/>
            </a:xfrm>
            <a:prstGeom prst="roundRect">
              <a:avLst>
                <a:gd name="adj" fmla="val 2145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5040" bIns="0" anchor="ctr" anchorCtr="1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33080"/>
                  <a:tab algn="l" pos="9882360"/>
                  <a:tab algn="l" pos="10331280"/>
                  <a:tab algn="l" pos="10780560"/>
                  <a:tab algn="l" pos="1078236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	</a:t>
              </a:r>
              <a:endParaRPr b="0" lang="en-US" sz="4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75040" y="5334120"/>
              <a:ext cx="35528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640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きょうこさん</a:t>
              </a:r>
              <a:r>
                <a:rPr b="0" lang="ja-JP" sz="4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は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4254480" y="5964120"/>
            <a:ext cx="6416640" cy="1247760"/>
            <a:chOff x="4254480" y="5964120"/>
            <a:chExt cx="6416640" cy="1247760"/>
          </a:xfrm>
        </p:grpSpPr>
        <p:sp>
          <p:nvSpPr>
            <p:cNvPr id="457" name=""/>
            <p:cNvSpPr/>
            <p:nvPr/>
          </p:nvSpPr>
          <p:spPr>
            <a:xfrm>
              <a:off x="4254480" y="5964120"/>
              <a:ext cx="6416640" cy="12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640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（わたし</a:t>
              </a:r>
              <a:r>
                <a:rPr b="0" lang="ja-JP" sz="4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に</a:t>
              </a: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）かさ</a:t>
              </a:r>
              <a:r>
                <a:rPr b="0" lang="ja-JP" sz="4000" spc="-1" strike="noStrike">
                  <a:solidFill>
                    <a:srgbClr val="800000"/>
                  </a:solidFill>
                  <a:latin typeface="YOzFontNP04"/>
                  <a:ea typeface="YOzFontNP04"/>
                </a:rPr>
                <a:t>を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かしてくれました</a:t>
              </a: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458" name="" descr=""/>
          <p:cNvPicPr/>
          <p:nvPr/>
        </p:nvPicPr>
        <p:blipFill>
          <a:blip r:embed="rId10"/>
          <a:stretch/>
        </p:blipFill>
        <p:spPr>
          <a:xfrm>
            <a:off x="2639880" y="5584680"/>
            <a:ext cx="1143000" cy="13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6146640" y="2762280"/>
            <a:ext cx="2619360" cy="66675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938160" y="3273480"/>
            <a:ext cx="2408400" cy="68896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673200" y="5029200"/>
            <a:ext cx="2674800" cy="882720"/>
          </a:xfrm>
          <a:prstGeom prst="roundRect">
            <a:avLst>
              <a:gd name="adj" fmla="val 176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2" name=""/>
          <p:cNvSpPr/>
          <p:nvPr/>
        </p:nvSpPr>
        <p:spPr>
          <a:xfrm>
            <a:off x="6429240" y="4622760"/>
            <a:ext cx="2675160" cy="882720"/>
          </a:xfrm>
          <a:prstGeom prst="roundRect">
            <a:avLst>
              <a:gd name="adj" fmla="val 176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やまださ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3" name=""/>
          <p:cNvSpPr/>
          <p:nvPr/>
        </p:nvSpPr>
        <p:spPr>
          <a:xfrm>
            <a:off x="515880" y="266760"/>
            <a:ext cx="9217080" cy="1512720"/>
          </a:xfrm>
          <a:prstGeom prst="roundRect">
            <a:avLst>
              <a:gd name="adj" fmla="val 10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やまださ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コーヒー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れて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もらいました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dur="indefinite" fill="hold">
                      <p:stCondLst>
                        <p:cond delay="indefinite"/>
                      </p:stCondLst>
                      <p:childTnLst>
                        <p:par>
                          <p:cTn id="2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515880" y="266760"/>
            <a:ext cx="9217080" cy="1512720"/>
          </a:xfrm>
          <a:prstGeom prst="roundRect">
            <a:avLst>
              <a:gd name="adj" fmla="val 10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やまださ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コーヒー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れて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れました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835200" y="2851200"/>
            <a:ext cx="2619360" cy="66675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6210360" y="3146400"/>
            <a:ext cx="2227320" cy="637236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6429240" y="5029200"/>
            <a:ext cx="2675160" cy="882720"/>
          </a:xfrm>
          <a:prstGeom prst="roundRect">
            <a:avLst>
              <a:gd name="adj" fmla="val 176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8" name=""/>
          <p:cNvSpPr/>
          <p:nvPr/>
        </p:nvSpPr>
        <p:spPr>
          <a:xfrm>
            <a:off x="673200" y="4622760"/>
            <a:ext cx="2674800" cy="882720"/>
          </a:xfrm>
          <a:prstGeom prst="roundRect">
            <a:avLst>
              <a:gd name="adj" fmla="val 176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やまださ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dur="indefinite" fill="hold">
                      <p:stCondLst>
                        <p:cond delay="indefinite"/>
                      </p:stCondLst>
                      <p:childTnLst>
                        <p:par>
                          <p:cTn id="2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566720" y="5294160"/>
            <a:ext cx="2192400" cy="1116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70" name=""/>
          <p:cNvSpPr/>
          <p:nvPr/>
        </p:nvSpPr>
        <p:spPr>
          <a:xfrm>
            <a:off x="1123920" y="3873600"/>
            <a:ext cx="1515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もだち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71" name=""/>
          <p:cNvSpPr/>
          <p:nvPr/>
        </p:nvSpPr>
        <p:spPr>
          <a:xfrm>
            <a:off x="3905280" y="2881440"/>
            <a:ext cx="23544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わたし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72" name=""/>
          <p:cNvSpPr/>
          <p:nvPr/>
        </p:nvSpPr>
        <p:spPr>
          <a:xfrm>
            <a:off x="1139760" y="5865840"/>
            <a:ext cx="2963880" cy="806400"/>
          </a:xfrm>
          <a:prstGeom prst="roundRect">
            <a:avLst>
              <a:gd name="adj" fmla="val 194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れま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73" name=""/>
          <p:cNvSpPr/>
          <p:nvPr/>
        </p:nvSpPr>
        <p:spPr>
          <a:xfrm>
            <a:off x="5491080" y="6456240"/>
            <a:ext cx="2963880" cy="806400"/>
          </a:xfrm>
          <a:prstGeom prst="roundRect">
            <a:avLst>
              <a:gd name="adj" fmla="val 194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らいま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74" name=""/>
          <p:cNvSpPr/>
          <p:nvPr/>
        </p:nvSpPr>
        <p:spPr>
          <a:xfrm>
            <a:off x="5900760" y="4680000"/>
            <a:ext cx="2116080" cy="674640"/>
          </a:xfrm>
          <a:prstGeom prst="roundRect">
            <a:avLst>
              <a:gd name="adj" fmla="val 231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げ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75" name=""/>
          <p:cNvSpPr/>
          <p:nvPr/>
        </p:nvSpPr>
        <p:spPr>
          <a:xfrm>
            <a:off x="2220840" y="3746520"/>
            <a:ext cx="693720" cy="630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は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76" name=""/>
          <p:cNvSpPr/>
          <p:nvPr/>
        </p:nvSpPr>
        <p:spPr>
          <a:xfrm>
            <a:off x="5021280" y="3830760"/>
            <a:ext cx="693720" cy="630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は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77" name=""/>
          <p:cNvSpPr/>
          <p:nvPr/>
        </p:nvSpPr>
        <p:spPr>
          <a:xfrm>
            <a:off x="3552840" y="3784680"/>
            <a:ext cx="693720" cy="630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に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78" name=""/>
          <p:cNvSpPr/>
          <p:nvPr/>
        </p:nvSpPr>
        <p:spPr>
          <a:xfrm>
            <a:off x="8015400" y="3992400"/>
            <a:ext cx="693720" cy="630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に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4105440" y="3867120"/>
            <a:ext cx="1112760" cy="37800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6748560" y="4102200"/>
            <a:ext cx="1515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もだち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81" name=""/>
          <p:cNvSpPr/>
          <p:nvPr/>
        </p:nvSpPr>
        <p:spPr>
          <a:xfrm flipH="1" flipV="1">
            <a:off x="6232680" y="6224760"/>
            <a:ext cx="2427120" cy="79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82" name=""/>
          <p:cNvSpPr/>
          <p:nvPr/>
        </p:nvSpPr>
        <p:spPr>
          <a:xfrm>
            <a:off x="6246720" y="5556240"/>
            <a:ext cx="2433600" cy="158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086440" y="2055960"/>
            <a:ext cx="2295360" cy="16365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353200" y="2195640"/>
            <a:ext cx="2295360" cy="1636560"/>
          </a:xfrm>
          <a:prstGeom prst="line">
            <a:avLst/>
          </a:prstGeom>
          <a:ln w="720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1959120" y="2112480"/>
            <a:ext cx="2288880" cy="1616040"/>
          </a:xfrm>
          <a:prstGeom prst="line">
            <a:avLst/>
          </a:prstGeom>
          <a:ln w="720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8298000" y="165240"/>
            <a:ext cx="1141200" cy="288288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3"/>
          <a:stretch/>
        </p:blipFill>
        <p:spPr>
          <a:xfrm>
            <a:off x="387360" y="216000"/>
            <a:ext cx="1141560" cy="28828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757520" y="285840"/>
            <a:ext cx="1828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先生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きゃく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89" name=""/>
          <p:cNvSpPr/>
          <p:nvPr/>
        </p:nvSpPr>
        <p:spPr>
          <a:xfrm>
            <a:off x="2322360" y="1649520"/>
            <a:ext cx="693720" cy="630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は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90" name=""/>
          <p:cNvSpPr/>
          <p:nvPr/>
        </p:nvSpPr>
        <p:spPr>
          <a:xfrm>
            <a:off x="7616880" y="1573200"/>
            <a:ext cx="693720" cy="630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に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91" name=""/>
          <p:cNvSpPr/>
          <p:nvPr/>
        </p:nvSpPr>
        <p:spPr>
          <a:xfrm>
            <a:off x="252360" y="2413080"/>
            <a:ext cx="3348000" cy="960480"/>
          </a:xfrm>
          <a:prstGeom prst="roundRect">
            <a:avLst>
              <a:gd name="adj" fmla="val 162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ださいま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ださります</a:t>
            </a: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92" name=""/>
          <p:cNvSpPr/>
          <p:nvPr/>
        </p:nvSpPr>
        <p:spPr>
          <a:xfrm>
            <a:off x="6286680" y="2855880"/>
            <a:ext cx="3531960" cy="806400"/>
          </a:xfrm>
          <a:prstGeom prst="roundRect">
            <a:avLst>
              <a:gd name="adj" fmla="val 194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ただきま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93" name=""/>
          <p:cNvSpPr/>
          <p:nvPr/>
        </p:nvSpPr>
        <p:spPr>
          <a:xfrm>
            <a:off x="4889520" y="1806480"/>
            <a:ext cx="2098800" cy="590760"/>
          </a:xfrm>
          <a:prstGeom prst="roundRect">
            <a:avLst>
              <a:gd name="adj" fmla="val 26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（さしあげます）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4"/>
          <a:stretch/>
        </p:blipFill>
        <p:spPr>
          <a:xfrm>
            <a:off x="192240" y="3816360"/>
            <a:ext cx="1152360" cy="40194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5"/>
          <a:stretch/>
        </p:blipFill>
        <p:spPr>
          <a:xfrm>
            <a:off x="8748720" y="3841920"/>
            <a:ext cx="1152360" cy="401940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6567480" y="260280"/>
            <a:ext cx="1828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先生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きゃく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5302080" y="2565360"/>
            <a:ext cx="3008520" cy="690084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938160" y="3273480"/>
            <a:ext cx="2408400" cy="688968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673200" y="5029200"/>
            <a:ext cx="2674800" cy="882720"/>
          </a:xfrm>
          <a:prstGeom prst="roundRect">
            <a:avLst>
              <a:gd name="adj" fmla="val 176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00" name=""/>
          <p:cNvSpPr/>
          <p:nvPr/>
        </p:nvSpPr>
        <p:spPr>
          <a:xfrm>
            <a:off x="515880" y="266760"/>
            <a:ext cx="9217080" cy="1512720"/>
          </a:xfrm>
          <a:prstGeom prst="roundRect">
            <a:avLst>
              <a:gd name="adj" fmla="val 10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みやげ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を 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いただきました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01" name=""/>
          <p:cNvSpPr/>
          <p:nvPr/>
        </p:nvSpPr>
        <p:spPr>
          <a:xfrm>
            <a:off x="6505560" y="5203800"/>
            <a:ext cx="2674800" cy="882720"/>
          </a:xfrm>
          <a:prstGeom prst="roundRect">
            <a:avLst>
              <a:gd name="adj" fmla="val 176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02" name=""/>
          <p:cNvSpPr/>
          <p:nvPr/>
        </p:nvSpPr>
        <p:spPr>
          <a:xfrm>
            <a:off x="4700520" y="3790800"/>
            <a:ext cx="631800" cy="846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03" name=""/>
          <p:cNvSpPr/>
          <p:nvPr/>
        </p:nvSpPr>
        <p:spPr>
          <a:xfrm>
            <a:off x="4094280" y="308304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みやげ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344760" y="5535720"/>
            <a:ext cx="2198880" cy="1116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839880" y="1908000"/>
            <a:ext cx="8459640" cy="8315640"/>
            <a:chOff x="839880" y="1908000"/>
            <a:chExt cx="8459640" cy="831564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6288120" y="1908000"/>
              <a:ext cx="3011400" cy="755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839880" y="2666880"/>
              <a:ext cx="2638440" cy="755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flipH="1" flipV="1">
              <a:off x="3763800" y="4141800"/>
              <a:ext cx="2338560" cy="3024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46160" y="5952960"/>
            <a:ext cx="3916080" cy="1362240"/>
          </a:xfrm>
          <a:prstGeom prst="roundRect">
            <a:avLst>
              <a:gd name="adj" fmla="val 2132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りがとう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3" name=""/>
          <p:cNvSpPr/>
          <p:nvPr/>
        </p:nvSpPr>
        <p:spPr>
          <a:xfrm>
            <a:off x="6402240" y="6099120"/>
            <a:ext cx="3605400" cy="1243080"/>
          </a:xfrm>
          <a:prstGeom prst="roundRect">
            <a:avLst>
              <a:gd name="adj" fmla="val 1444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んじょうび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めでとう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4" name=""/>
          <p:cNvSpPr/>
          <p:nvPr/>
        </p:nvSpPr>
        <p:spPr>
          <a:xfrm>
            <a:off x="131760" y="2368440"/>
            <a:ext cx="1812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5" name=""/>
          <p:cNvSpPr/>
          <p:nvPr/>
        </p:nvSpPr>
        <p:spPr>
          <a:xfrm>
            <a:off x="5594400" y="2546280"/>
            <a:ext cx="1781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6" name=""/>
          <p:cNvSpPr/>
          <p:nvPr/>
        </p:nvSpPr>
        <p:spPr>
          <a:xfrm>
            <a:off x="687240" y="317520"/>
            <a:ext cx="9195120" cy="1111320"/>
          </a:xfrm>
          <a:prstGeom prst="roundRect">
            <a:avLst>
              <a:gd name="adj" fmla="val 13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7" name=""/>
          <p:cNvSpPr/>
          <p:nvPr/>
        </p:nvSpPr>
        <p:spPr>
          <a:xfrm>
            <a:off x="2036880" y="369720"/>
            <a:ext cx="660564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なつみ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プレゼント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もらいまし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93560" y="282600"/>
            <a:ext cx="1365480" cy="17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1246320" y="2060640"/>
            <a:ext cx="3008160" cy="690084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6850080" y="2590920"/>
            <a:ext cx="2408400" cy="688968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6270480" y="4991040"/>
            <a:ext cx="2675160" cy="882720"/>
          </a:xfrm>
          <a:prstGeom prst="roundRect">
            <a:avLst>
              <a:gd name="adj" fmla="val 176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08" name=""/>
          <p:cNvSpPr/>
          <p:nvPr/>
        </p:nvSpPr>
        <p:spPr>
          <a:xfrm>
            <a:off x="515880" y="266760"/>
            <a:ext cx="9217080" cy="1512720"/>
          </a:xfrm>
          <a:prstGeom prst="roundRect">
            <a:avLst>
              <a:gd name="adj" fmla="val 10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みやげ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を 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ださいました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09" name=""/>
          <p:cNvSpPr/>
          <p:nvPr/>
        </p:nvSpPr>
        <p:spPr>
          <a:xfrm>
            <a:off x="528480" y="5216400"/>
            <a:ext cx="2675160" cy="882720"/>
          </a:xfrm>
          <a:prstGeom prst="roundRect">
            <a:avLst>
              <a:gd name="adj" fmla="val 176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10" name=""/>
          <p:cNvSpPr/>
          <p:nvPr/>
        </p:nvSpPr>
        <p:spPr>
          <a:xfrm>
            <a:off x="4145040" y="5295960"/>
            <a:ext cx="2192400" cy="1116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dur="indefinite" fill="hold">
                      <p:stCondLst>
                        <p:cond delay="indefinite"/>
                      </p:stCondLst>
                      <p:childTnLst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1246320" y="2060640"/>
            <a:ext cx="3008160" cy="690084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6850080" y="2590920"/>
            <a:ext cx="2408400" cy="688968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6270480" y="4991040"/>
            <a:ext cx="2675160" cy="882720"/>
          </a:xfrm>
          <a:prstGeom prst="roundRect">
            <a:avLst>
              <a:gd name="adj" fmla="val 176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14" name=""/>
          <p:cNvSpPr/>
          <p:nvPr/>
        </p:nvSpPr>
        <p:spPr>
          <a:xfrm>
            <a:off x="515880" y="266760"/>
            <a:ext cx="9217080" cy="1512720"/>
          </a:xfrm>
          <a:prstGeom prst="roundRect">
            <a:avLst>
              <a:gd name="adj" fmla="val 10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は 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みやげ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を 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げました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15" name=""/>
          <p:cNvSpPr/>
          <p:nvPr/>
        </p:nvSpPr>
        <p:spPr>
          <a:xfrm>
            <a:off x="528480" y="5216400"/>
            <a:ext cx="2675160" cy="882720"/>
          </a:xfrm>
          <a:prstGeom prst="roundRect">
            <a:avLst>
              <a:gd name="adj" fmla="val 176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16" name=""/>
          <p:cNvSpPr/>
          <p:nvPr/>
        </p:nvSpPr>
        <p:spPr>
          <a:xfrm>
            <a:off x="4145040" y="5295960"/>
            <a:ext cx="2192400" cy="1116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"/>
          <p:cNvGrpSpPr/>
          <p:nvPr/>
        </p:nvGrpSpPr>
        <p:grpSpPr>
          <a:xfrm>
            <a:off x="0" y="-360"/>
            <a:ext cx="9389880" cy="6862680"/>
            <a:chOff x="0" y="-360"/>
            <a:chExt cx="9389880" cy="6862680"/>
          </a:xfrm>
        </p:grpSpPr>
        <p:sp>
          <p:nvSpPr>
            <p:cNvPr id="518" name=""/>
            <p:cNvSpPr/>
            <p:nvPr/>
          </p:nvSpPr>
          <p:spPr>
            <a:xfrm>
              <a:off x="2079000" y="4775400"/>
              <a:ext cx="7310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0" y="4802400"/>
              <a:ext cx="2066400" cy="2059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2079000" y="-360"/>
              <a:ext cx="0" cy="4842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3408480" y="359568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963720" y="3200400"/>
            <a:ext cx="2333520" cy="240984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3"/>
          <a:stretch/>
        </p:blipFill>
        <p:spPr>
          <a:xfrm>
            <a:off x="0" y="4973760"/>
            <a:ext cx="2333520" cy="240984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4"/>
          <a:stretch/>
        </p:blipFill>
        <p:spPr>
          <a:xfrm>
            <a:off x="5869080" y="337032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5"/>
          <a:stretch/>
        </p:blipFill>
        <p:spPr>
          <a:xfrm>
            <a:off x="7311960" y="343692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6"/>
          <a:stretch/>
        </p:blipFill>
        <p:spPr>
          <a:xfrm>
            <a:off x="5856120" y="2179800"/>
            <a:ext cx="1914840" cy="188568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7"/>
          <a:stretch/>
        </p:blipFill>
        <p:spPr>
          <a:xfrm>
            <a:off x="5896080" y="1001880"/>
            <a:ext cx="1914480" cy="18856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8"/>
          <a:stretch/>
        </p:blipFill>
        <p:spPr>
          <a:xfrm>
            <a:off x="7232760" y="224640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9"/>
          <a:stretch/>
        </p:blipFill>
        <p:spPr>
          <a:xfrm>
            <a:off x="7311960" y="1068480"/>
            <a:ext cx="1914480" cy="18856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10"/>
          <a:stretch/>
        </p:blipFill>
        <p:spPr>
          <a:xfrm>
            <a:off x="2786040" y="5195880"/>
            <a:ext cx="1914480" cy="188604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0" y="2036880"/>
            <a:ext cx="1349280" cy="1349280"/>
          </a:xfrm>
          <a:prstGeom prst="roundRect">
            <a:avLst>
              <a:gd name="adj" fmla="val 1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32" name=""/>
          <p:cNvSpPr/>
          <p:nvPr/>
        </p:nvSpPr>
        <p:spPr>
          <a:xfrm>
            <a:off x="2476440" y="185760"/>
            <a:ext cx="7458120" cy="1878120"/>
          </a:xfrm>
          <a:prstGeom prst="roundRect">
            <a:avLst>
              <a:gd name="adj" fmla="val 8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33" name=""/>
          <p:cNvSpPr/>
          <p:nvPr/>
        </p:nvSpPr>
        <p:spPr>
          <a:xfrm>
            <a:off x="3662280" y="896760"/>
            <a:ext cx="613116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（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）ひっこ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つだっ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ださいまし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34" name=""/>
          <p:cNvSpPr/>
          <p:nvPr/>
        </p:nvSpPr>
        <p:spPr>
          <a:xfrm>
            <a:off x="3665520" y="2846520"/>
            <a:ext cx="2541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5691240"/>
            <a:ext cx="1523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1"/>
          <a:stretch/>
        </p:blipFill>
        <p:spPr>
          <a:xfrm>
            <a:off x="6168960" y="3298680"/>
            <a:ext cx="2495520" cy="75600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12"/>
          <a:stretch/>
        </p:blipFill>
        <p:spPr>
          <a:xfrm>
            <a:off x="0" y="254160"/>
            <a:ext cx="1784520" cy="35463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0" y="2306520"/>
            <a:ext cx="1349280" cy="1587600"/>
          </a:xfrm>
          <a:custGeom>
            <a:avLst/>
            <a:gdLst>
              <a:gd name="textAreaLeft" fmla="*/ 360 w 1349280"/>
              <a:gd name="textAreaRight" fmla="*/ 1348920 w 1349280"/>
              <a:gd name="textAreaTop" fmla="*/ 360 h 1587600"/>
              <a:gd name="textAreaBottom" fmla="*/ 1587240 h 1587600"/>
            </a:gdLst>
            <a:ahLst/>
            <a:rect l="textAreaLeft" t="textAreaTop" r="textAreaRight" b="textAreaBottom"/>
            <a:pathLst>
              <a:path w="21600" h="25414">
                <a:moveTo>
                  <a:pt x="25" y="0"/>
                </a:moveTo>
                <a:arcTo wR="25" hR="25" stAng="16200000" swAng="-5400000"/>
                <a:lnTo>
                  <a:pt x="0" y="25389"/>
                </a:lnTo>
                <a:arcTo wR="25" hR="25" stAng="10800000" swAng="-5400000"/>
                <a:lnTo>
                  <a:pt x="21575" y="25414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3"/>
          <a:stretch/>
        </p:blipFill>
        <p:spPr>
          <a:xfrm>
            <a:off x="1262160" y="2262240"/>
            <a:ext cx="2949480" cy="755964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14"/>
          <a:stretch/>
        </p:blipFill>
        <p:spPr>
          <a:xfrm>
            <a:off x="1933560" y="282600"/>
            <a:ext cx="1365120" cy="17049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3649680" y="237960"/>
            <a:ext cx="622764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dur="indefinite" fill="hold">
                      <p:stCondLst>
                        <p:cond delay="indefinite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"/>
          <p:cNvGrpSpPr/>
          <p:nvPr/>
        </p:nvGrpSpPr>
        <p:grpSpPr>
          <a:xfrm>
            <a:off x="0" y="-360"/>
            <a:ext cx="9389880" cy="6862680"/>
            <a:chOff x="0" y="-360"/>
            <a:chExt cx="9389880" cy="6862680"/>
          </a:xfrm>
        </p:grpSpPr>
        <p:sp>
          <p:nvSpPr>
            <p:cNvPr id="543" name=""/>
            <p:cNvSpPr/>
            <p:nvPr/>
          </p:nvSpPr>
          <p:spPr>
            <a:xfrm>
              <a:off x="2079000" y="4775400"/>
              <a:ext cx="7310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0" y="4802400"/>
              <a:ext cx="2066400" cy="2059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2079000" y="-360"/>
              <a:ext cx="0" cy="4842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3408480" y="359568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963720" y="3200400"/>
            <a:ext cx="2333520" cy="240984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3"/>
          <a:stretch/>
        </p:blipFill>
        <p:spPr>
          <a:xfrm>
            <a:off x="0" y="4973760"/>
            <a:ext cx="2333520" cy="240984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5869080" y="337032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5"/>
          <a:stretch/>
        </p:blipFill>
        <p:spPr>
          <a:xfrm>
            <a:off x="7311960" y="343692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6"/>
          <a:stretch/>
        </p:blipFill>
        <p:spPr>
          <a:xfrm>
            <a:off x="5856120" y="2179800"/>
            <a:ext cx="1914840" cy="188568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7"/>
          <a:stretch/>
        </p:blipFill>
        <p:spPr>
          <a:xfrm>
            <a:off x="5896080" y="1001880"/>
            <a:ext cx="1914480" cy="188568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8"/>
          <a:stretch/>
        </p:blipFill>
        <p:spPr>
          <a:xfrm>
            <a:off x="7232760" y="224640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9"/>
          <a:stretch/>
        </p:blipFill>
        <p:spPr>
          <a:xfrm>
            <a:off x="7311960" y="1068480"/>
            <a:ext cx="1914480" cy="188568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10"/>
          <a:stretch/>
        </p:blipFill>
        <p:spPr>
          <a:xfrm>
            <a:off x="2786040" y="5195880"/>
            <a:ext cx="1914480" cy="188604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0" y="2036880"/>
            <a:ext cx="1349280" cy="1349280"/>
          </a:xfrm>
          <a:prstGeom prst="roundRect">
            <a:avLst>
              <a:gd name="adj" fmla="val 1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57" name=""/>
          <p:cNvSpPr/>
          <p:nvPr/>
        </p:nvSpPr>
        <p:spPr>
          <a:xfrm>
            <a:off x="2476440" y="185760"/>
            <a:ext cx="7458120" cy="1878120"/>
          </a:xfrm>
          <a:prstGeom prst="roundRect">
            <a:avLst>
              <a:gd name="adj" fmla="val 8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58" name=""/>
          <p:cNvSpPr/>
          <p:nvPr/>
        </p:nvSpPr>
        <p:spPr>
          <a:xfrm>
            <a:off x="3662280" y="896760"/>
            <a:ext cx="613116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ひっこ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つだっ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いただきまし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59" name=""/>
          <p:cNvSpPr/>
          <p:nvPr/>
        </p:nvSpPr>
        <p:spPr>
          <a:xfrm>
            <a:off x="3665520" y="2846520"/>
            <a:ext cx="2541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60" name=""/>
          <p:cNvSpPr/>
          <p:nvPr/>
        </p:nvSpPr>
        <p:spPr>
          <a:xfrm>
            <a:off x="8085240" y="5691240"/>
            <a:ext cx="1523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1"/>
          <a:stretch/>
        </p:blipFill>
        <p:spPr>
          <a:xfrm>
            <a:off x="6168960" y="3298680"/>
            <a:ext cx="2495520" cy="756000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12"/>
          <a:stretch/>
        </p:blipFill>
        <p:spPr>
          <a:xfrm>
            <a:off x="0" y="254160"/>
            <a:ext cx="1784520" cy="35463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0" y="2306520"/>
            <a:ext cx="1349280" cy="1587600"/>
          </a:xfrm>
          <a:custGeom>
            <a:avLst/>
            <a:gdLst>
              <a:gd name="textAreaLeft" fmla="*/ 360 w 1349280"/>
              <a:gd name="textAreaRight" fmla="*/ 1348920 w 1349280"/>
              <a:gd name="textAreaTop" fmla="*/ 360 h 1587600"/>
              <a:gd name="textAreaBottom" fmla="*/ 1587240 h 1587600"/>
            </a:gdLst>
            <a:ahLst/>
            <a:rect l="textAreaLeft" t="textAreaTop" r="textAreaRight" b="textAreaBottom"/>
            <a:pathLst>
              <a:path w="21600" h="25414">
                <a:moveTo>
                  <a:pt x="25" y="0"/>
                </a:moveTo>
                <a:arcTo wR="25" hR="25" stAng="16200000" swAng="-5400000"/>
                <a:lnTo>
                  <a:pt x="0" y="25389"/>
                </a:lnTo>
                <a:arcTo wR="25" hR="25" stAng="10800000" swAng="-5400000"/>
                <a:lnTo>
                  <a:pt x="21575" y="25414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3"/>
          <a:stretch/>
        </p:blipFill>
        <p:spPr>
          <a:xfrm>
            <a:off x="1262160" y="2262240"/>
            <a:ext cx="2949480" cy="755964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14"/>
          <a:stretch/>
        </p:blipFill>
        <p:spPr>
          <a:xfrm>
            <a:off x="1933560" y="282600"/>
            <a:ext cx="1365120" cy="170496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3649680" y="237960"/>
            <a:ext cx="622764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0" y="-360"/>
            <a:ext cx="9389880" cy="6862680"/>
            <a:chOff x="0" y="-360"/>
            <a:chExt cx="9389880" cy="6862680"/>
          </a:xfrm>
        </p:grpSpPr>
        <p:sp>
          <p:nvSpPr>
            <p:cNvPr id="568" name=""/>
            <p:cNvSpPr/>
            <p:nvPr/>
          </p:nvSpPr>
          <p:spPr>
            <a:xfrm>
              <a:off x="2079000" y="4775400"/>
              <a:ext cx="7310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0" y="4802400"/>
              <a:ext cx="2066400" cy="2059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2079000" y="-360"/>
              <a:ext cx="0" cy="4842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3408480" y="359568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963720" y="3200400"/>
            <a:ext cx="2333520" cy="240984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3"/>
          <a:stretch/>
        </p:blipFill>
        <p:spPr>
          <a:xfrm>
            <a:off x="0" y="4973760"/>
            <a:ext cx="2333520" cy="240984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4"/>
          <a:stretch/>
        </p:blipFill>
        <p:spPr>
          <a:xfrm>
            <a:off x="5869080" y="337032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5"/>
          <a:stretch/>
        </p:blipFill>
        <p:spPr>
          <a:xfrm>
            <a:off x="7311960" y="343692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6"/>
          <a:stretch/>
        </p:blipFill>
        <p:spPr>
          <a:xfrm>
            <a:off x="5856120" y="2179800"/>
            <a:ext cx="1914840" cy="188568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7"/>
          <a:stretch/>
        </p:blipFill>
        <p:spPr>
          <a:xfrm>
            <a:off x="5896080" y="1001880"/>
            <a:ext cx="1914480" cy="188568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8"/>
          <a:stretch/>
        </p:blipFill>
        <p:spPr>
          <a:xfrm>
            <a:off x="7232760" y="2246400"/>
            <a:ext cx="1914480" cy="188604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9"/>
          <a:stretch/>
        </p:blipFill>
        <p:spPr>
          <a:xfrm>
            <a:off x="7311960" y="1068480"/>
            <a:ext cx="1914480" cy="188568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10"/>
          <a:stretch/>
        </p:blipFill>
        <p:spPr>
          <a:xfrm>
            <a:off x="2786040" y="5195880"/>
            <a:ext cx="1914480" cy="18860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2036880"/>
            <a:ext cx="1349280" cy="1349280"/>
          </a:xfrm>
          <a:prstGeom prst="roundRect">
            <a:avLst>
              <a:gd name="adj" fmla="val 1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82" name=""/>
          <p:cNvSpPr/>
          <p:nvPr/>
        </p:nvSpPr>
        <p:spPr>
          <a:xfrm>
            <a:off x="2476440" y="185760"/>
            <a:ext cx="7458120" cy="1878120"/>
          </a:xfrm>
          <a:prstGeom prst="roundRect">
            <a:avLst>
              <a:gd name="adj" fmla="val 8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83" name=""/>
          <p:cNvSpPr/>
          <p:nvPr/>
        </p:nvSpPr>
        <p:spPr>
          <a:xfrm>
            <a:off x="3662280" y="896760"/>
            <a:ext cx="613116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の </a:t>
            </a: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ひっこし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てつだって</a:t>
            </a: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あげました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84" name=""/>
          <p:cNvSpPr/>
          <p:nvPr/>
        </p:nvSpPr>
        <p:spPr>
          <a:xfrm>
            <a:off x="3665520" y="2846520"/>
            <a:ext cx="1523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85" name=""/>
          <p:cNvSpPr/>
          <p:nvPr/>
        </p:nvSpPr>
        <p:spPr>
          <a:xfrm>
            <a:off x="8085240" y="5691240"/>
            <a:ext cx="203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さ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1"/>
          <a:stretch/>
        </p:blipFill>
        <p:spPr>
          <a:xfrm>
            <a:off x="6168960" y="3298680"/>
            <a:ext cx="2495520" cy="756000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12"/>
          <a:stretch/>
        </p:blipFill>
        <p:spPr>
          <a:xfrm>
            <a:off x="0" y="254160"/>
            <a:ext cx="1784520" cy="354636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0" y="2306520"/>
            <a:ext cx="1349280" cy="1587600"/>
          </a:xfrm>
          <a:custGeom>
            <a:avLst/>
            <a:gdLst>
              <a:gd name="textAreaLeft" fmla="*/ 360 w 1349280"/>
              <a:gd name="textAreaRight" fmla="*/ 1348920 w 1349280"/>
              <a:gd name="textAreaTop" fmla="*/ 360 h 1587600"/>
              <a:gd name="textAreaBottom" fmla="*/ 1587240 h 1587600"/>
            </a:gdLst>
            <a:ahLst/>
            <a:rect l="textAreaLeft" t="textAreaTop" r="textAreaRight" b="textAreaBottom"/>
            <a:pathLst>
              <a:path w="21600" h="25414">
                <a:moveTo>
                  <a:pt x="25" y="0"/>
                </a:moveTo>
                <a:arcTo wR="25" hR="25" stAng="16200000" swAng="-5400000"/>
                <a:lnTo>
                  <a:pt x="0" y="25389"/>
                </a:lnTo>
                <a:arcTo wR="25" hR="25" stAng="10800000" swAng="-5400000"/>
                <a:lnTo>
                  <a:pt x="21575" y="25414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3"/>
          <a:stretch/>
        </p:blipFill>
        <p:spPr>
          <a:xfrm>
            <a:off x="1262160" y="2262240"/>
            <a:ext cx="2949480" cy="75596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3649680" y="237960"/>
            <a:ext cx="622764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4"/>
          <a:stretch/>
        </p:blipFill>
        <p:spPr>
          <a:xfrm>
            <a:off x="2367000" y="316080"/>
            <a:ext cx="1251000" cy="167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dur="indefinite" fill="hold">
                      <p:stCondLst>
                        <p:cond delay="indefinite"/>
                      </p:stCondLst>
                      <p:childTnLst>
                        <p:par>
                          <p:cTn id="2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654120" y="98280"/>
            <a:ext cx="1350720" cy="301464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2058840" y="1030320"/>
            <a:ext cx="2048040" cy="165420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94" name=""/>
          <p:cNvSpPr/>
          <p:nvPr/>
        </p:nvSpPr>
        <p:spPr>
          <a:xfrm>
            <a:off x="5462640" y="2127240"/>
            <a:ext cx="21366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とうと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もうと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むす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むすめ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95" name=""/>
          <p:cNvSpPr/>
          <p:nvPr/>
        </p:nvSpPr>
        <p:spPr>
          <a:xfrm>
            <a:off x="1625760" y="1773360"/>
            <a:ext cx="2116080" cy="674640"/>
          </a:xfrm>
          <a:prstGeom prst="roundRect">
            <a:avLst>
              <a:gd name="adj" fmla="val 231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やり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96" name=""/>
          <p:cNvSpPr/>
          <p:nvPr/>
        </p:nvSpPr>
        <p:spPr>
          <a:xfrm>
            <a:off x="1709640" y="146160"/>
            <a:ext cx="693720" cy="630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は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97" name=""/>
          <p:cNvSpPr/>
          <p:nvPr/>
        </p:nvSpPr>
        <p:spPr>
          <a:xfrm>
            <a:off x="3274920" y="130320"/>
            <a:ext cx="693720" cy="630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に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4403880" y="1368360"/>
            <a:ext cx="907920" cy="245268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3"/>
          <a:stretch/>
        </p:blipFill>
        <p:spPr>
          <a:xfrm>
            <a:off x="4303800" y="5567400"/>
            <a:ext cx="1789200" cy="153972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4"/>
          <a:stretch/>
        </p:blipFill>
        <p:spPr>
          <a:xfrm>
            <a:off x="527040" y="4071960"/>
            <a:ext cx="2071800" cy="311292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6580080" y="5729400"/>
            <a:ext cx="11131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ね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ぬ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な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02" name=""/>
          <p:cNvSpPr/>
          <p:nvPr/>
        </p:nvSpPr>
        <p:spPr>
          <a:xfrm>
            <a:off x="2257560" y="5102280"/>
            <a:ext cx="2047680" cy="165420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03" name=""/>
          <p:cNvSpPr/>
          <p:nvPr/>
        </p:nvSpPr>
        <p:spPr>
          <a:xfrm>
            <a:off x="1824120" y="5845320"/>
            <a:ext cx="2116080" cy="674640"/>
          </a:xfrm>
          <a:prstGeom prst="roundRect">
            <a:avLst>
              <a:gd name="adj" fmla="val 231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やり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04" name=""/>
          <p:cNvSpPr/>
          <p:nvPr/>
        </p:nvSpPr>
        <p:spPr>
          <a:xfrm>
            <a:off x="1906560" y="4218120"/>
            <a:ext cx="693720" cy="630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は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05" name=""/>
          <p:cNvSpPr/>
          <p:nvPr/>
        </p:nvSpPr>
        <p:spPr>
          <a:xfrm>
            <a:off x="3473280" y="4202280"/>
            <a:ext cx="694080" cy="630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に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627200" y="2924280"/>
            <a:ext cx="568440" cy="58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07" name=""/>
          <p:cNvSpPr/>
          <p:nvPr/>
        </p:nvSpPr>
        <p:spPr>
          <a:xfrm>
            <a:off x="1798560" y="2262240"/>
            <a:ext cx="568440" cy="58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08" name=""/>
          <p:cNvSpPr/>
          <p:nvPr/>
        </p:nvSpPr>
        <p:spPr>
          <a:xfrm>
            <a:off x="2408400" y="225360"/>
            <a:ext cx="7076880" cy="7116840"/>
          </a:xfrm>
          <a:custGeom>
            <a:avLst/>
            <a:gdLst>
              <a:gd name="textAreaLeft" fmla="*/ 52200 w 7076880"/>
              <a:gd name="textAreaRight" fmla="*/ 7024680 w 7076880"/>
              <a:gd name="textAreaTop" fmla="*/ 52200 h 7116840"/>
              <a:gd name="textAreaBottom" fmla="*/ 7064640 h 7116840"/>
            </a:gdLst>
            <a:ahLst/>
            <a:rect l="textAreaLeft" t="textAreaTop" r="textAreaRight" b="textAreaBottom"/>
            <a:pathLst>
              <a:path w="21600" h="21722">
                <a:moveTo>
                  <a:pt x="547" y="0"/>
                </a:moveTo>
                <a:arcTo wR="547" hR="547" stAng="16200000" swAng="-5400000"/>
                <a:lnTo>
                  <a:pt x="0" y="21175"/>
                </a:lnTo>
                <a:arcTo wR="547" hR="547" stAng="10800000" swAng="-5400000"/>
                <a:lnTo>
                  <a:pt x="21053" y="21722"/>
                </a:lnTo>
                <a:arcTo wR="547" hR="547" stAng="5400000" swAng="-5400000"/>
                <a:lnTo>
                  <a:pt x="21600" y="547"/>
                </a:lnTo>
                <a:arcTo wR="547" hR="547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09" name=""/>
          <p:cNvSpPr/>
          <p:nvPr/>
        </p:nvSpPr>
        <p:spPr>
          <a:xfrm>
            <a:off x="2805120" y="515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こども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とき、よく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5213520" y="2963880"/>
            <a:ext cx="2590560" cy="372744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 flipH="1">
            <a:off x="4734000" y="3968640"/>
            <a:ext cx="1263600" cy="4096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12" name=""/>
          <p:cNvSpPr/>
          <p:nvPr/>
        </p:nvSpPr>
        <p:spPr>
          <a:xfrm>
            <a:off x="2936880" y="1521000"/>
            <a:ext cx="6095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ね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ほ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よんで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もらいました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13" name=""/>
          <p:cNvSpPr/>
          <p:nvPr/>
        </p:nvSpPr>
        <p:spPr>
          <a:xfrm>
            <a:off x="3413160" y="660096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14" name=""/>
          <p:cNvSpPr/>
          <p:nvPr/>
        </p:nvSpPr>
        <p:spPr>
          <a:xfrm>
            <a:off x="5992920" y="65880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ね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0" y="2874960"/>
            <a:ext cx="2678040" cy="468468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3"/>
          <a:stretch/>
        </p:blipFill>
        <p:spPr>
          <a:xfrm>
            <a:off x="3016080" y="3613320"/>
            <a:ext cx="2024280" cy="293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dur="indefinite" fill="hold">
                      <p:stCondLst>
                        <p:cond delay="indefinite"/>
                      </p:stCondLst>
                      <p:childTnLst>
                        <p:par>
                          <p:cTn id="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1627200" y="2924280"/>
            <a:ext cx="568440" cy="58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18" name=""/>
          <p:cNvSpPr/>
          <p:nvPr/>
        </p:nvSpPr>
        <p:spPr>
          <a:xfrm>
            <a:off x="1798560" y="2262240"/>
            <a:ext cx="568440" cy="58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19" name=""/>
          <p:cNvSpPr/>
          <p:nvPr/>
        </p:nvSpPr>
        <p:spPr>
          <a:xfrm>
            <a:off x="2408400" y="225360"/>
            <a:ext cx="7076880" cy="7116840"/>
          </a:xfrm>
          <a:custGeom>
            <a:avLst/>
            <a:gdLst>
              <a:gd name="textAreaLeft" fmla="*/ 52200 w 7076880"/>
              <a:gd name="textAreaRight" fmla="*/ 7024680 w 7076880"/>
              <a:gd name="textAreaTop" fmla="*/ 52200 h 7116840"/>
              <a:gd name="textAreaBottom" fmla="*/ 7064640 h 7116840"/>
            </a:gdLst>
            <a:ahLst/>
            <a:rect l="textAreaLeft" t="textAreaTop" r="textAreaRight" b="textAreaBottom"/>
            <a:pathLst>
              <a:path w="21600" h="21722">
                <a:moveTo>
                  <a:pt x="547" y="0"/>
                </a:moveTo>
                <a:arcTo wR="547" hR="547" stAng="16200000" swAng="-5400000"/>
                <a:lnTo>
                  <a:pt x="0" y="21175"/>
                </a:lnTo>
                <a:arcTo wR="547" hR="547" stAng="10800000" swAng="-5400000"/>
                <a:lnTo>
                  <a:pt x="21053" y="21722"/>
                </a:lnTo>
                <a:arcTo wR="547" hR="547" stAng="5400000" swAng="-5400000"/>
                <a:lnTo>
                  <a:pt x="21600" y="547"/>
                </a:lnTo>
                <a:arcTo wR="547" hR="547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20" name=""/>
          <p:cNvSpPr/>
          <p:nvPr/>
        </p:nvSpPr>
        <p:spPr>
          <a:xfrm>
            <a:off x="2805120" y="515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36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が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こども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とき、よく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2938320" y="2963880"/>
            <a:ext cx="2590920" cy="372744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4749840" y="3968640"/>
            <a:ext cx="1257120" cy="4096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23" name=""/>
          <p:cNvSpPr/>
          <p:nvPr/>
        </p:nvSpPr>
        <p:spPr>
          <a:xfrm>
            <a:off x="2936880" y="1521000"/>
            <a:ext cx="5486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ね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が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ほ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よんで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れました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24" name=""/>
          <p:cNvSpPr/>
          <p:nvPr/>
        </p:nvSpPr>
        <p:spPr>
          <a:xfrm>
            <a:off x="3413160" y="6602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ね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25" name=""/>
          <p:cNvSpPr/>
          <p:nvPr/>
        </p:nvSpPr>
        <p:spPr>
          <a:xfrm>
            <a:off x="6416640" y="6508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0" y="2874960"/>
            <a:ext cx="2678040" cy="468468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3"/>
          <a:stretch/>
        </p:blipFill>
        <p:spPr>
          <a:xfrm>
            <a:off x="5891040" y="3510000"/>
            <a:ext cx="2024280" cy="293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dur="indefinite" fill="hold">
                      <p:stCondLst>
                        <p:cond delay="indefinite"/>
                      </p:stCondLst>
                      <p:childTnLst>
                        <p:par>
                          <p:cTn id="2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1627200" y="2924280"/>
            <a:ext cx="568440" cy="58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29" name=""/>
          <p:cNvSpPr/>
          <p:nvPr/>
        </p:nvSpPr>
        <p:spPr>
          <a:xfrm>
            <a:off x="1798560" y="2262240"/>
            <a:ext cx="568440" cy="58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30" name=""/>
          <p:cNvSpPr/>
          <p:nvPr/>
        </p:nvSpPr>
        <p:spPr>
          <a:xfrm>
            <a:off x="2408400" y="225360"/>
            <a:ext cx="7076880" cy="7116840"/>
          </a:xfrm>
          <a:custGeom>
            <a:avLst/>
            <a:gdLst>
              <a:gd name="textAreaLeft" fmla="*/ 52200 w 7076880"/>
              <a:gd name="textAreaRight" fmla="*/ 7024680 w 7076880"/>
              <a:gd name="textAreaTop" fmla="*/ 52200 h 7116840"/>
              <a:gd name="textAreaBottom" fmla="*/ 7064640 h 7116840"/>
            </a:gdLst>
            <a:ahLst/>
            <a:rect l="textAreaLeft" t="textAreaTop" r="textAreaRight" b="textAreaBottom"/>
            <a:pathLst>
              <a:path w="21600" h="21722">
                <a:moveTo>
                  <a:pt x="547" y="0"/>
                </a:moveTo>
                <a:arcTo wR="547" hR="547" stAng="16200000" swAng="-5400000"/>
                <a:lnTo>
                  <a:pt x="0" y="21175"/>
                </a:lnTo>
                <a:arcTo wR="547" hR="547" stAng="10800000" swAng="-5400000"/>
                <a:lnTo>
                  <a:pt x="21053" y="21722"/>
                </a:lnTo>
                <a:arcTo wR="547" hR="547" stAng="5400000" swAng="-5400000"/>
                <a:lnTo>
                  <a:pt x="21600" y="547"/>
                </a:lnTo>
                <a:arcTo wR="547" hR="547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31" name=""/>
          <p:cNvSpPr/>
          <p:nvPr/>
        </p:nvSpPr>
        <p:spPr>
          <a:xfrm>
            <a:off x="2805120" y="515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36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は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こども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とき、よく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2938320" y="2963880"/>
            <a:ext cx="2590920" cy="372744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4749840" y="3968640"/>
            <a:ext cx="1257120" cy="4096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34" name=""/>
          <p:cNvSpPr/>
          <p:nvPr/>
        </p:nvSpPr>
        <p:spPr>
          <a:xfrm>
            <a:off x="2936880" y="1521000"/>
            <a:ext cx="5486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もうと</a:t>
            </a:r>
            <a:r>
              <a:rPr b="0" lang="ja-JP" sz="48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に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ほ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よんで</a:t>
            </a: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やりました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35" name=""/>
          <p:cNvSpPr/>
          <p:nvPr/>
        </p:nvSpPr>
        <p:spPr>
          <a:xfrm>
            <a:off x="3413160" y="66024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36" name=""/>
          <p:cNvSpPr/>
          <p:nvPr/>
        </p:nvSpPr>
        <p:spPr>
          <a:xfrm>
            <a:off x="6416640" y="6508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もうと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5891040" y="3510000"/>
            <a:ext cx="2024280" cy="29304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184320" y="3597120"/>
            <a:ext cx="2057400" cy="422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627200" y="2924280"/>
            <a:ext cx="568440" cy="58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40" name=""/>
          <p:cNvSpPr/>
          <p:nvPr/>
        </p:nvSpPr>
        <p:spPr>
          <a:xfrm>
            <a:off x="1798560" y="2262240"/>
            <a:ext cx="568440" cy="58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41" name=""/>
          <p:cNvSpPr/>
          <p:nvPr/>
        </p:nvSpPr>
        <p:spPr>
          <a:xfrm>
            <a:off x="2408400" y="225360"/>
            <a:ext cx="7076880" cy="7116840"/>
          </a:xfrm>
          <a:custGeom>
            <a:avLst/>
            <a:gdLst>
              <a:gd name="textAreaLeft" fmla="*/ 52200 w 7076880"/>
              <a:gd name="textAreaRight" fmla="*/ 7024680 w 7076880"/>
              <a:gd name="textAreaTop" fmla="*/ 52200 h 7116840"/>
              <a:gd name="textAreaBottom" fmla="*/ 7064640 h 7116840"/>
            </a:gdLst>
            <a:ahLst/>
            <a:rect l="textAreaLeft" t="textAreaTop" r="textAreaRight" b="textAreaBottom"/>
            <a:pathLst>
              <a:path w="21600" h="21722">
                <a:moveTo>
                  <a:pt x="547" y="0"/>
                </a:moveTo>
                <a:arcTo wR="547" hR="547" stAng="16200000" swAng="-5400000"/>
                <a:lnTo>
                  <a:pt x="0" y="21175"/>
                </a:lnTo>
                <a:arcTo wR="547" hR="547" stAng="10800000" swAng="-5400000"/>
                <a:lnTo>
                  <a:pt x="21053" y="21722"/>
                </a:lnTo>
                <a:arcTo wR="547" hR="547" stAng="5400000" swAng="-5400000"/>
                <a:lnTo>
                  <a:pt x="21600" y="547"/>
                </a:lnTo>
                <a:arcTo wR="547" hR="547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42" name=""/>
          <p:cNvSpPr/>
          <p:nvPr/>
        </p:nvSpPr>
        <p:spPr>
          <a:xfrm>
            <a:off x="2805120" y="515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こども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とき、よく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43" name=""/>
          <p:cNvSpPr/>
          <p:nvPr/>
        </p:nvSpPr>
        <p:spPr>
          <a:xfrm>
            <a:off x="3122640" y="1084320"/>
            <a:ext cx="63993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ちち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どうぶつえ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つれていって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もらいました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0" y="2874960"/>
            <a:ext cx="2678040" cy="468468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6149880" y="3151080"/>
            <a:ext cx="3006720" cy="426420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 flipH="1" flipV="1">
            <a:off x="5124240" y="4655880"/>
            <a:ext cx="1044360" cy="10969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948120"/>
            <a:ext cx="8794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tstream Vera Serif"/>
              </a:rPr>
              <a:t>zoo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dur="indefinite" fill="hold">
                      <p:stCondLst>
                        <p:cond delay="indefinite"/>
                      </p:stCondLst>
                      <p:childTnLst>
                        <p:par>
                          <p:cTn id="3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839880" y="1908000"/>
            <a:ext cx="8459640" cy="8315640"/>
            <a:chOff x="839880" y="1908000"/>
            <a:chExt cx="8459640" cy="831564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839880" y="1908000"/>
              <a:ext cx="3011400" cy="755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6661080" y="2666880"/>
              <a:ext cx="2638440" cy="755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 flipV="1">
              <a:off x="4040280" y="4141800"/>
              <a:ext cx="2332080" cy="3024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6091200" y="5952960"/>
            <a:ext cx="3916440" cy="1362240"/>
          </a:xfrm>
          <a:prstGeom prst="roundRect">
            <a:avLst>
              <a:gd name="adj" fmla="val 2132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りがとう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4" name=""/>
          <p:cNvSpPr/>
          <p:nvPr/>
        </p:nvSpPr>
        <p:spPr>
          <a:xfrm>
            <a:off x="146160" y="6099120"/>
            <a:ext cx="3605040" cy="1243080"/>
          </a:xfrm>
          <a:prstGeom prst="roundRect">
            <a:avLst>
              <a:gd name="adj" fmla="val 1444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たんじょうび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めでとう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5" name=""/>
          <p:cNvSpPr/>
          <p:nvPr/>
        </p:nvSpPr>
        <p:spPr>
          <a:xfrm>
            <a:off x="5829480" y="2457360"/>
            <a:ext cx="1812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2633760"/>
            <a:ext cx="17748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7" name=""/>
          <p:cNvSpPr/>
          <p:nvPr/>
        </p:nvSpPr>
        <p:spPr>
          <a:xfrm>
            <a:off x="687240" y="317520"/>
            <a:ext cx="9149040" cy="1690560"/>
          </a:xfrm>
          <a:prstGeom prst="roundRect">
            <a:avLst>
              <a:gd name="adj" fmla="val 9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8" name=""/>
          <p:cNvSpPr/>
          <p:nvPr/>
        </p:nvSpPr>
        <p:spPr>
          <a:xfrm>
            <a:off x="2036880" y="369720"/>
            <a:ext cx="6049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93560" y="282600"/>
            <a:ext cx="1365480" cy="1704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106720" y="976320"/>
            <a:ext cx="608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 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プレゼント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れまし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627200" y="2924280"/>
            <a:ext cx="568440" cy="58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49" name=""/>
          <p:cNvSpPr/>
          <p:nvPr/>
        </p:nvSpPr>
        <p:spPr>
          <a:xfrm>
            <a:off x="1798560" y="2262240"/>
            <a:ext cx="568440" cy="58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50" name=""/>
          <p:cNvSpPr/>
          <p:nvPr/>
        </p:nvSpPr>
        <p:spPr>
          <a:xfrm>
            <a:off x="2408400" y="225360"/>
            <a:ext cx="7076880" cy="7116840"/>
          </a:xfrm>
          <a:custGeom>
            <a:avLst/>
            <a:gdLst>
              <a:gd name="textAreaLeft" fmla="*/ 52200 w 7076880"/>
              <a:gd name="textAreaRight" fmla="*/ 7024680 w 7076880"/>
              <a:gd name="textAreaTop" fmla="*/ 52200 h 7116840"/>
              <a:gd name="textAreaBottom" fmla="*/ 7064640 h 7116840"/>
            </a:gdLst>
            <a:ahLst/>
            <a:rect l="textAreaLeft" t="textAreaTop" r="textAreaRight" b="textAreaBottom"/>
            <a:pathLst>
              <a:path w="21600" h="21722">
                <a:moveTo>
                  <a:pt x="547" y="0"/>
                </a:moveTo>
                <a:arcTo wR="547" hR="547" stAng="16200000" swAng="-5400000"/>
                <a:lnTo>
                  <a:pt x="0" y="21175"/>
                </a:lnTo>
                <a:arcTo wR="547" hR="547" stAng="10800000" swAng="-5400000"/>
                <a:lnTo>
                  <a:pt x="21053" y="21722"/>
                </a:lnTo>
                <a:arcTo wR="547" hR="547" stAng="5400000" swAng="-5400000"/>
                <a:lnTo>
                  <a:pt x="21600" y="547"/>
                </a:lnTo>
                <a:arcTo wR="547" hR="547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51" name=""/>
          <p:cNvSpPr/>
          <p:nvPr/>
        </p:nvSpPr>
        <p:spPr>
          <a:xfrm>
            <a:off x="2805120" y="515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36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が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こども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とき、よく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52" name=""/>
          <p:cNvSpPr/>
          <p:nvPr/>
        </p:nvSpPr>
        <p:spPr>
          <a:xfrm>
            <a:off x="3122640" y="1084320"/>
            <a:ext cx="5789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ちち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（わたしを）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うぶつえ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つれていって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れました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0" y="2874960"/>
            <a:ext cx="2678040" cy="46846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6149880" y="3151080"/>
            <a:ext cx="3006720" cy="426420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 flipH="1" flipV="1">
            <a:off x="5124240" y="4655880"/>
            <a:ext cx="1044360" cy="10969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56" name=""/>
          <p:cNvSpPr/>
          <p:nvPr/>
        </p:nvSpPr>
        <p:spPr>
          <a:xfrm>
            <a:off x="3429000" y="3948120"/>
            <a:ext cx="8794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tstream Vera Serif"/>
              </a:rPr>
              <a:t>zoo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dur="indefinite" fill="hold">
                      <p:stCondLst>
                        <p:cond delay="indefinite"/>
                      </p:stCondLst>
                      <p:childTnLst>
                        <p:par>
                          <p:cTn id="3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627200" y="2924280"/>
            <a:ext cx="568440" cy="58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58" name=""/>
          <p:cNvSpPr/>
          <p:nvPr/>
        </p:nvSpPr>
        <p:spPr>
          <a:xfrm>
            <a:off x="1798560" y="2262240"/>
            <a:ext cx="568440" cy="58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59" name=""/>
          <p:cNvSpPr/>
          <p:nvPr/>
        </p:nvSpPr>
        <p:spPr>
          <a:xfrm>
            <a:off x="2408400" y="225360"/>
            <a:ext cx="7076880" cy="7116840"/>
          </a:xfrm>
          <a:custGeom>
            <a:avLst/>
            <a:gdLst>
              <a:gd name="textAreaLeft" fmla="*/ 52200 w 7076880"/>
              <a:gd name="textAreaRight" fmla="*/ 7024680 w 7076880"/>
              <a:gd name="textAreaTop" fmla="*/ 52200 h 7116840"/>
              <a:gd name="textAreaBottom" fmla="*/ 7064640 h 7116840"/>
            </a:gdLst>
            <a:ahLst/>
            <a:rect l="textAreaLeft" t="textAreaTop" r="textAreaRight" b="textAreaBottom"/>
            <a:pathLst>
              <a:path w="21600" h="21722">
                <a:moveTo>
                  <a:pt x="547" y="0"/>
                </a:moveTo>
                <a:arcTo wR="547" hR="547" stAng="16200000" swAng="-5400000"/>
                <a:lnTo>
                  <a:pt x="0" y="21175"/>
                </a:lnTo>
                <a:arcTo wR="547" hR="547" stAng="10800000" swAng="-5400000"/>
                <a:lnTo>
                  <a:pt x="21053" y="21722"/>
                </a:lnTo>
                <a:arcTo wR="547" hR="547" stAng="5400000" swAng="-5400000"/>
                <a:lnTo>
                  <a:pt x="21600" y="547"/>
                </a:lnTo>
                <a:arcTo wR="547" hR="547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60" name=""/>
          <p:cNvSpPr/>
          <p:nvPr/>
        </p:nvSpPr>
        <p:spPr>
          <a:xfrm>
            <a:off x="2805120" y="515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むすめ</a:t>
            </a:r>
            <a:r>
              <a:rPr b="0" lang="ja-JP" sz="3600" spc="-1" strike="noStrike" u="sng">
                <a:solidFill>
                  <a:srgbClr val="800000"/>
                </a:solidFill>
                <a:uFillTx/>
                <a:latin typeface="YOzFontNP04"/>
                <a:ea typeface="YOzFontNP04"/>
              </a:rPr>
              <a:t>が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こども</a:t>
            </a:r>
            <a:r>
              <a:rPr b="0" lang="ja-JP" sz="3600" spc="-1" strike="noStrike">
                <a:solidFill>
                  <a:srgbClr val="800000"/>
                </a:solidFill>
                <a:latin typeface="YOzFontNP04"/>
                <a:ea typeface="YOzFontNP04"/>
              </a:rPr>
              <a:t>の</a:t>
            </a:r>
            <a:r>
              <a:rPr b="0" lang="en-US" sz="3600" spc="-1" strike="noStrike">
                <a:solidFill>
                  <a:srgbClr val="000000"/>
                </a:solidFill>
                <a:latin typeface="YOzFontNP04"/>
                <a:ea typeface="YOzFontNP04"/>
              </a:rPr>
              <a:t> とき、よく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61" name=""/>
          <p:cNvSpPr/>
          <p:nvPr/>
        </p:nvSpPr>
        <p:spPr>
          <a:xfrm>
            <a:off x="3122640" y="1084320"/>
            <a:ext cx="5181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 むすめ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うぶつえん</a:t>
            </a:r>
            <a:r>
              <a:rPr b="0" lang="ja-JP" sz="4800" spc="-1" strike="noStrike">
                <a:solidFill>
                  <a:srgbClr val="800000"/>
                </a:solidFill>
                <a:latin typeface="YOzFontNP04"/>
                <a:ea typeface="YOzFontNP04"/>
              </a:rPr>
              <a:t>へ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つれていって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やりました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6149880" y="3151080"/>
            <a:ext cx="3006720" cy="42642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 flipH="1" flipV="1">
            <a:off x="5124240" y="4655880"/>
            <a:ext cx="1044360" cy="10969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64" name=""/>
          <p:cNvSpPr/>
          <p:nvPr/>
        </p:nvSpPr>
        <p:spPr>
          <a:xfrm>
            <a:off x="3429000" y="3948120"/>
            <a:ext cx="8794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tstream Vera Serif"/>
              </a:rPr>
              <a:t>zoo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2"/>
          <a:stretch/>
        </p:blipFill>
        <p:spPr>
          <a:xfrm>
            <a:off x="0" y="3373560"/>
            <a:ext cx="2649600" cy="487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dur="indefinite" fill="hold">
                      <p:stCondLst>
                        <p:cond delay="indefinite"/>
                      </p:stCondLst>
                      <p:childTnLst>
                        <p:par>
                          <p:cTn id="3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525840" y="4371840"/>
            <a:ext cx="2514600" cy="318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67" name=""/>
          <p:cNvSpPr/>
          <p:nvPr/>
        </p:nvSpPr>
        <p:spPr>
          <a:xfrm>
            <a:off x="1566720" y="5294160"/>
            <a:ext cx="2192400" cy="1116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68" name=""/>
          <p:cNvSpPr/>
          <p:nvPr/>
        </p:nvSpPr>
        <p:spPr>
          <a:xfrm>
            <a:off x="1123920" y="3873600"/>
            <a:ext cx="1515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もだち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69" name=""/>
          <p:cNvSpPr/>
          <p:nvPr/>
        </p:nvSpPr>
        <p:spPr>
          <a:xfrm>
            <a:off x="3754440" y="4448160"/>
            <a:ext cx="235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わたし・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かぞく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70" name=""/>
          <p:cNvSpPr/>
          <p:nvPr/>
        </p:nvSpPr>
        <p:spPr>
          <a:xfrm>
            <a:off x="1139760" y="5865840"/>
            <a:ext cx="2963880" cy="806400"/>
          </a:xfrm>
          <a:prstGeom prst="roundRect">
            <a:avLst>
              <a:gd name="adj" fmla="val 194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れま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71" name=""/>
          <p:cNvSpPr/>
          <p:nvPr/>
        </p:nvSpPr>
        <p:spPr>
          <a:xfrm>
            <a:off x="5491080" y="6456240"/>
            <a:ext cx="2963880" cy="806400"/>
          </a:xfrm>
          <a:prstGeom prst="roundRect">
            <a:avLst>
              <a:gd name="adj" fmla="val 194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らいま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72" name=""/>
          <p:cNvSpPr/>
          <p:nvPr/>
        </p:nvSpPr>
        <p:spPr>
          <a:xfrm>
            <a:off x="5900760" y="4680000"/>
            <a:ext cx="2116080" cy="674640"/>
          </a:xfrm>
          <a:prstGeom prst="roundRect">
            <a:avLst>
              <a:gd name="adj" fmla="val 231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げ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73" name=""/>
          <p:cNvSpPr/>
          <p:nvPr/>
        </p:nvSpPr>
        <p:spPr>
          <a:xfrm>
            <a:off x="2220840" y="3746520"/>
            <a:ext cx="693720" cy="630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は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74" name=""/>
          <p:cNvSpPr/>
          <p:nvPr/>
        </p:nvSpPr>
        <p:spPr>
          <a:xfrm>
            <a:off x="5021280" y="3830760"/>
            <a:ext cx="693720" cy="630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は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75" name=""/>
          <p:cNvSpPr/>
          <p:nvPr/>
        </p:nvSpPr>
        <p:spPr>
          <a:xfrm>
            <a:off x="3552840" y="3784680"/>
            <a:ext cx="693720" cy="630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に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76" name=""/>
          <p:cNvSpPr/>
          <p:nvPr/>
        </p:nvSpPr>
        <p:spPr>
          <a:xfrm>
            <a:off x="8015400" y="3992400"/>
            <a:ext cx="693720" cy="630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に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192240" y="3816360"/>
            <a:ext cx="1152360" cy="401940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6748560" y="4102200"/>
            <a:ext cx="1515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ともだち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6232680" y="6224760"/>
            <a:ext cx="2427120" cy="79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80" name=""/>
          <p:cNvSpPr/>
          <p:nvPr/>
        </p:nvSpPr>
        <p:spPr>
          <a:xfrm>
            <a:off x="6246720" y="5556240"/>
            <a:ext cx="2433600" cy="158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5086440" y="2055960"/>
            <a:ext cx="2295360" cy="16365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5353200" y="2195640"/>
            <a:ext cx="2295360" cy="1636560"/>
          </a:xfrm>
          <a:prstGeom prst="line">
            <a:avLst/>
          </a:prstGeom>
          <a:ln w="720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83" name=""/>
          <p:cNvSpPr/>
          <p:nvPr/>
        </p:nvSpPr>
        <p:spPr>
          <a:xfrm flipH="1" flipV="1">
            <a:off x="1959120" y="2112480"/>
            <a:ext cx="2288880" cy="1616040"/>
          </a:xfrm>
          <a:prstGeom prst="line">
            <a:avLst/>
          </a:prstGeom>
          <a:ln w="720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8298000" y="165240"/>
            <a:ext cx="1141200" cy="288288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3"/>
          <a:stretch/>
        </p:blipFill>
        <p:spPr>
          <a:xfrm>
            <a:off x="387360" y="216000"/>
            <a:ext cx="1141560" cy="288288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2322360" y="1649520"/>
            <a:ext cx="693720" cy="630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は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87" name=""/>
          <p:cNvSpPr/>
          <p:nvPr/>
        </p:nvSpPr>
        <p:spPr>
          <a:xfrm>
            <a:off x="7616880" y="1573200"/>
            <a:ext cx="693720" cy="630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に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88" name=""/>
          <p:cNvSpPr/>
          <p:nvPr/>
        </p:nvSpPr>
        <p:spPr>
          <a:xfrm>
            <a:off x="252360" y="2413080"/>
            <a:ext cx="3348000" cy="960480"/>
          </a:xfrm>
          <a:prstGeom prst="roundRect">
            <a:avLst>
              <a:gd name="adj" fmla="val 162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ださいま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ださります</a:t>
            </a: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89" name=""/>
          <p:cNvSpPr/>
          <p:nvPr/>
        </p:nvSpPr>
        <p:spPr>
          <a:xfrm>
            <a:off x="6286680" y="2855880"/>
            <a:ext cx="3531960" cy="806400"/>
          </a:xfrm>
          <a:prstGeom prst="roundRect">
            <a:avLst>
              <a:gd name="adj" fmla="val 194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ただきま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90" name=""/>
          <p:cNvSpPr/>
          <p:nvPr/>
        </p:nvSpPr>
        <p:spPr>
          <a:xfrm>
            <a:off x="4889520" y="1806480"/>
            <a:ext cx="2098800" cy="590760"/>
          </a:xfrm>
          <a:prstGeom prst="roundRect">
            <a:avLst>
              <a:gd name="adj" fmla="val 26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（さしあげます）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4"/>
          <a:stretch/>
        </p:blipFill>
        <p:spPr>
          <a:xfrm>
            <a:off x="4076640" y="5560920"/>
            <a:ext cx="719280" cy="103212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5"/>
          <a:stretch/>
        </p:blipFill>
        <p:spPr>
          <a:xfrm>
            <a:off x="4780080" y="5396040"/>
            <a:ext cx="1001520" cy="11761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6"/>
          <a:stretch/>
        </p:blipFill>
        <p:spPr>
          <a:xfrm>
            <a:off x="4159080" y="6432480"/>
            <a:ext cx="830520" cy="98892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7"/>
          <a:stretch/>
        </p:blipFill>
        <p:spPr>
          <a:xfrm>
            <a:off x="4780080" y="6432480"/>
            <a:ext cx="777600" cy="100800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8"/>
          <a:stretch/>
        </p:blipFill>
        <p:spPr>
          <a:xfrm>
            <a:off x="8697960" y="3765600"/>
            <a:ext cx="1152360" cy="401940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9"/>
          <a:stretch/>
        </p:blipFill>
        <p:spPr>
          <a:xfrm>
            <a:off x="5308560" y="4486320"/>
            <a:ext cx="736560" cy="89208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1757520" y="285840"/>
            <a:ext cx="1828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先生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きゃく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98" name=""/>
          <p:cNvSpPr/>
          <p:nvPr/>
        </p:nvSpPr>
        <p:spPr>
          <a:xfrm>
            <a:off x="6618240" y="247680"/>
            <a:ext cx="1828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ゃちょう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先生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きゃく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289080" y="127080"/>
            <a:ext cx="1149120" cy="340020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8604360" y="176040"/>
            <a:ext cx="1149120" cy="340056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3525840" y="4371840"/>
            <a:ext cx="2514600" cy="318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02" name=""/>
          <p:cNvSpPr/>
          <p:nvPr/>
        </p:nvSpPr>
        <p:spPr>
          <a:xfrm>
            <a:off x="3754440" y="4448160"/>
            <a:ext cx="235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YOzFontNP04"/>
                <a:ea typeface="YOzFontNP04"/>
              </a:rPr>
              <a:t>かいしゃのひと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03" name=""/>
          <p:cNvSpPr/>
          <p:nvPr/>
        </p:nvSpPr>
        <p:spPr>
          <a:xfrm>
            <a:off x="5021280" y="3830760"/>
            <a:ext cx="693720" cy="630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は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04" name=""/>
          <p:cNvSpPr/>
          <p:nvPr/>
        </p:nvSpPr>
        <p:spPr>
          <a:xfrm>
            <a:off x="3552840" y="3784680"/>
            <a:ext cx="693720" cy="630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に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5086440" y="2055960"/>
            <a:ext cx="2295360" cy="16365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5353200" y="2195640"/>
            <a:ext cx="2295360" cy="1636560"/>
          </a:xfrm>
          <a:prstGeom prst="line">
            <a:avLst/>
          </a:prstGeom>
          <a:ln w="720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1959120" y="2112480"/>
            <a:ext cx="2288880" cy="1616040"/>
          </a:xfrm>
          <a:prstGeom prst="line">
            <a:avLst/>
          </a:prstGeom>
          <a:ln w="720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08" name=""/>
          <p:cNvSpPr/>
          <p:nvPr/>
        </p:nvSpPr>
        <p:spPr>
          <a:xfrm>
            <a:off x="1541520" y="353880"/>
            <a:ext cx="2590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きゃく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ちがうかいしゃの人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09" name=""/>
          <p:cNvSpPr/>
          <p:nvPr/>
        </p:nvSpPr>
        <p:spPr>
          <a:xfrm>
            <a:off x="2322360" y="1649520"/>
            <a:ext cx="693720" cy="630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は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10" name=""/>
          <p:cNvSpPr/>
          <p:nvPr/>
        </p:nvSpPr>
        <p:spPr>
          <a:xfrm>
            <a:off x="7616880" y="1573200"/>
            <a:ext cx="693720" cy="630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に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11" name=""/>
          <p:cNvSpPr/>
          <p:nvPr/>
        </p:nvSpPr>
        <p:spPr>
          <a:xfrm>
            <a:off x="252360" y="2413080"/>
            <a:ext cx="3348000" cy="960480"/>
          </a:xfrm>
          <a:prstGeom prst="roundRect">
            <a:avLst>
              <a:gd name="adj" fmla="val 162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ださいま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ださります</a:t>
            </a: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12" name=""/>
          <p:cNvSpPr/>
          <p:nvPr/>
        </p:nvSpPr>
        <p:spPr>
          <a:xfrm>
            <a:off x="6286680" y="2855880"/>
            <a:ext cx="3531960" cy="806400"/>
          </a:xfrm>
          <a:prstGeom prst="roundRect">
            <a:avLst>
              <a:gd name="adj" fmla="val 194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ただきま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13" name=""/>
          <p:cNvSpPr/>
          <p:nvPr/>
        </p:nvSpPr>
        <p:spPr>
          <a:xfrm>
            <a:off x="4889520" y="1806480"/>
            <a:ext cx="2098800" cy="590760"/>
          </a:xfrm>
          <a:prstGeom prst="roundRect">
            <a:avLst>
              <a:gd name="adj" fmla="val 26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（さしあげます）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14" name=""/>
          <p:cNvSpPr/>
          <p:nvPr/>
        </p:nvSpPr>
        <p:spPr>
          <a:xfrm>
            <a:off x="5522760" y="430200"/>
            <a:ext cx="2590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きゃく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ちがうかいしゃの人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3"/>
          <a:stretch/>
        </p:blipFill>
        <p:spPr>
          <a:xfrm>
            <a:off x="3686040" y="6132600"/>
            <a:ext cx="951120" cy="142704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4"/>
          <a:stretch/>
        </p:blipFill>
        <p:spPr>
          <a:xfrm>
            <a:off x="4754520" y="6184800"/>
            <a:ext cx="1023840" cy="137484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5"/>
          <a:stretch/>
        </p:blipFill>
        <p:spPr>
          <a:xfrm>
            <a:off x="4765680" y="5029200"/>
            <a:ext cx="985680" cy="117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665280" y="3873600"/>
            <a:ext cx="4111200" cy="3682800"/>
            <a:chOff x="665280" y="3873600"/>
            <a:chExt cx="4111200" cy="368280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665280" y="3927600"/>
              <a:ext cx="1445040" cy="36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3511080" y="3873600"/>
              <a:ext cx="1265400" cy="362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"/>
          <p:cNvGrpSpPr/>
          <p:nvPr/>
        </p:nvGrpSpPr>
        <p:grpSpPr>
          <a:xfrm>
            <a:off x="4727520" y="3859200"/>
            <a:ext cx="4057560" cy="3697200"/>
            <a:chOff x="4727520" y="3859200"/>
            <a:chExt cx="4057560" cy="3697200"/>
          </a:xfrm>
        </p:grpSpPr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7318440" y="3859200"/>
              <a:ext cx="1466640" cy="36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4727520" y="3875040"/>
              <a:ext cx="1284480" cy="36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 flipH="1" flipV="1">
              <a:off x="6119280" y="4995720"/>
              <a:ext cx="1141560" cy="1584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292640" y="0"/>
            <a:ext cx="3987720" cy="3254400"/>
            <a:chOff x="4292640" y="0"/>
            <a:chExt cx="3987720" cy="3254400"/>
          </a:xfrm>
        </p:grpSpPr>
        <p:pic>
          <p:nvPicPr>
            <p:cNvPr id="89" name="" descr=""/>
            <p:cNvPicPr/>
            <p:nvPr/>
          </p:nvPicPr>
          <p:blipFill>
            <a:blip r:embed="rId5"/>
            <a:stretch/>
          </p:blipFill>
          <p:spPr>
            <a:xfrm>
              <a:off x="7153200" y="0"/>
              <a:ext cx="1127160" cy="32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6"/>
            <a:stretch/>
          </p:blipFill>
          <p:spPr>
            <a:xfrm>
              <a:off x="4292640" y="243000"/>
              <a:ext cx="1347840" cy="30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 flipV="1">
              <a:off x="5842080" y="925560"/>
              <a:ext cx="1076400" cy="1440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92" name=""/>
          <p:cNvSpPr/>
          <p:nvPr/>
        </p:nvSpPr>
        <p:spPr>
          <a:xfrm flipV="1">
            <a:off x="2216160" y="5340240"/>
            <a:ext cx="1011240" cy="3024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533760"/>
            <a:ext cx="10382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4" name=""/>
          <p:cNvSpPr/>
          <p:nvPr/>
        </p:nvSpPr>
        <p:spPr>
          <a:xfrm>
            <a:off x="3576600" y="3235320"/>
            <a:ext cx="23544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わたし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5" name=""/>
          <p:cNvSpPr/>
          <p:nvPr/>
        </p:nvSpPr>
        <p:spPr>
          <a:xfrm>
            <a:off x="8399520" y="2666880"/>
            <a:ext cx="111276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6" name=""/>
          <p:cNvSpPr/>
          <p:nvPr/>
        </p:nvSpPr>
        <p:spPr>
          <a:xfrm>
            <a:off x="1139760" y="5865840"/>
            <a:ext cx="2963880" cy="806400"/>
          </a:xfrm>
          <a:prstGeom prst="roundRect">
            <a:avLst>
              <a:gd name="adj" fmla="val 194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くれま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7" name=""/>
          <p:cNvSpPr/>
          <p:nvPr/>
        </p:nvSpPr>
        <p:spPr>
          <a:xfrm>
            <a:off x="5452920" y="5799240"/>
            <a:ext cx="2963880" cy="806400"/>
          </a:xfrm>
          <a:prstGeom prst="roundRect">
            <a:avLst>
              <a:gd name="adj" fmla="val 194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もらいます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8" name=""/>
          <p:cNvSpPr/>
          <p:nvPr/>
        </p:nvSpPr>
        <p:spPr>
          <a:xfrm>
            <a:off x="5067360" y="1773360"/>
            <a:ext cx="2116080" cy="674640"/>
          </a:xfrm>
          <a:prstGeom prst="roundRect">
            <a:avLst>
              <a:gd name="adj" fmla="val 231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げます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9" name=""/>
          <p:cNvSpPr/>
          <p:nvPr/>
        </p:nvSpPr>
        <p:spPr>
          <a:xfrm>
            <a:off x="8832960" y="4416480"/>
            <a:ext cx="10206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つみさ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0" name=""/>
          <p:cNvSpPr/>
          <p:nvPr/>
        </p:nvSpPr>
        <p:spPr>
          <a:xfrm>
            <a:off x="1211400" y="3632040"/>
            <a:ext cx="693720" cy="630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は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1" name=""/>
          <p:cNvSpPr/>
          <p:nvPr/>
        </p:nvSpPr>
        <p:spPr>
          <a:xfrm>
            <a:off x="5665680" y="3906720"/>
            <a:ext cx="693720" cy="630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は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2" name=""/>
          <p:cNvSpPr/>
          <p:nvPr/>
        </p:nvSpPr>
        <p:spPr>
          <a:xfrm>
            <a:off x="3147840" y="3809880"/>
            <a:ext cx="694080" cy="630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に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3" name=""/>
          <p:cNvSpPr/>
          <p:nvPr/>
        </p:nvSpPr>
        <p:spPr>
          <a:xfrm>
            <a:off x="7232760" y="3890880"/>
            <a:ext cx="693720" cy="630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に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4" name=""/>
          <p:cNvSpPr/>
          <p:nvPr/>
        </p:nvSpPr>
        <p:spPr>
          <a:xfrm>
            <a:off x="5149800" y="146160"/>
            <a:ext cx="693720" cy="630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は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5" name=""/>
          <p:cNvSpPr/>
          <p:nvPr/>
        </p:nvSpPr>
        <p:spPr>
          <a:xfrm>
            <a:off x="6715080" y="130320"/>
            <a:ext cx="693720" cy="630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に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5224320" y="2308320"/>
            <a:ext cx="3649680" cy="4325760"/>
            <a:chOff x="5224320" y="2308320"/>
            <a:chExt cx="3649680" cy="432576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6757920" y="2583000"/>
              <a:ext cx="2116080" cy="405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5224320" y="2308320"/>
              <a:ext cx="1525680" cy="371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3241800" y="3373560"/>
            <a:ext cx="2774880" cy="1584000"/>
            <a:chOff x="3241800" y="3373560"/>
            <a:chExt cx="2774880" cy="1584000"/>
          </a:xfrm>
        </p:grpSpPr>
        <p:sp>
          <p:nvSpPr>
            <p:cNvPr id="110" name=""/>
            <p:cNvSpPr/>
            <p:nvPr/>
          </p:nvSpPr>
          <p:spPr>
            <a:xfrm flipH="1">
              <a:off x="3241800" y="4061520"/>
              <a:ext cx="2774880" cy="89604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4142520" y="3373560"/>
              <a:ext cx="1019160" cy="89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>
            <a:off x="8132760" y="4757760"/>
            <a:ext cx="1523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3" name=""/>
          <p:cNvSpPr/>
          <p:nvPr/>
        </p:nvSpPr>
        <p:spPr>
          <a:xfrm>
            <a:off x="3114720" y="5022720"/>
            <a:ext cx="2031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4" name=""/>
          <p:cNvSpPr/>
          <p:nvPr/>
        </p:nvSpPr>
        <p:spPr>
          <a:xfrm>
            <a:off x="2789280" y="6162840"/>
            <a:ext cx="1523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146480" y="2292480"/>
            <a:ext cx="679680" cy="1035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4757760" y="1662120"/>
            <a:ext cx="520560" cy="712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37200" y="1646280"/>
            <a:ext cx="24861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Happy Birthday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8" name=""/>
          <p:cNvSpPr/>
          <p:nvPr/>
        </p:nvSpPr>
        <p:spPr>
          <a:xfrm>
            <a:off x="6732720" y="2146320"/>
            <a:ext cx="248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o You...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9" name=""/>
          <p:cNvSpPr/>
          <p:nvPr/>
        </p:nvSpPr>
        <p:spPr>
          <a:xfrm>
            <a:off x="425520" y="169920"/>
            <a:ext cx="8718480" cy="1332000"/>
          </a:xfrm>
          <a:prstGeom prst="roundRect">
            <a:avLst>
              <a:gd name="adj" fmla="val 11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0" name=""/>
          <p:cNvSpPr/>
          <p:nvPr/>
        </p:nvSpPr>
        <p:spPr>
          <a:xfrm>
            <a:off x="1549440" y="338040"/>
            <a:ext cx="711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きょうこ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た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たっ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もらいました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428760" y="3363840"/>
            <a:ext cx="2447640" cy="7039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146160" y="209520"/>
            <a:ext cx="1377720" cy="1177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7699320" y="2809800"/>
            <a:ext cx="582840" cy="88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549440" y="339840"/>
            <a:ext cx="2031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201840" y="5143680"/>
            <a:ext cx="2032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6" name=""/>
          <p:cNvSpPr/>
          <p:nvPr/>
        </p:nvSpPr>
        <p:spPr>
          <a:xfrm>
            <a:off x="2789280" y="6162840"/>
            <a:ext cx="1523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146480" y="2292480"/>
            <a:ext cx="679680" cy="1035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354640" y="1873080"/>
            <a:ext cx="520560" cy="712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37200" y="1646280"/>
            <a:ext cx="24861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Happy Birthday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2146320"/>
            <a:ext cx="248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o You...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1" name=""/>
          <p:cNvSpPr/>
          <p:nvPr/>
        </p:nvSpPr>
        <p:spPr>
          <a:xfrm>
            <a:off x="425520" y="169920"/>
            <a:ext cx="8597880" cy="1332000"/>
          </a:xfrm>
          <a:prstGeom prst="roundRect">
            <a:avLst>
              <a:gd name="adj" fmla="val 116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2" name=""/>
          <p:cNvSpPr/>
          <p:nvPr/>
        </p:nvSpPr>
        <p:spPr>
          <a:xfrm>
            <a:off x="1549440" y="338040"/>
            <a:ext cx="711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ロラン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ギター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ひい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もらいました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256360" y="2647800"/>
            <a:ext cx="4446360" cy="4326120"/>
            <a:chOff x="5256360" y="2647800"/>
            <a:chExt cx="4446360" cy="4326120"/>
          </a:xfrm>
        </p:grpSpPr>
        <p:sp>
          <p:nvSpPr>
            <p:cNvPr id="134" name=""/>
            <p:cNvSpPr/>
            <p:nvPr/>
          </p:nvSpPr>
          <p:spPr>
            <a:xfrm>
              <a:off x="8182080" y="5095800"/>
              <a:ext cx="1520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640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4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ロラン</a:t>
              </a:r>
              <a:endParaRPr b="0" lang="en-US" sz="4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5256360" y="2647800"/>
              <a:ext cx="3649680" cy="4326120"/>
              <a:chOff x="5256360" y="2647800"/>
              <a:chExt cx="3649680" cy="4326120"/>
            </a:xfrm>
          </p:grpSpPr>
          <p:pic>
            <p:nvPicPr>
              <p:cNvPr id="13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789600" y="2922480"/>
                <a:ext cx="2116440" cy="405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256360" y="2647800"/>
                <a:ext cx="1525320" cy="3711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46160" y="209520"/>
            <a:ext cx="1377720" cy="1177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492120" y="3794040"/>
            <a:ext cx="2448000" cy="703908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3241800" y="3373560"/>
            <a:ext cx="4046400" cy="1584000"/>
            <a:chOff x="3241800" y="3373560"/>
            <a:chExt cx="4046400" cy="1584000"/>
          </a:xfrm>
        </p:grpSpPr>
        <p:sp>
          <p:nvSpPr>
            <p:cNvPr id="141" name=""/>
            <p:cNvSpPr/>
            <p:nvPr/>
          </p:nvSpPr>
          <p:spPr>
            <a:xfrm flipH="1">
              <a:off x="3241800" y="4061520"/>
              <a:ext cx="4046400" cy="89604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7"/>
            <a:stretch/>
          </p:blipFill>
          <p:spPr>
            <a:xfrm>
              <a:off x="5143680" y="3373560"/>
              <a:ext cx="899280" cy="89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1549440" y="339840"/>
            <a:ext cx="2031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576440" y="2195640"/>
            <a:ext cx="4522680" cy="5360760"/>
            <a:chOff x="1576440" y="2195640"/>
            <a:chExt cx="4522680" cy="5360760"/>
          </a:xfrm>
        </p:grpSpPr>
        <p:grpSp>
          <p:nvGrpSpPr>
            <p:cNvPr id="145" name=""/>
            <p:cNvGrpSpPr/>
            <p:nvPr/>
          </p:nvGrpSpPr>
          <p:grpSpPr>
            <a:xfrm>
              <a:off x="1576440" y="2195640"/>
              <a:ext cx="4522680" cy="5360760"/>
              <a:chOff x="1576440" y="2195640"/>
              <a:chExt cx="4522680" cy="5360760"/>
            </a:xfrm>
          </p:grpSpPr>
          <p:pic>
            <p:nvPicPr>
              <p:cNvPr id="1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76520" y="2536920"/>
                <a:ext cx="2622600" cy="501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76440" y="2195640"/>
                <a:ext cx="1892160" cy="46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8" name=""/>
          <p:cNvGrpSpPr/>
          <p:nvPr/>
        </p:nvGrpSpPr>
        <p:grpSpPr>
          <a:xfrm>
            <a:off x="2441520" y="4052880"/>
            <a:ext cx="3944880" cy="2100240"/>
            <a:chOff x="2441520" y="4052880"/>
            <a:chExt cx="3944880" cy="2100240"/>
          </a:xfrm>
        </p:grpSpPr>
        <p:sp>
          <p:nvSpPr>
            <p:cNvPr id="149" name=""/>
            <p:cNvSpPr/>
            <p:nvPr/>
          </p:nvSpPr>
          <p:spPr>
            <a:xfrm>
              <a:off x="2441520" y="4052880"/>
              <a:ext cx="3944880" cy="210024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3"/>
            <a:stretch/>
          </p:blipFill>
          <p:spPr>
            <a:xfrm>
              <a:off x="4481640" y="4568760"/>
              <a:ext cx="1014120" cy="8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"/>
          <p:cNvSpPr/>
          <p:nvPr/>
        </p:nvSpPr>
        <p:spPr>
          <a:xfrm>
            <a:off x="5421240" y="2593800"/>
            <a:ext cx="15242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2" name=""/>
          <p:cNvSpPr/>
          <p:nvPr/>
        </p:nvSpPr>
        <p:spPr>
          <a:xfrm>
            <a:off x="5484960" y="6678720"/>
            <a:ext cx="1523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885960" y="2357280"/>
            <a:ext cx="679320" cy="1035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2190600" y="1614600"/>
            <a:ext cx="520920" cy="71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776680" y="1711440"/>
            <a:ext cx="2485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Happy Birthday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6" name=""/>
          <p:cNvSpPr/>
          <p:nvPr/>
        </p:nvSpPr>
        <p:spPr>
          <a:xfrm>
            <a:off x="3470400" y="2211480"/>
            <a:ext cx="248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o You...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7" name=""/>
          <p:cNvSpPr/>
          <p:nvPr/>
        </p:nvSpPr>
        <p:spPr>
          <a:xfrm>
            <a:off x="425520" y="169920"/>
            <a:ext cx="8307360" cy="1298520"/>
          </a:xfrm>
          <a:prstGeom prst="roundRect">
            <a:avLst>
              <a:gd name="adj" fmla="val 120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8" name=""/>
          <p:cNvSpPr/>
          <p:nvPr/>
        </p:nvSpPr>
        <p:spPr>
          <a:xfrm>
            <a:off x="2130480" y="355680"/>
            <a:ext cx="660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r>
              <a:rPr b="0" lang="en-US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た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うたっ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れました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274680" y="243000"/>
            <a:ext cx="1378080" cy="1177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6643800" y="3579840"/>
            <a:ext cx="2447640" cy="7039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131920" y="355680"/>
            <a:ext cx="5666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2" name=""/>
          <p:cNvSpPr/>
          <p:nvPr/>
        </p:nvSpPr>
        <p:spPr>
          <a:xfrm>
            <a:off x="485640" y="6792840"/>
            <a:ext cx="2032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1576440" y="2195640"/>
            <a:ext cx="4522680" cy="5360760"/>
            <a:chOff x="1576440" y="2195640"/>
            <a:chExt cx="4522680" cy="5360760"/>
          </a:xfrm>
        </p:grpSpPr>
        <p:grpSp>
          <p:nvGrpSpPr>
            <p:cNvPr id="164" name=""/>
            <p:cNvGrpSpPr/>
            <p:nvPr/>
          </p:nvGrpSpPr>
          <p:grpSpPr>
            <a:xfrm>
              <a:off x="1576440" y="2195640"/>
              <a:ext cx="4522680" cy="5360760"/>
              <a:chOff x="1576440" y="2195640"/>
              <a:chExt cx="4522680" cy="5360760"/>
            </a:xfrm>
          </p:grpSpPr>
          <p:pic>
            <p:nvPicPr>
              <p:cNvPr id="16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76520" y="2536920"/>
                <a:ext cx="2622600" cy="501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76440" y="2195640"/>
                <a:ext cx="1892160" cy="46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7" name=""/>
          <p:cNvGrpSpPr/>
          <p:nvPr/>
        </p:nvGrpSpPr>
        <p:grpSpPr>
          <a:xfrm>
            <a:off x="4416480" y="4498920"/>
            <a:ext cx="1971720" cy="1654200"/>
            <a:chOff x="4416480" y="4498920"/>
            <a:chExt cx="1971720" cy="1654200"/>
          </a:xfrm>
        </p:grpSpPr>
        <p:sp>
          <p:nvSpPr>
            <p:cNvPr id="168" name=""/>
            <p:cNvSpPr/>
            <p:nvPr/>
          </p:nvSpPr>
          <p:spPr>
            <a:xfrm>
              <a:off x="4416480" y="4710240"/>
              <a:ext cx="1971720" cy="1442880"/>
            </a:xfrm>
            <a:prstGeom prst="line">
              <a:avLst/>
            </a:prstGeom>
            <a:ln w="108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5019840" y="4498920"/>
              <a:ext cx="1022040" cy="89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"/>
          <p:cNvSpPr/>
          <p:nvPr/>
        </p:nvSpPr>
        <p:spPr>
          <a:xfrm>
            <a:off x="5421240" y="2593800"/>
            <a:ext cx="15242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1" name=""/>
          <p:cNvSpPr/>
          <p:nvPr/>
        </p:nvSpPr>
        <p:spPr>
          <a:xfrm>
            <a:off x="5484960" y="6678720"/>
            <a:ext cx="1523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885960" y="2357280"/>
            <a:ext cx="679320" cy="1035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2190600" y="1614600"/>
            <a:ext cx="520920" cy="712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776680" y="1711440"/>
            <a:ext cx="2485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Happy Birthday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5" name=""/>
          <p:cNvSpPr/>
          <p:nvPr/>
        </p:nvSpPr>
        <p:spPr>
          <a:xfrm>
            <a:off x="3470400" y="2211480"/>
            <a:ext cx="248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o You...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6" name=""/>
          <p:cNvSpPr/>
          <p:nvPr/>
        </p:nvSpPr>
        <p:spPr>
          <a:xfrm>
            <a:off x="425520" y="169920"/>
            <a:ext cx="8307360" cy="1298520"/>
          </a:xfrm>
          <a:prstGeom prst="roundRect">
            <a:avLst>
              <a:gd name="adj" fmla="val 120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7" name=""/>
          <p:cNvSpPr/>
          <p:nvPr/>
        </p:nvSpPr>
        <p:spPr>
          <a:xfrm>
            <a:off x="2095560" y="35568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たし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に</a:t>
            </a:r>
            <a:r>
              <a:rPr b="0" lang="en-US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 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ギター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ひいて</a:t>
            </a:r>
            <a:r>
              <a:rPr b="0" lang="ja-JP" sz="4000" spc="-1" strike="noStrike">
                <a:solidFill>
                  <a:srgbClr val="ff0000"/>
                </a:solidFill>
                <a:latin typeface="YOzFontNP04"/>
                <a:ea typeface="YOzFontNP04"/>
              </a:rPr>
              <a:t>くれました</a:t>
            </a: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274680" y="243000"/>
            <a:ext cx="1378080" cy="1177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554880" y="3402000"/>
            <a:ext cx="2448000" cy="7039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095560" y="355680"/>
            <a:ext cx="5665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ロランさん</a:t>
            </a:r>
            <a:r>
              <a:rPr b="0" lang="ja-JP" sz="4000" spc="-1" strike="noStrike">
                <a:solidFill>
                  <a:srgbClr val="800000"/>
                </a:solidFill>
                <a:latin typeface="YOzFontNP04"/>
                <a:ea typeface="YOzFontNP04"/>
              </a:rPr>
              <a:t>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1" name=""/>
          <p:cNvSpPr/>
          <p:nvPr/>
        </p:nvSpPr>
        <p:spPr>
          <a:xfrm>
            <a:off x="487440" y="6792840"/>
            <a:ext cx="2031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ょうこ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08:17:27Z</dcterms:created>
  <dc:creator/>
  <dc:description/>
  <dc:language>en-US</dc:language>
  <cp:lastModifiedBy/>
  <dcterms:modified xsi:type="dcterms:W3CDTF">2016-05-24T19:31:20Z</dcterms:modified>
  <cp:revision>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