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2.jpeg" ContentType="image/jpeg"/>
  <Override PartName="/ppt/media/image28.png" ContentType="image/png"/>
  <Override PartName="/ppt/media/image40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51.jpeg" ContentType="image/jpeg"/>
  <Override PartName="/ppt/media/image31.jpeg" ContentType="image/jpe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image" Target="../media/image38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39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image" Target="../media/image38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39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image" Target="../media/image38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39.png"/><Relationship Id="rId11" Type="http://schemas.openxmlformats.org/officeDocument/2006/relationships/image" Target="../media/image41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image" Target="../media/image38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39.png"/><Relationship Id="rId11" Type="http://schemas.openxmlformats.org/officeDocument/2006/relationships/image" Target="../media/image41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2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4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774800" y="4160880"/>
            <a:ext cx="203220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ために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のに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には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51400" y="498600"/>
            <a:ext cx="2198880" cy="6530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99040" y="3206880"/>
            <a:ext cx="438120" cy="676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32320" y="2532240"/>
            <a:ext cx="581040" cy="676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273880" y="1395360"/>
            <a:ext cx="438480" cy="67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607160" y="720720"/>
            <a:ext cx="581040" cy="676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395440" y="919080"/>
            <a:ext cx="3430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5284800" y="522360"/>
            <a:ext cx="438120" cy="67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25800" y="4673520"/>
            <a:ext cx="5923080" cy="1413000"/>
          </a:xfrm>
          <a:prstGeom prst="roundRect">
            <a:avLst>
              <a:gd name="adj" fmla="val 12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4594320" y="2079720"/>
            <a:ext cx="1979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9" name=""/>
          <p:cNvSpPr/>
          <p:nvPr/>
        </p:nvSpPr>
        <p:spPr>
          <a:xfrm>
            <a:off x="5041800" y="3524400"/>
            <a:ext cx="12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0" name=""/>
          <p:cNvSpPr/>
          <p:nvPr/>
        </p:nvSpPr>
        <p:spPr>
          <a:xfrm>
            <a:off x="884160" y="324000"/>
            <a:ext cx="4033800" cy="1941480"/>
          </a:xfrm>
          <a:prstGeom prst="wedgeRoundRectCallout">
            <a:avLst>
              <a:gd name="adj1" fmla="val 78685"/>
              <a:gd name="adj2" fmla="val 5777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1071720" y="690480"/>
            <a:ext cx="32605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京子さぁーん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京子さぁーん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998880" y="1297080"/>
            <a:ext cx="795240" cy="820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406440" y="2681280"/>
            <a:ext cx="2496960" cy="7559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343400" y="4784760"/>
            <a:ext cx="5060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京子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を うた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2920" y="2382840"/>
            <a:ext cx="938052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で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を べんきょうして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934920" y="1735200"/>
            <a:ext cx="616104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？→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534960" y="5035680"/>
            <a:ext cx="829800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何のために・どうして・なぜ・何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ているんで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43280" y="2894040"/>
            <a:ext cx="4945320" cy="2297160"/>
          </a:xfrm>
          <a:prstGeom prst="roundRect">
            <a:avLst>
              <a:gd name="adj" fmla="val 78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かいじゅう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こう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できる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よう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ょきんし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3298680" y="5727600"/>
            <a:ext cx="6367680" cy="1189080"/>
          </a:xfrm>
          <a:prstGeom prst="roundRect">
            <a:avLst>
              <a:gd name="adj" fmla="val 1510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かいじゅうを りょこう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する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ために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ちょきんし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75160" y="157320"/>
            <a:ext cx="4540320" cy="3784320"/>
          </a:xfrm>
          <a:prstGeom prst="roundRect">
            <a:avLst>
              <a:gd name="adj" fmla="val 473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02400" y="222120"/>
            <a:ext cx="3052800" cy="3453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4480" y="2087640"/>
            <a:ext cx="4645080" cy="54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22720" y="3666960"/>
            <a:ext cx="507960" cy="508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4540320" y="3914640"/>
            <a:ext cx="312840" cy="312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4070520" y="3979800"/>
            <a:ext cx="260280" cy="260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3587760" y="3940200"/>
            <a:ext cx="142920" cy="14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7" name=""/>
          <p:cNvSpPr/>
          <p:nvPr/>
        </p:nvSpPr>
        <p:spPr>
          <a:xfrm>
            <a:off x="5622840" y="2752560"/>
            <a:ext cx="2541600" cy="925560"/>
          </a:xfrm>
          <a:prstGeom prst="roundRect">
            <a:avLst>
              <a:gd name="adj" fmla="val 171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P04"/>
              </a:rPr>
              <a:t>あさはやく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430200"/>
            <a:ext cx="4815000" cy="2610000"/>
          </a:xfrm>
          <a:prstGeom prst="roundRect">
            <a:avLst>
              <a:gd name="adj" fmla="val 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538200" y="846000"/>
            <a:ext cx="390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P04"/>
              </a:rPr>
              <a:t>あさ はやく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P04"/>
              </a:rPr>
              <a:t>おき</a:t>
            </a:r>
            <a:r>
              <a:rPr b="0" lang="ja-JP" sz="4800" spc="-1" strike="noStrike" u="sng">
                <a:solidFill>
                  <a:srgbClr val="000000"/>
                </a:solidFill>
                <a:uFillTx/>
                <a:latin typeface="YOzFontNP04"/>
                <a:ea typeface="YOzFontP04"/>
              </a:rPr>
              <a:t>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P04"/>
              </a:rPr>
              <a:t>ため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P04"/>
              </a:rPr>
              <a:t>はやく ね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044360" y="3863880"/>
            <a:ext cx="120600" cy="6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5848200" y="4603680"/>
            <a:ext cx="3619800" cy="216684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cf)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さ はや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られ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よう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やく ね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01520" y="3959280"/>
            <a:ext cx="2081160" cy="4656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38600" y="2614680"/>
            <a:ext cx="6737040" cy="5052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79720" y="3936960"/>
            <a:ext cx="2001960" cy="3884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83600" y="1581120"/>
            <a:ext cx="2141280" cy="4183200"/>
          </a:xfrm>
          <a:prstGeom prst="cloudCallout">
            <a:avLst>
              <a:gd name="adj1" fmla="val -126134"/>
              <a:gd name="adj2" fmla="val 1577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04280" y="1785960"/>
            <a:ext cx="1558800" cy="341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1506600" y="5884920"/>
            <a:ext cx="1704960" cy="31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287280" y="430200"/>
            <a:ext cx="4815000" cy="2610000"/>
          </a:xfrm>
          <a:prstGeom prst="roundRect">
            <a:avLst>
              <a:gd name="adj" fmla="val 6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9" name=""/>
          <p:cNvSpPr/>
          <p:nvPr/>
        </p:nvSpPr>
        <p:spPr>
          <a:xfrm>
            <a:off x="538200" y="847800"/>
            <a:ext cx="4618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P04"/>
              </a:rPr>
              <a:t>すきな ふく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P04"/>
              </a:rPr>
              <a:t>き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P04"/>
              </a:rPr>
              <a:t>ため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P04"/>
              </a:rPr>
              <a:t>ジョギングし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6216480" y="5119560"/>
            <a:ext cx="3619800" cy="2167200"/>
          </a:xfrm>
          <a:prstGeom prst="roundRect">
            <a:avLst>
              <a:gd name="adj" fmla="val 6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cf)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きな ふくが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られ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よう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ジョギングし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682560"/>
            <a:ext cx="9380520" cy="11638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331920" y="1042920"/>
            <a:ext cx="94424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さみ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み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554040"/>
            <a:ext cx="938052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せんぬき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何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か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3320" y="182556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3680" y="1930320"/>
            <a:ext cx="9380520" cy="116388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733320"/>
            <a:ext cx="1197000" cy="9144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55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YOzFontNP04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" y="2208240"/>
            <a:ext cx="97804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びんの ふたを あけ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16000" y="1905120"/>
            <a:ext cx="8247240" cy="5924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16360" y="3100320"/>
            <a:ext cx="3305160" cy="1581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"/>
          <p:cNvSpPr/>
          <p:nvPr/>
        </p:nvSpPr>
        <p:spPr>
          <a:xfrm>
            <a:off x="281160" y="374760"/>
            <a:ext cx="9380520" cy="1617480"/>
          </a:xfrm>
          <a:prstGeom prst="roundRect">
            <a:avLst>
              <a:gd name="adj" fmla="val 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270080"/>
            <a:ext cx="97804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んの ふたを あけ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522360" y="498600"/>
            <a:ext cx="3548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んきり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8200" y="403200"/>
            <a:ext cx="9380520" cy="167652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3846600" y="1325520"/>
            <a:ext cx="6092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ぜ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596880" y="1020600"/>
            <a:ext cx="3548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ミキサー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840" y="2030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1160" y="374760"/>
            <a:ext cx="9380520" cy="169200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1282680"/>
            <a:ext cx="7748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けいさん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>
            <a:off x="560520" y="573120"/>
            <a:ext cx="3547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そろばん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1200" y="2822400"/>
            <a:ext cx="857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して ＝ なぜ ＝ 何で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871560" y="1893960"/>
            <a:ext cx="7345440" cy="527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5600" y="387360"/>
            <a:ext cx="9380520" cy="171756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1817640" y="1308240"/>
            <a:ext cx="7939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ゆを わかす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573120" y="598320"/>
            <a:ext cx="3548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かん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440" y="374760"/>
            <a:ext cx="9380520" cy="177948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5" name=""/>
          <p:cNvSpPr/>
          <p:nvPr/>
        </p:nvSpPr>
        <p:spPr>
          <a:xfrm>
            <a:off x="1120680" y="1382760"/>
            <a:ext cx="9072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おんを はか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0720" y="2041560"/>
            <a:ext cx="7848720" cy="929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335320" y="2846520"/>
            <a:ext cx="2708280" cy="262728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709560"/>
            <a:ext cx="3547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いおんけい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3600" y="324000"/>
            <a:ext cx="9380520" cy="170496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149400" y="398520"/>
            <a:ext cx="3884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パスポート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689440" y="1208160"/>
            <a:ext cx="3884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つよう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336600" y="1158840"/>
            <a:ext cx="5516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がいこく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いく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2552760" y="2217240"/>
            <a:ext cx="3827520" cy="5367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1587600" y="4048200"/>
            <a:ext cx="7329240" cy="1562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50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分ー</a:t>
            </a: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時間</a:t>
            </a: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10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7920" y="5397480"/>
            <a:ext cx="9164520" cy="1947960"/>
            <a:chOff x="277920" y="5397480"/>
            <a:chExt cx="9164520" cy="1947960"/>
          </a:xfrm>
        </p:grpSpPr>
        <p:sp>
          <p:nvSpPr>
            <p:cNvPr id="176" name=""/>
            <p:cNvSpPr/>
            <p:nvPr/>
          </p:nvSpPr>
          <p:spPr>
            <a:xfrm>
              <a:off x="277920" y="5397480"/>
              <a:ext cx="9164520" cy="1947960"/>
            </a:xfrm>
            <a:prstGeom prst="roundRect">
              <a:avLst>
                <a:gd name="adj" fmla="val 7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01840" y="6377040"/>
              <a:ext cx="287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512040" y="550800"/>
            <a:ext cx="3436920" cy="2638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>
            <a:off x="2552760" y="2217600"/>
            <a:ext cx="3827520" cy="5400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64960" y="2217600"/>
            <a:ext cx="2214720" cy="193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95680" y="361800"/>
            <a:ext cx="12160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2600" y="5692680"/>
            <a:ext cx="906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大学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 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行く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1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時間ぐらいかかり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93960" y="1519200"/>
            <a:ext cx="2021040" cy="24973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4" name=""/>
          <p:cNvSpPr/>
          <p:nvPr/>
        </p:nvSpPr>
        <p:spPr>
          <a:xfrm>
            <a:off x="231840" y="2779560"/>
            <a:ext cx="861840" cy="1017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5" name=""/>
          <p:cNvSpPr/>
          <p:nvPr/>
        </p:nvSpPr>
        <p:spPr>
          <a:xfrm>
            <a:off x="601560" y="5540400"/>
            <a:ext cx="8251920" cy="18763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が ちかいですから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6" name=""/>
          <p:cNvSpPr/>
          <p:nvPr/>
        </p:nvSpPr>
        <p:spPr>
          <a:xfrm>
            <a:off x="1108080" y="6561000"/>
            <a:ext cx="795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もの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り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902720" y="103320"/>
            <a:ext cx="2020680" cy="2496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4865760" y="1647720"/>
            <a:ext cx="861840" cy="1017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946080" y="4807080"/>
            <a:ext cx="8101080" cy="2300040"/>
          </a:xfrm>
          <a:prstGeom prst="roundRect">
            <a:avLst>
              <a:gd name="adj" fmla="val 6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ーパーが とおいですから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1270080" y="6113520"/>
            <a:ext cx="79009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もの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べん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93960" y="1519200"/>
            <a:ext cx="2021040" cy="24973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2" name=""/>
          <p:cNvSpPr/>
          <p:nvPr/>
        </p:nvSpPr>
        <p:spPr>
          <a:xfrm>
            <a:off x="1325520" y="4157640"/>
            <a:ext cx="862200" cy="1017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>
            <a:off x="476280" y="476280"/>
            <a:ext cx="938052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723960" y="835200"/>
            <a:ext cx="75819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き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へ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く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り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902720" y="103320"/>
            <a:ext cx="2020680" cy="2496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6049800" y="4195800"/>
            <a:ext cx="862200" cy="10177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7" name=""/>
          <p:cNvSpPr/>
          <p:nvPr/>
        </p:nvSpPr>
        <p:spPr>
          <a:xfrm>
            <a:off x="264960" y="463680"/>
            <a:ext cx="784080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8" name=""/>
          <p:cNvSpPr/>
          <p:nvPr/>
        </p:nvSpPr>
        <p:spPr>
          <a:xfrm>
            <a:off x="392040" y="747720"/>
            <a:ext cx="7342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えき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く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ふべん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9840" y="203040"/>
            <a:ext cx="10078920" cy="7240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77720" y="476280"/>
            <a:ext cx="938052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料理を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の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使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477720" y="476280"/>
            <a:ext cx="938052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1214280" y="882720"/>
            <a:ext cx="62802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りょうり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つかい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1214280" y="882720"/>
            <a:ext cx="18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000" y="1595520"/>
            <a:ext cx="4351320" cy="24969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387360" y="142920"/>
            <a:ext cx="9380520" cy="1265040"/>
          </a:xfrm>
          <a:prstGeom prst="roundRect">
            <a:avLst>
              <a:gd name="adj" fmla="val 12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さいを たべるの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らだ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に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800" y="3767040"/>
            <a:ext cx="360360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3760920" y="3823920"/>
            <a:ext cx="2676240" cy="13525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91200" y="1739880"/>
            <a:ext cx="1909800" cy="257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0200" y="3203640"/>
            <a:ext cx="4068720" cy="24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4440" y="1442880"/>
            <a:ext cx="5657760" cy="2079720"/>
          </a:xfrm>
          <a:prstGeom prst="roundRect">
            <a:avLst>
              <a:gd name="adj" fmla="val 8625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-314280" y="511200"/>
            <a:ext cx="1440" cy="35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531720" y="1882800"/>
            <a:ext cx="5038920" cy="20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す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しょか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へ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06920" y="3733920"/>
            <a:ext cx="1969920" cy="17366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387360" y="142920"/>
            <a:ext cx="9380520" cy="140184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ばこ</a:t>
            </a:r>
            <a:r>
              <a:rPr b="0" lang="ja-JP" sz="44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うの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らだ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に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る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017800" y="250920"/>
            <a:ext cx="3724200" cy="2923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93560" y="2406600"/>
            <a:ext cx="2592720" cy="619920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435400" y="3660840"/>
            <a:ext cx="523800" cy="1042920"/>
            <a:chOff x="2435400" y="3660840"/>
            <a:chExt cx="523800" cy="1042920"/>
          </a:xfrm>
        </p:grpSpPr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2435400" y="3660840"/>
              <a:ext cx="523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498760" y="4487760"/>
              <a:ext cx="393840" cy="93600"/>
            </a:xfrm>
            <a:prstGeom prst="roundRect">
              <a:avLst>
                <a:gd name="adj" fmla="val 1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274920" y="1925640"/>
            <a:ext cx="2365560" cy="7277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462640" y="1324080"/>
            <a:ext cx="4389480" cy="2351160"/>
          </a:xfrm>
          <a:prstGeom prst="wedgeRoundRectCallout">
            <a:avLst>
              <a:gd name="adj1" fmla="val -65583"/>
              <a:gd name="adj2" fmla="val 44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741320"/>
            <a:ext cx="41688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すみません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テレビのつけかた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わからないんですが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63720" y="589428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81200" y="581184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-1444680" y="4149720"/>
            <a:ext cx="3902040" cy="3522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226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113360" y="593640"/>
            <a:ext cx="5811840" cy="2843280"/>
          </a:xfrm>
          <a:prstGeom prst="roundRect">
            <a:avLst>
              <a:gd name="adj" fmla="val 6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4170240" y="1035000"/>
            <a:ext cx="51800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レビを つけ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に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このボタン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して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360" y="573120"/>
            <a:ext cx="2702880" cy="1217520"/>
            <a:chOff x="441360" y="573120"/>
            <a:chExt cx="2702880" cy="1217520"/>
          </a:xfrm>
        </p:grpSpPr>
        <p:grpSp>
          <p:nvGrpSpPr>
            <p:cNvPr id="233" name=""/>
            <p:cNvGrpSpPr/>
            <p:nvPr/>
          </p:nvGrpSpPr>
          <p:grpSpPr>
            <a:xfrm>
              <a:off x="1681920" y="662040"/>
              <a:ext cx="1462320" cy="1128600"/>
              <a:chOff x="1681920" y="662040"/>
              <a:chExt cx="1462320" cy="1128600"/>
            </a:xfrm>
          </p:grpSpPr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81920" y="704880"/>
                <a:ext cx="38556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84000" y="662040"/>
                <a:ext cx="660240" cy="11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6"/>
            <a:stretch/>
          </p:blipFill>
          <p:spPr>
            <a:xfrm>
              <a:off x="441360" y="573120"/>
              <a:ext cx="3589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7"/>
            <a:stretch/>
          </p:blipFill>
          <p:spPr>
            <a:xfrm>
              <a:off x="803160" y="882720"/>
              <a:ext cx="270000" cy="35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241" name="" descr=""/>
            <p:cNvPicPr/>
            <p:nvPr/>
          </p:nvPicPr>
          <p:blipFill>
            <a:blip r:embed="rId10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58200" y="479268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63720" y="589428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81200" y="581184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1457280" y="4995720"/>
            <a:ext cx="3902040" cy="352296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253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441360" y="573120"/>
            <a:ext cx="2702880" cy="1217520"/>
            <a:chOff x="441360" y="573120"/>
            <a:chExt cx="2702880" cy="1217520"/>
          </a:xfrm>
        </p:grpSpPr>
        <p:grpSp>
          <p:nvGrpSpPr>
            <p:cNvPr id="258" name=""/>
            <p:cNvGrpSpPr/>
            <p:nvPr/>
          </p:nvGrpSpPr>
          <p:grpSpPr>
            <a:xfrm>
              <a:off x="1681920" y="662040"/>
              <a:ext cx="1462320" cy="1128600"/>
              <a:chOff x="1681920" y="662040"/>
              <a:chExt cx="1462320" cy="112860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81920" y="704880"/>
                <a:ext cx="38556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84000" y="662040"/>
                <a:ext cx="660240" cy="11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>
              <a:off x="441360" y="573120"/>
              <a:ext cx="3589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803160" y="882720"/>
              <a:ext cx="27000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4114800" y="593640"/>
            <a:ext cx="5811840" cy="2843280"/>
          </a:xfrm>
          <a:prstGeom prst="roundRect">
            <a:avLst>
              <a:gd name="adj" fmla="val 6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4170240" y="1035000"/>
            <a:ext cx="57866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テレビを けす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に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このボタン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して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9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268" name="" descr=""/>
            <p:cNvPicPr/>
            <p:nvPr/>
          </p:nvPicPr>
          <p:blipFill>
            <a:blip r:embed="rId10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558200" y="479412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63720" y="589428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81200" y="581184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-984240" y="5942160"/>
            <a:ext cx="3902040" cy="352260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280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1681200" y="662040"/>
            <a:ext cx="1461960" cy="1128600"/>
            <a:chOff x="1681200" y="662040"/>
            <a:chExt cx="1461960" cy="1128600"/>
          </a:xfrm>
        </p:grpSpPr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1681200" y="704880"/>
              <a:ext cx="38556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5"/>
            <a:stretch/>
          </p:blipFill>
          <p:spPr>
            <a:xfrm>
              <a:off x="2482920" y="662040"/>
              <a:ext cx="660240" cy="11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441360" y="573120"/>
            <a:ext cx="631800" cy="666720"/>
            <a:chOff x="441360" y="573120"/>
            <a:chExt cx="631800" cy="666720"/>
          </a:xfrm>
        </p:grpSpPr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441360" y="573120"/>
              <a:ext cx="3589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7"/>
            <a:stretch/>
          </p:blipFill>
          <p:spPr>
            <a:xfrm>
              <a:off x="803160" y="880920"/>
              <a:ext cx="27000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220680" y="1077840"/>
            <a:ext cx="2619000" cy="2416320"/>
            <a:chOff x="220680" y="1077840"/>
            <a:chExt cx="2619000" cy="2416320"/>
          </a:xfrm>
        </p:grpSpPr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220680" y="1925640"/>
              <a:ext cx="144864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9"/>
            <a:stretch/>
          </p:blipFill>
          <p:spPr>
            <a:xfrm>
              <a:off x="1747080" y="1077840"/>
              <a:ext cx="109260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>
            <a:off x="4114800" y="593640"/>
            <a:ext cx="5811840" cy="2843280"/>
          </a:xfrm>
          <a:prstGeom prst="roundRect">
            <a:avLst>
              <a:gd name="adj" fmla="val 6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4170240" y="1035000"/>
            <a:ext cx="58374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とを おおきく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に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このボタン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して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0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298" name="" descr=""/>
            <p:cNvPicPr/>
            <p:nvPr/>
          </p:nvPicPr>
          <p:blipFill>
            <a:blip r:embed="rId12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558200" y="479412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452760"/>
            <a:ext cx="5491080" cy="4106880"/>
          </a:xfrm>
          <a:prstGeom prst="roundRect">
            <a:avLst>
              <a:gd name="adj" fmla="val 3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96880" y="3495600"/>
            <a:ext cx="1536840" cy="3886200"/>
            <a:chOff x="1496880" y="3495600"/>
            <a:chExt cx="1536840" cy="38862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1496880" y="3495600"/>
              <a:ext cx="1536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181240" y="4113360"/>
              <a:ext cx="303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入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39840" y="4818240"/>
              <a:ext cx="303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切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84440" y="6570720"/>
              <a:ext cx="1155600" cy="355680"/>
            </a:xfrm>
            <a:prstGeom prst="roundRect">
              <a:avLst>
                <a:gd name="adj" fmla="val 44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240" bIns="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itstream Vera Serif"/>
                </a:rPr>
                <a:t>- ch 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63720" y="589428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あくあフォント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81200" y="5811840"/>
              <a:ext cx="2332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84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-2054160" y="5854680"/>
            <a:ext cx="3902040" cy="352260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1273320" y="2401920"/>
            <a:ext cx="2147760" cy="990720"/>
            <a:chOff x="1273320" y="2401920"/>
            <a:chExt cx="2147760" cy="990720"/>
          </a:xfrm>
        </p:grpSpPr>
        <p:sp>
          <p:nvSpPr>
            <p:cNvPr id="310" name=""/>
            <p:cNvSpPr/>
            <p:nvPr/>
          </p:nvSpPr>
          <p:spPr>
            <a:xfrm>
              <a:off x="1662120" y="3125880"/>
              <a:ext cx="1179360" cy="266760"/>
            </a:xfrm>
            <a:custGeom>
              <a:avLst/>
              <a:gdLst/>
              <a:ahLst/>
              <a:rect l="l" t="t" r="r" b="b"/>
              <a:pathLst>
                <a:path w="3135" h="784">
                  <a:moveTo>
                    <a:pt x="3024" y="783"/>
                  </a:moveTo>
                  <a:lnTo>
                    <a:pt x="3052" y="756"/>
                  </a:lnTo>
                  <a:lnTo>
                    <a:pt x="3075" y="729"/>
                  </a:lnTo>
                  <a:lnTo>
                    <a:pt x="3095" y="701"/>
                  </a:lnTo>
                  <a:lnTo>
                    <a:pt x="3110" y="672"/>
                  </a:lnTo>
                  <a:lnTo>
                    <a:pt x="3122" y="644"/>
                  </a:lnTo>
                  <a:lnTo>
                    <a:pt x="3130" y="615"/>
                  </a:lnTo>
                  <a:lnTo>
                    <a:pt x="3134" y="586"/>
                  </a:lnTo>
                  <a:lnTo>
                    <a:pt x="3133" y="558"/>
                  </a:lnTo>
                  <a:lnTo>
                    <a:pt x="3129" y="529"/>
                  </a:lnTo>
                  <a:lnTo>
                    <a:pt x="3121" y="500"/>
                  </a:lnTo>
                  <a:lnTo>
                    <a:pt x="3108" y="471"/>
                  </a:lnTo>
                  <a:lnTo>
                    <a:pt x="3092" y="443"/>
                  </a:lnTo>
                  <a:lnTo>
                    <a:pt x="3072" y="415"/>
                  </a:lnTo>
                  <a:lnTo>
                    <a:pt x="3048" y="388"/>
                  </a:lnTo>
                  <a:lnTo>
                    <a:pt x="3020" y="361"/>
                  </a:lnTo>
                  <a:lnTo>
                    <a:pt x="2989" y="334"/>
                  </a:lnTo>
                  <a:lnTo>
                    <a:pt x="2953" y="308"/>
                  </a:lnTo>
                  <a:lnTo>
                    <a:pt x="2915" y="283"/>
                  </a:lnTo>
                  <a:lnTo>
                    <a:pt x="2872" y="259"/>
                  </a:lnTo>
                  <a:lnTo>
                    <a:pt x="2827" y="235"/>
                  </a:lnTo>
                  <a:lnTo>
                    <a:pt x="2778" y="212"/>
                  </a:lnTo>
                  <a:lnTo>
                    <a:pt x="2726" y="190"/>
                  </a:lnTo>
                  <a:lnTo>
                    <a:pt x="2671" y="169"/>
                  </a:lnTo>
                  <a:lnTo>
                    <a:pt x="2613" y="149"/>
                  </a:lnTo>
                  <a:lnTo>
                    <a:pt x="2552" y="130"/>
                  </a:lnTo>
                  <a:lnTo>
                    <a:pt x="2489" y="113"/>
                  </a:lnTo>
                  <a:lnTo>
                    <a:pt x="2424" y="96"/>
                  </a:lnTo>
                  <a:lnTo>
                    <a:pt x="2356" y="81"/>
                  </a:lnTo>
                  <a:lnTo>
                    <a:pt x="2286" y="67"/>
                  </a:lnTo>
                  <a:lnTo>
                    <a:pt x="2215" y="54"/>
                  </a:lnTo>
                  <a:lnTo>
                    <a:pt x="2141" y="42"/>
                  </a:lnTo>
                  <a:lnTo>
                    <a:pt x="2067" y="32"/>
                  </a:lnTo>
                  <a:lnTo>
                    <a:pt x="1990" y="23"/>
                  </a:lnTo>
                  <a:lnTo>
                    <a:pt x="1913" y="16"/>
                  </a:lnTo>
                  <a:lnTo>
                    <a:pt x="1835" y="10"/>
                  </a:lnTo>
                  <a:lnTo>
                    <a:pt x="1756" y="5"/>
                  </a:lnTo>
                  <a:lnTo>
                    <a:pt x="1676" y="2"/>
                  </a:lnTo>
                  <a:lnTo>
                    <a:pt x="1597" y="0"/>
                  </a:lnTo>
                  <a:lnTo>
                    <a:pt x="1517" y="0"/>
                  </a:lnTo>
                  <a:lnTo>
                    <a:pt x="1437" y="1"/>
                  </a:lnTo>
                  <a:lnTo>
                    <a:pt x="1357" y="4"/>
                  </a:lnTo>
                  <a:lnTo>
                    <a:pt x="1278" y="8"/>
                  </a:lnTo>
                  <a:lnTo>
                    <a:pt x="1199" y="14"/>
                  </a:lnTo>
                  <a:lnTo>
                    <a:pt x="1122" y="20"/>
                  </a:lnTo>
                  <a:lnTo>
                    <a:pt x="1045" y="29"/>
                  </a:lnTo>
                  <a:lnTo>
                    <a:pt x="970" y="39"/>
                  </a:lnTo>
                  <a:lnTo>
                    <a:pt x="896" y="50"/>
                  </a:lnTo>
                  <a:lnTo>
                    <a:pt x="824" y="62"/>
                  </a:lnTo>
                  <a:lnTo>
                    <a:pt x="753" y="76"/>
                  </a:lnTo>
                  <a:lnTo>
                    <a:pt x="685" y="91"/>
                  </a:lnTo>
                  <a:lnTo>
                    <a:pt x="619" y="107"/>
                  </a:lnTo>
                  <a:lnTo>
                    <a:pt x="555" y="124"/>
                  </a:lnTo>
                  <a:lnTo>
                    <a:pt x="493" y="143"/>
                  </a:lnTo>
                  <a:lnTo>
                    <a:pt x="434" y="162"/>
                  </a:lnTo>
                  <a:lnTo>
                    <a:pt x="379" y="183"/>
                  </a:lnTo>
                  <a:lnTo>
                    <a:pt x="325" y="204"/>
                  </a:lnTo>
                  <a:lnTo>
                    <a:pt x="276" y="227"/>
                  </a:lnTo>
                  <a:lnTo>
                    <a:pt x="229" y="250"/>
                  </a:lnTo>
                  <a:lnTo>
                    <a:pt x="185" y="275"/>
                  </a:lnTo>
                  <a:lnTo>
                    <a:pt x="145" y="300"/>
                  </a:lnTo>
                  <a:lnTo>
                    <a:pt x="109" y="325"/>
                  </a:lnTo>
                  <a:lnTo>
                    <a:pt x="76" y="352"/>
                  </a:lnTo>
                  <a:lnTo>
                    <a:pt x="47" y="379"/>
                  </a:lnTo>
                  <a:lnTo>
                    <a:pt x="22" y="406"/>
                  </a:lnTo>
                  <a:lnTo>
                    <a:pt x="0" y="434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33600" y="2730600"/>
              <a:ext cx="1641240" cy="288720"/>
            </a:xfrm>
            <a:custGeom>
              <a:avLst/>
              <a:gdLst/>
              <a:ahLst/>
              <a:rect l="l" t="t" r="r" b="b"/>
              <a:pathLst>
                <a:path w="4359" h="853">
                  <a:moveTo>
                    <a:pt x="4078" y="852"/>
                  </a:moveTo>
                  <a:lnTo>
                    <a:pt x="4130" y="826"/>
                  </a:lnTo>
                  <a:lnTo>
                    <a:pt x="4177" y="800"/>
                  </a:lnTo>
                  <a:lnTo>
                    <a:pt x="4218" y="773"/>
                  </a:lnTo>
                  <a:lnTo>
                    <a:pt x="4255" y="746"/>
                  </a:lnTo>
                  <a:lnTo>
                    <a:pt x="4286" y="719"/>
                  </a:lnTo>
                  <a:lnTo>
                    <a:pt x="4311" y="691"/>
                  </a:lnTo>
                  <a:lnTo>
                    <a:pt x="4331" y="662"/>
                  </a:lnTo>
                  <a:lnTo>
                    <a:pt x="4346" y="634"/>
                  </a:lnTo>
                  <a:lnTo>
                    <a:pt x="4355" y="605"/>
                  </a:lnTo>
                  <a:lnTo>
                    <a:pt x="4358" y="576"/>
                  </a:lnTo>
                  <a:lnTo>
                    <a:pt x="4356" y="548"/>
                  </a:lnTo>
                  <a:lnTo>
                    <a:pt x="4348" y="519"/>
                  </a:lnTo>
                  <a:lnTo>
                    <a:pt x="4334" y="491"/>
                  </a:lnTo>
                  <a:lnTo>
                    <a:pt x="4315" y="462"/>
                  </a:lnTo>
                  <a:lnTo>
                    <a:pt x="4290" y="434"/>
                  </a:lnTo>
                  <a:lnTo>
                    <a:pt x="4260" y="406"/>
                  </a:lnTo>
                  <a:lnTo>
                    <a:pt x="4225" y="379"/>
                  </a:lnTo>
                  <a:lnTo>
                    <a:pt x="4184" y="352"/>
                  </a:lnTo>
                  <a:lnTo>
                    <a:pt x="4138" y="326"/>
                  </a:lnTo>
                  <a:lnTo>
                    <a:pt x="4087" y="301"/>
                  </a:lnTo>
                  <a:lnTo>
                    <a:pt x="4031" y="276"/>
                  </a:lnTo>
                  <a:lnTo>
                    <a:pt x="3970" y="251"/>
                  </a:lnTo>
                  <a:lnTo>
                    <a:pt x="3905" y="228"/>
                  </a:lnTo>
                  <a:lnTo>
                    <a:pt x="3835" y="206"/>
                  </a:lnTo>
                  <a:lnTo>
                    <a:pt x="3761" y="184"/>
                  </a:lnTo>
                  <a:lnTo>
                    <a:pt x="3682" y="163"/>
                  </a:lnTo>
                  <a:lnTo>
                    <a:pt x="3600" y="144"/>
                  </a:lnTo>
                  <a:lnTo>
                    <a:pt x="3514" y="125"/>
                  </a:lnTo>
                  <a:lnTo>
                    <a:pt x="3424" y="108"/>
                  </a:lnTo>
                  <a:lnTo>
                    <a:pt x="3332" y="92"/>
                  </a:lnTo>
                  <a:lnTo>
                    <a:pt x="3236" y="77"/>
                  </a:lnTo>
                  <a:lnTo>
                    <a:pt x="3137" y="63"/>
                  </a:lnTo>
                  <a:lnTo>
                    <a:pt x="3036" y="51"/>
                  </a:lnTo>
                  <a:lnTo>
                    <a:pt x="2932" y="40"/>
                  </a:lnTo>
                  <a:lnTo>
                    <a:pt x="2826" y="30"/>
                  </a:lnTo>
                  <a:lnTo>
                    <a:pt x="2719" y="21"/>
                  </a:lnTo>
                  <a:lnTo>
                    <a:pt x="2610" y="14"/>
                  </a:lnTo>
                  <a:lnTo>
                    <a:pt x="2500" y="9"/>
                  </a:lnTo>
                  <a:lnTo>
                    <a:pt x="2389" y="4"/>
                  </a:lnTo>
                  <a:lnTo>
                    <a:pt x="2277" y="2"/>
                  </a:lnTo>
                  <a:lnTo>
                    <a:pt x="2165" y="0"/>
                  </a:lnTo>
                  <a:lnTo>
                    <a:pt x="2052" y="0"/>
                  </a:lnTo>
                  <a:lnTo>
                    <a:pt x="1940" y="2"/>
                  </a:lnTo>
                  <a:lnTo>
                    <a:pt x="1828" y="5"/>
                  </a:lnTo>
                  <a:lnTo>
                    <a:pt x="1717" y="9"/>
                  </a:lnTo>
                  <a:lnTo>
                    <a:pt x="1607" y="15"/>
                  </a:lnTo>
                  <a:lnTo>
                    <a:pt x="1499" y="22"/>
                  </a:lnTo>
                  <a:lnTo>
                    <a:pt x="1391" y="31"/>
                  </a:lnTo>
                  <a:lnTo>
                    <a:pt x="1286" y="41"/>
                  </a:lnTo>
                  <a:lnTo>
                    <a:pt x="1182" y="52"/>
                  </a:lnTo>
                  <a:lnTo>
                    <a:pt x="1081" y="64"/>
                  </a:lnTo>
                  <a:lnTo>
                    <a:pt x="983" y="78"/>
                  </a:lnTo>
                  <a:lnTo>
                    <a:pt x="887" y="93"/>
                  </a:lnTo>
                  <a:lnTo>
                    <a:pt x="795" y="110"/>
                  </a:lnTo>
                  <a:lnTo>
                    <a:pt x="706" y="127"/>
                  </a:lnTo>
                  <a:lnTo>
                    <a:pt x="620" y="146"/>
                  </a:lnTo>
                  <a:lnTo>
                    <a:pt x="538" y="165"/>
                  </a:lnTo>
                  <a:lnTo>
                    <a:pt x="460" y="186"/>
                  </a:lnTo>
                  <a:lnTo>
                    <a:pt x="386" y="208"/>
                  </a:lnTo>
                  <a:lnTo>
                    <a:pt x="317" y="230"/>
                  </a:lnTo>
                  <a:lnTo>
                    <a:pt x="252" y="254"/>
                  </a:lnTo>
                  <a:lnTo>
                    <a:pt x="191" y="278"/>
                  </a:lnTo>
                  <a:lnTo>
                    <a:pt x="136" y="303"/>
                  </a:lnTo>
                  <a:lnTo>
                    <a:pt x="85" y="329"/>
                  </a:lnTo>
                  <a:lnTo>
                    <a:pt x="40" y="355"/>
                  </a:lnTo>
                  <a:lnTo>
                    <a:pt x="0" y="382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2401920"/>
              <a:ext cx="2147760" cy="312840"/>
            </a:xfrm>
            <a:custGeom>
              <a:avLst/>
              <a:gdLst/>
              <a:ahLst/>
              <a:rect l="l" t="t" r="r" b="b"/>
              <a:pathLst>
                <a:path w="5699" h="916">
                  <a:moveTo>
                    <a:pt x="5114" y="915"/>
                  </a:moveTo>
                  <a:lnTo>
                    <a:pt x="5201" y="891"/>
                  </a:lnTo>
                  <a:lnTo>
                    <a:pt x="5281" y="866"/>
                  </a:lnTo>
                  <a:lnTo>
                    <a:pt x="5355" y="841"/>
                  </a:lnTo>
                  <a:lnTo>
                    <a:pt x="5422" y="815"/>
                  </a:lnTo>
                  <a:lnTo>
                    <a:pt x="5482" y="788"/>
                  </a:lnTo>
                  <a:lnTo>
                    <a:pt x="5535" y="761"/>
                  </a:lnTo>
                  <a:lnTo>
                    <a:pt x="5581" y="734"/>
                  </a:lnTo>
                  <a:lnTo>
                    <a:pt x="5619" y="706"/>
                  </a:lnTo>
                  <a:lnTo>
                    <a:pt x="5650" y="677"/>
                  </a:lnTo>
                  <a:lnTo>
                    <a:pt x="5674" y="649"/>
                  </a:lnTo>
                  <a:lnTo>
                    <a:pt x="5689" y="620"/>
                  </a:lnTo>
                  <a:lnTo>
                    <a:pt x="5698" y="591"/>
                  </a:lnTo>
                  <a:lnTo>
                    <a:pt x="5698" y="562"/>
                  </a:lnTo>
                  <a:lnTo>
                    <a:pt x="5691" y="533"/>
                  </a:lnTo>
                  <a:lnTo>
                    <a:pt x="5677" y="504"/>
                  </a:lnTo>
                  <a:lnTo>
                    <a:pt x="5654" y="475"/>
                  </a:lnTo>
                  <a:lnTo>
                    <a:pt x="5625" y="447"/>
                  </a:lnTo>
                  <a:lnTo>
                    <a:pt x="5587" y="419"/>
                  </a:lnTo>
                  <a:lnTo>
                    <a:pt x="5543" y="391"/>
                  </a:lnTo>
                  <a:lnTo>
                    <a:pt x="5491" y="364"/>
                  </a:lnTo>
                  <a:lnTo>
                    <a:pt x="5432" y="337"/>
                  </a:lnTo>
                  <a:lnTo>
                    <a:pt x="5366" y="311"/>
                  </a:lnTo>
                  <a:lnTo>
                    <a:pt x="5294" y="286"/>
                  </a:lnTo>
                  <a:lnTo>
                    <a:pt x="5214" y="261"/>
                  </a:lnTo>
                  <a:lnTo>
                    <a:pt x="5129" y="237"/>
                  </a:lnTo>
                  <a:lnTo>
                    <a:pt x="5037" y="214"/>
                  </a:lnTo>
                  <a:lnTo>
                    <a:pt x="4939" y="192"/>
                  </a:lnTo>
                  <a:lnTo>
                    <a:pt x="4835" y="171"/>
                  </a:lnTo>
                  <a:lnTo>
                    <a:pt x="4727" y="151"/>
                  </a:lnTo>
                  <a:lnTo>
                    <a:pt x="4612" y="132"/>
                  </a:lnTo>
                  <a:lnTo>
                    <a:pt x="4493" y="114"/>
                  </a:lnTo>
                  <a:lnTo>
                    <a:pt x="4370" y="97"/>
                  </a:lnTo>
                  <a:lnTo>
                    <a:pt x="4242" y="81"/>
                  </a:lnTo>
                  <a:lnTo>
                    <a:pt x="4110" y="67"/>
                  </a:lnTo>
                  <a:lnTo>
                    <a:pt x="3975" y="54"/>
                  </a:lnTo>
                  <a:lnTo>
                    <a:pt x="3837" y="43"/>
                  </a:lnTo>
                  <a:lnTo>
                    <a:pt x="3695" y="32"/>
                  </a:lnTo>
                  <a:lnTo>
                    <a:pt x="3551" y="23"/>
                  </a:lnTo>
                  <a:lnTo>
                    <a:pt x="3405" y="16"/>
                  </a:lnTo>
                  <a:lnTo>
                    <a:pt x="3257" y="10"/>
                  </a:lnTo>
                  <a:lnTo>
                    <a:pt x="3108" y="5"/>
                  </a:lnTo>
                  <a:lnTo>
                    <a:pt x="2958" y="2"/>
                  </a:lnTo>
                  <a:lnTo>
                    <a:pt x="2807" y="0"/>
                  </a:lnTo>
                  <a:lnTo>
                    <a:pt x="2655" y="0"/>
                  </a:lnTo>
                  <a:lnTo>
                    <a:pt x="2504" y="1"/>
                  </a:lnTo>
                  <a:lnTo>
                    <a:pt x="2354" y="4"/>
                  </a:lnTo>
                  <a:lnTo>
                    <a:pt x="2204" y="8"/>
                  </a:lnTo>
                  <a:lnTo>
                    <a:pt x="2056" y="14"/>
                  </a:lnTo>
                  <a:lnTo>
                    <a:pt x="1909" y="21"/>
                  </a:lnTo>
                  <a:lnTo>
                    <a:pt x="1764" y="29"/>
                  </a:lnTo>
                  <a:lnTo>
                    <a:pt x="1622" y="39"/>
                  </a:lnTo>
                  <a:lnTo>
                    <a:pt x="1482" y="50"/>
                  </a:lnTo>
                  <a:lnTo>
                    <a:pt x="1346" y="63"/>
                  </a:lnTo>
                  <a:lnTo>
                    <a:pt x="1213" y="76"/>
                  </a:lnTo>
                  <a:lnTo>
                    <a:pt x="1084" y="91"/>
                  </a:lnTo>
                  <a:lnTo>
                    <a:pt x="959" y="108"/>
                  </a:lnTo>
                  <a:lnTo>
                    <a:pt x="838" y="125"/>
                  </a:lnTo>
                  <a:lnTo>
                    <a:pt x="722" y="144"/>
                  </a:lnTo>
                  <a:lnTo>
                    <a:pt x="611" y="164"/>
                  </a:lnTo>
                  <a:lnTo>
                    <a:pt x="506" y="184"/>
                  </a:lnTo>
                  <a:lnTo>
                    <a:pt x="406" y="206"/>
                  </a:lnTo>
                  <a:lnTo>
                    <a:pt x="312" y="229"/>
                  </a:lnTo>
                  <a:lnTo>
                    <a:pt x="224" y="253"/>
                  </a:lnTo>
                  <a:lnTo>
                    <a:pt x="143" y="277"/>
                  </a:lnTo>
                  <a:lnTo>
                    <a:pt x="68" y="302"/>
                  </a:lnTo>
                  <a:lnTo>
                    <a:pt x="0" y="328"/>
                  </a:ln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117440" y="235080"/>
            <a:ext cx="2484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1681200" y="662040"/>
            <a:ext cx="1461960" cy="1128600"/>
            <a:chOff x="1681200" y="662040"/>
            <a:chExt cx="1461960" cy="1128600"/>
          </a:xfrm>
        </p:grpSpPr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1681200" y="704880"/>
              <a:ext cx="38556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"/>
            <a:stretch/>
          </p:blipFill>
          <p:spPr>
            <a:xfrm>
              <a:off x="2482920" y="662040"/>
              <a:ext cx="660240" cy="11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441360" y="573120"/>
            <a:ext cx="631800" cy="666720"/>
            <a:chOff x="441360" y="573120"/>
            <a:chExt cx="631800" cy="666720"/>
          </a:xfrm>
        </p:grpSpPr>
        <p:pic>
          <p:nvPicPr>
            <p:cNvPr id="318" name="" descr=""/>
            <p:cNvPicPr/>
            <p:nvPr/>
          </p:nvPicPr>
          <p:blipFill>
            <a:blip r:embed="rId6"/>
            <a:stretch/>
          </p:blipFill>
          <p:spPr>
            <a:xfrm>
              <a:off x="441360" y="573120"/>
              <a:ext cx="3589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7"/>
            <a:stretch/>
          </p:blipFill>
          <p:spPr>
            <a:xfrm>
              <a:off x="803160" y="880920"/>
              <a:ext cx="27000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20680" y="1077840"/>
            <a:ext cx="2619000" cy="2416320"/>
            <a:chOff x="220680" y="1077840"/>
            <a:chExt cx="2619000" cy="2416320"/>
          </a:xfrm>
        </p:grpSpPr>
        <p:pic>
          <p:nvPicPr>
            <p:cNvPr id="321" name="" descr=""/>
            <p:cNvPicPr/>
            <p:nvPr/>
          </p:nvPicPr>
          <p:blipFill>
            <a:blip r:embed="rId8"/>
            <a:stretch/>
          </p:blipFill>
          <p:spPr>
            <a:xfrm>
              <a:off x="220680" y="1925640"/>
              <a:ext cx="1448640" cy="15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9"/>
            <a:stretch/>
          </p:blipFill>
          <p:spPr>
            <a:xfrm>
              <a:off x="1747080" y="1077840"/>
              <a:ext cx="109260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4114800" y="593640"/>
            <a:ext cx="5811840" cy="2843280"/>
          </a:xfrm>
          <a:prstGeom prst="roundRect">
            <a:avLst>
              <a:gd name="adj" fmla="val 631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4" name=""/>
          <p:cNvSpPr/>
          <p:nvPr/>
        </p:nvSpPr>
        <p:spPr>
          <a:xfrm>
            <a:off x="4170240" y="1035000"/>
            <a:ext cx="58374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とを ちいさくする</a:t>
            </a:r>
            <a:r>
              <a:rPr b="0" lang="ja-JP" sz="4000" spc="-1" strike="noStrike">
                <a:solidFill>
                  <a:srgbClr val="ff0000"/>
                </a:solidFill>
                <a:latin typeface="Y.OzN_'04"/>
                <a:ea typeface="Y.OzN_'04"/>
              </a:rPr>
              <a:t>に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このボタン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おして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6399360" y="3632040"/>
            <a:ext cx="1577880" cy="3772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8191440" y="3139920"/>
            <a:ext cx="1373400" cy="422604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7510320" y="4167360"/>
            <a:ext cx="397080" cy="788760"/>
            <a:chOff x="7510320" y="4167360"/>
            <a:chExt cx="397080" cy="788760"/>
          </a:xfrm>
        </p:grpSpPr>
        <p:pic>
          <p:nvPicPr>
            <p:cNvPr id="328" name="" descr=""/>
            <p:cNvPicPr/>
            <p:nvPr/>
          </p:nvPicPr>
          <p:blipFill>
            <a:blip r:embed="rId12"/>
            <a:stretch/>
          </p:blipFill>
          <p:spPr>
            <a:xfrm>
              <a:off x="7510320" y="4167360"/>
              <a:ext cx="3970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558200" y="4794120"/>
              <a:ext cx="296640" cy="69840"/>
            </a:xfrm>
            <a:prstGeom prst="roundRect">
              <a:avLst>
                <a:gd name="adj" fmla="val 2171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454800" y="2000160"/>
            <a:ext cx="2449440" cy="7559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72960" y="2098800"/>
            <a:ext cx="2489400" cy="7559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952640" y="3538440"/>
            <a:ext cx="7446960" cy="2486160"/>
          </a:xfrm>
          <a:prstGeom prst="wedgeRoundRectCallout">
            <a:avLst>
              <a:gd name="adj1" fmla="val -49796"/>
              <a:gd name="adj2" fmla="val -6001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>
            <a:off x="1635120" y="420840"/>
            <a:ext cx="7078680" cy="1422360"/>
          </a:xfrm>
          <a:prstGeom prst="wedgeRoundRectCallout">
            <a:avLst>
              <a:gd name="adj1" fmla="val 20212"/>
              <a:gd name="adj2" fmla="val 9711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どうしたら にほんごが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じょうずに なり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2386080" y="3759120"/>
            <a:ext cx="187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そうですね…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5" name=""/>
          <p:cNvSpPr/>
          <p:nvPr/>
        </p:nvSpPr>
        <p:spPr>
          <a:xfrm>
            <a:off x="2370240" y="4840200"/>
            <a:ext cx="68691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の ラジオを きいたほうがいいですよ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6" name=""/>
          <p:cNvSpPr/>
          <p:nvPr/>
        </p:nvSpPr>
        <p:spPr>
          <a:xfrm>
            <a:off x="2417760" y="4233960"/>
            <a:ext cx="65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にほんごが じょうずになる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7" name=""/>
          <p:cNvSpPr/>
          <p:nvPr/>
        </p:nvSpPr>
        <p:spPr>
          <a:xfrm>
            <a:off x="4773600" y="1730520"/>
            <a:ext cx="12600" cy="22939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8" name=""/>
          <p:cNvSpPr/>
          <p:nvPr/>
        </p:nvSpPr>
        <p:spPr>
          <a:xfrm>
            <a:off x="1987560" y="4013280"/>
            <a:ext cx="7178760" cy="83340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226200" y="1052640"/>
            <a:ext cx="3457440" cy="50194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273640" y="2949480"/>
            <a:ext cx="2152800" cy="6515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19040" y="3730680"/>
            <a:ext cx="16668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23840" y="5940360"/>
            <a:ext cx="4248000" cy="2747880"/>
            <a:chOff x="123840" y="5940360"/>
            <a:chExt cx="4248000" cy="2747880"/>
          </a:xfrm>
        </p:grpSpPr>
        <p:sp>
          <p:nvSpPr>
            <p:cNvPr id="343" name=""/>
            <p:cNvSpPr/>
            <p:nvPr/>
          </p:nvSpPr>
          <p:spPr>
            <a:xfrm>
              <a:off x="123840" y="5940360"/>
              <a:ext cx="4248000" cy="2747880"/>
            </a:xfrm>
            <a:custGeom>
              <a:avLst/>
              <a:gdLst/>
              <a:ahLst/>
              <a:rect l="l" t="t" r="r" b="b"/>
              <a:pathLst>
                <a:path w="11810" h="7644">
                  <a:moveTo>
                    <a:pt x="11809" y="7643"/>
                  </a:moveTo>
                  <a:lnTo>
                    <a:pt x="11809" y="1910"/>
                  </a:lnTo>
                  <a:lnTo>
                    <a:pt x="9898" y="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  <a:lnTo>
                    <a:pt x="11809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3840" y="5940360"/>
              <a:ext cx="4248000" cy="684360"/>
            </a:xfrm>
            <a:custGeom>
              <a:avLst/>
              <a:gdLst/>
              <a:ahLst/>
              <a:rect l="l" t="t" r="r" b="b"/>
              <a:pathLst>
                <a:path w="11810" h="1911">
                  <a:moveTo>
                    <a:pt x="11809" y="1910"/>
                  </a:moveTo>
                  <a:lnTo>
                    <a:pt x="9898" y="0"/>
                  </a:lnTo>
                  <a:lnTo>
                    <a:pt x="0" y="0"/>
                  </a:lnTo>
                  <a:lnTo>
                    <a:pt x="1911" y="1910"/>
                  </a:lnTo>
                  <a:lnTo>
                    <a:pt x="11809" y="1910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3840" y="5940360"/>
              <a:ext cx="685800" cy="2747880"/>
            </a:xfrm>
            <a:custGeom>
              <a:avLst/>
              <a:gdLst/>
              <a:ahLst/>
              <a:rect l="l" t="t" r="r" b="b"/>
              <a:pathLst>
                <a:path w="1912" h="7644">
                  <a:moveTo>
                    <a:pt x="1911" y="7643"/>
                  </a:moveTo>
                  <a:lnTo>
                    <a:pt x="1911" y="1910"/>
                  </a:lnTo>
                  <a:lnTo>
                    <a:pt x="0" y="0"/>
                  </a:lnTo>
                  <a:lnTo>
                    <a:pt x="0" y="5733"/>
                  </a:lnTo>
                  <a:lnTo>
                    <a:pt x="1911" y="764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21280" y="136440"/>
            <a:ext cx="5416560" cy="2316240"/>
          </a:xfrm>
          <a:prstGeom prst="wedgeRoundRectCallout">
            <a:avLst>
              <a:gd name="adj1" fmla="val -19189"/>
              <a:gd name="adj2" fmla="val 870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7" name=""/>
          <p:cNvSpPr/>
          <p:nvPr/>
        </p:nvSpPr>
        <p:spPr>
          <a:xfrm>
            <a:off x="4146480" y="622440"/>
            <a:ext cx="541656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を かりたいんですが どうすれば いい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8" name=""/>
          <p:cNvSpPr/>
          <p:nvPr/>
        </p:nvSpPr>
        <p:spPr>
          <a:xfrm>
            <a:off x="162000" y="1681200"/>
            <a:ext cx="5427720" cy="2092320"/>
          </a:xfrm>
          <a:prstGeom prst="wedgeRoundRectCallout">
            <a:avLst>
              <a:gd name="adj1" fmla="val -17662"/>
              <a:gd name="adj2" fmla="val 6724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9" name=""/>
          <p:cNvSpPr/>
          <p:nvPr/>
        </p:nvSpPr>
        <p:spPr>
          <a:xfrm>
            <a:off x="473040" y="2590920"/>
            <a:ext cx="497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ここでカード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くって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0" name=""/>
          <p:cNvSpPr/>
          <p:nvPr/>
        </p:nvSpPr>
        <p:spPr>
          <a:xfrm>
            <a:off x="485640" y="1954080"/>
            <a:ext cx="3724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本を かりる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15880" y="485640"/>
            <a:ext cx="9209160" cy="1703520"/>
          </a:xfrm>
          <a:prstGeom prst="roundRect">
            <a:avLst>
              <a:gd name="adj" fmla="val 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びわが ほしいですが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95760" y="4160880"/>
            <a:ext cx="6032520" cy="2263680"/>
          </a:xfrm>
          <a:custGeom>
            <a:avLst/>
            <a:gdLst>
              <a:gd name="textAreaLeft" fmla="*/ 1326600 w 6032520"/>
              <a:gd name="textAreaRight" fmla="*/ 4705920 w 6032520"/>
              <a:gd name="textAreaTop" fmla="*/ 497520 h 2263680"/>
              <a:gd name="textAreaBottom" fmla="*/ 1766160 h 226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603840" y="2359080"/>
            <a:ext cx="2133720" cy="6477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397240" y="4359240"/>
            <a:ext cx="909360" cy="1125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09840" y="5560920"/>
            <a:ext cx="2577960" cy="666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20000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え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6" name=""/>
          <p:cNvSpPr/>
          <p:nvPr/>
        </p:nvSpPr>
        <p:spPr>
          <a:xfrm>
            <a:off x="4935600" y="3675240"/>
            <a:ext cx="2052720" cy="833400"/>
          </a:xfrm>
          <a:prstGeom prst="wedgeRectCallout">
            <a:avLst>
              <a:gd name="adj1" fmla="val 71865"/>
              <a:gd name="adj2" fmla="val 7304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2000</a:t>
            </a:r>
            <a:r>
              <a:rPr b="0" lang="ja-JP" sz="3200" spc="-1" strike="noStrike">
                <a:solidFill>
                  <a:srgbClr val="000000"/>
                </a:solidFill>
                <a:latin typeface="Bitstream Vera Serif"/>
                <a:ea typeface="YOzFontP04"/>
              </a:rPr>
              <a:t>え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519200"/>
            <a:ext cx="9869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ゆびわを かう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金がたりません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9840" y="185760"/>
            <a:ext cx="10078920" cy="7272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77720" y="476280"/>
            <a:ext cx="9380520" cy="116352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キーをする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は</a:t>
            </a: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 ゆきが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YOzFontNP04"/>
                <a:ea typeface="YOzFontNP04"/>
              </a:rPr>
              <a:t>すくないです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08600" y="1247760"/>
            <a:ext cx="5018040" cy="443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96120" y="1560600"/>
            <a:ext cx="944640" cy="271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78400" y="3041640"/>
            <a:ext cx="3206880" cy="146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8920" y="301680"/>
            <a:ext cx="880416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56040" y="4481640"/>
            <a:ext cx="2817720" cy="128880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117440" y="4002120"/>
            <a:ext cx="1600200" cy="469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560" y="662040"/>
            <a:ext cx="908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たらく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日本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4626000" y="227016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たらき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-4861080" y="103320"/>
            <a:ext cx="10079280" cy="7240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751280" y="1432080"/>
            <a:ext cx="5146920" cy="281304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50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よぐ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には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まだ さむ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69920" y="5342040"/>
            <a:ext cx="5504040" cy="131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3" name=""/>
          <p:cNvSpPr/>
          <p:nvPr/>
        </p:nvSpPr>
        <p:spPr>
          <a:xfrm>
            <a:off x="5460840" y="208080"/>
            <a:ext cx="4478400" cy="450360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975280" y="353880"/>
            <a:ext cx="3382920" cy="38293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27160" y="1095480"/>
            <a:ext cx="544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日本のけっこんしき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200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万円、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300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万円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400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万円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6" name=""/>
          <p:cNvSpPr/>
          <p:nvPr/>
        </p:nvSpPr>
        <p:spPr>
          <a:xfrm>
            <a:off x="1239840" y="5668920"/>
            <a:ext cx="56973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20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万円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は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り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15160" y="2146320"/>
            <a:ext cx="2995560" cy="7559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407960" y="250920"/>
            <a:ext cx="722520" cy="2627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66680" y="2886120"/>
            <a:ext cx="3181320" cy="7048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200,000€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848040"/>
            <a:ext cx="4297320" cy="1013040"/>
          </a:xfrm>
          <a:prstGeom prst="rect">
            <a:avLst/>
          </a:prstGeom>
          <a:solidFill>
            <a:srgbClr val="99284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1" name=""/>
          <p:cNvSpPr/>
          <p:nvPr/>
        </p:nvSpPr>
        <p:spPr>
          <a:xfrm>
            <a:off x="4194000" y="0"/>
            <a:ext cx="1800" cy="3900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979640"/>
            <a:ext cx="28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3" name=""/>
          <p:cNvSpPr/>
          <p:nvPr/>
        </p:nvSpPr>
        <p:spPr>
          <a:xfrm>
            <a:off x="2879640" y="1979640"/>
            <a:ext cx="1352520" cy="183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79640" y="-3600"/>
            <a:ext cx="1800" cy="1986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" y="5853240"/>
            <a:ext cx="9644040" cy="14810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6" name=""/>
          <p:cNvSpPr/>
          <p:nvPr/>
        </p:nvSpPr>
        <p:spPr>
          <a:xfrm>
            <a:off x="166680" y="2592360"/>
            <a:ext cx="3425760" cy="130176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7" name=""/>
          <p:cNvSpPr/>
          <p:nvPr/>
        </p:nvSpPr>
        <p:spPr>
          <a:xfrm>
            <a:off x="5808600" y="703440"/>
            <a:ext cx="1776600" cy="169848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900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YOzFontNP04"/>
                <a:ea typeface="YOzFontNP04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481720" y="2197080"/>
            <a:ext cx="1147680" cy="41101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9" name=""/>
          <p:cNvSpPr/>
          <p:nvPr/>
        </p:nvSpPr>
        <p:spPr>
          <a:xfrm>
            <a:off x="2319480" y="6330960"/>
            <a:ext cx="5916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20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万ユーロ</a:t>
            </a:r>
            <a:r>
              <a:rPr b="0" lang="ja-JP" sz="4400" spc="-1" strike="noStrike">
                <a:solidFill>
                  <a:srgbClr val="ff0000"/>
                </a:solidFill>
                <a:latin typeface="YOzFontNP04"/>
                <a:ea typeface="YOzFontNP04"/>
              </a:rPr>
              <a:t>も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08600" y="1247760"/>
            <a:ext cx="5018040" cy="443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96120" y="1560600"/>
            <a:ext cx="944640" cy="271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78400" y="3041640"/>
            <a:ext cx="3206880" cy="1469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8920" y="301680"/>
            <a:ext cx="880416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056040" y="4481640"/>
            <a:ext cx="2817720" cy="1288800"/>
          </a:xfrm>
          <a:prstGeom prst="line">
            <a:avLst/>
          </a:prstGeom>
          <a:ln w="180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17440" y="4002120"/>
            <a:ext cx="1600200" cy="469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1560" y="662040"/>
            <a:ext cx="908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ごと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日本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4394160" y="2274840"/>
            <a:ext cx="240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ご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1920" y="2851200"/>
            <a:ext cx="6392880" cy="440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18240" y="1382760"/>
            <a:ext cx="4755960" cy="4668840"/>
          </a:xfrm>
          <a:prstGeom prst="cloudCallout">
            <a:avLst>
              <a:gd name="adj1" fmla="val -71203"/>
              <a:gd name="adj2" fmla="val -137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3" name=""/>
          <p:cNvSpPr/>
          <p:nvPr/>
        </p:nvSpPr>
        <p:spPr>
          <a:xfrm>
            <a:off x="146160" y="385920"/>
            <a:ext cx="9723240" cy="1412640"/>
          </a:xfrm>
          <a:prstGeom prst="roundRect">
            <a:avLst>
              <a:gd name="adj" fmla="val 12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56520" y="1879560"/>
            <a:ext cx="1847520" cy="3687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89640" y="2400480"/>
            <a:ext cx="11746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2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20/20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erif"/>
                <a:ea typeface="YOzFontP04"/>
              </a:rPr>
              <a:t>A+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4933800" y="4359240"/>
            <a:ext cx="3506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せいせきを とります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723960" y="477720"/>
            <a:ext cx="7491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い せいせきをとる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5680" y="385920"/>
            <a:ext cx="8547120" cy="1412640"/>
          </a:xfrm>
          <a:prstGeom prst="roundRect">
            <a:avLst>
              <a:gd name="adj" fmla="val 126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1920" y="2851200"/>
            <a:ext cx="6392880" cy="440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18240" y="1382760"/>
            <a:ext cx="4755960" cy="4668840"/>
          </a:xfrm>
          <a:prstGeom prst="cloudCallout">
            <a:avLst>
              <a:gd name="adj1" fmla="val -71203"/>
              <a:gd name="adj2" fmla="val -1373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627520" y="1627200"/>
            <a:ext cx="2826000" cy="3827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686800" y="2441520"/>
            <a:ext cx="90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け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2871720"/>
            <a:ext cx="1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4" name=""/>
          <p:cNvSpPr/>
          <p:nvPr/>
        </p:nvSpPr>
        <p:spPr>
          <a:xfrm>
            <a:off x="527040" y="773280"/>
            <a:ext cx="912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け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し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3640" y="3424320"/>
            <a:ext cx="5969160" cy="461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52920" y="1979640"/>
            <a:ext cx="4483080" cy="3100320"/>
          </a:xfrm>
          <a:prstGeom prst="cloudCallout">
            <a:avLst>
              <a:gd name="adj1" fmla="val -84981"/>
              <a:gd name="adj2" fmla="val 11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97720" y="2465280"/>
            <a:ext cx="1519200" cy="161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88200" y="3355920"/>
            <a:ext cx="830160" cy="9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08840" y="3355920"/>
            <a:ext cx="77796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7786800" y="2643120"/>
            <a:ext cx="954000" cy="115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0360" y="1085760"/>
            <a:ext cx="905364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411120"/>
            <a:ext cx="12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1349280"/>
            <a:ext cx="867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ぞく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たらき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3520" y="2658960"/>
            <a:ext cx="2303280" cy="490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2000" y="5607000"/>
            <a:ext cx="9389880" cy="1122480"/>
          </a:xfrm>
          <a:prstGeom prst="roundRect">
            <a:avLst>
              <a:gd name="adj" fmla="val 1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30400" y="1123920"/>
            <a:ext cx="1579680" cy="4300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35680" y="349200"/>
            <a:ext cx="2702160" cy="2490840"/>
          </a:xfrm>
          <a:prstGeom prst="cloudCallout">
            <a:avLst>
              <a:gd name="adj1" fmla="val -17282"/>
              <a:gd name="adj2" fmla="val 5699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437600" y="665280"/>
            <a:ext cx="1285560" cy="155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7600" y="5865840"/>
            <a:ext cx="1035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のじょ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ために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な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ました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1:37:12Z</dcterms:created>
  <dc:creator/>
  <dc:description/>
  <dc:language>en-US</dc:language>
  <cp:lastModifiedBy/>
  <dcterms:modified xsi:type="dcterms:W3CDTF">2016-05-24T19:31:36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