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6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928880" y="3951360"/>
            <a:ext cx="42670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のところ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ころ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ばかり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V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て ばかり して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10078920" cy="72406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84120" y="396720"/>
            <a:ext cx="9191520" cy="817560"/>
            <a:chOff x="384120" y="396720"/>
            <a:chExt cx="9191520" cy="817560"/>
          </a:xfrm>
        </p:grpSpPr>
        <p:sp>
          <p:nvSpPr>
            <p:cNvPr id="102" name=""/>
            <p:cNvSpPr/>
            <p:nvPr/>
          </p:nvSpPr>
          <p:spPr>
            <a:xfrm>
              <a:off x="384120" y="833400"/>
              <a:ext cx="9191520" cy="0"/>
            </a:xfrm>
            <a:prstGeom prst="line">
              <a:avLst/>
            </a:prstGeom>
            <a:ln w="36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9440" y="396720"/>
              <a:ext cx="3608280" cy="817560"/>
            </a:xfrm>
            <a:prstGeom prst="roundRect">
              <a:avLst>
                <a:gd name="adj" fmla="val 19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えいが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98760" y="1072800"/>
            <a:ext cx="6621120" cy="1554120"/>
            <a:chOff x="3398760" y="1072800"/>
            <a:chExt cx="6621120" cy="1554120"/>
          </a:xfrm>
        </p:grpSpPr>
        <p:sp>
          <p:nvSpPr>
            <p:cNvPr id="105" name=""/>
            <p:cNvSpPr/>
            <p:nvPr/>
          </p:nvSpPr>
          <p:spPr>
            <a:xfrm flipH="1" flipV="1">
              <a:off x="3398760" y="1072800"/>
              <a:ext cx="531360" cy="822600"/>
            </a:xfrm>
            <a:prstGeom prst="line">
              <a:avLst/>
            </a:prstGeom>
            <a:ln w="10800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41280" y="1464480"/>
              <a:ext cx="5381640" cy="1162440"/>
            </a:xfrm>
            <a:prstGeom prst="wedgeRoundRectCallout">
              <a:avLst>
                <a:gd name="adj1" fmla="val -14518"/>
                <a:gd name="adj2" fmla="val 88449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84280" y="1670760"/>
              <a:ext cx="58356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もう はじまりました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36720" y="5516640"/>
            <a:ext cx="8697960" cy="1411200"/>
          </a:xfrm>
          <a:prstGeom prst="wedgeRoundRectCallout">
            <a:avLst>
              <a:gd name="adj1" fmla="val -31125"/>
              <a:gd name="adj2" fmla="val -890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1111320" y="5979960"/>
            <a:ext cx="8737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、いま してい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349880" y="1227240"/>
            <a:ext cx="2054160" cy="4741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10078920" cy="72406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84120" y="396720"/>
            <a:ext cx="9191520" cy="817560"/>
            <a:chOff x="384120" y="396720"/>
            <a:chExt cx="9191520" cy="817560"/>
          </a:xfrm>
        </p:grpSpPr>
        <p:sp>
          <p:nvSpPr>
            <p:cNvPr id="113" name=""/>
            <p:cNvSpPr/>
            <p:nvPr/>
          </p:nvSpPr>
          <p:spPr>
            <a:xfrm>
              <a:off x="384120" y="833400"/>
              <a:ext cx="9191520" cy="0"/>
            </a:xfrm>
            <a:prstGeom prst="line">
              <a:avLst/>
            </a:prstGeom>
            <a:ln w="36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89440" y="396720"/>
              <a:ext cx="3608280" cy="817560"/>
            </a:xfrm>
            <a:prstGeom prst="roundRect">
              <a:avLst>
                <a:gd name="adj" fmla="val 19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えいが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98760" y="1072800"/>
            <a:ext cx="6621120" cy="1554120"/>
            <a:chOff x="3398760" y="1072800"/>
            <a:chExt cx="6621120" cy="1554120"/>
          </a:xfrm>
        </p:grpSpPr>
        <p:sp>
          <p:nvSpPr>
            <p:cNvPr id="116" name=""/>
            <p:cNvSpPr/>
            <p:nvPr/>
          </p:nvSpPr>
          <p:spPr>
            <a:xfrm flipH="1" flipV="1">
              <a:off x="3398760" y="1072800"/>
              <a:ext cx="531360" cy="822600"/>
            </a:xfrm>
            <a:prstGeom prst="line">
              <a:avLst/>
            </a:prstGeom>
            <a:ln w="10800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1280" y="1464480"/>
              <a:ext cx="5381640" cy="1162440"/>
            </a:xfrm>
            <a:prstGeom prst="wedgeRoundRectCallout">
              <a:avLst>
                <a:gd name="adj1" fmla="val -14518"/>
                <a:gd name="adj2" fmla="val 88449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84280" y="1670760"/>
              <a:ext cx="58356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もう はじまりました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36720" y="5516640"/>
            <a:ext cx="8697960" cy="1411200"/>
          </a:xfrm>
          <a:prstGeom prst="wedgeRoundRectCallout">
            <a:avLst>
              <a:gd name="adj1" fmla="val -31125"/>
              <a:gd name="adj2" fmla="val -890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1111320" y="5979960"/>
            <a:ext cx="87375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った いま おわっ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54880" y="1023840"/>
            <a:ext cx="88920" cy="4842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8520" y="388800"/>
            <a:ext cx="3628800" cy="2890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52760" y="2514600"/>
            <a:ext cx="4298760" cy="30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72280" y="4092480"/>
            <a:ext cx="4354200" cy="327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75120" y="378000"/>
            <a:ext cx="601956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458800" y="982800"/>
            <a:ext cx="1058760" cy="1490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3881520" y="657360"/>
            <a:ext cx="5178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8520" y="388800"/>
            <a:ext cx="3628800" cy="2890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52760" y="2514600"/>
            <a:ext cx="4298760" cy="30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72280" y="4092480"/>
            <a:ext cx="4354200" cy="3273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75120" y="378000"/>
            <a:ext cx="601956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79680" y="1282680"/>
            <a:ext cx="430200" cy="14875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3189240" y="592200"/>
            <a:ext cx="6593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てい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8520" y="388800"/>
            <a:ext cx="3628800" cy="2890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52760" y="2514600"/>
            <a:ext cx="4298760" cy="307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372280" y="4092480"/>
            <a:ext cx="4354200" cy="3273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75120" y="378000"/>
            <a:ext cx="601956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5734080" y="1257480"/>
            <a:ext cx="1616040" cy="29635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3189240" y="592200"/>
            <a:ext cx="5829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べた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92600" y="2603520"/>
            <a:ext cx="3727440" cy="278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0040" y="4700520"/>
            <a:ext cx="3273120" cy="2760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0600" y="398520"/>
            <a:ext cx="3148200" cy="263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75120" y="378000"/>
            <a:ext cx="651672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08400" y="936720"/>
            <a:ext cx="1109520" cy="4744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3189240" y="592200"/>
            <a:ext cx="6765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じ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92600" y="2603520"/>
            <a:ext cx="3727440" cy="278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20040" y="4700520"/>
            <a:ext cx="3273120" cy="2760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20600" y="398520"/>
            <a:ext cx="3148200" cy="2630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75120" y="378000"/>
            <a:ext cx="601956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4502160" y="1373040"/>
            <a:ext cx="179280" cy="16941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3189240" y="592200"/>
            <a:ext cx="6624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じしてい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92600" y="2603520"/>
            <a:ext cx="372744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0040" y="4700520"/>
            <a:ext cx="3273120" cy="276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0600" y="398520"/>
            <a:ext cx="3148200" cy="2630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75120" y="378000"/>
            <a:ext cx="6019560" cy="1190520"/>
          </a:xfrm>
          <a:prstGeom prst="roundRect">
            <a:avLst>
              <a:gd name="adj" fmla="val 150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5951520" y="1373040"/>
            <a:ext cx="2052720" cy="32720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3189240" y="592200"/>
            <a:ext cx="6240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うじした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321000" y="1222200"/>
            <a:ext cx="10078920" cy="633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48000" y="3780000"/>
            <a:ext cx="3178440" cy="7559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43680" y="3686040"/>
            <a:ext cx="2529000" cy="7559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68760" y="1795320"/>
            <a:ext cx="4387680" cy="1565280"/>
          </a:xfrm>
          <a:prstGeom prst="wedgeRoundRectCallout">
            <a:avLst>
              <a:gd name="adj1" fmla="val 10523"/>
              <a:gd name="adj2" fmla="val 10814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3805200" y="1967040"/>
            <a:ext cx="46735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たった いま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た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5541840" y="141120"/>
            <a:ext cx="4388040" cy="1565280"/>
          </a:xfrm>
          <a:prstGeom prst="wedgeRoundRectCallout">
            <a:avLst>
              <a:gd name="adj1" fmla="val 28648"/>
              <a:gd name="adj2" fmla="val 18759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5862600" y="512640"/>
            <a:ext cx="37195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きまで いく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ろめんでんしゃは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2600" y="142920"/>
            <a:ext cx="10078920" cy="725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30120" y="5477040"/>
            <a:ext cx="8256600" cy="1825560"/>
          </a:xfrm>
          <a:prstGeom prst="roundRect">
            <a:avLst>
              <a:gd name="adj" fmla="val 98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646200" y="5905440"/>
            <a:ext cx="78962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ている 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ところ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に こられ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7488000" cy="705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230640" y="3576240"/>
            <a:ext cx="4865760" cy="16304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111240" y="593640"/>
            <a:ext cx="5465520" cy="2746440"/>
          </a:xfrm>
          <a:prstGeom prst="roundRect">
            <a:avLst>
              <a:gd name="adj" fmla="val 652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349200" y="825480"/>
            <a:ext cx="4152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5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しつに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ます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126280" y="2847960"/>
            <a:ext cx="1152720" cy="340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0760" y="3794040"/>
            <a:ext cx="3448080" cy="66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63840" y="5608800"/>
            <a:ext cx="7386480" cy="1693800"/>
          </a:xfrm>
          <a:prstGeom prst="roundRect">
            <a:avLst>
              <a:gd name="adj" fmla="val 10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>
            <a:off x="2136600" y="6008760"/>
            <a:ext cx="6529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うど たべ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人が き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06560" y="5543640"/>
            <a:ext cx="8572320" cy="1746000"/>
          </a:xfrm>
          <a:prstGeom prst="roundRect">
            <a:avLst>
              <a:gd name="adj" fmla="val 102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911160" y="5931000"/>
            <a:ext cx="89805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うど たべようとした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人が き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87880" y="3636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907240" y="46980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31920" y="5477040"/>
            <a:ext cx="8367480" cy="1825560"/>
          </a:xfrm>
          <a:prstGeom prst="roundRect">
            <a:avLst>
              <a:gd name="adj" fmla="val 98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1085760" y="5931000"/>
            <a:ext cx="70153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うすこしで・あぶなく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る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11640" y="264960"/>
            <a:ext cx="1123920" cy="1124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1920" y="5477040"/>
            <a:ext cx="8555040" cy="1825560"/>
          </a:xfrm>
          <a:prstGeom prst="roundRect">
            <a:avLst>
              <a:gd name="adj" fmla="val 98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1085760" y="5931000"/>
            <a:ext cx="70311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うすこしで・あぶなく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ろぶ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2440" y="1449360"/>
            <a:ext cx="3056040" cy="3292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057560" y="1166760"/>
            <a:ext cx="2092320" cy="429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362640" y="0"/>
            <a:ext cx="4130640" cy="3618000"/>
          </a:xfrm>
          <a:prstGeom prst="cloudCallout">
            <a:avLst>
              <a:gd name="adj1" fmla="val -77620"/>
              <a:gd name="adj2" fmla="val -1062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8829720" y="3254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853320" y="1004760"/>
            <a:ext cx="2036520" cy="1847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09760" y="3835440"/>
            <a:ext cx="1616040" cy="731880"/>
          </a:xfrm>
          <a:custGeom>
            <a:avLst/>
            <a:gdLst/>
            <a:ahLst/>
            <a:rect l="l" t="t" r="r" b="b"/>
            <a:pathLst>
              <a:path w="4491" h="2032">
                <a:moveTo>
                  <a:pt x="0" y="1924"/>
                </a:moveTo>
                <a:cubicBezTo>
                  <a:pt x="2779" y="0"/>
                  <a:pt x="4490" y="2031"/>
                  <a:pt x="4490" y="2031"/>
                </a:cubicBezTo>
              </a:path>
            </a:pathLst>
          </a:custGeom>
          <a:noFill/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08400" y="1322280"/>
            <a:ext cx="81025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めが ふっているところ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2487600" y="3770280"/>
            <a:ext cx="78231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っこんしているところ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95280" y="3584520"/>
            <a:ext cx="7180200" cy="1438200"/>
            <a:chOff x="2195280" y="3584520"/>
            <a:chExt cx="7180200" cy="1438200"/>
          </a:xfrm>
        </p:grpSpPr>
        <p:sp>
          <p:nvSpPr>
            <p:cNvPr id="188" name=""/>
            <p:cNvSpPr/>
            <p:nvPr/>
          </p:nvSpPr>
          <p:spPr>
            <a:xfrm>
              <a:off x="2198520" y="3584520"/>
              <a:ext cx="7173720" cy="14367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95280" y="3586320"/>
              <a:ext cx="7180200" cy="14364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49280" y="939960"/>
            <a:ext cx="7180200" cy="1438200"/>
            <a:chOff x="2249280" y="939960"/>
            <a:chExt cx="7180200" cy="1438200"/>
          </a:xfrm>
        </p:grpSpPr>
        <p:sp>
          <p:nvSpPr>
            <p:cNvPr id="191" name=""/>
            <p:cNvSpPr/>
            <p:nvPr/>
          </p:nvSpPr>
          <p:spPr>
            <a:xfrm>
              <a:off x="2252520" y="939960"/>
              <a:ext cx="717372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249280" y="939960"/>
              <a:ext cx="718020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74840" y="1257480"/>
            <a:ext cx="1406520" cy="70164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200" y="6270480"/>
            <a:ext cx="9869760" cy="1019160"/>
          </a:xfrm>
          <a:prstGeom prst="roundRect">
            <a:avLst>
              <a:gd name="adj" fmla="val 17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6543720"/>
            <a:ext cx="9541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 ベンチ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ペンキ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ぬった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0960" y="6429240"/>
            <a:ext cx="9274320" cy="1033560"/>
          </a:xfrm>
          <a:prstGeom prst="roundRect">
            <a:avLst>
              <a:gd name="adj" fmla="val 1738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023560" y="3665520"/>
            <a:ext cx="2251080" cy="261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1276200" y="6672240"/>
            <a:ext cx="78454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0960" y="6429240"/>
            <a:ext cx="9274320" cy="1033560"/>
          </a:xfrm>
          <a:prstGeom prst="roundRect">
            <a:avLst>
              <a:gd name="adj" fmla="val 1738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487920" y="4614480"/>
            <a:ext cx="942840" cy="19558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407880" y="6672240"/>
            <a:ext cx="88282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しゃ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いっ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08200" y="2184480"/>
            <a:ext cx="4226040" cy="755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41360" y="142920"/>
            <a:ext cx="9204120" cy="1832040"/>
          </a:xfrm>
          <a:prstGeom prst="roundRect">
            <a:avLst>
              <a:gd name="adj" fmla="val 979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1306440" y="1089000"/>
            <a:ext cx="795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っ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846000" y="411120"/>
            <a:ext cx="7113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912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の パソコンは きのう かいました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51200" y="2813040"/>
            <a:ext cx="3407040" cy="7020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47720" y="1208160"/>
            <a:ext cx="4638600" cy="5924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76520" y="828720"/>
            <a:ext cx="8029440" cy="163980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9" name=""/>
          <p:cNvSpPr/>
          <p:nvPr/>
        </p:nvSpPr>
        <p:spPr>
          <a:xfrm>
            <a:off x="2801880" y="1120680"/>
            <a:ext cx="6524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っ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の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われ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93680" y="689040"/>
            <a:ext cx="6877080" cy="2743200"/>
            <a:chOff x="193680" y="689040"/>
            <a:chExt cx="6877080" cy="2743200"/>
          </a:xfrm>
        </p:grpSpPr>
        <p:sp>
          <p:nvSpPr>
            <p:cNvPr id="54" name=""/>
            <p:cNvSpPr/>
            <p:nvPr/>
          </p:nvSpPr>
          <p:spPr>
            <a:xfrm>
              <a:off x="193680" y="689040"/>
              <a:ext cx="5759280" cy="2743200"/>
            </a:xfrm>
            <a:prstGeom prst="roundRect">
              <a:avLst>
                <a:gd name="adj" fmla="val 652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280" y="2387520"/>
              <a:ext cx="65134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66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うけつけ</a:t>
              </a:r>
              <a:r>
                <a:rPr b="0" lang="ja-JP" sz="54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</a:t>
              </a:r>
              <a:r>
                <a:rPr b="0" lang="en-US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 います。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1325520"/>
              <a:ext cx="50576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66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5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さくらちゃん</a:t>
              </a:r>
              <a:r>
                <a:rPr b="0" lang="ja-JP" sz="5400" spc="-1" strike="noStrike" u="sng">
                  <a:solidFill>
                    <a:srgbClr val="800000"/>
                  </a:solidFill>
                  <a:uFillTx/>
                  <a:latin typeface="YOzFontNP04"/>
                  <a:ea typeface="YOzFontNP04"/>
                </a:rPr>
                <a:t>は</a:t>
              </a:r>
              <a:endParaRPr b="0" lang="en-US" sz="5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05480" y="3251160"/>
            <a:ext cx="173196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9760" y="166680"/>
            <a:ext cx="2948040" cy="3112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25760" y="2116080"/>
            <a:ext cx="1044360" cy="6876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891560" y="2063880"/>
            <a:ext cx="1884240" cy="4503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89440" y="1944720"/>
            <a:ext cx="2063520" cy="4676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168960" y="1773360"/>
            <a:ext cx="1530360" cy="1376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103400" y="210960"/>
            <a:ext cx="457200" cy="43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50920" y="5303880"/>
            <a:ext cx="8029440" cy="163980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1335240" y="5597640"/>
            <a:ext cx="74660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っこんし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の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こんし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44600" y="287280"/>
            <a:ext cx="982800" cy="2605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8760" y="217440"/>
            <a:ext cx="1074600" cy="2705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347840" y="119160"/>
            <a:ext cx="798480" cy="796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33600" y="2698920"/>
            <a:ext cx="1044720" cy="6872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33880" y="2011320"/>
            <a:ext cx="1817640" cy="490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967360" y="2170080"/>
            <a:ext cx="3900600" cy="4822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6381720" y="1600200"/>
            <a:ext cx="1224000" cy="1243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50920" y="5305320"/>
            <a:ext cx="8029440" cy="1640160"/>
          </a:xfrm>
          <a:prstGeom prst="roundRect">
            <a:avLst>
              <a:gd name="adj" fmla="val 1094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2084400" y="5521320"/>
            <a:ext cx="66787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こんし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ばかり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の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いこんしました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08040" y="1058760"/>
            <a:ext cx="83822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げつ けっこんし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ばかり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>
            <a:off x="1508040" y="346716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げつ けっこんした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17160" y="3294000"/>
            <a:ext cx="7180200" cy="1438200"/>
            <a:chOff x="1217160" y="3294000"/>
            <a:chExt cx="7180200" cy="1438200"/>
          </a:xfrm>
        </p:grpSpPr>
        <p:sp>
          <p:nvSpPr>
            <p:cNvPr id="230" name=""/>
            <p:cNvSpPr/>
            <p:nvPr/>
          </p:nvSpPr>
          <p:spPr>
            <a:xfrm>
              <a:off x="1220400" y="3294000"/>
              <a:ext cx="717372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217160" y="3294000"/>
              <a:ext cx="718020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441440" y="3849840"/>
            <a:ext cx="2201760" cy="70164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9520" y="1468440"/>
            <a:ext cx="8381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ろうくんは あそんで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ばかり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4" name=""/>
          <p:cNvSpPr/>
          <p:nvPr/>
        </p:nvSpPr>
        <p:spPr>
          <a:xfrm>
            <a:off x="1362240" y="4371840"/>
            <a:ext cx="8686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は ビール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ばかり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のんでい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9240" y="25884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333440" y="5759280"/>
            <a:ext cx="590760" cy="180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2116080" y="569592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8" name=""/>
          <p:cNvSpPr/>
          <p:nvPr/>
        </p:nvSpPr>
        <p:spPr>
          <a:xfrm>
            <a:off x="1995480" y="5472000"/>
            <a:ext cx="71056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ほかの ものは のまな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ビールしか のまない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2116080" y="569592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2116080" y="569592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719440"/>
            <a:ext cx="590760" cy="14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2" name=""/>
          <p:cNvSpPr/>
          <p:nvPr/>
        </p:nvSpPr>
        <p:spPr>
          <a:xfrm>
            <a:off x="2116080" y="569592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2598840"/>
            <a:ext cx="710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ほかの ことは しない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04000" y="4067280"/>
            <a:ext cx="2444760" cy="349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-2206800" y="503280"/>
            <a:ext cx="7488360" cy="705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522440" y="2257560"/>
            <a:ext cx="2093760" cy="1260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88080" y="1552680"/>
            <a:ext cx="4964040" cy="2436840"/>
          </a:xfrm>
          <a:prstGeom prst="wedgeRoundRectCallout">
            <a:avLst>
              <a:gd name="adj1" fmla="val 898"/>
              <a:gd name="adj2" fmla="val 7894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8" name=""/>
          <p:cNvSpPr/>
          <p:nvPr/>
        </p:nvSpPr>
        <p:spPr>
          <a:xfrm>
            <a:off x="5008680" y="1736640"/>
            <a:ext cx="46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ばんが ありますから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5073480" y="3006720"/>
            <a:ext cx="47023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る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はず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3602160" y="250920"/>
            <a:ext cx="5587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はい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571920" y="4933800"/>
            <a:ext cx="2566800" cy="12304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330120" y="225360"/>
            <a:ext cx="5079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い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2681280" y="2219400"/>
            <a:ext cx="4964040" cy="1807920"/>
          </a:xfrm>
          <a:prstGeom prst="wedgeRoundRectCallout">
            <a:avLst>
              <a:gd name="adj1" fmla="val -56703"/>
              <a:gd name="adj2" fmla="val 4643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2814480" y="2494080"/>
            <a:ext cx="46580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つが ありますか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2867040" y="3044880"/>
            <a:ext cx="47023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る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はず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1000" y="3809880"/>
            <a:ext cx="262404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2040" y="860400"/>
            <a:ext cx="7008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みゆきさん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の べんきょう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ていましたから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62040" y="860400"/>
            <a:ext cx="6705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時に うちを でれば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時はんには がっこう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62040" y="860400"/>
            <a:ext cx="6703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さ 山田さんに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れんらくしましたから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ぎの じかん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62040" y="860400"/>
            <a:ext cx="10058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ちょうの むすこ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がくに ごうがくしましたから、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とし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2600" y="1508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95440" y="289080"/>
            <a:ext cx="7226280" cy="186372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304920"/>
            <a:ext cx="538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いじば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60640" y="2800440"/>
            <a:ext cx="248940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62040" y="860400"/>
            <a:ext cx="7008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 ちゅうごく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んねん いましたか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2040" y="86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したは にちようびですか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62040" y="860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 パンや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つも おきゃくさんが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くさん きますか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ず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08040" y="1058760"/>
            <a:ext cx="76215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山田さん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らいげつ 日本へ いく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はず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1579680" y="3935520"/>
            <a:ext cx="762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らいげつ 日本へ いくはず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19040" y="3975120"/>
            <a:ext cx="7180560" cy="1438200"/>
            <a:chOff x="1319040" y="3975120"/>
            <a:chExt cx="7180560" cy="1438200"/>
          </a:xfrm>
        </p:grpSpPr>
        <p:sp>
          <p:nvSpPr>
            <p:cNvPr id="267" name=""/>
            <p:cNvSpPr/>
            <p:nvPr/>
          </p:nvSpPr>
          <p:spPr>
            <a:xfrm>
              <a:off x="1321920" y="3975120"/>
              <a:ext cx="717408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319040" y="3975120"/>
              <a:ext cx="7180560" cy="14382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441440" y="3849840"/>
            <a:ext cx="2201760" cy="701640"/>
          </a:xfrm>
          <a:prstGeom prst="ellipse">
            <a:avLst/>
          </a:prstGeom>
          <a:noFill/>
          <a:ln w="72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95520" y="1306440"/>
            <a:ext cx="5934240" cy="3791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433600" y="210960"/>
            <a:ext cx="7226280" cy="186408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60640" y="2801880"/>
            <a:ext cx="248940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92480" y="519120"/>
            <a:ext cx="755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ど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00360" y="1535040"/>
            <a:ext cx="3568680" cy="602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3600" y="210960"/>
            <a:ext cx="7226280" cy="1864080"/>
          </a:xfrm>
          <a:prstGeom prst="roundRect">
            <a:avLst>
              <a:gd name="adj" fmla="val 96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36880" y="2852640"/>
            <a:ext cx="248904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08320" y="544680"/>
            <a:ext cx="7535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ア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00360" y="1535040"/>
            <a:ext cx="3568680" cy="6026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08400" y="210960"/>
            <a:ext cx="7226280" cy="2713320"/>
          </a:xfrm>
          <a:prstGeom prst="roundRect">
            <a:avLst>
              <a:gd name="adj" fmla="val 661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" name=""/>
          <p:cNvSpPr/>
          <p:nvPr/>
        </p:nvSpPr>
        <p:spPr>
          <a:xfrm>
            <a:off x="1319040" y="528480"/>
            <a:ext cx="885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ドア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んわを かけてい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68800" y="2981160"/>
            <a:ext cx="2468520" cy="756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10078920" cy="72406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84120" y="396720"/>
            <a:ext cx="9191520" cy="817560"/>
            <a:chOff x="384120" y="396720"/>
            <a:chExt cx="9191520" cy="817560"/>
          </a:xfrm>
        </p:grpSpPr>
        <p:sp>
          <p:nvSpPr>
            <p:cNvPr id="76" name=""/>
            <p:cNvSpPr/>
            <p:nvPr/>
          </p:nvSpPr>
          <p:spPr>
            <a:xfrm>
              <a:off x="384120" y="833400"/>
              <a:ext cx="9191520" cy="0"/>
            </a:xfrm>
            <a:prstGeom prst="line">
              <a:avLst/>
            </a:prstGeom>
            <a:ln w="36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9440" y="396720"/>
              <a:ext cx="3608280" cy="817560"/>
            </a:xfrm>
            <a:prstGeom prst="roundRect">
              <a:avLst>
                <a:gd name="adj" fmla="val 19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えいが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398760" y="1072800"/>
            <a:ext cx="6621120" cy="1554120"/>
            <a:chOff x="3398760" y="1072800"/>
            <a:chExt cx="6621120" cy="1554120"/>
          </a:xfrm>
        </p:grpSpPr>
        <p:sp>
          <p:nvSpPr>
            <p:cNvPr id="79" name=""/>
            <p:cNvSpPr/>
            <p:nvPr/>
          </p:nvSpPr>
          <p:spPr>
            <a:xfrm flipH="1" flipV="1">
              <a:off x="3398760" y="1072800"/>
              <a:ext cx="531360" cy="822600"/>
            </a:xfrm>
            <a:prstGeom prst="line">
              <a:avLst/>
            </a:prstGeom>
            <a:ln w="10800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41280" y="1464480"/>
              <a:ext cx="5381640" cy="1162440"/>
            </a:xfrm>
            <a:prstGeom prst="wedgeRoundRectCallout">
              <a:avLst>
                <a:gd name="adj1" fmla="val -14518"/>
                <a:gd name="adj2" fmla="val 88449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84280" y="1670760"/>
              <a:ext cx="58356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もう はじまりました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36720" y="5516640"/>
            <a:ext cx="8697960" cy="1411200"/>
          </a:xfrm>
          <a:prstGeom prst="wedgeRoundRectCallout">
            <a:avLst>
              <a:gd name="adj1" fmla="val -31125"/>
              <a:gd name="adj2" fmla="val -890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628560" y="5981760"/>
            <a:ext cx="92203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</a:t>
            </a:r>
            <a:r>
              <a:rPr b="0" lang="ja-JP" sz="40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いまから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はじま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82840" y="1006560"/>
            <a:ext cx="2735280" cy="5486040"/>
            <a:chOff x="2382840" y="1006560"/>
            <a:chExt cx="2735280" cy="5486040"/>
          </a:xfrm>
        </p:grpSpPr>
        <p:sp>
          <p:nvSpPr>
            <p:cNvPr id="85" name=""/>
            <p:cNvSpPr/>
            <p:nvPr/>
          </p:nvSpPr>
          <p:spPr>
            <a:xfrm>
              <a:off x="2382840" y="5635800"/>
              <a:ext cx="2735280" cy="856800"/>
            </a:xfrm>
            <a:prstGeom prst="ellipse">
              <a:avLst/>
            </a:prstGeom>
            <a:noFill/>
            <a:ln w="72000">
              <a:solidFill>
                <a:srgbClr val="33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2962440" y="1006560"/>
              <a:ext cx="149040" cy="4681440"/>
            </a:xfrm>
            <a:prstGeom prst="line">
              <a:avLst/>
            </a:prstGeom>
            <a:ln w="72000">
              <a:solidFill>
                <a:srgbClr val="33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10078920" cy="72406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4120" y="396720"/>
            <a:ext cx="9191520" cy="817560"/>
            <a:chOff x="384120" y="396720"/>
            <a:chExt cx="9191520" cy="817560"/>
          </a:xfrm>
        </p:grpSpPr>
        <p:sp>
          <p:nvSpPr>
            <p:cNvPr id="89" name=""/>
            <p:cNvSpPr/>
            <p:nvPr/>
          </p:nvSpPr>
          <p:spPr>
            <a:xfrm>
              <a:off x="384120" y="833400"/>
              <a:ext cx="9191520" cy="0"/>
            </a:xfrm>
            <a:prstGeom prst="line">
              <a:avLst/>
            </a:prstGeom>
            <a:ln w="360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89440" y="396720"/>
              <a:ext cx="3608280" cy="817560"/>
            </a:xfrm>
            <a:prstGeom prst="roundRect">
              <a:avLst>
                <a:gd name="adj" fmla="val 19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4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えいが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98760" y="1072800"/>
            <a:ext cx="6621120" cy="1554120"/>
            <a:chOff x="3398760" y="1072800"/>
            <a:chExt cx="6621120" cy="1554120"/>
          </a:xfrm>
        </p:grpSpPr>
        <p:sp>
          <p:nvSpPr>
            <p:cNvPr id="92" name=""/>
            <p:cNvSpPr/>
            <p:nvPr/>
          </p:nvSpPr>
          <p:spPr>
            <a:xfrm flipH="1" flipV="1">
              <a:off x="3398760" y="1072800"/>
              <a:ext cx="531360" cy="822600"/>
            </a:xfrm>
            <a:prstGeom prst="line">
              <a:avLst/>
            </a:prstGeom>
            <a:ln w="10800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41280" y="1464480"/>
              <a:ext cx="5381640" cy="1162440"/>
            </a:xfrm>
            <a:prstGeom prst="wedgeRoundRectCallout">
              <a:avLst>
                <a:gd name="adj1" fmla="val -14518"/>
                <a:gd name="adj2" fmla="val 88449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4280" y="1670760"/>
              <a:ext cx="58356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もう はじまりましたか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36720" y="5516640"/>
            <a:ext cx="8697960" cy="1411200"/>
          </a:xfrm>
          <a:prstGeom prst="wedgeRoundRectCallout">
            <a:avLst>
              <a:gd name="adj1" fmla="val -31125"/>
              <a:gd name="adj2" fmla="val -890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5979960"/>
            <a:ext cx="87375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え、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ちょうど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はじま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ところ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68440" y="1084320"/>
            <a:ext cx="2735280" cy="5486040"/>
            <a:chOff x="2368440" y="1084320"/>
            <a:chExt cx="2735280" cy="5486040"/>
          </a:xfrm>
        </p:grpSpPr>
        <p:sp>
          <p:nvSpPr>
            <p:cNvPr id="98" name=""/>
            <p:cNvSpPr/>
            <p:nvPr/>
          </p:nvSpPr>
          <p:spPr>
            <a:xfrm>
              <a:off x="2368440" y="5713560"/>
              <a:ext cx="2735280" cy="856800"/>
            </a:xfrm>
            <a:prstGeom prst="ellipse">
              <a:avLst/>
            </a:prstGeom>
            <a:noFill/>
            <a:ln w="72000">
              <a:solidFill>
                <a:srgbClr val="33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45880" y="1084320"/>
              <a:ext cx="149400" cy="4681440"/>
            </a:xfrm>
            <a:prstGeom prst="line">
              <a:avLst/>
            </a:prstGeom>
            <a:ln w="72000">
              <a:solidFill>
                <a:srgbClr val="33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8:58:16Z</dcterms:created>
  <dc:creator/>
  <dc:description/>
  <dc:language>en-US</dc:language>
  <cp:lastModifiedBy/>
  <dcterms:modified xsi:type="dcterms:W3CDTF">2016-05-24T19:32:21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