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310760" y="1027080"/>
            <a:ext cx="49309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196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329" name=""/>
          <p:cNvSpPr/>
          <p:nvPr/>
        </p:nvSpPr>
        <p:spPr>
          <a:xfrm>
            <a:off x="755640" y="5078520"/>
            <a:ext cx="604368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944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860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776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" name=""/>
          <p:cNvSpPr/>
          <p:nvPr/>
        </p:nvSpPr>
        <p:spPr>
          <a:xfrm>
            <a:off x="7272360" y="7056360"/>
            <a:ext cx="2779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ttp://j-learning.com/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6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44480" y="404640"/>
            <a:ext cx="88646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だい </a:t>
            </a:r>
            <a:r>
              <a:rPr b="0" lang="en-US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49</a:t>
            </a: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、</a:t>
            </a:r>
            <a:r>
              <a:rPr b="0" lang="en-US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50 </a:t>
            </a: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か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" name=""/>
          <p:cNvSpPr/>
          <p:nvPr/>
        </p:nvSpPr>
        <p:spPr>
          <a:xfrm>
            <a:off x="2700360" y="2025720"/>
            <a:ext cx="4878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スライド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" name=""/>
          <p:cNvSpPr/>
          <p:nvPr/>
        </p:nvSpPr>
        <p:spPr>
          <a:xfrm>
            <a:off x="9899640" y="5578560"/>
            <a:ext cx="14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" name=""/>
          <p:cNvSpPr/>
          <p:nvPr/>
        </p:nvSpPr>
        <p:spPr>
          <a:xfrm>
            <a:off x="1928880" y="3951360"/>
            <a:ext cx="203184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そんけい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けんじょう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-1027080" y="3735360"/>
            <a:ext cx="2398680" cy="40179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-822240" y="1998720"/>
            <a:ext cx="2487600" cy="5999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603600" y="3821040"/>
            <a:ext cx="2398680" cy="4017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2428920" y="2014560"/>
            <a:ext cx="3403440" cy="6161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-3451320" y="4213080"/>
            <a:ext cx="10079280" cy="50990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11160" y="154080"/>
            <a:ext cx="7620120" cy="1436760"/>
          </a:xfrm>
          <a:prstGeom prst="wedgeRoundRectCallout">
            <a:avLst>
              <a:gd name="adj1" fmla="val 46287"/>
              <a:gd name="adj2" fmla="val 12319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8" name=""/>
          <p:cNvSpPr/>
          <p:nvPr/>
        </p:nvSpPr>
        <p:spPr>
          <a:xfrm>
            <a:off x="1141560" y="809640"/>
            <a:ext cx="76197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なんに </a:t>
            </a:r>
            <a:r>
              <a:rPr b="0" lang="ja-JP" sz="4400" spc="-1" strike="noStrike">
                <a:solidFill>
                  <a:srgbClr val="ff0000"/>
                </a:solidFill>
                <a:latin typeface="Y.OzN_'04"/>
                <a:ea typeface="Y.OzN_'04"/>
              </a:rPr>
              <a:t>なさい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ますか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9" name=""/>
          <p:cNvSpPr/>
          <p:nvPr/>
        </p:nvSpPr>
        <p:spPr>
          <a:xfrm>
            <a:off x="1514520" y="282600"/>
            <a:ext cx="2592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んに しますか→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6"/>
          <a:stretch/>
        </p:blipFill>
        <p:spPr>
          <a:xfrm>
            <a:off x="7470720" y="1830240"/>
            <a:ext cx="2320920" cy="693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50920" y="1720800"/>
            <a:ext cx="7557840" cy="33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たべます ⇒ 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めしあがり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します ⇒ 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なさい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います・いきます・き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⇒ 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いらっしゃい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みます ⇒ 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ごらんになり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85840" y="0"/>
            <a:ext cx="7456320" cy="1098720"/>
            <a:chOff x="285840" y="0"/>
            <a:chExt cx="7456320" cy="1098720"/>
          </a:xfrm>
        </p:grpSpPr>
        <p:sp>
          <p:nvSpPr>
            <p:cNvPr id="153" name=""/>
            <p:cNvSpPr/>
            <p:nvPr/>
          </p:nvSpPr>
          <p:spPr>
            <a:xfrm>
              <a:off x="285840" y="0"/>
              <a:ext cx="7456320" cy="1098720"/>
            </a:xfrm>
            <a:prstGeom prst="roundRect">
              <a:avLst>
                <a:gd name="adj" fmla="val 144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96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東風明朝"/>
                  <a:ea typeface="東風明朝"/>
                </a:rPr>
                <a:t>そんけいご</a:t>
              </a:r>
              <a:r>
                <a:rPr b="0" lang="en-US" sz="6000" spc="-1" strike="noStrike">
                  <a:solidFill>
                    <a:srgbClr val="000000"/>
                  </a:solidFill>
                  <a:latin typeface="東風明朝"/>
                  <a:ea typeface="東風明朝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4600" y="1068480"/>
            <a:ext cx="8858160" cy="6572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54120" y="0"/>
            <a:ext cx="9018360" cy="1436760"/>
          </a:xfrm>
          <a:prstGeom prst="wedgeRoundRectCallout">
            <a:avLst>
              <a:gd name="adj1" fmla="val -5620"/>
              <a:gd name="adj2" fmla="val 10087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6" name=""/>
          <p:cNvSpPr/>
          <p:nvPr/>
        </p:nvSpPr>
        <p:spPr>
          <a:xfrm>
            <a:off x="2257560" y="654120"/>
            <a:ext cx="76197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お</a:t>
            </a:r>
            <a:r>
              <a:rPr b="0" lang="ja-JP" sz="4400" spc="-1" strike="noStrike">
                <a:solidFill>
                  <a:srgbClr val="ff0000"/>
                </a:solidFill>
                <a:latin typeface="Y.OzN_'04"/>
                <a:ea typeface="Y.OzN_'04"/>
              </a:rPr>
              <a:t>かけ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になってください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7" name=""/>
          <p:cNvSpPr/>
          <p:nvPr/>
        </p:nvSpPr>
        <p:spPr>
          <a:xfrm>
            <a:off x="2630520" y="128520"/>
            <a:ext cx="2441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けてください→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8" name=""/>
          <p:cNvSpPr/>
          <p:nvPr/>
        </p:nvSpPr>
        <p:spPr>
          <a:xfrm>
            <a:off x="808200" y="679320"/>
            <a:ext cx="1523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どうぞ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74600" y="1068480"/>
            <a:ext cx="8858160" cy="65721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54120" y="0"/>
            <a:ext cx="9018360" cy="1436760"/>
          </a:xfrm>
          <a:prstGeom prst="wedgeRoundRectCallout">
            <a:avLst>
              <a:gd name="adj1" fmla="val -5620"/>
              <a:gd name="adj2" fmla="val 10087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1" name=""/>
          <p:cNvSpPr/>
          <p:nvPr/>
        </p:nvSpPr>
        <p:spPr>
          <a:xfrm>
            <a:off x="2257560" y="654120"/>
            <a:ext cx="76197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お</a:t>
            </a:r>
            <a:r>
              <a:rPr b="0" lang="ja-JP" sz="4400" spc="-1" strike="noStrike">
                <a:solidFill>
                  <a:srgbClr val="ff0000"/>
                </a:solidFill>
                <a:latin typeface="Y.OzN_'04"/>
                <a:ea typeface="Y.OzN_'04"/>
              </a:rPr>
              <a:t>かけ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ください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2" name=""/>
          <p:cNvSpPr/>
          <p:nvPr/>
        </p:nvSpPr>
        <p:spPr>
          <a:xfrm>
            <a:off x="2630520" y="128520"/>
            <a:ext cx="2441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けてください→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3" name=""/>
          <p:cNvSpPr/>
          <p:nvPr/>
        </p:nvSpPr>
        <p:spPr>
          <a:xfrm>
            <a:off x="808200" y="679320"/>
            <a:ext cx="1523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どうぞ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4" name=""/>
          <p:cNvSpPr/>
          <p:nvPr/>
        </p:nvSpPr>
        <p:spPr>
          <a:xfrm>
            <a:off x="5335560" y="0"/>
            <a:ext cx="2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977080" y="2008080"/>
            <a:ext cx="2619360" cy="6667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84120" y="565200"/>
            <a:ext cx="9018720" cy="1436760"/>
          </a:xfrm>
          <a:prstGeom prst="wedgeRoundRectCallout">
            <a:avLst>
              <a:gd name="adj1" fmla="val 13726"/>
              <a:gd name="adj2" fmla="val 9906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7" name=""/>
          <p:cNvSpPr/>
          <p:nvPr/>
        </p:nvSpPr>
        <p:spPr>
          <a:xfrm>
            <a:off x="2335320" y="1155600"/>
            <a:ext cx="45925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お</a:t>
            </a:r>
            <a:r>
              <a:rPr b="0" lang="ja-JP" sz="4400" spc="-1" strike="noStrike">
                <a:solidFill>
                  <a:srgbClr val="ff0000"/>
                </a:solidFill>
                <a:latin typeface="Y.OzN_'04"/>
                <a:ea typeface="Y.OzN_'04"/>
              </a:rPr>
              <a:t>のみ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ください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8" name=""/>
          <p:cNvSpPr/>
          <p:nvPr/>
        </p:nvSpPr>
        <p:spPr>
          <a:xfrm>
            <a:off x="2706840" y="628560"/>
            <a:ext cx="2441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のんでください→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9" name=""/>
          <p:cNvSpPr/>
          <p:nvPr/>
        </p:nvSpPr>
        <p:spPr>
          <a:xfrm>
            <a:off x="884160" y="1181160"/>
            <a:ext cx="1524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どうぞ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0" name=""/>
          <p:cNvSpPr/>
          <p:nvPr/>
        </p:nvSpPr>
        <p:spPr>
          <a:xfrm>
            <a:off x="5413320" y="500040"/>
            <a:ext cx="2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888840" y="2633760"/>
            <a:ext cx="2992680" cy="75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977080" y="2008080"/>
            <a:ext cx="2619360" cy="66675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84120" y="565200"/>
            <a:ext cx="9018720" cy="1436760"/>
          </a:xfrm>
          <a:prstGeom prst="wedgeRoundRectCallout">
            <a:avLst>
              <a:gd name="adj1" fmla="val 13726"/>
              <a:gd name="adj2" fmla="val 9906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4" name=""/>
          <p:cNvSpPr/>
          <p:nvPr/>
        </p:nvSpPr>
        <p:spPr>
          <a:xfrm>
            <a:off x="2335320" y="1155600"/>
            <a:ext cx="55879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.OzN_'04"/>
                <a:ea typeface="Y.OzN_'04"/>
              </a:rPr>
              <a:t>めしあがり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ください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5" name=""/>
          <p:cNvSpPr/>
          <p:nvPr/>
        </p:nvSpPr>
        <p:spPr>
          <a:xfrm>
            <a:off x="2706840" y="628560"/>
            <a:ext cx="2441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のんでください→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6" name=""/>
          <p:cNvSpPr/>
          <p:nvPr/>
        </p:nvSpPr>
        <p:spPr>
          <a:xfrm>
            <a:off x="884160" y="1181160"/>
            <a:ext cx="1524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どうぞ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7" name=""/>
          <p:cNvSpPr/>
          <p:nvPr/>
        </p:nvSpPr>
        <p:spPr>
          <a:xfrm>
            <a:off x="5413320" y="500040"/>
            <a:ext cx="2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888840" y="2633760"/>
            <a:ext cx="2992680" cy="75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8920" y="179280"/>
            <a:ext cx="9823320" cy="3399120"/>
          </a:xfrm>
          <a:prstGeom prst="wedgeRoundRectCallout">
            <a:avLst>
              <a:gd name="adj1" fmla="val -22578"/>
              <a:gd name="adj2" fmla="val 7149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367160" y="2006640"/>
            <a:ext cx="790560" cy="14954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99880" y="561960"/>
            <a:ext cx="894240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ゃちょう、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およみになりますか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ゃちょう、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よまれますか</a:t>
            </a:r>
            <a:r>
              <a:rPr b="0" lang="ja-JP" sz="4400" spc="-1" strike="noStrike">
                <a:solidFill>
                  <a:srgbClr val="000000"/>
                </a:solidFill>
                <a:latin typeface="Bitstream Vera Serif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797280" y="3701880"/>
            <a:ext cx="1747800" cy="166392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3" name=""/>
          <p:cNvSpPr/>
          <p:nvPr/>
        </p:nvSpPr>
        <p:spPr>
          <a:xfrm>
            <a:off x="5322960" y="3392640"/>
            <a:ext cx="1135080" cy="1199880"/>
          </a:xfrm>
          <a:prstGeom prst="line">
            <a:avLst/>
          </a:prstGeom>
          <a:ln w="72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4" name=""/>
          <p:cNvSpPr/>
          <p:nvPr/>
        </p:nvSpPr>
        <p:spPr>
          <a:xfrm>
            <a:off x="5524560" y="3240000"/>
            <a:ext cx="1135080" cy="1200240"/>
          </a:xfrm>
          <a:prstGeom prst="line">
            <a:avLst/>
          </a:prstGeom>
          <a:ln w="72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649840" y="3745080"/>
            <a:ext cx="2871720" cy="66942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919080" y="3780000"/>
            <a:ext cx="2495520" cy="75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88920" y="181080"/>
            <a:ext cx="9823320" cy="3398760"/>
          </a:xfrm>
          <a:prstGeom prst="wedgeRoundRectCallout">
            <a:avLst>
              <a:gd name="adj1" fmla="val -22578"/>
              <a:gd name="adj2" fmla="val 7149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8" name=""/>
          <p:cNvSpPr/>
          <p:nvPr/>
        </p:nvSpPr>
        <p:spPr>
          <a:xfrm>
            <a:off x="299880" y="561960"/>
            <a:ext cx="922212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ゃちょうが 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およみになりました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ゃちょうが 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よまれました</a:t>
            </a:r>
            <a:r>
              <a:rPr b="0" lang="ja-JP" sz="4400" spc="-1" strike="noStrike">
                <a:solidFill>
                  <a:srgbClr val="000000"/>
                </a:solidFill>
                <a:latin typeface="Bitstream Vera Serif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274920" y="2398680"/>
            <a:ext cx="4567320" cy="300672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32720" y="1252440"/>
            <a:ext cx="1905120" cy="43452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7894800" y="3666960"/>
            <a:ext cx="1957320" cy="2310120"/>
          </a:xfrm>
          <a:custGeom>
            <a:avLst/>
            <a:gdLst>
              <a:gd name="textAreaLeft" fmla="*/ 360 w 1957320"/>
              <a:gd name="textAreaRight" fmla="*/ 1956960 w 1957320"/>
              <a:gd name="textAreaTop" fmla="*/ 360 h 2310120"/>
              <a:gd name="textAreaBottom" fmla="*/ 2309760 h 2310120"/>
            </a:gdLst>
            <a:ahLst/>
            <a:rect l="textAreaLeft" t="textAreaTop" r="textAreaRight" b="textAreaBottom"/>
            <a:pathLst>
              <a:path w="21600" h="25493">
                <a:moveTo>
                  <a:pt x="17" y="0"/>
                </a:moveTo>
                <a:arcTo wR="17" hR="17" stAng="16200000" swAng="-5400000"/>
                <a:lnTo>
                  <a:pt x="0" y="25476"/>
                </a:lnTo>
                <a:arcTo wR="17" hR="17" stAng="10800000" swAng="-5400000"/>
                <a:lnTo>
                  <a:pt x="21583" y="25493"/>
                </a:lnTo>
                <a:arcTo wR="17" hR="17" stAng="5400000" swAng="-5400000"/>
                <a:lnTo>
                  <a:pt x="21600" y="17"/>
                </a:lnTo>
                <a:arcTo wR="17" hR="17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958680" y="3780000"/>
            <a:ext cx="2495880" cy="7559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6946920" y="3186000"/>
            <a:ext cx="2449440" cy="75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88920" y="181080"/>
            <a:ext cx="9823320" cy="3398760"/>
          </a:xfrm>
          <a:prstGeom prst="wedgeRoundRectCallout">
            <a:avLst>
              <a:gd name="adj1" fmla="val -22578"/>
              <a:gd name="adj2" fmla="val 7149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5" name=""/>
          <p:cNvSpPr/>
          <p:nvPr/>
        </p:nvSpPr>
        <p:spPr>
          <a:xfrm>
            <a:off x="299880" y="561960"/>
            <a:ext cx="810288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ゃちょうが 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およみになった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ゃちょうが 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よまれた</a:t>
            </a:r>
            <a:r>
              <a:rPr b="0" lang="ja-JP" sz="4400" spc="-1" strike="noStrike">
                <a:solidFill>
                  <a:srgbClr val="000000"/>
                </a:solidFill>
                <a:latin typeface="Bitstream Vera Serif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144960" y="2331720"/>
            <a:ext cx="4605120" cy="299412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632720" y="1252440"/>
            <a:ext cx="1905120" cy="43452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894800" y="3666960"/>
            <a:ext cx="1957320" cy="2310120"/>
          </a:xfrm>
          <a:custGeom>
            <a:avLst/>
            <a:gdLst>
              <a:gd name="textAreaLeft" fmla="*/ 360 w 1957320"/>
              <a:gd name="textAreaRight" fmla="*/ 1956960 w 1957320"/>
              <a:gd name="textAreaTop" fmla="*/ 360 h 2310120"/>
              <a:gd name="textAreaBottom" fmla="*/ 2309760 h 2310120"/>
            </a:gdLst>
            <a:ahLst/>
            <a:rect l="textAreaLeft" t="textAreaTop" r="textAreaRight" b="textAreaBottom"/>
            <a:pathLst>
              <a:path w="21600" h="25493">
                <a:moveTo>
                  <a:pt x="17" y="0"/>
                </a:moveTo>
                <a:arcTo wR="17" hR="17" stAng="16200000" swAng="-5400000"/>
                <a:lnTo>
                  <a:pt x="0" y="25476"/>
                </a:lnTo>
                <a:arcTo wR="17" hR="17" stAng="10800000" swAng="-5400000"/>
                <a:lnTo>
                  <a:pt x="21583" y="25493"/>
                </a:lnTo>
                <a:arcTo wR="17" hR="17" stAng="5400000" swAng="-5400000"/>
                <a:lnTo>
                  <a:pt x="21600" y="17"/>
                </a:lnTo>
                <a:arcTo wR="17" hR="17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919080" y="3780000"/>
            <a:ext cx="2495520" cy="75596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7253280" y="3416400"/>
            <a:ext cx="2168640" cy="75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805360" y="833400"/>
            <a:ext cx="2922840" cy="56134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452600" y="1989000"/>
            <a:ext cx="3402000" cy="66535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206800" y="3579840"/>
            <a:ext cx="7542000" cy="1436760"/>
          </a:xfrm>
          <a:prstGeom prst="wedgeRoundRectCallout">
            <a:avLst>
              <a:gd name="adj1" fmla="val -35879"/>
              <a:gd name="adj2" fmla="val -10267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4" name=""/>
          <p:cNvSpPr/>
          <p:nvPr/>
        </p:nvSpPr>
        <p:spPr>
          <a:xfrm>
            <a:off x="3040200" y="3668760"/>
            <a:ext cx="3049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てつだいましょうか→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5" name=""/>
          <p:cNvSpPr/>
          <p:nvPr/>
        </p:nvSpPr>
        <p:spPr>
          <a:xfrm>
            <a:off x="5746680" y="3541680"/>
            <a:ext cx="2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6" name=""/>
          <p:cNvSpPr/>
          <p:nvPr/>
        </p:nvSpPr>
        <p:spPr>
          <a:xfrm>
            <a:off x="2706840" y="4157640"/>
            <a:ext cx="67071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.OzN_'04"/>
                <a:ea typeface="Y.OzN_'04"/>
              </a:rPr>
              <a:t>お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てつだい</a:t>
            </a:r>
            <a:r>
              <a:rPr b="0" lang="ja-JP" sz="4400" spc="-1" strike="noStrike">
                <a:solidFill>
                  <a:srgbClr val="ff0000"/>
                </a:solidFill>
                <a:latin typeface="Y.OzN_'04"/>
                <a:ea typeface="Y.OzN_'04"/>
              </a:rPr>
              <a:t>し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ましょうか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77840" y="3786120"/>
            <a:ext cx="2398680" cy="4017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281240" y="2049480"/>
            <a:ext cx="2487600" cy="5999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861160" y="3848040"/>
            <a:ext cx="2398680" cy="4017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532400" y="2065320"/>
            <a:ext cx="3403440" cy="6161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-1347840" y="4264200"/>
            <a:ext cx="10078920" cy="5099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23760" y="179280"/>
            <a:ext cx="7620120" cy="1436760"/>
          </a:xfrm>
          <a:prstGeom prst="wedgeRoundRectCallout">
            <a:avLst>
              <a:gd name="adj1" fmla="val -26773"/>
              <a:gd name="adj2" fmla="val 11605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3" name=""/>
          <p:cNvSpPr/>
          <p:nvPr/>
        </p:nvSpPr>
        <p:spPr>
          <a:xfrm>
            <a:off x="1141560" y="809640"/>
            <a:ext cx="76197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なにを の</a:t>
            </a:r>
            <a:r>
              <a:rPr b="0" lang="ja-JP" sz="4400" spc="-1" strike="noStrike">
                <a:solidFill>
                  <a:srgbClr val="ff0000"/>
                </a:solidFill>
                <a:latin typeface="Y.OzN_'04"/>
                <a:ea typeface="Y.OzN_'04"/>
              </a:rPr>
              <a:t>まれ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ますか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4" name=""/>
          <p:cNvSpPr/>
          <p:nvPr/>
        </p:nvSpPr>
        <p:spPr>
          <a:xfrm>
            <a:off x="1514520" y="282600"/>
            <a:ext cx="289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にを のみますか→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805360" y="833400"/>
            <a:ext cx="2922840" cy="56134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452600" y="1989000"/>
            <a:ext cx="3402000" cy="66535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206800" y="3579840"/>
            <a:ext cx="7542000" cy="1436760"/>
          </a:xfrm>
          <a:prstGeom prst="wedgeRoundRectCallout">
            <a:avLst>
              <a:gd name="adj1" fmla="val -35879"/>
              <a:gd name="adj2" fmla="val -10267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0" name=""/>
          <p:cNvSpPr/>
          <p:nvPr/>
        </p:nvSpPr>
        <p:spPr>
          <a:xfrm>
            <a:off x="3040200" y="3668760"/>
            <a:ext cx="2441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もちましょうか→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1" name=""/>
          <p:cNvSpPr/>
          <p:nvPr/>
        </p:nvSpPr>
        <p:spPr>
          <a:xfrm>
            <a:off x="5746680" y="3541680"/>
            <a:ext cx="2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2" name=""/>
          <p:cNvSpPr/>
          <p:nvPr/>
        </p:nvSpPr>
        <p:spPr>
          <a:xfrm>
            <a:off x="2706840" y="4157640"/>
            <a:ext cx="55893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.OzN_'04"/>
                <a:ea typeface="Y.OzN_'04"/>
              </a:rPr>
              <a:t>お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もち</a:t>
            </a:r>
            <a:r>
              <a:rPr b="0" lang="ja-JP" sz="4400" spc="-1" strike="noStrike">
                <a:solidFill>
                  <a:srgbClr val="ff0000"/>
                </a:solidFill>
                <a:latin typeface="Y.OzN_'04"/>
                <a:ea typeface="Y.OzN_'04"/>
              </a:rPr>
              <a:t>し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ましょうか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96720" y="2162160"/>
            <a:ext cx="3957840" cy="113364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4" name=""/>
          <p:cNvSpPr/>
          <p:nvPr/>
        </p:nvSpPr>
        <p:spPr>
          <a:xfrm>
            <a:off x="1014480" y="2271600"/>
            <a:ext cx="16779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わたし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5" name=""/>
          <p:cNvSpPr/>
          <p:nvPr/>
        </p:nvSpPr>
        <p:spPr>
          <a:xfrm>
            <a:off x="2455920" y="2311560"/>
            <a:ext cx="16779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し</a:t>
            </a: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6" name=""/>
          <p:cNvSpPr/>
          <p:nvPr/>
        </p:nvSpPr>
        <p:spPr>
          <a:xfrm>
            <a:off x="307800" y="3776760"/>
            <a:ext cx="411804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7" name=""/>
          <p:cNvSpPr/>
          <p:nvPr/>
        </p:nvSpPr>
        <p:spPr>
          <a:xfrm>
            <a:off x="1246320" y="3917880"/>
            <a:ext cx="11174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きき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8" name=""/>
          <p:cNvSpPr/>
          <p:nvPr/>
        </p:nvSpPr>
        <p:spPr>
          <a:xfrm>
            <a:off x="2128680" y="3929040"/>
            <a:ext cx="16783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し</a:t>
            </a: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9" name=""/>
          <p:cNvSpPr/>
          <p:nvPr/>
        </p:nvSpPr>
        <p:spPr>
          <a:xfrm>
            <a:off x="217440" y="115740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GR1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0" name=""/>
          <p:cNvSpPr/>
          <p:nvPr/>
        </p:nvSpPr>
        <p:spPr>
          <a:xfrm>
            <a:off x="4640400" y="120024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GR2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1" name=""/>
          <p:cNvSpPr/>
          <p:nvPr/>
        </p:nvSpPr>
        <p:spPr>
          <a:xfrm>
            <a:off x="3309840" y="4906800"/>
            <a:ext cx="6645240" cy="94788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cf.</a:t>
            </a: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みます・います・きます</a:t>
            </a:r>
            <a:r>
              <a:rPr b="0" lang="en-US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etc → ×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85840" y="0"/>
            <a:ext cx="7456320" cy="1098720"/>
            <a:chOff x="285840" y="0"/>
            <a:chExt cx="7456320" cy="1098720"/>
          </a:xfrm>
        </p:grpSpPr>
        <p:sp>
          <p:nvSpPr>
            <p:cNvPr id="223" name=""/>
            <p:cNvSpPr/>
            <p:nvPr/>
          </p:nvSpPr>
          <p:spPr>
            <a:xfrm>
              <a:off x="285840" y="0"/>
              <a:ext cx="7456320" cy="1098720"/>
            </a:xfrm>
            <a:prstGeom prst="roundRect">
              <a:avLst>
                <a:gd name="adj" fmla="val 144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96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東風明朝"/>
                  <a:ea typeface="東風明朝"/>
                </a:rPr>
                <a:t>けんじょうご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531720" y="2271600"/>
            <a:ext cx="7128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お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5" name=""/>
          <p:cNvSpPr/>
          <p:nvPr/>
        </p:nvSpPr>
        <p:spPr>
          <a:xfrm>
            <a:off x="531720" y="3902040"/>
            <a:ext cx="7128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お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6" name=""/>
          <p:cNvSpPr/>
          <p:nvPr/>
        </p:nvSpPr>
        <p:spPr>
          <a:xfrm>
            <a:off x="4567320" y="2200320"/>
            <a:ext cx="3957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7" name=""/>
          <p:cNvSpPr/>
          <p:nvPr/>
        </p:nvSpPr>
        <p:spPr>
          <a:xfrm>
            <a:off x="5184720" y="2311560"/>
            <a:ext cx="1117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あけ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8" name=""/>
          <p:cNvSpPr/>
          <p:nvPr/>
        </p:nvSpPr>
        <p:spPr>
          <a:xfrm>
            <a:off x="6292800" y="2311560"/>
            <a:ext cx="16779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し</a:t>
            </a: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9" name=""/>
          <p:cNvSpPr/>
          <p:nvPr/>
        </p:nvSpPr>
        <p:spPr>
          <a:xfrm>
            <a:off x="4702320" y="2311560"/>
            <a:ext cx="712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お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0" name=""/>
          <p:cNvSpPr/>
          <p:nvPr/>
        </p:nvSpPr>
        <p:spPr>
          <a:xfrm>
            <a:off x="4541760" y="3740040"/>
            <a:ext cx="3957840" cy="113364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1" name=""/>
          <p:cNvSpPr/>
          <p:nvPr/>
        </p:nvSpPr>
        <p:spPr>
          <a:xfrm>
            <a:off x="5159520" y="3851280"/>
            <a:ext cx="11174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かり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2" name=""/>
          <p:cNvSpPr/>
          <p:nvPr/>
        </p:nvSpPr>
        <p:spPr>
          <a:xfrm>
            <a:off x="6267600" y="3851280"/>
            <a:ext cx="16779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し</a:t>
            </a: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3" name=""/>
          <p:cNvSpPr/>
          <p:nvPr/>
        </p:nvSpPr>
        <p:spPr>
          <a:xfrm>
            <a:off x="4676760" y="3851280"/>
            <a:ext cx="7128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お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419640" y="190440"/>
            <a:ext cx="5078160" cy="324324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755640" y="2009880"/>
            <a:ext cx="2405160" cy="5581440"/>
            <a:chOff x="755640" y="2009880"/>
            <a:chExt cx="2405160" cy="5581440"/>
          </a:xfrm>
        </p:grpSpPr>
        <p:pic>
          <p:nvPicPr>
            <p:cNvPr id="236" name="" descr=""/>
            <p:cNvPicPr/>
            <p:nvPr/>
          </p:nvPicPr>
          <p:blipFill>
            <a:blip r:embed="rId2"/>
            <a:stretch/>
          </p:blipFill>
          <p:spPr>
            <a:xfrm>
              <a:off x="755640" y="2009880"/>
              <a:ext cx="2311560" cy="55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3"/>
            <a:stretch/>
          </p:blipFill>
          <p:spPr>
            <a:xfrm>
              <a:off x="2308320" y="3262320"/>
              <a:ext cx="852480" cy="2557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4764240" y="1565280"/>
            <a:ext cx="2097000" cy="63961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282680" y="461880"/>
            <a:ext cx="7542360" cy="1436760"/>
          </a:xfrm>
          <a:prstGeom prst="wedgeRoundRectCallout">
            <a:avLst>
              <a:gd name="adj1" fmla="val -36740"/>
              <a:gd name="adj2" fmla="val 11064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0" name=""/>
          <p:cNvSpPr/>
          <p:nvPr/>
        </p:nvSpPr>
        <p:spPr>
          <a:xfrm>
            <a:off x="2117880" y="552600"/>
            <a:ext cx="2441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しましょうか→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1" name=""/>
          <p:cNvSpPr/>
          <p:nvPr/>
        </p:nvSpPr>
        <p:spPr>
          <a:xfrm>
            <a:off x="4822920" y="423720"/>
            <a:ext cx="252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2" name=""/>
          <p:cNvSpPr/>
          <p:nvPr/>
        </p:nvSpPr>
        <p:spPr>
          <a:xfrm>
            <a:off x="1782720" y="1039680"/>
            <a:ext cx="5589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.OzN_'04"/>
                <a:ea typeface="Y.OzN_'04"/>
              </a:rPr>
              <a:t>お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かし</a:t>
            </a:r>
            <a:r>
              <a:rPr b="0" lang="ja-JP" sz="4400" spc="-1" strike="noStrike">
                <a:solidFill>
                  <a:srgbClr val="ff0000"/>
                </a:solidFill>
                <a:latin typeface="Y.OzN_'04"/>
                <a:ea typeface="Y.OzN_'04"/>
              </a:rPr>
              <a:t>し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ましょうか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654120"/>
            <a:ext cx="4089240" cy="53449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483320" y="2052720"/>
            <a:ext cx="2016360" cy="75596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4862520" y="4054320"/>
            <a:ext cx="5218200" cy="35053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1406520" y="2070000"/>
            <a:ext cx="2419200" cy="65152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03320" y="345960"/>
            <a:ext cx="5734080" cy="1590840"/>
          </a:xfrm>
          <a:prstGeom prst="wedgeRoundRectCallout">
            <a:avLst>
              <a:gd name="adj1" fmla="val 13976"/>
              <a:gd name="adj2" fmla="val 7256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8" name=""/>
          <p:cNvSpPr/>
          <p:nvPr/>
        </p:nvSpPr>
        <p:spPr>
          <a:xfrm>
            <a:off x="1065240" y="5284800"/>
            <a:ext cx="6607080" cy="1590840"/>
          </a:xfrm>
          <a:prstGeom prst="wedgeRoundRectCallout">
            <a:avLst>
              <a:gd name="adj1" fmla="val 55236"/>
              <a:gd name="adj2" fmla="val -16855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9" name=""/>
          <p:cNvSpPr/>
          <p:nvPr/>
        </p:nvSpPr>
        <p:spPr>
          <a:xfrm>
            <a:off x="1425600" y="5559480"/>
            <a:ext cx="54766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い、わたしが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0" name=""/>
          <p:cNvSpPr/>
          <p:nvPr/>
        </p:nvSpPr>
        <p:spPr>
          <a:xfrm>
            <a:off x="1527120" y="6148440"/>
            <a:ext cx="5477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ご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せつめい</a:t>
            </a: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し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1" name=""/>
          <p:cNvSpPr/>
          <p:nvPr/>
        </p:nvSpPr>
        <p:spPr>
          <a:xfrm>
            <a:off x="365040" y="446040"/>
            <a:ext cx="5330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みません、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いしゃの せつめいを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きたいんですが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654120"/>
            <a:ext cx="4089240" cy="53449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7483320" y="2052720"/>
            <a:ext cx="2016360" cy="75596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4862520" y="4054320"/>
            <a:ext cx="5218200" cy="35053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1406520" y="2070000"/>
            <a:ext cx="2419200" cy="65152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03320" y="345960"/>
            <a:ext cx="5734080" cy="1590840"/>
          </a:xfrm>
          <a:prstGeom prst="wedgeRoundRectCallout">
            <a:avLst>
              <a:gd name="adj1" fmla="val 13976"/>
              <a:gd name="adj2" fmla="val 7256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7" name=""/>
          <p:cNvSpPr/>
          <p:nvPr/>
        </p:nvSpPr>
        <p:spPr>
          <a:xfrm>
            <a:off x="1065240" y="5284800"/>
            <a:ext cx="6607080" cy="1590840"/>
          </a:xfrm>
          <a:prstGeom prst="wedgeRoundRectCallout">
            <a:avLst>
              <a:gd name="adj1" fmla="val 55236"/>
              <a:gd name="adj2" fmla="val -16855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8" name=""/>
          <p:cNvSpPr/>
          <p:nvPr/>
        </p:nvSpPr>
        <p:spPr>
          <a:xfrm>
            <a:off x="1425600" y="5559480"/>
            <a:ext cx="54766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い、わたしが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9" name=""/>
          <p:cNvSpPr/>
          <p:nvPr/>
        </p:nvSpPr>
        <p:spPr>
          <a:xfrm>
            <a:off x="1527120" y="6148440"/>
            <a:ext cx="5477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ご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せつめい</a:t>
            </a: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いたし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0" name=""/>
          <p:cNvSpPr/>
          <p:nvPr/>
        </p:nvSpPr>
        <p:spPr>
          <a:xfrm>
            <a:off x="365040" y="446040"/>
            <a:ext cx="5330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みません、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いしゃの せつめいを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きたいんですが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654120"/>
            <a:ext cx="4089240" cy="53449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7483320" y="2052720"/>
            <a:ext cx="2016360" cy="75596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4862520" y="4054320"/>
            <a:ext cx="5218200" cy="35053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1406520" y="2070000"/>
            <a:ext cx="2419200" cy="65152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03320" y="345960"/>
            <a:ext cx="5734080" cy="1590840"/>
          </a:xfrm>
          <a:prstGeom prst="wedgeRoundRectCallout">
            <a:avLst>
              <a:gd name="adj1" fmla="val 13976"/>
              <a:gd name="adj2" fmla="val 7256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6" name=""/>
          <p:cNvSpPr/>
          <p:nvPr/>
        </p:nvSpPr>
        <p:spPr>
          <a:xfrm>
            <a:off x="1065240" y="5284800"/>
            <a:ext cx="6607080" cy="1590840"/>
          </a:xfrm>
          <a:prstGeom prst="wedgeRoundRectCallout">
            <a:avLst>
              <a:gd name="adj1" fmla="val 55236"/>
              <a:gd name="adj2" fmla="val -16855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7" name=""/>
          <p:cNvSpPr/>
          <p:nvPr/>
        </p:nvSpPr>
        <p:spPr>
          <a:xfrm>
            <a:off x="1425600" y="5559480"/>
            <a:ext cx="54766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い、わたしが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8" name=""/>
          <p:cNvSpPr/>
          <p:nvPr/>
        </p:nvSpPr>
        <p:spPr>
          <a:xfrm>
            <a:off x="1527120" y="6148440"/>
            <a:ext cx="5477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ご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せつめい</a:t>
            </a: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いたし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9" name=""/>
          <p:cNvSpPr/>
          <p:nvPr/>
        </p:nvSpPr>
        <p:spPr>
          <a:xfrm>
            <a:off x="365040" y="446040"/>
            <a:ext cx="5330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みません、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いしゃの せつめいを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お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き</a:t>
            </a: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し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いんですが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654120"/>
            <a:ext cx="4089240" cy="53449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7483320" y="2052720"/>
            <a:ext cx="2016360" cy="75596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4862520" y="4054320"/>
            <a:ext cx="5218200" cy="35053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1406520" y="2070000"/>
            <a:ext cx="2419200" cy="65152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03320" y="345960"/>
            <a:ext cx="5734080" cy="1590840"/>
          </a:xfrm>
          <a:prstGeom prst="wedgeRoundRectCallout">
            <a:avLst>
              <a:gd name="adj1" fmla="val 13976"/>
              <a:gd name="adj2" fmla="val 7256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5" name=""/>
          <p:cNvSpPr/>
          <p:nvPr/>
        </p:nvSpPr>
        <p:spPr>
          <a:xfrm>
            <a:off x="1065240" y="5284800"/>
            <a:ext cx="6607080" cy="1590840"/>
          </a:xfrm>
          <a:prstGeom prst="wedgeRoundRectCallout">
            <a:avLst>
              <a:gd name="adj1" fmla="val 55236"/>
              <a:gd name="adj2" fmla="val -16855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6" name=""/>
          <p:cNvSpPr/>
          <p:nvPr/>
        </p:nvSpPr>
        <p:spPr>
          <a:xfrm>
            <a:off x="1425600" y="5559480"/>
            <a:ext cx="54766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い、わたしが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7" name=""/>
          <p:cNvSpPr/>
          <p:nvPr/>
        </p:nvSpPr>
        <p:spPr>
          <a:xfrm>
            <a:off x="1527120" y="6148440"/>
            <a:ext cx="5477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ご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せつめい</a:t>
            </a: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いたし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8" name=""/>
          <p:cNvSpPr/>
          <p:nvPr/>
        </p:nvSpPr>
        <p:spPr>
          <a:xfrm>
            <a:off x="365040" y="446040"/>
            <a:ext cx="5330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みません、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いしゃの せつめいを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うかがい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いんですが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50920" y="1720800"/>
            <a:ext cx="841032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ききます ⇒ 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うかがい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います ⇒ 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おり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いきます・きます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⇒ 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まいります 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します ⇒ 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いたし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〜します ⇒ 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ご</a:t>
            </a:r>
            <a:r>
              <a:rPr b="0" lang="en-US" sz="40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/</a:t>
            </a: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お〜します 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285840" y="0"/>
            <a:ext cx="7456320" cy="1098720"/>
            <a:chOff x="285840" y="0"/>
            <a:chExt cx="7456320" cy="1098720"/>
          </a:xfrm>
        </p:grpSpPr>
        <p:sp>
          <p:nvSpPr>
            <p:cNvPr id="281" name=""/>
            <p:cNvSpPr/>
            <p:nvPr/>
          </p:nvSpPr>
          <p:spPr>
            <a:xfrm>
              <a:off x="285840" y="0"/>
              <a:ext cx="7456320" cy="1098720"/>
            </a:xfrm>
            <a:prstGeom prst="roundRect">
              <a:avLst>
                <a:gd name="adj" fmla="val 144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96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東風明朝"/>
                  <a:ea typeface="東風明朝"/>
                </a:rPr>
                <a:t>けんじょうご</a:t>
              </a:r>
              <a:r>
                <a:rPr b="0" lang="en-US" sz="6000" spc="-1" strike="noStrike">
                  <a:solidFill>
                    <a:srgbClr val="000000"/>
                  </a:solidFill>
                  <a:latin typeface="東風明朝"/>
                  <a:ea typeface="東風明朝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88920" y="181080"/>
            <a:ext cx="9823320" cy="3398760"/>
          </a:xfrm>
          <a:prstGeom prst="wedgeRoundRectCallout">
            <a:avLst>
              <a:gd name="adj1" fmla="val -19837"/>
              <a:gd name="adj2" fmla="val 8431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4979880" y="1704960"/>
            <a:ext cx="790560" cy="14954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299880" y="561960"/>
            <a:ext cx="726624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ゃちょう、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およみします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6207120" y="3535200"/>
            <a:ext cx="2390760" cy="67248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5322960" y="3392640"/>
            <a:ext cx="1135080" cy="1199880"/>
          </a:xfrm>
          <a:prstGeom prst="line">
            <a:avLst/>
          </a:prstGeom>
          <a:ln w="72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7" name=""/>
          <p:cNvSpPr/>
          <p:nvPr/>
        </p:nvSpPr>
        <p:spPr>
          <a:xfrm>
            <a:off x="5524560" y="3240000"/>
            <a:ext cx="1135080" cy="1200240"/>
          </a:xfrm>
          <a:prstGeom prst="line">
            <a:avLst/>
          </a:prstGeom>
          <a:ln w="72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2241720" y="1436760"/>
            <a:ext cx="1503360" cy="39448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1317600" y="3575160"/>
            <a:ext cx="2805120" cy="2139840"/>
          </a:xfrm>
          <a:prstGeom prst="roundRect">
            <a:avLst>
              <a:gd name="adj" fmla="val 7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352680" y="3832200"/>
            <a:ext cx="2322720" cy="153360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1" name=""/>
          <p:cNvSpPr/>
          <p:nvPr/>
        </p:nvSpPr>
        <p:spPr>
          <a:xfrm>
            <a:off x="3770280" y="2492280"/>
            <a:ext cx="1004760" cy="1800"/>
          </a:xfrm>
          <a:prstGeom prst="line">
            <a:avLst/>
          </a:prstGeom>
          <a:ln w="7200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919080" y="3780000"/>
            <a:ext cx="2495520" cy="75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88920" y="181080"/>
            <a:ext cx="9823320" cy="3398760"/>
          </a:xfrm>
          <a:prstGeom prst="wedgeRoundRectCallout">
            <a:avLst>
              <a:gd name="adj1" fmla="val -19837"/>
              <a:gd name="adj2" fmla="val 8431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979880" y="1704960"/>
            <a:ext cx="790560" cy="1495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299880" y="561960"/>
            <a:ext cx="81028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ゃちょう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に 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およみしました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2241720" y="1436760"/>
            <a:ext cx="1503360" cy="39448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317600" y="3575160"/>
            <a:ext cx="2805120" cy="2139840"/>
          </a:xfrm>
          <a:prstGeom prst="roundRect">
            <a:avLst>
              <a:gd name="adj" fmla="val 7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3352680" y="2801880"/>
            <a:ext cx="1565280" cy="256392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9" name=""/>
          <p:cNvSpPr/>
          <p:nvPr/>
        </p:nvSpPr>
        <p:spPr>
          <a:xfrm>
            <a:off x="3770280" y="2492280"/>
            <a:ext cx="1004760" cy="1800"/>
          </a:xfrm>
          <a:prstGeom prst="line">
            <a:avLst/>
          </a:prstGeom>
          <a:ln w="7200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919080" y="3780000"/>
            <a:ext cx="2495520" cy="75596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>
            <a:off x="6946920" y="3186000"/>
            <a:ext cx="2449440" cy="75596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8082000" y="4668840"/>
            <a:ext cx="381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77840" y="3786120"/>
            <a:ext cx="2398680" cy="4017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861160" y="3848040"/>
            <a:ext cx="2398680" cy="4017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532400" y="2065320"/>
            <a:ext cx="3403440" cy="6161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281240" y="2049480"/>
            <a:ext cx="2487600" cy="5999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-1347840" y="4264200"/>
            <a:ext cx="10078920" cy="5099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23760" y="179280"/>
            <a:ext cx="7620120" cy="1436760"/>
          </a:xfrm>
          <a:prstGeom prst="wedgeRoundRectCallout">
            <a:avLst>
              <a:gd name="adj1" fmla="val -26773"/>
              <a:gd name="adj2" fmla="val 11605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1" name=""/>
          <p:cNvSpPr/>
          <p:nvPr/>
        </p:nvSpPr>
        <p:spPr>
          <a:xfrm>
            <a:off x="1141560" y="809640"/>
            <a:ext cx="76197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なにを </a:t>
            </a:r>
            <a:r>
              <a:rPr b="0" lang="ja-JP" sz="4400" spc="-1" strike="noStrike">
                <a:solidFill>
                  <a:srgbClr val="ff0000"/>
                </a:solidFill>
                <a:latin typeface="Y.OzN_'04"/>
                <a:ea typeface="Y.OzN_'04"/>
              </a:rPr>
              <a:t>お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のみ</a:t>
            </a:r>
            <a:r>
              <a:rPr b="0" lang="ja-JP" sz="4400" spc="-1" strike="noStrike">
                <a:solidFill>
                  <a:srgbClr val="ff0000"/>
                </a:solidFill>
                <a:latin typeface="Y.OzN_'04"/>
                <a:ea typeface="Y.OzN_'04"/>
              </a:rPr>
              <a:t>になり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ますか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2" name=""/>
          <p:cNvSpPr/>
          <p:nvPr/>
        </p:nvSpPr>
        <p:spPr>
          <a:xfrm>
            <a:off x="1514520" y="282600"/>
            <a:ext cx="289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にを のみますか→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88920" y="181080"/>
            <a:ext cx="9823320" cy="3398760"/>
          </a:xfrm>
          <a:prstGeom prst="wedgeRoundRectCallout">
            <a:avLst>
              <a:gd name="adj1" fmla="val -19837"/>
              <a:gd name="adj2" fmla="val 8431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241720" y="1436760"/>
            <a:ext cx="1503360" cy="39448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979880" y="1704960"/>
            <a:ext cx="790560" cy="14954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299880" y="561960"/>
            <a:ext cx="69850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ゃちょう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に 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およみした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7" name=""/>
          <p:cNvSpPr/>
          <p:nvPr/>
        </p:nvSpPr>
        <p:spPr>
          <a:xfrm>
            <a:off x="1317600" y="3575160"/>
            <a:ext cx="2805120" cy="2139840"/>
          </a:xfrm>
          <a:prstGeom prst="roundRect">
            <a:avLst>
              <a:gd name="adj" fmla="val 7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3352680" y="2801880"/>
            <a:ext cx="1565280" cy="256392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9" name=""/>
          <p:cNvSpPr/>
          <p:nvPr/>
        </p:nvSpPr>
        <p:spPr>
          <a:xfrm>
            <a:off x="3770280" y="2492280"/>
            <a:ext cx="1004760" cy="1800"/>
          </a:xfrm>
          <a:prstGeom prst="line">
            <a:avLst/>
          </a:prstGeom>
          <a:ln w="7200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919080" y="3780000"/>
            <a:ext cx="2495520" cy="75596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7253280" y="3417840"/>
            <a:ext cx="2168640" cy="75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88920" y="181080"/>
            <a:ext cx="9823320" cy="3398760"/>
          </a:xfrm>
          <a:prstGeom prst="wedgeRoundRectCallout">
            <a:avLst>
              <a:gd name="adj1" fmla="val -30416"/>
              <a:gd name="adj2" fmla="val 7750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5180040" y="1295280"/>
            <a:ext cx="1503360" cy="394488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2075040" y="1174680"/>
            <a:ext cx="1904760" cy="4345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2398680" y="3614760"/>
            <a:ext cx="2130480" cy="2127240"/>
          </a:xfrm>
          <a:prstGeom prst="roundRect">
            <a:avLst>
              <a:gd name="adj" fmla="val 7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7472520" y="1679400"/>
            <a:ext cx="790560" cy="149544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299880" y="561960"/>
            <a:ext cx="7621920" cy="20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よまれ</a:t>
            </a:r>
            <a:r>
              <a:rPr b="0" lang="ja-JP" sz="4800" spc="-1" strike="noStrike">
                <a:solidFill>
                  <a:srgbClr val="008000"/>
                </a:solidFill>
                <a:latin typeface="YOzFontNP04"/>
                <a:ea typeface="YOzFontNP04"/>
              </a:rPr>
              <a:t>ます</a:t>
            </a:r>
            <a:r>
              <a:rPr b="0" lang="en-US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 </a:t>
            </a:r>
            <a:r>
              <a:rPr b="0" lang="en-US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/ </a:t>
            </a:r>
            <a:r>
              <a:rPr b="0" lang="ja-JP" sz="4800" spc="-1" strike="noStrike">
                <a:solidFill>
                  <a:srgbClr val="0000ff"/>
                </a:solidFill>
                <a:latin typeface="YOzFontNP04"/>
                <a:ea typeface="YOzFontNP04"/>
              </a:rPr>
              <a:t>およみし</a:t>
            </a:r>
            <a:r>
              <a:rPr b="0" lang="ja-JP" sz="4800" spc="-1" strike="noStrike">
                <a:solidFill>
                  <a:srgbClr val="008000"/>
                </a:solidFill>
                <a:latin typeface="YOzFontNP04"/>
                <a:ea typeface="YOzFontNP04"/>
              </a:rPr>
              <a:t>ま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8" name=""/>
          <p:cNvSpPr/>
          <p:nvPr/>
        </p:nvSpPr>
        <p:spPr>
          <a:xfrm>
            <a:off x="4606920" y="3575160"/>
            <a:ext cx="2805120" cy="2139840"/>
          </a:xfrm>
          <a:prstGeom prst="roundRect">
            <a:avLst>
              <a:gd name="adj" fmla="val 7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327480" y="2722680"/>
            <a:ext cx="3992400" cy="2303280"/>
          </a:xfrm>
          <a:prstGeom prst="line">
            <a:avLst/>
          </a:prstGeom>
          <a:ln w="108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0" name=""/>
          <p:cNvSpPr/>
          <p:nvPr/>
        </p:nvSpPr>
        <p:spPr>
          <a:xfrm>
            <a:off x="6732720" y="2492280"/>
            <a:ext cx="600120" cy="12960"/>
          </a:xfrm>
          <a:prstGeom prst="line">
            <a:avLst/>
          </a:prstGeom>
          <a:ln w="7200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205000" y="3232080"/>
            <a:ext cx="809640" cy="153360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2427120" y="5868720"/>
            <a:ext cx="3587760" cy="189000"/>
          </a:xfrm>
          <a:prstGeom prst="line">
            <a:avLst/>
          </a:prstGeom>
          <a:ln w="108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3" name=""/>
          <p:cNvSpPr/>
          <p:nvPr/>
        </p:nvSpPr>
        <p:spPr>
          <a:xfrm>
            <a:off x="2217600" y="3654360"/>
            <a:ext cx="1697040" cy="109548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そんけい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4" name=""/>
          <p:cNvSpPr/>
          <p:nvPr/>
        </p:nvSpPr>
        <p:spPr>
          <a:xfrm>
            <a:off x="4579920" y="3719520"/>
            <a:ext cx="2128680" cy="109548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けんじょう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5" name=""/>
          <p:cNvSpPr/>
          <p:nvPr/>
        </p:nvSpPr>
        <p:spPr>
          <a:xfrm>
            <a:off x="3457440" y="5794200"/>
            <a:ext cx="1697040" cy="109548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ていねい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4"/>
          <a:stretch/>
        </p:blipFill>
        <p:spPr>
          <a:xfrm>
            <a:off x="111240" y="3780000"/>
            <a:ext cx="2495520" cy="755964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5"/>
          <a:stretch/>
        </p:blipFill>
        <p:spPr>
          <a:xfrm>
            <a:off x="6972480" y="3224160"/>
            <a:ext cx="244944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77840" y="3786120"/>
            <a:ext cx="2398680" cy="4017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281240" y="2049480"/>
            <a:ext cx="2487600" cy="5999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861160" y="3848040"/>
            <a:ext cx="2398680" cy="4017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532400" y="2065320"/>
            <a:ext cx="3403440" cy="6161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-1347840" y="4264200"/>
            <a:ext cx="10078920" cy="5099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23760" y="179280"/>
            <a:ext cx="7620120" cy="1436760"/>
          </a:xfrm>
          <a:prstGeom prst="wedgeRoundRectCallout">
            <a:avLst>
              <a:gd name="adj1" fmla="val -26773"/>
              <a:gd name="adj2" fmla="val 11605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9" name=""/>
          <p:cNvSpPr/>
          <p:nvPr/>
        </p:nvSpPr>
        <p:spPr>
          <a:xfrm>
            <a:off x="1141560" y="809640"/>
            <a:ext cx="76197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なにを たべ</a:t>
            </a:r>
            <a:r>
              <a:rPr b="0" lang="ja-JP" sz="4400" spc="-1" strike="noStrike">
                <a:solidFill>
                  <a:srgbClr val="ff0000"/>
                </a:solidFill>
                <a:latin typeface="Y.OzN_'04"/>
                <a:ea typeface="Y.OzN_'04"/>
              </a:rPr>
              <a:t>られ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ますか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0" name=""/>
          <p:cNvSpPr/>
          <p:nvPr/>
        </p:nvSpPr>
        <p:spPr>
          <a:xfrm>
            <a:off x="1514520" y="282600"/>
            <a:ext cx="289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にを たべますか→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77840" y="3786120"/>
            <a:ext cx="2398680" cy="4017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281240" y="2049480"/>
            <a:ext cx="2487600" cy="5999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861160" y="3848040"/>
            <a:ext cx="2398680" cy="40179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4532400" y="2065320"/>
            <a:ext cx="3403440" cy="61610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-1347840" y="4264200"/>
            <a:ext cx="10078920" cy="50990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23760" y="179280"/>
            <a:ext cx="7620120" cy="1436760"/>
          </a:xfrm>
          <a:prstGeom prst="wedgeRoundRectCallout">
            <a:avLst>
              <a:gd name="adj1" fmla="val -26773"/>
              <a:gd name="adj2" fmla="val 11605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7" name=""/>
          <p:cNvSpPr/>
          <p:nvPr/>
        </p:nvSpPr>
        <p:spPr>
          <a:xfrm>
            <a:off x="1141560" y="809640"/>
            <a:ext cx="76197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なにを </a:t>
            </a:r>
            <a:r>
              <a:rPr b="0" lang="ja-JP" sz="4400" spc="-1" strike="noStrike">
                <a:solidFill>
                  <a:srgbClr val="ff0000"/>
                </a:solidFill>
                <a:latin typeface="Y.OzN_'04"/>
                <a:ea typeface="Y.OzN_'04"/>
              </a:rPr>
              <a:t>お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たべ</a:t>
            </a:r>
            <a:r>
              <a:rPr b="0" lang="ja-JP" sz="4400" spc="-1" strike="noStrike">
                <a:solidFill>
                  <a:srgbClr val="ff0000"/>
                </a:solidFill>
                <a:latin typeface="Y.OzN_'04"/>
                <a:ea typeface="Y.OzN_'04"/>
              </a:rPr>
              <a:t>になり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ますか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8" name=""/>
          <p:cNvSpPr/>
          <p:nvPr/>
        </p:nvSpPr>
        <p:spPr>
          <a:xfrm>
            <a:off x="1514520" y="282600"/>
            <a:ext cx="289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にを たべますか→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31880" y="2162160"/>
            <a:ext cx="3624120" cy="113364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0" name=""/>
          <p:cNvSpPr/>
          <p:nvPr/>
        </p:nvSpPr>
        <p:spPr>
          <a:xfrm>
            <a:off x="976320" y="2208240"/>
            <a:ext cx="666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の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1" name=""/>
          <p:cNvSpPr/>
          <p:nvPr/>
        </p:nvSpPr>
        <p:spPr>
          <a:xfrm>
            <a:off x="1004760" y="2865600"/>
            <a:ext cx="2355840" cy="81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ーｉ → ー</a:t>
            </a:r>
            <a:r>
              <a:rPr b="0" lang="en-US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a </a:t>
            </a: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れ 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2" name=""/>
          <p:cNvSpPr/>
          <p:nvPr/>
        </p:nvSpPr>
        <p:spPr>
          <a:xfrm>
            <a:off x="1558800" y="2220840"/>
            <a:ext cx="22352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まれ</a:t>
            </a: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3" name=""/>
          <p:cNvSpPr/>
          <p:nvPr/>
        </p:nvSpPr>
        <p:spPr>
          <a:xfrm>
            <a:off x="638280" y="3776760"/>
            <a:ext cx="362412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4" name=""/>
          <p:cNvSpPr/>
          <p:nvPr/>
        </p:nvSpPr>
        <p:spPr>
          <a:xfrm>
            <a:off x="963720" y="3917880"/>
            <a:ext cx="666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き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5" name=""/>
          <p:cNvSpPr/>
          <p:nvPr/>
        </p:nvSpPr>
        <p:spPr>
          <a:xfrm>
            <a:off x="992160" y="4575240"/>
            <a:ext cx="2355840" cy="81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ーｉ → ー</a:t>
            </a:r>
            <a:r>
              <a:rPr b="0" lang="en-US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a </a:t>
            </a: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れ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6" name=""/>
          <p:cNvSpPr/>
          <p:nvPr/>
        </p:nvSpPr>
        <p:spPr>
          <a:xfrm>
            <a:off x="1603440" y="3890880"/>
            <a:ext cx="22352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かれ</a:t>
            </a: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7" name=""/>
          <p:cNvSpPr/>
          <p:nvPr/>
        </p:nvSpPr>
        <p:spPr>
          <a:xfrm>
            <a:off x="217440" y="115740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GR1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8" name=""/>
          <p:cNvSpPr/>
          <p:nvPr/>
        </p:nvSpPr>
        <p:spPr>
          <a:xfrm>
            <a:off x="5073480" y="2214720"/>
            <a:ext cx="3624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9" name=""/>
          <p:cNvSpPr/>
          <p:nvPr/>
        </p:nvSpPr>
        <p:spPr>
          <a:xfrm>
            <a:off x="5373720" y="2247840"/>
            <a:ext cx="11174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たべ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0" name=""/>
          <p:cNvSpPr/>
          <p:nvPr/>
        </p:nvSpPr>
        <p:spPr>
          <a:xfrm>
            <a:off x="5402160" y="2903400"/>
            <a:ext cx="2355840" cy="811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ー  → </a:t>
            </a:r>
            <a:r>
              <a:rPr b="0" lang="en-US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+ </a:t>
            </a: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られ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1" name=""/>
          <p:cNvSpPr/>
          <p:nvPr/>
        </p:nvSpPr>
        <p:spPr>
          <a:xfrm>
            <a:off x="6516720" y="2286000"/>
            <a:ext cx="22352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られ</a:t>
            </a: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2" name=""/>
          <p:cNvSpPr/>
          <p:nvPr/>
        </p:nvSpPr>
        <p:spPr>
          <a:xfrm>
            <a:off x="5035680" y="3841920"/>
            <a:ext cx="362412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3" name=""/>
          <p:cNvSpPr/>
          <p:nvPr/>
        </p:nvSpPr>
        <p:spPr>
          <a:xfrm>
            <a:off x="5361120" y="3957480"/>
            <a:ext cx="11188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かり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4" name=""/>
          <p:cNvSpPr/>
          <p:nvPr/>
        </p:nvSpPr>
        <p:spPr>
          <a:xfrm>
            <a:off x="5389560" y="4613400"/>
            <a:ext cx="2355840" cy="811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ー → </a:t>
            </a:r>
            <a:r>
              <a:rPr b="0" lang="en-US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+ </a:t>
            </a: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られ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5" name=""/>
          <p:cNvSpPr/>
          <p:nvPr/>
        </p:nvSpPr>
        <p:spPr>
          <a:xfrm>
            <a:off x="6327720" y="3930480"/>
            <a:ext cx="22352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232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られ</a:t>
            </a:r>
            <a:r>
              <a:rPr b="0" lang="ja-JP" sz="44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ます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6" name=""/>
          <p:cNvSpPr/>
          <p:nvPr/>
        </p:nvSpPr>
        <p:spPr>
          <a:xfrm>
            <a:off x="4640400" y="120024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GR2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7" name=""/>
          <p:cNvSpPr/>
          <p:nvPr/>
        </p:nvSpPr>
        <p:spPr>
          <a:xfrm>
            <a:off x="477720" y="555480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GR3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8" name=""/>
          <p:cNvSpPr/>
          <p:nvPr/>
        </p:nvSpPr>
        <p:spPr>
          <a:xfrm>
            <a:off x="4173480" y="5484960"/>
            <a:ext cx="4111560" cy="94752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きます → </a:t>
            </a:r>
            <a:r>
              <a:rPr b="0" lang="ja-JP" sz="36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こられ</a:t>
            </a: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ます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9" name=""/>
          <p:cNvSpPr/>
          <p:nvPr/>
        </p:nvSpPr>
        <p:spPr>
          <a:xfrm>
            <a:off x="4187880" y="6545160"/>
            <a:ext cx="3994200" cy="870120"/>
          </a:xfrm>
          <a:prstGeom prst="roundRect">
            <a:avLst>
              <a:gd name="adj" fmla="val 18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します → </a:t>
            </a:r>
            <a:r>
              <a:rPr b="0" lang="ja-JP" sz="36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され</a:t>
            </a: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ます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85840" y="0"/>
            <a:ext cx="7456320" cy="1098720"/>
            <a:chOff x="285840" y="0"/>
            <a:chExt cx="7456320" cy="1098720"/>
          </a:xfrm>
        </p:grpSpPr>
        <p:sp>
          <p:nvSpPr>
            <p:cNvPr id="101" name=""/>
            <p:cNvSpPr/>
            <p:nvPr/>
          </p:nvSpPr>
          <p:spPr>
            <a:xfrm>
              <a:off x="285840" y="0"/>
              <a:ext cx="7456320" cy="1098720"/>
            </a:xfrm>
            <a:prstGeom prst="roundRect">
              <a:avLst>
                <a:gd name="adj" fmla="val 144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96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東風明朝"/>
                  <a:ea typeface="東風明朝"/>
                </a:rPr>
                <a:t>そんけいご</a:t>
              </a:r>
              <a:r>
                <a:rPr b="0" lang="en-US" sz="6000" spc="-1" strike="noStrike">
                  <a:solidFill>
                    <a:srgbClr val="000000"/>
                  </a:solidFill>
                  <a:latin typeface="東風明朝"/>
                  <a:ea typeface="東風明朝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96720" y="2162160"/>
            <a:ext cx="3957840" cy="113364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3" name=""/>
          <p:cNvSpPr/>
          <p:nvPr/>
        </p:nvSpPr>
        <p:spPr>
          <a:xfrm>
            <a:off x="1014480" y="2271600"/>
            <a:ext cx="71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のみ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4" name=""/>
          <p:cNvSpPr/>
          <p:nvPr/>
        </p:nvSpPr>
        <p:spPr>
          <a:xfrm>
            <a:off x="2122560" y="2271600"/>
            <a:ext cx="17762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になり</a:t>
            </a: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ます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5" name=""/>
          <p:cNvSpPr/>
          <p:nvPr/>
        </p:nvSpPr>
        <p:spPr>
          <a:xfrm>
            <a:off x="307800" y="3776760"/>
            <a:ext cx="411804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6" name=""/>
          <p:cNvSpPr/>
          <p:nvPr/>
        </p:nvSpPr>
        <p:spPr>
          <a:xfrm>
            <a:off x="1246320" y="3917880"/>
            <a:ext cx="7110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きき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7" name=""/>
          <p:cNvSpPr/>
          <p:nvPr/>
        </p:nvSpPr>
        <p:spPr>
          <a:xfrm>
            <a:off x="2128680" y="3929040"/>
            <a:ext cx="1776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になり</a:t>
            </a: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ます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8" name=""/>
          <p:cNvSpPr/>
          <p:nvPr/>
        </p:nvSpPr>
        <p:spPr>
          <a:xfrm>
            <a:off x="217440" y="115740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GR1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9" name=""/>
          <p:cNvSpPr/>
          <p:nvPr/>
        </p:nvSpPr>
        <p:spPr>
          <a:xfrm>
            <a:off x="4640400" y="120024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GR2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0" name=""/>
          <p:cNvSpPr/>
          <p:nvPr/>
        </p:nvSpPr>
        <p:spPr>
          <a:xfrm>
            <a:off x="477720" y="6183360"/>
            <a:ext cx="3052800" cy="965160"/>
          </a:xfrm>
          <a:prstGeom prst="roundRect">
            <a:avLst>
              <a:gd name="adj" fmla="val 16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440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GR3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1" name=""/>
          <p:cNvSpPr/>
          <p:nvPr/>
        </p:nvSpPr>
        <p:spPr>
          <a:xfrm>
            <a:off x="3309840" y="4906800"/>
            <a:ext cx="6645240" cy="947880"/>
          </a:xfrm>
          <a:prstGeom prst="roundRect">
            <a:avLst>
              <a:gd name="adj" fmla="val 1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440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cf.</a:t>
            </a: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みます・います・きます</a:t>
            </a:r>
            <a:r>
              <a:rPr b="0" lang="en-US" sz="28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etc → ×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2" name=""/>
          <p:cNvSpPr/>
          <p:nvPr/>
        </p:nvSpPr>
        <p:spPr>
          <a:xfrm>
            <a:off x="4187880" y="6545160"/>
            <a:ext cx="3994200" cy="870120"/>
          </a:xfrm>
          <a:prstGeom prst="roundRect">
            <a:avLst>
              <a:gd name="adj" fmla="val 18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440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きます・します → </a:t>
            </a:r>
            <a:r>
              <a:rPr b="0" lang="en-US" sz="28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85840" y="0"/>
            <a:ext cx="7456320" cy="1098720"/>
            <a:chOff x="285840" y="0"/>
            <a:chExt cx="7456320" cy="1098720"/>
          </a:xfrm>
        </p:grpSpPr>
        <p:sp>
          <p:nvSpPr>
            <p:cNvPr id="114" name=""/>
            <p:cNvSpPr/>
            <p:nvPr/>
          </p:nvSpPr>
          <p:spPr>
            <a:xfrm>
              <a:off x="285840" y="0"/>
              <a:ext cx="7456320" cy="1098720"/>
            </a:xfrm>
            <a:prstGeom prst="roundRect">
              <a:avLst>
                <a:gd name="adj" fmla="val 144"/>
              </a:avLst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960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東風明朝"/>
                  <a:ea typeface="東風明朝"/>
                </a:rPr>
                <a:t>そんけいご</a:t>
              </a:r>
              <a:r>
                <a:rPr b="0" lang="en-US" sz="6000" spc="-1" strike="noStrike">
                  <a:solidFill>
                    <a:srgbClr val="000000"/>
                  </a:solidFill>
                  <a:latin typeface="東風明朝"/>
                  <a:ea typeface="東風明朝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531720" y="2271600"/>
            <a:ext cx="7128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お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6" name=""/>
          <p:cNvSpPr/>
          <p:nvPr/>
        </p:nvSpPr>
        <p:spPr>
          <a:xfrm>
            <a:off x="378000" y="3889440"/>
            <a:ext cx="7124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お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7" name=""/>
          <p:cNvSpPr/>
          <p:nvPr/>
        </p:nvSpPr>
        <p:spPr>
          <a:xfrm>
            <a:off x="4567320" y="2200320"/>
            <a:ext cx="3957480" cy="11332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8" name=""/>
          <p:cNvSpPr/>
          <p:nvPr/>
        </p:nvSpPr>
        <p:spPr>
          <a:xfrm>
            <a:off x="5184720" y="2311560"/>
            <a:ext cx="7113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たべ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9" name=""/>
          <p:cNvSpPr/>
          <p:nvPr/>
        </p:nvSpPr>
        <p:spPr>
          <a:xfrm>
            <a:off x="6292800" y="2311560"/>
            <a:ext cx="17766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になり</a:t>
            </a: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ます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0" name=""/>
          <p:cNvSpPr/>
          <p:nvPr/>
        </p:nvSpPr>
        <p:spPr>
          <a:xfrm>
            <a:off x="4702320" y="2311560"/>
            <a:ext cx="712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お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1" name=""/>
          <p:cNvSpPr/>
          <p:nvPr/>
        </p:nvSpPr>
        <p:spPr>
          <a:xfrm>
            <a:off x="4541760" y="3740040"/>
            <a:ext cx="3957840" cy="113364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2" name=""/>
          <p:cNvSpPr/>
          <p:nvPr/>
        </p:nvSpPr>
        <p:spPr>
          <a:xfrm>
            <a:off x="5159520" y="3851280"/>
            <a:ext cx="7110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かり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3" name=""/>
          <p:cNvSpPr/>
          <p:nvPr/>
        </p:nvSpPr>
        <p:spPr>
          <a:xfrm>
            <a:off x="6267600" y="3851280"/>
            <a:ext cx="17762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になり</a:t>
            </a: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ます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4" name=""/>
          <p:cNvSpPr/>
          <p:nvPr/>
        </p:nvSpPr>
        <p:spPr>
          <a:xfrm>
            <a:off x="4676760" y="3851280"/>
            <a:ext cx="7128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44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お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77840" y="3786120"/>
            <a:ext cx="2398680" cy="4017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281240" y="2049480"/>
            <a:ext cx="2487600" cy="5999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861160" y="3848040"/>
            <a:ext cx="2398680" cy="4017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4532400" y="2065320"/>
            <a:ext cx="3403440" cy="6161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-1347840" y="4264200"/>
            <a:ext cx="10078920" cy="50990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923760" y="179280"/>
            <a:ext cx="7620120" cy="1436760"/>
          </a:xfrm>
          <a:prstGeom prst="wedgeRoundRectCallout">
            <a:avLst>
              <a:gd name="adj1" fmla="val -26773"/>
              <a:gd name="adj2" fmla="val 11605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1" name=""/>
          <p:cNvSpPr/>
          <p:nvPr/>
        </p:nvSpPr>
        <p:spPr>
          <a:xfrm>
            <a:off x="1141560" y="809640"/>
            <a:ext cx="76197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なにを </a:t>
            </a:r>
            <a:r>
              <a:rPr b="0" lang="ja-JP" sz="4400" spc="-1" strike="noStrike">
                <a:solidFill>
                  <a:srgbClr val="ff0000"/>
                </a:solidFill>
                <a:latin typeface="Y.OzN_'04"/>
                <a:ea typeface="Y.OzN_'04"/>
              </a:rPr>
              <a:t>めしあがり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ますか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2" name=""/>
          <p:cNvSpPr/>
          <p:nvPr/>
        </p:nvSpPr>
        <p:spPr>
          <a:xfrm>
            <a:off x="1514520" y="282600"/>
            <a:ext cx="289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にを たべますか→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1027080" y="3735360"/>
            <a:ext cx="2398680" cy="4017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-822240" y="2036880"/>
            <a:ext cx="2487600" cy="59990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603600" y="3821040"/>
            <a:ext cx="2398680" cy="4017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2428920" y="2014560"/>
            <a:ext cx="3403440" cy="6161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-3451320" y="4213080"/>
            <a:ext cx="10079280" cy="50990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911160" y="154080"/>
            <a:ext cx="7620120" cy="1436760"/>
          </a:xfrm>
          <a:prstGeom prst="wedgeRoundRectCallout">
            <a:avLst>
              <a:gd name="adj1" fmla="val 46287"/>
              <a:gd name="adj2" fmla="val 12319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9" name=""/>
          <p:cNvSpPr/>
          <p:nvPr/>
        </p:nvSpPr>
        <p:spPr>
          <a:xfrm>
            <a:off x="1141560" y="809640"/>
            <a:ext cx="76197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なんに </a:t>
            </a:r>
            <a:r>
              <a:rPr b="0" lang="ja-JP" sz="4400" spc="-1" strike="noStrike">
                <a:solidFill>
                  <a:srgbClr val="ff0000"/>
                </a:solidFill>
                <a:latin typeface="Y.OzN_'04"/>
                <a:ea typeface="Y.OzN_'04"/>
              </a:rPr>
              <a:t>され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ますか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0" name=""/>
          <p:cNvSpPr/>
          <p:nvPr/>
        </p:nvSpPr>
        <p:spPr>
          <a:xfrm>
            <a:off x="1514520" y="282600"/>
            <a:ext cx="2592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んに しますか→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7470720" y="1830240"/>
            <a:ext cx="2320920" cy="693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01:13:49Z</dcterms:created>
  <dc:creator/>
  <dc:description/>
  <dc:language>en-US</dc:language>
  <cp:lastModifiedBy/>
  <dcterms:modified xsi:type="dcterms:W3CDTF">2016-05-24T19:33:07Z</dcterms:modified>
  <cp:revision>2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 1">
    <vt:lpwstr/>
  </property>
  <property fmtid="{D5CDD505-2E9C-101B-9397-08002B2CF9AE}" pid="3" name="Info 2">
    <vt:lpwstr/>
  </property>
  <property fmtid="{D5CDD505-2E9C-101B-9397-08002B2CF9AE}" pid="4" name="Info 3">
    <vt:lpwstr/>
  </property>
  <property fmtid="{D5CDD505-2E9C-101B-9397-08002B2CF9AE}" pid="5" name="Info 4">
    <vt:lpwstr/>
  </property>
</Properties>
</file>