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2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0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360360"/>
            <a:ext cx="694512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7 </a:t>
            </a: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197964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8000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622520" y="4408560"/>
            <a:ext cx="507996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〜で …に ーーー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〜は …ごで ーと いい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08120" y="828720"/>
            <a:ext cx="8942400" cy="6505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5189400" y="3052800"/>
            <a:ext cx="1036800" cy="29224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6" name=""/>
          <p:cNvSpPr/>
          <p:nvPr/>
        </p:nvSpPr>
        <p:spPr>
          <a:xfrm>
            <a:off x="6002280" y="1539720"/>
            <a:ext cx="3654360" cy="150048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hère Caroline,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omment vas-tu?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74680" y="247680"/>
            <a:ext cx="9391680" cy="1144440"/>
            <a:chOff x="274680" y="247680"/>
            <a:chExt cx="9391680" cy="1144440"/>
          </a:xfrm>
        </p:grpSpPr>
        <p:sp>
          <p:nvSpPr>
            <p:cNvPr id="78" name=""/>
            <p:cNvSpPr/>
            <p:nvPr/>
          </p:nvSpPr>
          <p:spPr>
            <a:xfrm>
              <a:off x="274680" y="247680"/>
              <a:ext cx="9391680" cy="1144440"/>
            </a:xfrm>
            <a:prstGeom prst="roundRect">
              <a:avLst>
                <a:gd name="adj" fmla="val 13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フランスご</a:t>
              </a:r>
              <a:r>
                <a:rPr b="0" lang="ja-JP" sz="4400" spc="-1" strike="noStrike" u="sng">
                  <a:solidFill>
                    <a:srgbClr val="ff0000"/>
                  </a:solidFill>
                  <a:uFillTx/>
                  <a:latin typeface="Kochi Gothic"/>
                  <a:ea typeface="Kochi Gothic"/>
                </a:rPr>
                <a:t>で</a:t>
              </a:r>
              <a:r>
                <a:rPr b="0" lang="en-US" sz="44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 てがみ</a:t>
              </a:r>
              <a:r>
                <a:rPr b="0" lang="ja-JP" sz="4400" spc="-1" strike="noStrike">
                  <a:solidFill>
                    <a:srgbClr val="800000"/>
                  </a:solidFill>
                  <a:latin typeface="Kochi Gothic"/>
                  <a:ea typeface="Kochi Gothic"/>
                </a:rPr>
                <a:t>を</a:t>
              </a:r>
              <a:r>
                <a:rPr b="0" lang="en-US" sz="44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 かきます。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08120" y="828720"/>
            <a:ext cx="8942400" cy="6505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H="1">
            <a:off x="5189400" y="3052800"/>
            <a:ext cx="1036800" cy="29224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1539720"/>
            <a:ext cx="3654360" cy="150048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おかあさん、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げんきですか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わたしはげんきです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35080" y="157320"/>
            <a:ext cx="9391680" cy="1144440"/>
            <a:chOff x="235080" y="157320"/>
            <a:chExt cx="9391680" cy="1144440"/>
          </a:xfrm>
        </p:grpSpPr>
        <p:sp>
          <p:nvSpPr>
            <p:cNvPr id="83" name=""/>
            <p:cNvSpPr/>
            <p:nvPr/>
          </p:nvSpPr>
          <p:spPr>
            <a:xfrm>
              <a:off x="235080" y="157320"/>
              <a:ext cx="9391680" cy="1144440"/>
            </a:xfrm>
            <a:prstGeom prst="roundRect">
              <a:avLst>
                <a:gd name="adj" fmla="val 13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にほんご</a:t>
              </a: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Kochi Gothic"/>
                  <a:ea typeface="Kochi Gothic"/>
                </a:rPr>
                <a:t>で</a:t>
              </a:r>
              <a:r>
                <a:rPr b="0" lang="en-US" sz="48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 てがみ</a:t>
              </a:r>
              <a:r>
                <a:rPr b="0" lang="ja-JP" sz="4800" spc="-1" strike="noStrike">
                  <a:solidFill>
                    <a:srgbClr val="800000"/>
                  </a:solidFill>
                  <a:latin typeface="Kochi Gothic"/>
                  <a:ea typeface="Kochi Gothic"/>
                </a:rPr>
                <a:t>を</a:t>
              </a:r>
              <a:r>
                <a:rPr b="0" lang="en-US" sz="48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 かきます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754600" y="1722600"/>
            <a:ext cx="3730680" cy="1931760"/>
          </a:xfrm>
          <a:prstGeom prst="roundRect">
            <a:avLst>
              <a:gd name="adj" fmla="val 2031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Hi, Mel?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This is kyoko.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I'll come soon..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35080" y="157320"/>
            <a:ext cx="9391680" cy="1144440"/>
            <a:chOff x="235080" y="157320"/>
            <a:chExt cx="9391680" cy="1144440"/>
          </a:xfrm>
        </p:grpSpPr>
        <p:sp>
          <p:nvSpPr>
            <p:cNvPr id="86" name=""/>
            <p:cNvSpPr/>
            <p:nvPr/>
          </p:nvSpPr>
          <p:spPr>
            <a:xfrm>
              <a:off x="235080" y="157320"/>
              <a:ext cx="9391680" cy="1144440"/>
            </a:xfrm>
            <a:prstGeom prst="roundRect">
              <a:avLst>
                <a:gd name="adj" fmla="val 13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えいご</a:t>
              </a: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Kochi Gothic"/>
                  <a:ea typeface="Kochi Gothic"/>
                </a:rPr>
                <a:t>で</a:t>
              </a:r>
              <a:r>
                <a:rPr b="0" lang="en-US" sz="48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 でんわ</a:t>
              </a:r>
              <a:r>
                <a:rPr b="0" lang="ja-JP" sz="4800" spc="-1" strike="noStrike">
                  <a:solidFill>
                    <a:srgbClr val="800000"/>
                  </a:solidFill>
                  <a:latin typeface="Kochi Gothic"/>
                  <a:ea typeface="Kochi Gothic"/>
                </a:rPr>
                <a:t>を</a:t>
              </a:r>
              <a:r>
                <a:rPr b="0" lang="en-US" sz="48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 かけます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79360" y="1407960"/>
            <a:ext cx="6345360" cy="795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754600" y="1722600"/>
            <a:ext cx="3730680" cy="1931760"/>
          </a:xfrm>
          <a:prstGeom prst="roundRect">
            <a:avLst>
              <a:gd name="adj" fmla="val 2031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もしもし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おかあさん？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んばん </a:t>
            </a:r>
            <a:r>
              <a:rPr b="0" lang="en-US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9</a:t>
            </a: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じ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かえり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35080" y="157320"/>
            <a:ext cx="9391680" cy="1144440"/>
            <a:chOff x="235080" y="157320"/>
            <a:chExt cx="9391680" cy="1144440"/>
          </a:xfrm>
        </p:grpSpPr>
        <p:sp>
          <p:nvSpPr>
            <p:cNvPr id="90" name=""/>
            <p:cNvSpPr/>
            <p:nvPr/>
          </p:nvSpPr>
          <p:spPr>
            <a:xfrm>
              <a:off x="235080" y="157320"/>
              <a:ext cx="9391680" cy="1144440"/>
            </a:xfrm>
            <a:prstGeom prst="roundRect">
              <a:avLst>
                <a:gd name="adj" fmla="val 13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にほんご</a:t>
              </a: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Kochi Gothic"/>
                  <a:ea typeface="Kochi Gothic"/>
                </a:rPr>
                <a:t>で</a:t>
              </a:r>
              <a:r>
                <a:rPr b="0" lang="en-US" sz="48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 でんわ</a:t>
              </a:r>
              <a:r>
                <a:rPr b="0" lang="ja-JP" sz="4800" spc="-1" strike="noStrike">
                  <a:solidFill>
                    <a:srgbClr val="800000"/>
                  </a:solidFill>
                  <a:latin typeface="Kochi Gothic"/>
                  <a:ea typeface="Kochi Gothic"/>
                </a:rPr>
                <a:t>を</a:t>
              </a:r>
              <a:r>
                <a:rPr b="0" lang="en-US" sz="48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 かけます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79360" y="1407960"/>
            <a:ext cx="6345360" cy="795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9920" y="235080"/>
            <a:ext cx="29671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Bonjour </a:t>
            </a:r>
            <a:r>
              <a:rPr b="0" lang="ja-JP" sz="4000" spc="-1" strike="noStrike">
                <a:solidFill>
                  <a:srgbClr val="800000"/>
                </a:solidFill>
                <a:latin typeface="Bitstream Vera Serif"/>
              </a:rPr>
              <a:t>は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3" name=""/>
          <p:cNvSpPr/>
          <p:nvPr/>
        </p:nvSpPr>
        <p:spPr>
          <a:xfrm>
            <a:off x="339840" y="1117440"/>
            <a:ext cx="2662200" cy="94464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にほんご</a:t>
            </a:r>
            <a:r>
              <a:rPr b="0" lang="ja-JP" sz="4000" spc="-1" strike="noStrike">
                <a:solidFill>
                  <a:srgbClr val="800000"/>
                </a:solidFill>
                <a:latin typeface="Kochi Gothic"/>
                <a:ea typeface="Kochi Gothic"/>
              </a:rPr>
              <a:t>で</a:t>
            </a:r>
            <a:r>
              <a:rPr b="0" lang="en-US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4" name=""/>
          <p:cNvSpPr/>
          <p:nvPr/>
        </p:nvSpPr>
        <p:spPr>
          <a:xfrm>
            <a:off x="3213000" y="1295280"/>
            <a:ext cx="50799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「こんにちは」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5" name=""/>
          <p:cNvSpPr/>
          <p:nvPr/>
        </p:nvSpPr>
        <p:spPr>
          <a:xfrm>
            <a:off x="299880" y="2298600"/>
            <a:ext cx="3551400" cy="978120"/>
          </a:xfrm>
          <a:prstGeom prst="roundRect">
            <a:avLst>
              <a:gd name="adj" fmla="val 16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イタリアご</a:t>
            </a:r>
            <a:r>
              <a:rPr b="0" lang="ja-JP" sz="4000" spc="-1" strike="noStrike">
                <a:solidFill>
                  <a:srgbClr val="800000"/>
                </a:solidFill>
                <a:latin typeface="Kochi Gothic"/>
                <a:ea typeface="Kochi Gothic"/>
              </a:rPr>
              <a:t>で</a:t>
            </a:r>
            <a:r>
              <a:rPr b="0" lang="en-US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6" name=""/>
          <p:cNvSpPr/>
          <p:nvPr/>
        </p:nvSpPr>
        <p:spPr>
          <a:xfrm>
            <a:off x="3654360" y="2597040"/>
            <a:ext cx="5338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「</a:t>
            </a:r>
            <a:r>
              <a:rPr b="0" lang="en-US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Buon giorno</a:t>
            </a: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」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7" name=""/>
          <p:cNvSpPr/>
          <p:nvPr/>
        </p:nvSpPr>
        <p:spPr>
          <a:xfrm>
            <a:off x="287280" y="3654360"/>
            <a:ext cx="3210120" cy="88740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えいご</a:t>
            </a:r>
            <a:r>
              <a:rPr b="0" lang="ja-JP" sz="4000" spc="-1" strike="noStrike">
                <a:solidFill>
                  <a:srgbClr val="800000"/>
                </a:solidFill>
                <a:latin typeface="Kochi Gothic"/>
                <a:ea typeface="Kochi Gothic"/>
              </a:rPr>
              <a:t>で</a:t>
            </a:r>
            <a:r>
              <a:rPr b="0" lang="en-US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8" name=""/>
          <p:cNvSpPr/>
          <p:nvPr/>
        </p:nvSpPr>
        <p:spPr>
          <a:xfrm>
            <a:off x="3719520" y="3929040"/>
            <a:ext cx="38116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「</a:t>
            </a:r>
            <a:r>
              <a:rPr b="0" lang="en-US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Hello</a:t>
            </a: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」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9" name=""/>
          <p:cNvSpPr/>
          <p:nvPr/>
        </p:nvSpPr>
        <p:spPr>
          <a:xfrm>
            <a:off x="235080" y="4762440"/>
            <a:ext cx="3595680" cy="1058760"/>
          </a:xfrm>
          <a:prstGeom prst="roundRect">
            <a:avLst>
              <a:gd name="adj" fmla="val 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ちゅうごくご</a:t>
            </a:r>
            <a:r>
              <a:rPr b="0" lang="ja-JP" sz="4000" spc="-1" strike="noStrike">
                <a:solidFill>
                  <a:srgbClr val="800000"/>
                </a:solidFill>
                <a:latin typeface="Kochi Gothic"/>
                <a:ea typeface="Kochi Gothic"/>
              </a:rPr>
              <a:t>で</a:t>
            </a:r>
            <a:r>
              <a:rPr b="0" lang="en-US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0" name=""/>
          <p:cNvSpPr/>
          <p:nvPr/>
        </p:nvSpPr>
        <p:spPr>
          <a:xfrm>
            <a:off x="4319640" y="4888080"/>
            <a:ext cx="927000" cy="9651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286160" y="4851360"/>
            <a:ext cx="3206880" cy="1133640"/>
            <a:chOff x="4286160" y="4851360"/>
            <a:chExt cx="3206880" cy="1133640"/>
          </a:xfrm>
        </p:grpSpPr>
        <p:sp>
          <p:nvSpPr>
            <p:cNvPr id="102" name=""/>
            <p:cNvSpPr/>
            <p:nvPr/>
          </p:nvSpPr>
          <p:spPr>
            <a:xfrm>
              <a:off x="4286160" y="4851360"/>
              <a:ext cx="3206880" cy="1133640"/>
            </a:xfrm>
            <a:prstGeom prst="roundRect">
              <a:avLst>
                <a:gd name="adj" fmla="val 139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 u="sng">
                  <a:solidFill>
                    <a:srgbClr val="ff0000"/>
                  </a:solidFill>
                  <a:uFillTx/>
                  <a:latin typeface="Kochi Gothic"/>
                  <a:ea typeface="Kochi Gothic"/>
                </a:rPr>
                <a:t>何</a:t>
              </a:r>
              <a:r>
                <a:rPr b="0" lang="ja-JP" sz="40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ですか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84600" y="4890960"/>
              <a:ext cx="606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" bIns="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Bitstream Vera Serif"/>
                </a:rPr>
                <a:t>なん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evt="end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0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27240" y="2610000"/>
            <a:ext cx="3405240" cy="1395360"/>
          </a:xfrm>
          <a:prstGeom prst="roundRect">
            <a:avLst>
              <a:gd name="adj" fmla="val 1286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んにちは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35080" y="287280"/>
            <a:ext cx="9313560" cy="1327320"/>
            <a:chOff x="235080" y="287280"/>
            <a:chExt cx="9313560" cy="1327320"/>
          </a:xfrm>
        </p:grpSpPr>
        <p:sp>
          <p:nvSpPr>
            <p:cNvPr id="106" name=""/>
            <p:cNvSpPr/>
            <p:nvPr/>
          </p:nvSpPr>
          <p:spPr>
            <a:xfrm>
              <a:off x="235080" y="287280"/>
              <a:ext cx="9313560" cy="1327320"/>
            </a:xfrm>
            <a:prstGeom prst="roundRect">
              <a:avLst>
                <a:gd name="adj" fmla="val 11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きょうこさん</a:t>
              </a:r>
              <a:r>
                <a:rPr b="0" lang="ja-JP" sz="4000" spc="-1" strike="noStrike">
                  <a:solidFill>
                    <a:srgbClr val="800000"/>
                  </a:solidFill>
                  <a:latin typeface="Kochi Gothic"/>
                  <a:ea typeface="Kochi Gothic"/>
                </a:rPr>
                <a:t>は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「こんにちは」</a:t>
              </a:r>
              <a:r>
                <a:rPr b="0" lang="ja-JP" sz="4000" spc="-1" strike="noStrike">
                  <a:solidFill>
                    <a:srgbClr val="800000"/>
                  </a:solidFill>
                  <a:latin typeface="Kochi Gothic"/>
                  <a:ea typeface="Kochi Gothic"/>
                </a:rPr>
                <a:t>と</a:t>
              </a:r>
              <a:r>
                <a:rPr b="0" lang="ja-JP" sz="4000" spc="-1" strike="noStrike">
                  <a:solidFill>
                    <a:srgbClr val="ff0000"/>
                  </a:solidFill>
                  <a:latin typeface="Kochi Gothic"/>
                  <a:ea typeface="Kochi Gothic"/>
                </a:rPr>
                <a:t>いいます</a:t>
              </a:r>
              <a:r>
                <a:rPr b="0" lang="ja-JP" sz="40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84240" y="1820880"/>
            <a:ext cx="952560" cy="1123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0600" y="2960640"/>
            <a:ext cx="2405160" cy="6523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292800" y="2308320"/>
            <a:ext cx="265284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3080" y="2298600"/>
            <a:ext cx="3586320" cy="1863720"/>
          </a:xfrm>
          <a:prstGeom prst="roundRect">
            <a:avLst>
              <a:gd name="adj" fmla="val 96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んにちは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きょうこさん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35080" y="287280"/>
            <a:ext cx="9080280" cy="1779480"/>
            <a:chOff x="235080" y="287280"/>
            <a:chExt cx="9080280" cy="1779480"/>
          </a:xfrm>
        </p:grpSpPr>
        <p:sp>
          <p:nvSpPr>
            <p:cNvPr id="112" name=""/>
            <p:cNvSpPr/>
            <p:nvPr/>
          </p:nvSpPr>
          <p:spPr>
            <a:xfrm>
              <a:off x="235080" y="287280"/>
              <a:ext cx="9080280" cy="1779480"/>
            </a:xfrm>
            <a:prstGeom prst="roundRect">
              <a:avLst>
                <a:gd name="adj" fmla="val 8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ロランさん</a:t>
              </a:r>
              <a:r>
                <a:rPr b="0" lang="ja-JP" sz="4000" spc="-1" strike="noStrike">
                  <a:solidFill>
                    <a:srgbClr val="800000"/>
                  </a:solidFill>
                  <a:latin typeface="Kochi Gothic"/>
                  <a:ea typeface="Kochi Gothic"/>
                </a:rPr>
                <a:t>は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「こんにちは、きょうこさん」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800000"/>
                  </a:solidFill>
                  <a:latin typeface="Kochi Gothic"/>
                  <a:ea typeface="Kochi Gothic"/>
                </a:rPr>
                <a:t>と</a:t>
              </a:r>
              <a:r>
                <a:rPr b="0" lang="ja-JP" sz="4000" spc="-1" strike="noStrike">
                  <a:solidFill>
                    <a:srgbClr val="ff0000"/>
                  </a:solidFill>
                  <a:latin typeface="Kochi Gothic"/>
                  <a:ea typeface="Kochi Gothic"/>
                </a:rPr>
                <a:t>いいます</a:t>
              </a:r>
              <a:r>
                <a:rPr b="0" lang="ja-JP" sz="40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76440" y="2152800"/>
            <a:ext cx="857160" cy="922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20600" y="2960640"/>
            <a:ext cx="2405160" cy="6523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294600" y="2308320"/>
            <a:ext cx="265248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3080" y="2298600"/>
            <a:ext cx="3586320" cy="1863720"/>
          </a:xfrm>
          <a:prstGeom prst="roundRect">
            <a:avLst>
              <a:gd name="adj" fmla="val 96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どこ</a:t>
            </a:r>
            <a:r>
              <a:rPr b="0" lang="ja-JP" sz="40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へ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きま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35080" y="287280"/>
            <a:ext cx="9080280" cy="1779480"/>
            <a:chOff x="235080" y="287280"/>
            <a:chExt cx="9080280" cy="1779480"/>
          </a:xfrm>
        </p:grpSpPr>
        <p:sp>
          <p:nvSpPr>
            <p:cNvPr id="118" name=""/>
            <p:cNvSpPr/>
            <p:nvPr/>
          </p:nvSpPr>
          <p:spPr>
            <a:xfrm>
              <a:off x="235080" y="287280"/>
              <a:ext cx="9080280" cy="1779480"/>
            </a:xfrm>
            <a:prstGeom prst="roundRect">
              <a:avLst>
                <a:gd name="adj" fmla="val 8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ロランさん</a:t>
              </a:r>
              <a:r>
                <a:rPr b="0" lang="ja-JP" sz="4000" spc="-1" strike="noStrike">
                  <a:solidFill>
                    <a:srgbClr val="800000"/>
                  </a:solidFill>
                  <a:latin typeface="Kochi Gothic"/>
                  <a:ea typeface="Kochi Gothic"/>
                </a:rPr>
                <a:t>は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「どこ</a:t>
              </a:r>
              <a:r>
                <a:rPr b="0" lang="ja-JP" sz="4000" spc="-1" strike="noStrike">
                  <a:solidFill>
                    <a:srgbClr val="800000"/>
                  </a:solidFill>
                  <a:latin typeface="Kochi Gothic"/>
                  <a:ea typeface="Kochi Gothic"/>
                </a:rPr>
                <a:t>へ</a:t>
              </a:r>
              <a:r>
                <a:rPr b="0" lang="ja-JP" sz="40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いきますか。」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800000"/>
                  </a:solidFill>
                  <a:latin typeface="Kochi Gothic"/>
                  <a:ea typeface="Kochi Gothic"/>
                </a:rPr>
                <a:t>と</a:t>
              </a:r>
              <a:r>
                <a:rPr b="0" lang="ja-JP" sz="4000" spc="-1" strike="noStrike">
                  <a:solidFill>
                    <a:srgbClr val="ff0000"/>
                  </a:solidFill>
                  <a:latin typeface="Kochi Gothic"/>
                  <a:ea typeface="Kochi Gothic"/>
                </a:rPr>
                <a:t>ききます</a:t>
              </a:r>
              <a:r>
                <a:rPr b="0" lang="ja-JP" sz="40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76440" y="2152800"/>
            <a:ext cx="857160" cy="922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62760" y="2319480"/>
            <a:ext cx="627120" cy="5871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5816160" y="1736280"/>
            <a:ext cx="668520" cy="6685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20600" y="2960640"/>
            <a:ext cx="2405160" cy="6523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583320" y="2328840"/>
            <a:ext cx="265284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272880" y="0"/>
            <a:ext cx="9663120" cy="2224080"/>
            <a:chOff x="272880" y="0"/>
            <a:chExt cx="9663120" cy="2224080"/>
          </a:xfrm>
        </p:grpSpPr>
        <p:sp>
          <p:nvSpPr>
            <p:cNvPr id="125" name=""/>
            <p:cNvSpPr/>
            <p:nvPr/>
          </p:nvSpPr>
          <p:spPr>
            <a:xfrm>
              <a:off x="272880" y="0"/>
              <a:ext cx="9663120" cy="2224080"/>
            </a:xfrm>
            <a:prstGeom prst="roundRect">
              <a:avLst>
                <a:gd name="adj" fmla="val 69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きょうこさん</a:t>
              </a:r>
              <a:r>
                <a:rPr b="0" lang="ja-JP" sz="4000" spc="-1" strike="noStrike">
                  <a:solidFill>
                    <a:srgbClr val="800000"/>
                  </a:solidFill>
                  <a:latin typeface="Kochi Gothic"/>
                  <a:ea typeface="Kochi Gothic"/>
                </a:rPr>
                <a:t>は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「ともだち</a:t>
              </a:r>
              <a:r>
                <a:rPr b="0" lang="ja-JP" sz="4000" spc="-1" strike="noStrike">
                  <a:solidFill>
                    <a:srgbClr val="800000"/>
                  </a:solidFill>
                  <a:latin typeface="Kochi Gothic"/>
                  <a:ea typeface="Kochi Gothic"/>
                </a:rPr>
                <a:t>の</a:t>
              </a:r>
              <a:r>
                <a:rPr b="0" lang="ja-JP" sz="40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うち</a:t>
              </a:r>
              <a:r>
                <a:rPr b="0" lang="ja-JP" sz="4000" spc="-1" strike="noStrike">
                  <a:solidFill>
                    <a:srgbClr val="800000"/>
                  </a:solidFill>
                  <a:latin typeface="Kochi Gothic"/>
                  <a:ea typeface="Kochi Gothic"/>
                </a:rPr>
                <a:t>へ</a:t>
              </a:r>
              <a:r>
                <a:rPr b="0" lang="ja-JP" sz="40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いきます」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 u="sng">
                  <a:solidFill>
                    <a:srgbClr val="800000"/>
                  </a:solidFill>
                  <a:uFillTx/>
                  <a:latin typeface="Kochi Gothic"/>
                  <a:ea typeface="Kochi Gothic"/>
                </a:rPr>
                <a:t>と</a:t>
              </a:r>
              <a:r>
                <a:rPr b="0" lang="ja-JP" sz="4000" spc="-1" strike="noStrike" u="sng">
                  <a:solidFill>
                    <a:srgbClr val="ff0000"/>
                  </a:solidFill>
                  <a:uFillTx/>
                  <a:latin typeface="Kochi Gothic"/>
                  <a:ea typeface="Kochi Gothic"/>
                </a:rPr>
                <a:t>こたえます</a:t>
              </a:r>
              <a:r>
                <a:rPr b="0" lang="en-US" sz="40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(</a:t>
              </a:r>
              <a:r>
                <a:rPr b="0" lang="ja-JP" sz="40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いいます</a:t>
              </a:r>
              <a:r>
                <a:rPr b="0" lang="en-US" sz="40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)</a:t>
              </a:r>
              <a:r>
                <a:rPr b="0" lang="ja-JP" sz="40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997520" y="2517840"/>
            <a:ext cx="27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7" name=""/>
          <p:cNvSpPr/>
          <p:nvPr/>
        </p:nvSpPr>
        <p:spPr>
          <a:xfrm>
            <a:off x="6145200" y="2752560"/>
            <a:ext cx="627120" cy="5875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8" name=""/>
          <p:cNvSpPr/>
          <p:nvPr/>
        </p:nvSpPr>
        <p:spPr>
          <a:xfrm>
            <a:off x="2141640" y="2870280"/>
            <a:ext cx="3181320" cy="1828800"/>
          </a:xfrm>
          <a:prstGeom prst="roundRect">
            <a:avLst>
              <a:gd name="adj" fmla="val 98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ともだち</a:t>
            </a:r>
            <a:r>
              <a:rPr b="0" lang="ja-JP" sz="40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の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うち</a:t>
            </a:r>
            <a:r>
              <a:rPr b="0" lang="ja-JP" sz="40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へ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き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4593960" y="1942920"/>
            <a:ext cx="328680" cy="11523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5006520" y="3102120"/>
            <a:ext cx="1233720" cy="331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84240" y="1925640"/>
            <a:ext cx="952560" cy="1123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0600" y="2960640"/>
            <a:ext cx="2405160" cy="6523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294600" y="2308320"/>
            <a:ext cx="265248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9920" y="235080"/>
            <a:ext cx="29671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Bonjour </a:t>
            </a:r>
            <a:r>
              <a:rPr b="0" lang="ja-JP" sz="4000" spc="-1" strike="noStrike">
                <a:solidFill>
                  <a:srgbClr val="800000"/>
                </a:solidFill>
                <a:latin typeface="Bitstream Vera Serif"/>
              </a:rPr>
              <a:t>は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5" name=""/>
          <p:cNvSpPr/>
          <p:nvPr/>
        </p:nvSpPr>
        <p:spPr>
          <a:xfrm>
            <a:off x="339840" y="1117440"/>
            <a:ext cx="2662200" cy="94464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にほんご</a:t>
            </a:r>
            <a:r>
              <a:rPr b="0" lang="ja-JP" sz="4000" spc="-1" strike="noStrike">
                <a:solidFill>
                  <a:srgbClr val="800000"/>
                </a:solidFill>
                <a:latin typeface="Kochi Gothic"/>
                <a:ea typeface="Kochi Gothic"/>
              </a:rPr>
              <a:t>で</a:t>
            </a:r>
            <a:r>
              <a:rPr b="0" lang="en-US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6" name=""/>
          <p:cNvSpPr/>
          <p:nvPr/>
        </p:nvSpPr>
        <p:spPr>
          <a:xfrm>
            <a:off x="3213000" y="1295280"/>
            <a:ext cx="66024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「こんにちは」</a:t>
            </a:r>
            <a:r>
              <a:rPr b="0" lang="ja-JP" sz="4000" spc="-1" strike="noStrike">
                <a:solidFill>
                  <a:srgbClr val="800000"/>
                </a:solidFill>
                <a:latin typeface="Kochi Gothic"/>
                <a:ea typeface="Kochi Gothic"/>
              </a:rPr>
              <a:t>と</a:t>
            </a: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いい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7" name=""/>
          <p:cNvSpPr/>
          <p:nvPr/>
        </p:nvSpPr>
        <p:spPr>
          <a:xfrm>
            <a:off x="299880" y="2298600"/>
            <a:ext cx="3551400" cy="978120"/>
          </a:xfrm>
          <a:prstGeom prst="roundRect">
            <a:avLst>
              <a:gd name="adj" fmla="val 16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イタリアご</a:t>
            </a:r>
            <a:r>
              <a:rPr b="0" lang="ja-JP" sz="4000" spc="-1" strike="noStrike">
                <a:solidFill>
                  <a:srgbClr val="800000"/>
                </a:solidFill>
                <a:latin typeface="Kochi Gothic"/>
                <a:ea typeface="Kochi Gothic"/>
              </a:rPr>
              <a:t>で</a:t>
            </a:r>
            <a:r>
              <a:rPr b="0" lang="en-US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8" name=""/>
          <p:cNvSpPr/>
          <p:nvPr/>
        </p:nvSpPr>
        <p:spPr>
          <a:xfrm>
            <a:off x="3654360" y="2597040"/>
            <a:ext cx="68612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「</a:t>
            </a:r>
            <a:r>
              <a:rPr b="0" lang="en-US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Buon giorno</a:t>
            </a: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」</a:t>
            </a:r>
            <a:r>
              <a:rPr b="0" lang="ja-JP" sz="4000" spc="-1" strike="noStrike">
                <a:solidFill>
                  <a:srgbClr val="800000"/>
                </a:solidFill>
                <a:latin typeface="Kochi Gothic"/>
                <a:ea typeface="Kochi Gothic"/>
              </a:rPr>
              <a:t>と</a:t>
            </a: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いい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9" name=""/>
          <p:cNvSpPr/>
          <p:nvPr/>
        </p:nvSpPr>
        <p:spPr>
          <a:xfrm>
            <a:off x="287280" y="3654360"/>
            <a:ext cx="3210120" cy="88740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えいご</a:t>
            </a:r>
            <a:r>
              <a:rPr b="0" lang="ja-JP" sz="4000" spc="-1" strike="noStrike">
                <a:solidFill>
                  <a:srgbClr val="800000"/>
                </a:solidFill>
                <a:latin typeface="Kochi Gothic"/>
                <a:ea typeface="Kochi Gothic"/>
              </a:rPr>
              <a:t>で</a:t>
            </a:r>
            <a:r>
              <a:rPr b="0" lang="en-US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0" name=""/>
          <p:cNvSpPr/>
          <p:nvPr/>
        </p:nvSpPr>
        <p:spPr>
          <a:xfrm>
            <a:off x="3719520" y="3929040"/>
            <a:ext cx="5334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「</a:t>
            </a:r>
            <a:r>
              <a:rPr b="0" lang="en-US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Hello</a:t>
            </a: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」</a:t>
            </a:r>
            <a:r>
              <a:rPr b="0" lang="ja-JP" sz="4000" spc="-1" strike="noStrike">
                <a:solidFill>
                  <a:srgbClr val="800000"/>
                </a:solidFill>
                <a:latin typeface="Kochi Gothic"/>
                <a:ea typeface="Kochi Gothic"/>
              </a:rPr>
              <a:t>と</a:t>
            </a: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いい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1" name=""/>
          <p:cNvSpPr/>
          <p:nvPr/>
        </p:nvSpPr>
        <p:spPr>
          <a:xfrm>
            <a:off x="235080" y="4762440"/>
            <a:ext cx="3595680" cy="1058760"/>
          </a:xfrm>
          <a:prstGeom prst="roundRect">
            <a:avLst>
              <a:gd name="adj" fmla="val 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ちゅうごくご</a:t>
            </a:r>
            <a:r>
              <a:rPr b="0" lang="ja-JP" sz="4000" spc="-1" strike="noStrike">
                <a:solidFill>
                  <a:srgbClr val="800000"/>
                </a:solidFill>
                <a:latin typeface="Kochi Gothic"/>
                <a:ea typeface="Kochi Gothic"/>
              </a:rPr>
              <a:t>で</a:t>
            </a:r>
            <a:r>
              <a:rPr b="0" lang="en-US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2" name=""/>
          <p:cNvSpPr/>
          <p:nvPr/>
        </p:nvSpPr>
        <p:spPr>
          <a:xfrm>
            <a:off x="4319640" y="4888080"/>
            <a:ext cx="927000" cy="9651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59360" y="4954680"/>
            <a:ext cx="5297400" cy="1087200"/>
            <a:chOff x="4059360" y="4954680"/>
            <a:chExt cx="5297400" cy="1087200"/>
          </a:xfrm>
        </p:grpSpPr>
        <p:sp>
          <p:nvSpPr>
            <p:cNvPr id="144" name=""/>
            <p:cNvSpPr/>
            <p:nvPr/>
          </p:nvSpPr>
          <p:spPr>
            <a:xfrm>
              <a:off x="4059360" y="4954680"/>
              <a:ext cx="5297400" cy="1087200"/>
            </a:xfrm>
            <a:prstGeom prst="roundRect">
              <a:avLst>
                <a:gd name="adj" fmla="val 14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ff0000"/>
                  </a:solidFill>
                  <a:latin typeface="Kochi Gothic"/>
                  <a:ea typeface="Kochi Gothic"/>
                </a:rPr>
                <a:t>なん</a:t>
              </a:r>
              <a:r>
                <a:rPr b="0" lang="ja-JP" sz="4000" spc="-1" strike="noStrike">
                  <a:solidFill>
                    <a:srgbClr val="800000"/>
                  </a:solidFill>
                  <a:latin typeface="Kochi Gothic"/>
                  <a:ea typeface="Kochi Gothic"/>
                </a:rPr>
                <a:t>と</a:t>
              </a:r>
              <a:r>
                <a:rPr b="0" lang="ja-JP" sz="40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いいますか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79880" y="5742000"/>
            <a:ext cx="5297400" cy="1087560"/>
            <a:chOff x="4079880" y="5742000"/>
            <a:chExt cx="5297400" cy="1087560"/>
          </a:xfrm>
        </p:grpSpPr>
        <p:sp>
          <p:nvSpPr>
            <p:cNvPr id="146" name=""/>
            <p:cNvSpPr/>
            <p:nvPr/>
          </p:nvSpPr>
          <p:spPr>
            <a:xfrm>
              <a:off x="4079880" y="5742000"/>
              <a:ext cx="5297400" cy="1087560"/>
            </a:xfrm>
            <a:prstGeom prst="roundRect">
              <a:avLst>
                <a:gd name="adj" fmla="val 14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ff0000"/>
                  </a:solidFill>
                  <a:latin typeface="Kochi Gothic"/>
                  <a:ea typeface="Kochi Gothic"/>
                </a:rPr>
                <a:t>どう</a:t>
              </a:r>
              <a:r>
                <a:rPr b="0" lang="ja-JP" sz="40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いいますか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evt="end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6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35080" y="287280"/>
            <a:ext cx="6054840" cy="9525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たべ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3440" y="1344600"/>
            <a:ext cx="8988480" cy="621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79360" y="1407960"/>
            <a:ext cx="6345360" cy="7958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754600" y="1514520"/>
            <a:ext cx="4102200" cy="2854440"/>
          </a:xfrm>
          <a:prstGeom prst="roundRect">
            <a:avLst>
              <a:gd name="adj" fmla="val 1373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もしもし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ロランさん？ 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んばんは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35080" y="157320"/>
            <a:ext cx="9842400" cy="1206360"/>
            <a:chOff x="235080" y="157320"/>
            <a:chExt cx="9842400" cy="1206360"/>
          </a:xfrm>
        </p:grpSpPr>
        <p:sp>
          <p:nvSpPr>
            <p:cNvPr id="150" name=""/>
            <p:cNvSpPr/>
            <p:nvPr/>
          </p:nvSpPr>
          <p:spPr>
            <a:xfrm>
              <a:off x="235080" y="157320"/>
              <a:ext cx="9842400" cy="1206360"/>
            </a:xfrm>
            <a:prstGeom prst="roundRect">
              <a:avLst>
                <a:gd name="adj" fmla="val 13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ロランさん</a:t>
              </a: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Kochi Gothic"/>
                  <a:ea typeface="Kochi Gothic"/>
                </a:rPr>
                <a:t>に</a:t>
              </a:r>
              <a:r>
                <a:rPr b="0" lang="en-US" sz="48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 でんわ</a:t>
              </a:r>
              <a:r>
                <a:rPr b="0" lang="ja-JP" sz="4800" spc="-1" strike="noStrike">
                  <a:solidFill>
                    <a:srgbClr val="800000"/>
                  </a:solidFill>
                  <a:latin typeface="Kochi Gothic"/>
                  <a:ea typeface="Kochi Gothic"/>
                </a:rPr>
                <a:t>を</a:t>
              </a:r>
              <a:r>
                <a:rPr b="0" lang="en-US" sz="48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 かけます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265480" y="1328400"/>
            <a:ext cx="7090920" cy="2022480"/>
            <a:chOff x="2265480" y="1328400"/>
            <a:chExt cx="7090920" cy="2022480"/>
          </a:xfrm>
        </p:grpSpPr>
        <p:sp>
          <p:nvSpPr>
            <p:cNvPr id="152" name=""/>
            <p:cNvSpPr/>
            <p:nvPr/>
          </p:nvSpPr>
          <p:spPr>
            <a:xfrm>
              <a:off x="5991840" y="2457720"/>
              <a:ext cx="3364560" cy="893160"/>
            </a:xfrm>
            <a:prstGeom prst="ellipse">
              <a:avLst/>
            </a:prstGeom>
            <a:noFill/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65480" y="1328400"/>
              <a:ext cx="3962880" cy="127044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04800" y="1263600"/>
            <a:ext cx="8942400" cy="6505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5189400" y="3052800"/>
            <a:ext cx="1036800" cy="29224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6" name=""/>
          <p:cNvSpPr/>
          <p:nvPr/>
        </p:nvSpPr>
        <p:spPr>
          <a:xfrm>
            <a:off x="6002280" y="1539720"/>
            <a:ext cx="3654360" cy="150048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hère Caroline,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omment vas-tu?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74680" y="247680"/>
            <a:ext cx="9391680" cy="1144440"/>
            <a:chOff x="274680" y="247680"/>
            <a:chExt cx="9391680" cy="1144440"/>
          </a:xfrm>
        </p:grpSpPr>
        <p:sp>
          <p:nvSpPr>
            <p:cNvPr id="158" name=""/>
            <p:cNvSpPr/>
            <p:nvPr/>
          </p:nvSpPr>
          <p:spPr>
            <a:xfrm>
              <a:off x="274680" y="247680"/>
              <a:ext cx="9391680" cy="1144440"/>
            </a:xfrm>
            <a:prstGeom prst="roundRect">
              <a:avLst>
                <a:gd name="adj" fmla="val 13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カロリーヌさん</a:t>
              </a:r>
              <a:r>
                <a:rPr b="0" lang="ja-JP" sz="4400" spc="-1" strike="noStrike" u="sng">
                  <a:solidFill>
                    <a:srgbClr val="ff0000"/>
                  </a:solidFill>
                  <a:uFillTx/>
                  <a:latin typeface="Kochi Gothic"/>
                  <a:ea typeface="Kochi Gothic"/>
                </a:rPr>
                <a:t>に</a:t>
              </a:r>
              <a:r>
                <a:rPr b="0" lang="ja-JP" sz="44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てがみ</a:t>
              </a:r>
              <a:r>
                <a:rPr b="0" lang="ja-JP" sz="4400" spc="-1" strike="noStrike">
                  <a:solidFill>
                    <a:srgbClr val="800000"/>
                  </a:solidFill>
                  <a:latin typeface="Kochi Gothic"/>
                  <a:ea typeface="Kochi Gothic"/>
                </a:rPr>
                <a:t>を</a:t>
              </a:r>
              <a:r>
                <a:rPr b="0" lang="ja-JP" sz="4400" spc="-1" strike="noStrike">
                  <a:solidFill>
                    <a:srgbClr val="000000"/>
                  </a:solidFill>
                  <a:latin typeface="Kochi Gothic"/>
                  <a:ea typeface="Kochi Gothic"/>
                </a:rPr>
                <a:t>かきます。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999880" y="1082520"/>
            <a:ext cx="6664680" cy="1249200"/>
            <a:chOff x="2999880" y="1082520"/>
            <a:chExt cx="6664680" cy="1249200"/>
          </a:xfrm>
        </p:grpSpPr>
        <p:sp>
          <p:nvSpPr>
            <p:cNvPr id="160" name=""/>
            <p:cNvSpPr/>
            <p:nvPr/>
          </p:nvSpPr>
          <p:spPr>
            <a:xfrm>
              <a:off x="7412040" y="1423800"/>
              <a:ext cx="2252520" cy="907920"/>
            </a:xfrm>
            <a:prstGeom prst="ellipse">
              <a:avLst/>
            </a:prstGeom>
            <a:noFill/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2999880" y="1082520"/>
              <a:ext cx="4411800" cy="7192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98600" y="291960"/>
            <a:ext cx="7122960" cy="3235320"/>
          </a:xfrm>
          <a:prstGeom prst="roundRect">
            <a:avLst>
              <a:gd name="adj" fmla="val 554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3" name=""/>
          <p:cNvSpPr/>
          <p:nvPr/>
        </p:nvSpPr>
        <p:spPr>
          <a:xfrm>
            <a:off x="6680160" y="639720"/>
            <a:ext cx="1905120" cy="992160"/>
          </a:xfrm>
          <a:prstGeom prst="roundRect">
            <a:avLst>
              <a:gd name="adj" fmla="val 1810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もしもし、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おかあ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4" name=""/>
          <p:cNvSpPr/>
          <p:nvPr/>
        </p:nvSpPr>
        <p:spPr>
          <a:xfrm>
            <a:off x="2125800" y="77616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きのう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49880" y="374760"/>
            <a:ext cx="1376280" cy="1805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63960" y="693720"/>
            <a:ext cx="3851280" cy="690480"/>
          </a:xfrm>
          <a:custGeom>
            <a:avLst/>
            <a:gdLst/>
            <a:ahLst/>
            <a:rect l="l" t="t" r="r" b="b"/>
            <a:pathLst>
              <a:path w="10700" h="1920">
                <a:moveTo>
                  <a:pt x="10699" y="1249"/>
                </a:moveTo>
                <a:cubicBezTo>
                  <a:pt x="10550" y="953"/>
                  <a:pt x="10405" y="621"/>
                  <a:pt x="10090" y="457"/>
                </a:cubicBezTo>
                <a:cubicBezTo>
                  <a:pt x="9794" y="304"/>
                  <a:pt x="9480" y="144"/>
                  <a:pt x="9144" y="121"/>
                </a:cubicBezTo>
                <a:cubicBezTo>
                  <a:pt x="8749" y="96"/>
                  <a:pt x="8360" y="49"/>
                  <a:pt x="7967" y="43"/>
                </a:cubicBezTo>
                <a:cubicBezTo>
                  <a:pt x="7701" y="37"/>
                  <a:pt x="7434" y="43"/>
                  <a:pt x="7168" y="43"/>
                </a:cubicBezTo>
                <a:cubicBezTo>
                  <a:pt x="6874" y="43"/>
                  <a:pt x="6579" y="43"/>
                  <a:pt x="6285" y="43"/>
                </a:cubicBezTo>
                <a:cubicBezTo>
                  <a:pt x="6025" y="43"/>
                  <a:pt x="5763" y="0"/>
                  <a:pt x="5507" y="43"/>
                </a:cubicBezTo>
                <a:cubicBezTo>
                  <a:pt x="5139" y="101"/>
                  <a:pt x="4783" y="51"/>
                  <a:pt x="4414" y="121"/>
                </a:cubicBezTo>
                <a:cubicBezTo>
                  <a:pt x="4115" y="178"/>
                  <a:pt x="3812" y="209"/>
                  <a:pt x="3531" y="318"/>
                </a:cubicBezTo>
                <a:cubicBezTo>
                  <a:pt x="3222" y="440"/>
                  <a:pt x="2925" y="501"/>
                  <a:pt x="2606" y="575"/>
                </a:cubicBezTo>
                <a:cubicBezTo>
                  <a:pt x="2243" y="659"/>
                  <a:pt x="2066" y="863"/>
                  <a:pt x="1724" y="991"/>
                </a:cubicBezTo>
                <a:cubicBezTo>
                  <a:pt x="1386" y="1116"/>
                  <a:pt x="1079" y="1244"/>
                  <a:pt x="778" y="1424"/>
                </a:cubicBezTo>
                <a:cubicBezTo>
                  <a:pt x="515" y="1583"/>
                  <a:pt x="207" y="1688"/>
                  <a:pt x="0" y="1919"/>
                </a:cubicBezTo>
                <a:lnTo>
                  <a:pt x="0" y="191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060640" y="1663560"/>
            <a:ext cx="5073480" cy="1013040"/>
            <a:chOff x="2060640" y="1663560"/>
            <a:chExt cx="5073480" cy="1013040"/>
          </a:xfrm>
        </p:grpSpPr>
        <p:sp>
          <p:nvSpPr>
            <p:cNvPr id="168" name=""/>
            <p:cNvSpPr/>
            <p:nvPr/>
          </p:nvSpPr>
          <p:spPr>
            <a:xfrm>
              <a:off x="2060640" y="1663560"/>
              <a:ext cx="5073480" cy="10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 u="sng">
                  <a:solidFill>
                    <a:srgbClr val="ff0000"/>
                  </a:solidFill>
                  <a:uFillTx/>
                  <a:latin typeface="みかちゃん"/>
                  <a:ea typeface="みかちゃん"/>
                </a:rPr>
                <a:t>はは</a:t>
              </a:r>
              <a:r>
                <a:rPr b="0" lang="ja-JP" sz="4000" spc="-1" strike="noStrike">
                  <a:solidFill>
                    <a:srgbClr val="800000"/>
                  </a:solidFill>
                  <a:latin typeface="みかちゃん"/>
                  <a:ea typeface="みかちゃん"/>
                </a:rPr>
                <a:t>に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でんわ</a:t>
              </a:r>
              <a:r>
                <a:rPr b="0" lang="ja-JP" sz="4000" spc="-1" strike="noStrike">
                  <a:solidFill>
                    <a:srgbClr val="800000"/>
                  </a:solidFill>
                  <a:latin typeface="みかちゃん"/>
                  <a:ea typeface="みかちゃん"/>
                </a:rPr>
                <a:t>を</a:t>
              </a:r>
              <a:r>
                <a:rPr b="0" lang="ja-JP" sz="4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かけました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015920" y="144360"/>
            <a:ext cx="952560" cy="1123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20600" y="2960640"/>
            <a:ext cx="2405160" cy="6523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294600" y="2308320"/>
            <a:ext cx="265248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60640" y="241200"/>
            <a:ext cx="7122960" cy="3235320"/>
          </a:xfrm>
          <a:prstGeom prst="roundRect">
            <a:avLst>
              <a:gd name="adj" fmla="val 554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3" name=""/>
          <p:cNvSpPr/>
          <p:nvPr/>
        </p:nvSpPr>
        <p:spPr>
          <a:xfrm>
            <a:off x="7032600" y="658800"/>
            <a:ext cx="1905120" cy="1252440"/>
          </a:xfrm>
          <a:prstGeom prst="roundRect">
            <a:avLst>
              <a:gd name="adj" fmla="val 1433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おとうさん</a:t>
            </a:r>
            <a:r>
              <a:rPr b="0" lang="ja-JP" sz="24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へ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4" name=""/>
          <p:cNvSpPr/>
          <p:nvPr/>
        </p:nvSpPr>
        <p:spPr>
          <a:xfrm>
            <a:off x="1173240" y="528480"/>
            <a:ext cx="15224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きのう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5" name=""/>
          <p:cNvSpPr/>
          <p:nvPr/>
        </p:nvSpPr>
        <p:spPr>
          <a:xfrm>
            <a:off x="1785960" y="569880"/>
            <a:ext cx="6119640" cy="739800"/>
          </a:xfrm>
          <a:custGeom>
            <a:avLst/>
            <a:gdLst/>
            <a:ahLst/>
            <a:rect l="l" t="t" r="r" b="b"/>
            <a:pathLst>
              <a:path w="16999" h="2056">
                <a:moveTo>
                  <a:pt x="16998" y="1337"/>
                </a:moveTo>
                <a:cubicBezTo>
                  <a:pt x="16761" y="1020"/>
                  <a:pt x="16530" y="665"/>
                  <a:pt x="16030" y="490"/>
                </a:cubicBezTo>
                <a:cubicBezTo>
                  <a:pt x="15561" y="326"/>
                  <a:pt x="15062" y="154"/>
                  <a:pt x="14527" y="130"/>
                </a:cubicBezTo>
                <a:cubicBezTo>
                  <a:pt x="13899" y="103"/>
                  <a:pt x="13282" y="53"/>
                  <a:pt x="12657" y="46"/>
                </a:cubicBezTo>
                <a:cubicBezTo>
                  <a:pt x="12235" y="40"/>
                  <a:pt x="11811" y="46"/>
                  <a:pt x="11388" y="46"/>
                </a:cubicBezTo>
                <a:cubicBezTo>
                  <a:pt x="10920" y="46"/>
                  <a:pt x="10452" y="46"/>
                  <a:pt x="9986" y="46"/>
                </a:cubicBezTo>
                <a:cubicBezTo>
                  <a:pt x="9573" y="46"/>
                  <a:pt x="9155" y="0"/>
                  <a:pt x="8750" y="46"/>
                </a:cubicBezTo>
                <a:cubicBezTo>
                  <a:pt x="8165" y="109"/>
                  <a:pt x="7598" y="55"/>
                  <a:pt x="7012" y="130"/>
                </a:cubicBezTo>
                <a:cubicBezTo>
                  <a:pt x="6538" y="191"/>
                  <a:pt x="6056" y="224"/>
                  <a:pt x="5610" y="341"/>
                </a:cubicBezTo>
                <a:cubicBezTo>
                  <a:pt x="5119" y="471"/>
                  <a:pt x="4648" y="537"/>
                  <a:pt x="4141" y="616"/>
                </a:cubicBezTo>
                <a:cubicBezTo>
                  <a:pt x="3564" y="706"/>
                  <a:pt x="3283" y="925"/>
                  <a:pt x="2739" y="1061"/>
                </a:cubicBezTo>
                <a:cubicBezTo>
                  <a:pt x="2201" y="1195"/>
                  <a:pt x="1715" y="1332"/>
                  <a:pt x="1236" y="1525"/>
                </a:cubicBezTo>
                <a:cubicBezTo>
                  <a:pt x="819" y="1695"/>
                  <a:pt x="329" y="1808"/>
                  <a:pt x="0" y="2055"/>
                </a:cubicBezTo>
                <a:lnTo>
                  <a:pt x="0" y="2055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4760" y="144360"/>
            <a:ext cx="952560" cy="1123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20600" y="2960640"/>
            <a:ext cx="2405160" cy="6523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294600" y="2308320"/>
            <a:ext cx="2652480" cy="7559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4351320" y="247680"/>
            <a:ext cx="2190600" cy="176040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1398600" y="1622520"/>
            <a:ext cx="5073480" cy="1012680"/>
            <a:chOff x="1398600" y="1622520"/>
            <a:chExt cx="5073480" cy="1012680"/>
          </a:xfrm>
        </p:grpSpPr>
        <p:sp>
          <p:nvSpPr>
            <p:cNvPr id="181" name=""/>
            <p:cNvSpPr/>
            <p:nvPr/>
          </p:nvSpPr>
          <p:spPr>
            <a:xfrm>
              <a:off x="1398600" y="1622520"/>
              <a:ext cx="507348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 u="sng">
                  <a:solidFill>
                    <a:srgbClr val="ff0000"/>
                  </a:solidFill>
                  <a:uFillTx/>
                  <a:latin typeface="みかちゃん"/>
                  <a:ea typeface="みかちゃん"/>
                </a:rPr>
                <a:t>ちち</a:t>
              </a:r>
              <a:r>
                <a:rPr b="0" lang="ja-JP" sz="4000" spc="-1" strike="noStrike">
                  <a:solidFill>
                    <a:srgbClr val="800000"/>
                  </a:solidFill>
                  <a:latin typeface="みかちゃん"/>
                  <a:ea typeface="みかちゃん"/>
                </a:rPr>
                <a:t>に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てがみ</a:t>
              </a:r>
              <a:r>
                <a:rPr b="0" lang="ja-JP" sz="4000" spc="-1" strike="noStrike">
                  <a:solidFill>
                    <a:srgbClr val="800000"/>
                  </a:solidFill>
                  <a:latin typeface="みかちゃん"/>
                  <a:ea typeface="みかちゃん"/>
                </a:rPr>
                <a:t>を</a:t>
              </a:r>
              <a:r>
                <a:rPr b="0" lang="ja-JP" sz="4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かきました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35000" y="206280"/>
            <a:ext cx="5488200" cy="2766960"/>
          </a:xfrm>
          <a:prstGeom prst="roundRect">
            <a:avLst>
              <a:gd name="adj" fmla="val 648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3" name=""/>
          <p:cNvSpPr/>
          <p:nvPr/>
        </p:nvSpPr>
        <p:spPr>
          <a:xfrm>
            <a:off x="1152360" y="569880"/>
            <a:ext cx="5588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きのう、ロランさんは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108080" y="1581120"/>
            <a:ext cx="5583240" cy="1012680"/>
            <a:chOff x="1108080" y="1581120"/>
            <a:chExt cx="5583240" cy="1012680"/>
          </a:xfrm>
        </p:grpSpPr>
        <p:sp>
          <p:nvSpPr>
            <p:cNvPr id="185" name=""/>
            <p:cNvSpPr/>
            <p:nvPr/>
          </p:nvSpPr>
          <p:spPr>
            <a:xfrm>
              <a:off x="1108080" y="1581120"/>
              <a:ext cx="558324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 u="sng">
                  <a:solidFill>
                    <a:srgbClr val="ff0000"/>
                  </a:solidFill>
                  <a:uFillTx/>
                  <a:latin typeface="みかちゃん"/>
                  <a:ea typeface="みかちゃん"/>
                </a:rPr>
                <a:t>おかあさん</a:t>
              </a:r>
              <a:r>
                <a:rPr b="0" lang="ja-JP" sz="4000" spc="-1" strike="noStrike">
                  <a:solidFill>
                    <a:srgbClr val="800000"/>
                  </a:solidFill>
                  <a:latin typeface="みかちゃん"/>
                  <a:ea typeface="みかちゃん"/>
                </a:rPr>
                <a:t>に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でんわ</a:t>
              </a:r>
              <a:r>
                <a:rPr b="0" lang="ja-JP" sz="4000" spc="-1" strike="noStrike">
                  <a:solidFill>
                    <a:srgbClr val="800000"/>
                  </a:solidFill>
                  <a:latin typeface="みかちゃん"/>
                  <a:ea typeface="みかちゃん"/>
                </a:rPr>
                <a:t>を</a:t>
              </a:r>
              <a:r>
                <a:rPr b="0" lang="ja-JP" sz="4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かけましたか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564240" y="144360"/>
            <a:ext cx="3309840" cy="2471760"/>
            <a:chOff x="6564240" y="144360"/>
            <a:chExt cx="3309840" cy="2471760"/>
          </a:xfrm>
        </p:grpSpPr>
        <p:sp>
          <p:nvSpPr>
            <p:cNvPr id="187" name=""/>
            <p:cNvSpPr/>
            <p:nvPr/>
          </p:nvSpPr>
          <p:spPr>
            <a:xfrm>
              <a:off x="6564240" y="946080"/>
              <a:ext cx="3309840" cy="1670040"/>
            </a:xfrm>
            <a:prstGeom prst="roundRect">
              <a:avLst>
                <a:gd name="adj" fmla="val 10718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6200" bIns="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Bitstream Vera Serif"/>
                </a:rPr>
                <a:t>いいえ、でも、</a:t>
              </a: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200" spc="-1" strike="noStrike">
                  <a:solidFill>
                    <a:srgbClr val="ff0000"/>
                  </a:solidFill>
                  <a:latin typeface="Bitstream Vera Serif"/>
                </a:rPr>
                <a:t>あね</a:t>
              </a:r>
              <a:r>
                <a:rPr b="0" lang="ja-JP" sz="3200" spc="-1" strike="noStrike">
                  <a:solidFill>
                    <a:srgbClr val="800000"/>
                  </a:solidFill>
                  <a:latin typeface="Bitstream Vera Serif"/>
                </a:rPr>
                <a:t>に</a:t>
              </a:r>
              <a:r>
                <a:rPr b="0" lang="ja-JP" sz="3200" spc="-1" strike="noStrike">
                  <a:solidFill>
                    <a:srgbClr val="000000"/>
                  </a:solidFill>
                  <a:latin typeface="Bitstream Vera Serif"/>
                </a:rPr>
                <a:t>でんわを</a:t>
              </a: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Bitstream Vera Serif"/>
                </a:rPr>
                <a:t>かけました。</a:t>
              </a: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8702640" y="509760"/>
              <a:ext cx="15840" cy="550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45600" y="144360"/>
              <a:ext cx="946080" cy="34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240" bIns="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itstream Vera Serif"/>
                </a:rPr>
                <a:t>mais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149880" y="2701800"/>
            <a:ext cx="2652840" cy="7559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20600" y="2960640"/>
            <a:ext cx="2405160" cy="6523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04760" y="144360"/>
            <a:ext cx="95256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437000" y="6315120"/>
            <a:ext cx="1135080" cy="860400"/>
          </a:xfrm>
          <a:prstGeom prst="roundRect">
            <a:avLst>
              <a:gd name="adj" fmla="val 181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わたし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4" name=""/>
          <p:cNvSpPr/>
          <p:nvPr/>
        </p:nvSpPr>
        <p:spPr>
          <a:xfrm>
            <a:off x="8364600" y="131760"/>
            <a:ext cx="1487520" cy="665280"/>
          </a:xfrm>
          <a:prstGeom prst="roundRect">
            <a:avLst>
              <a:gd name="adj" fmla="val 2703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わたし</a:t>
            </a:r>
            <a:r>
              <a:rPr b="0" lang="ja-JP" sz="2400" spc="-1" strike="noStrike">
                <a:solidFill>
                  <a:srgbClr val="800000"/>
                </a:solidFill>
                <a:latin typeface="Bitstream Vera Serif"/>
              </a:rPr>
              <a:t>の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5" name=""/>
          <p:cNvSpPr/>
          <p:nvPr/>
        </p:nvSpPr>
        <p:spPr>
          <a:xfrm>
            <a:off x="8350200" y="861840"/>
            <a:ext cx="1487520" cy="665280"/>
          </a:xfrm>
          <a:prstGeom prst="roundRect">
            <a:avLst>
              <a:gd name="adj" fmla="val 2703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ーさん</a:t>
            </a:r>
            <a:r>
              <a:rPr b="0" lang="ja-JP" sz="2400" spc="-1" strike="noStrike">
                <a:solidFill>
                  <a:srgbClr val="800000"/>
                </a:solidFill>
                <a:latin typeface="Bitstream Vera Serif"/>
              </a:rPr>
              <a:t>の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6" name=""/>
          <p:cNvSpPr/>
          <p:nvPr/>
        </p:nvSpPr>
        <p:spPr>
          <a:xfrm>
            <a:off x="1577880" y="2674800"/>
            <a:ext cx="1487520" cy="665280"/>
          </a:xfrm>
          <a:prstGeom prst="roundRect">
            <a:avLst>
              <a:gd name="adj" fmla="val 2703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ちち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7" name=""/>
          <p:cNvSpPr/>
          <p:nvPr/>
        </p:nvSpPr>
        <p:spPr>
          <a:xfrm>
            <a:off x="717480" y="3379680"/>
            <a:ext cx="2322720" cy="665280"/>
          </a:xfrm>
          <a:prstGeom prst="roundRect">
            <a:avLst>
              <a:gd name="adj" fmla="val 2703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おとう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8" name=""/>
          <p:cNvSpPr/>
          <p:nvPr/>
        </p:nvSpPr>
        <p:spPr>
          <a:xfrm>
            <a:off x="7345440" y="2479680"/>
            <a:ext cx="1487520" cy="665280"/>
          </a:xfrm>
          <a:prstGeom prst="roundRect">
            <a:avLst>
              <a:gd name="adj" fmla="val 2703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はは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9" name=""/>
          <p:cNvSpPr/>
          <p:nvPr/>
        </p:nvSpPr>
        <p:spPr>
          <a:xfrm>
            <a:off x="6485040" y="3184560"/>
            <a:ext cx="2322360" cy="665280"/>
          </a:xfrm>
          <a:prstGeom prst="roundRect">
            <a:avLst>
              <a:gd name="adj" fmla="val 2703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おかあ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0" name=""/>
          <p:cNvSpPr/>
          <p:nvPr/>
        </p:nvSpPr>
        <p:spPr>
          <a:xfrm>
            <a:off x="247680" y="249120"/>
            <a:ext cx="1487520" cy="665280"/>
          </a:xfrm>
          <a:prstGeom prst="roundRect">
            <a:avLst>
              <a:gd name="adj" fmla="val 2703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そふ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201680"/>
            <a:ext cx="1905120" cy="665280"/>
          </a:xfrm>
          <a:prstGeom prst="roundRect">
            <a:avLst>
              <a:gd name="adj" fmla="val 2703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おじい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2" name=""/>
          <p:cNvSpPr/>
          <p:nvPr/>
        </p:nvSpPr>
        <p:spPr>
          <a:xfrm>
            <a:off x="5702400" y="274680"/>
            <a:ext cx="1487520" cy="665280"/>
          </a:xfrm>
          <a:prstGeom prst="roundRect">
            <a:avLst>
              <a:gd name="adj" fmla="val 2703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そぼ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3" name=""/>
          <p:cNvSpPr/>
          <p:nvPr/>
        </p:nvSpPr>
        <p:spPr>
          <a:xfrm>
            <a:off x="5454720" y="1149480"/>
            <a:ext cx="1904760" cy="664920"/>
          </a:xfrm>
          <a:prstGeom prst="roundRect">
            <a:avLst>
              <a:gd name="adj" fmla="val 2703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おばあ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6054840"/>
            <a:ext cx="1487520" cy="664920"/>
          </a:xfrm>
          <a:prstGeom prst="roundRect">
            <a:avLst>
              <a:gd name="adj" fmla="val 2703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あに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5" name=""/>
          <p:cNvSpPr/>
          <p:nvPr/>
        </p:nvSpPr>
        <p:spPr>
          <a:xfrm>
            <a:off x="-65160" y="6694560"/>
            <a:ext cx="2232000" cy="664920"/>
          </a:xfrm>
          <a:prstGeom prst="roundRect">
            <a:avLst>
              <a:gd name="adj" fmla="val 2703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おにい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6" name=""/>
          <p:cNvSpPr/>
          <p:nvPr/>
        </p:nvSpPr>
        <p:spPr>
          <a:xfrm>
            <a:off x="2517840" y="6041880"/>
            <a:ext cx="1487520" cy="665280"/>
          </a:xfrm>
          <a:prstGeom prst="roundRect">
            <a:avLst>
              <a:gd name="adj" fmla="val 2703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あね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7" name=""/>
          <p:cNvSpPr/>
          <p:nvPr/>
        </p:nvSpPr>
        <p:spPr>
          <a:xfrm>
            <a:off x="2100240" y="6681960"/>
            <a:ext cx="2232000" cy="664920"/>
          </a:xfrm>
          <a:prstGeom prst="roundRect">
            <a:avLst>
              <a:gd name="adj" fmla="val 2703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おねえ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8" name=""/>
          <p:cNvSpPr/>
          <p:nvPr/>
        </p:nvSpPr>
        <p:spPr>
          <a:xfrm>
            <a:off x="6105600" y="6121440"/>
            <a:ext cx="1487520" cy="665280"/>
          </a:xfrm>
          <a:prstGeom prst="roundRect">
            <a:avLst>
              <a:gd name="adj" fmla="val 2703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おとうと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9" name=""/>
          <p:cNvSpPr/>
          <p:nvPr/>
        </p:nvSpPr>
        <p:spPr>
          <a:xfrm>
            <a:off x="5688000" y="6761160"/>
            <a:ext cx="2232000" cy="665280"/>
          </a:xfrm>
          <a:prstGeom prst="roundRect">
            <a:avLst>
              <a:gd name="adj" fmla="val 2703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おとうと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0" name=""/>
          <p:cNvSpPr/>
          <p:nvPr/>
        </p:nvSpPr>
        <p:spPr>
          <a:xfrm>
            <a:off x="8265960" y="6081840"/>
            <a:ext cx="1487520" cy="664920"/>
          </a:xfrm>
          <a:prstGeom prst="roundRect">
            <a:avLst>
              <a:gd name="adj" fmla="val 2703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いもうと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6721560"/>
            <a:ext cx="2232000" cy="664920"/>
          </a:xfrm>
          <a:prstGeom prst="roundRect">
            <a:avLst>
              <a:gd name="adj" fmla="val 2703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いもうと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dur="indefinite" fill="hold">
                      <p:stCondLst>
                        <p:cond delay="indefinite"/>
                      </p:stCondLst>
                      <p:childTnLst>
                        <p:par>
                          <p:cTn id="2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dur="indefinite" fill="hold">
                      <p:stCondLst>
                        <p:cond delay="indefinite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dur="indefinite" fill="hold">
                      <p:stCondLst>
                        <p:cond delay="indefinite"/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dur="indefinite" fill="hold">
                      <p:stCondLst>
                        <p:cond delay="indefinite"/>
                      </p:stCondLst>
                      <p:childTnLst>
                        <p:par>
                          <p:cTn id="2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dur="indefinite" fill="hold">
                      <p:stCondLst>
                        <p:cond delay="indefinite"/>
                      </p:stCondLst>
                      <p:childTnLst>
                        <p:par>
                          <p:cTn id="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dur="indefinite" fill="hold">
                      <p:stCondLst>
                        <p:cond delay="indefinite"/>
                      </p:stCondLst>
                      <p:childTnLst>
                        <p:par>
                          <p:cTn id="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dur="indefinite" fill="hold">
                      <p:stCondLst>
                        <p:cond delay="indefinite"/>
                      </p:stCondLst>
                      <p:childTnLst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437000" y="6315120"/>
            <a:ext cx="1135080" cy="860400"/>
          </a:xfrm>
          <a:prstGeom prst="roundRect">
            <a:avLst>
              <a:gd name="adj" fmla="val 181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わたし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3" name=""/>
          <p:cNvSpPr/>
          <p:nvPr/>
        </p:nvSpPr>
        <p:spPr>
          <a:xfrm>
            <a:off x="8364600" y="131760"/>
            <a:ext cx="1487520" cy="665280"/>
          </a:xfrm>
          <a:prstGeom prst="roundRect">
            <a:avLst>
              <a:gd name="adj" fmla="val 2703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わたし</a:t>
            </a:r>
            <a:r>
              <a:rPr b="0" lang="ja-JP" sz="2400" spc="-1" strike="noStrike">
                <a:solidFill>
                  <a:srgbClr val="800000"/>
                </a:solidFill>
                <a:latin typeface="Bitstream Vera Serif"/>
              </a:rPr>
              <a:t>の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4" name=""/>
          <p:cNvSpPr/>
          <p:nvPr/>
        </p:nvSpPr>
        <p:spPr>
          <a:xfrm>
            <a:off x="8350200" y="861840"/>
            <a:ext cx="1487520" cy="665280"/>
          </a:xfrm>
          <a:prstGeom prst="roundRect">
            <a:avLst>
              <a:gd name="adj" fmla="val 2703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ーさん</a:t>
            </a:r>
            <a:r>
              <a:rPr b="0" lang="ja-JP" sz="2400" spc="-1" strike="noStrike">
                <a:solidFill>
                  <a:srgbClr val="800000"/>
                </a:solidFill>
                <a:latin typeface="Bitstream Vera Serif"/>
              </a:rPr>
              <a:t>の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5" name=""/>
          <p:cNvSpPr/>
          <p:nvPr/>
        </p:nvSpPr>
        <p:spPr>
          <a:xfrm>
            <a:off x="1577880" y="2674800"/>
            <a:ext cx="1487520" cy="665280"/>
          </a:xfrm>
          <a:prstGeom prst="roundRect">
            <a:avLst>
              <a:gd name="adj" fmla="val 2703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ちち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6" name=""/>
          <p:cNvSpPr/>
          <p:nvPr/>
        </p:nvSpPr>
        <p:spPr>
          <a:xfrm>
            <a:off x="717480" y="3379680"/>
            <a:ext cx="2322720" cy="665280"/>
          </a:xfrm>
          <a:prstGeom prst="roundRect">
            <a:avLst>
              <a:gd name="adj" fmla="val 2703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おとう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7" name=""/>
          <p:cNvSpPr/>
          <p:nvPr/>
        </p:nvSpPr>
        <p:spPr>
          <a:xfrm>
            <a:off x="7345440" y="2479680"/>
            <a:ext cx="1487520" cy="665280"/>
          </a:xfrm>
          <a:prstGeom prst="roundRect">
            <a:avLst>
              <a:gd name="adj" fmla="val 2703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はは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8" name=""/>
          <p:cNvSpPr/>
          <p:nvPr/>
        </p:nvSpPr>
        <p:spPr>
          <a:xfrm>
            <a:off x="6485040" y="3184560"/>
            <a:ext cx="2322360" cy="665280"/>
          </a:xfrm>
          <a:prstGeom prst="roundRect">
            <a:avLst>
              <a:gd name="adj" fmla="val 2703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おかあ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9" name=""/>
          <p:cNvSpPr/>
          <p:nvPr/>
        </p:nvSpPr>
        <p:spPr>
          <a:xfrm>
            <a:off x="247680" y="249120"/>
            <a:ext cx="1487520" cy="665280"/>
          </a:xfrm>
          <a:prstGeom prst="roundRect">
            <a:avLst>
              <a:gd name="adj" fmla="val 2703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そふ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201680"/>
            <a:ext cx="1905120" cy="665280"/>
          </a:xfrm>
          <a:prstGeom prst="roundRect">
            <a:avLst>
              <a:gd name="adj" fmla="val 2703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おじい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1" name=""/>
          <p:cNvSpPr/>
          <p:nvPr/>
        </p:nvSpPr>
        <p:spPr>
          <a:xfrm>
            <a:off x="5702400" y="274680"/>
            <a:ext cx="1487520" cy="665280"/>
          </a:xfrm>
          <a:prstGeom prst="roundRect">
            <a:avLst>
              <a:gd name="adj" fmla="val 2703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そぼ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2" name=""/>
          <p:cNvSpPr/>
          <p:nvPr/>
        </p:nvSpPr>
        <p:spPr>
          <a:xfrm>
            <a:off x="5454720" y="1149480"/>
            <a:ext cx="1904760" cy="664920"/>
          </a:xfrm>
          <a:prstGeom prst="roundRect">
            <a:avLst>
              <a:gd name="adj" fmla="val 2703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おばあ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3" name=""/>
          <p:cNvSpPr/>
          <p:nvPr/>
        </p:nvSpPr>
        <p:spPr>
          <a:xfrm>
            <a:off x="352440" y="6054840"/>
            <a:ext cx="1487520" cy="664920"/>
          </a:xfrm>
          <a:prstGeom prst="roundRect">
            <a:avLst>
              <a:gd name="adj" fmla="val 2703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あに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4" name=""/>
          <p:cNvSpPr/>
          <p:nvPr/>
        </p:nvSpPr>
        <p:spPr>
          <a:xfrm>
            <a:off x="-65160" y="6694560"/>
            <a:ext cx="2232000" cy="664920"/>
          </a:xfrm>
          <a:prstGeom prst="roundRect">
            <a:avLst>
              <a:gd name="adj" fmla="val 2703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おにい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5" name=""/>
          <p:cNvSpPr/>
          <p:nvPr/>
        </p:nvSpPr>
        <p:spPr>
          <a:xfrm>
            <a:off x="2517840" y="6041880"/>
            <a:ext cx="1487520" cy="665280"/>
          </a:xfrm>
          <a:prstGeom prst="roundRect">
            <a:avLst>
              <a:gd name="adj" fmla="val 2703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あね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6" name=""/>
          <p:cNvSpPr/>
          <p:nvPr/>
        </p:nvSpPr>
        <p:spPr>
          <a:xfrm>
            <a:off x="2100240" y="6681960"/>
            <a:ext cx="2232000" cy="664920"/>
          </a:xfrm>
          <a:prstGeom prst="roundRect">
            <a:avLst>
              <a:gd name="adj" fmla="val 2703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おねえ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7" name=""/>
          <p:cNvSpPr/>
          <p:nvPr/>
        </p:nvSpPr>
        <p:spPr>
          <a:xfrm>
            <a:off x="6105600" y="6121440"/>
            <a:ext cx="1487520" cy="665280"/>
          </a:xfrm>
          <a:prstGeom prst="roundRect">
            <a:avLst>
              <a:gd name="adj" fmla="val 2703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おとうと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8" name=""/>
          <p:cNvSpPr/>
          <p:nvPr/>
        </p:nvSpPr>
        <p:spPr>
          <a:xfrm>
            <a:off x="5688000" y="6761160"/>
            <a:ext cx="2232000" cy="665280"/>
          </a:xfrm>
          <a:prstGeom prst="roundRect">
            <a:avLst>
              <a:gd name="adj" fmla="val 2703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おとうと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9" name=""/>
          <p:cNvSpPr/>
          <p:nvPr/>
        </p:nvSpPr>
        <p:spPr>
          <a:xfrm>
            <a:off x="8265960" y="6081840"/>
            <a:ext cx="1487520" cy="664920"/>
          </a:xfrm>
          <a:prstGeom prst="roundRect">
            <a:avLst>
              <a:gd name="adj" fmla="val 2703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いもうと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0" name=""/>
          <p:cNvSpPr/>
          <p:nvPr/>
        </p:nvSpPr>
        <p:spPr>
          <a:xfrm>
            <a:off x="7848720" y="6721560"/>
            <a:ext cx="2232000" cy="664920"/>
          </a:xfrm>
          <a:prstGeom prst="roundRect">
            <a:avLst>
              <a:gd name="adj" fmla="val 2703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いもうと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81760" y="1906560"/>
            <a:ext cx="2448000" cy="7039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90480" y="2432160"/>
            <a:ext cx="2924280" cy="652464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235080" y="5197320"/>
            <a:ext cx="8831160" cy="2197080"/>
            <a:chOff x="235080" y="5197320"/>
            <a:chExt cx="8831160" cy="2197080"/>
          </a:xfrm>
        </p:grpSpPr>
        <p:sp>
          <p:nvSpPr>
            <p:cNvPr id="234" name=""/>
            <p:cNvSpPr/>
            <p:nvPr/>
          </p:nvSpPr>
          <p:spPr>
            <a:xfrm>
              <a:off x="235080" y="5197320"/>
              <a:ext cx="8831160" cy="2197080"/>
            </a:xfrm>
            <a:prstGeom prst="roundRect">
              <a:avLst>
                <a:gd name="adj" fmla="val 2077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33080"/>
                  <a:tab algn="l" pos="9882360"/>
                  <a:tab algn="l" pos="10331280"/>
                  <a:tab algn="l" pos="10780560"/>
                  <a:tab algn="l" pos="1078236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	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3"/>
            <a:stretch/>
          </p:blipFill>
          <p:spPr>
            <a:xfrm>
              <a:off x="622440" y="5383080"/>
              <a:ext cx="1361880" cy="170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"/>
          <p:cNvSpPr/>
          <p:nvPr/>
        </p:nvSpPr>
        <p:spPr>
          <a:xfrm>
            <a:off x="442800" y="247680"/>
            <a:ext cx="4697640" cy="1839960"/>
          </a:xfrm>
          <a:prstGeom prst="roundRect">
            <a:avLst>
              <a:gd name="adj" fmla="val 975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たんじょうび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おめでとうございます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れ、どうぞ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7" name=""/>
          <p:cNvSpPr/>
          <p:nvPr/>
        </p:nvSpPr>
        <p:spPr>
          <a:xfrm>
            <a:off x="5857920" y="847800"/>
            <a:ext cx="4071960" cy="1422360"/>
          </a:xfrm>
          <a:prstGeom prst="roundRect">
            <a:avLst>
              <a:gd name="adj" fmla="val 12611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ありがと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ござい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8" name=""/>
          <p:cNvSpPr/>
          <p:nvPr/>
        </p:nvSpPr>
        <p:spPr>
          <a:xfrm>
            <a:off x="5572080" y="744480"/>
            <a:ext cx="2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044960" y="3909600"/>
            <a:ext cx="2335320" cy="334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0" name=""/>
          <p:cNvSpPr/>
          <p:nvPr/>
        </p:nvSpPr>
        <p:spPr>
          <a:xfrm>
            <a:off x="2114640" y="5362560"/>
            <a:ext cx="6603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わたし</a:t>
            </a:r>
            <a:r>
              <a:rPr b="0" lang="ja-JP" sz="44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なつみさん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みかちゃん"/>
                <a:ea typeface="みかちゃん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プレゼント</a:t>
            </a:r>
            <a:r>
              <a:rPr b="0" lang="ja-JP" sz="44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を</a:t>
            </a:r>
            <a:r>
              <a:rPr b="0" lang="ja-JP" sz="44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あげます</a:t>
            </a: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1" name=""/>
          <p:cNvSpPr/>
          <p:nvPr/>
        </p:nvSpPr>
        <p:spPr>
          <a:xfrm>
            <a:off x="227160" y="270000"/>
            <a:ext cx="9950400" cy="1069920"/>
          </a:xfrm>
          <a:prstGeom prst="roundRect">
            <a:avLst>
              <a:gd name="adj" fmla="val 148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きょうこさん</a:t>
            </a:r>
            <a:r>
              <a:rPr b="0" lang="ja-JP" sz="3200" spc="-1" strike="noStrike">
                <a:solidFill>
                  <a:srgbClr val="800000"/>
                </a:solidFill>
                <a:latin typeface="Kochi Mincho"/>
                <a:ea typeface="Kochi Mincho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なつみさん</a:t>
            </a:r>
            <a:r>
              <a:rPr b="0" lang="ja-JP" sz="3200" spc="-1" strike="noStrike">
                <a:solidFill>
                  <a:srgbClr val="800000"/>
                </a:solidFill>
                <a:latin typeface="Kochi Mincho"/>
                <a:ea typeface="Kochi Mincho"/>
              </a:rPr>
              <a:t>に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プレゼント</a:t>
            </a:r>
            <a:r>
              <a:rPr b="0" lang="ja-JP" sz="3200" spc="-1" strike="noStrike">
                <a:solidFill>
                  <a:srgbClr val="800000"/>
                </a:solidFill>
                <a:latin typeface="Kochi Mincho"/>
                <a:ea typeface="Kochi Mincho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あげます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dur="indefinite" fill="hold">
                      <p:stCondLst>
                        <p:cond delay="indefinite"/>
                      </p:stCondLst>
                      <p:childTnLst>
                        <p:par>
                          <p:cTn id="3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dur="indefinite" fill="hold">
                      <p:stCondLst>
                        <p:cond delay="indefinite"/>
                      </p:stCondLst>
                      <p:childTnLst>
                        <p:par>
                          <p:cTn id="3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49360" y="1832040"/>
            <a:ext cx="3289320" cy="755964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235080" y="5207040"/>
            <a:ext cx="7381800" cy="2189160"/>
            <a:chOff x="235080" y="5207040"/>
            <a:chExt cx="7381800" cy="2189160"/>
          </a:xfrm>
        </p:grpSpPr>
        <p:sp>
          <p:nvSpPr>
            <p:cNvPr id="244" name=""/>
            <p:cNvSpPr/>
            <p:nvPr/>
          </p:nvSpPr>
          <p:spPr>
            <a:xfrm>
              <a:off x="235080" y="5207040"/>
              <a:ext cx="7381800" cy="2189160"/>
            </a:xfrm>
            <a:prstGeom prst="roundRect">
              <a:avLst>
                <a:gd name="adj" fmla="val 2086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33080"/>
                  <a:tab algn="l" pos="9882360"/>
                  <a:tab algn="l" pos="10331280"/>
                  <a:tab algn="l" pos="10780560"/>
                  <a:tab algn="l" pos="1078236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	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622440" y="5383080"/>
              <a:ext cx="1361880" cy="170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"/>
          <p:cNvSpPr/>
          <p:nvPr/>
        </p:nvSpPr>
        <p:spPr>
          <a:xfrm>
            <a:off x="442800" y="247680"/>
            <a:ext cx="4697640" cy="1839960"/>
          </a:xfrm>
          <a:prstGeom prst="roundRect">
            <a:avLst>
              <a:gd name="adj" fmla="val 975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たんじょうび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おめでとうございます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れ、どうぞ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7" name=""/>
          <p:cNvSpPr/>
          <p:nvPr/>
        </p:nvSpPr>
        <p:spPr>
          <a:xfrm>
            <a:off x="5857920" y="847800"/>
            <a:ext cx="4071960" cy="1422360"/>
          </a:xfrm>
          <a:prstGeom prst="roundRect">
            <a:avLst>
              <a:gd name="adj" fmla="val 12611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ありがと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ござい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8" name=""/>
          <p:cNvSpPr/>
          <p:nvPr/>
        </p:nvSpPr>
        <p:spPr>
          <a:xfrm>
            <a:off x="5572080" y="744480"/>
            <a:ext cx="2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044960" y="3909600"/>
            <a:ext cx="2335320" cy="334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0" name=""/>
          <p:cNvSpPr/>
          <p:nvPr/>
        </p:nvSpPr>
        <p:spPr>
          <a:xfrm>
            <a:off x="2114640" y="5362560"/>
            <a:ext cx="4925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わたし</a:t>
            </a:r>
            <a:r>
              <a:rPr b="0" lang="ja-JP" sz="44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なつみさん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みかちゃん"/>
                <a:ea typeface="みかちゃん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はな</a:t>
            </a:r>
            <a:r>
              <a:rPr b="0" lang="ja-JP" sz="44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を</a:t>
            </a:r>
            <a:r>
              <a:rPr b="0" lang="ja-JP" sz="44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あげます</a:t>
            </a: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1" name=""/>
          <p:cNvSpPr/>
          <p:nvPr/>
        </p:nvSpPr>
        <p:spPr>
          <a:xfrm>
            <a:off x="130320" y="150840"/>
            <a:ext cx="9950400" cy="1069920"/>
          </a:xfrm>
          <a:prstGeom prst="roundRect">
            <a:avLst>
              <a:gd name="adj" fmla="val 148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ロランさん</a:t>
            </a:r>
            <a:r>
              <a:rPr b="0" lang="ja-JP" sz="3200" spc="-1" strike="noStrike">
                <a:solidFill>
                  <a:srgbClr val="800000"/>
                </a:solidFill>
                <a:latin typeface="Kochi Mincho"/>
                <a:ea typeface="Kochi Mincho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なつみさん</a:t>
            </a:r>
            <a:r>
              <a:rPr b="0" lang="ja-JP" sz="3200" spc="-1" strike="noStrike">
                <a:solidFill>
                  <a:srgbClr val="800000"/>
                </a:solidFill>
                <a:latin typeface="Kochi Mincho"/>
                <a:ea typeface="Kochi Mincho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はな</a:t>
            </a:r>
            <a:r>
              <a:rPr b="0" lang="ja-JP" sz="3200" spc="-1" strike="noStrike">
                <a:solidFill>
                  <a:srgbClr val="800000"/>
                </a:solidFill>
                <a:latin typeface="Kochi Mincho"/>
                <a:ea typeface="Kochi Mincho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あげます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881760" y="1906560"/>
            <a:ext cx="2448000" cy="703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dur="indefinite" fill="hold">
                      <p:stCondLst>
                        <p:cond delay="indefinite"/>
                      </p:stCondLst>
                      <p:childTnLst>
                        <p:par>
                          <p:cTn id="3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043680" y="2432160"/>
            <a:ext cx="2924280" cy="6524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90480" y="2112840"/>
            <a:ext cx="2448000" cy="70390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72080" y="744480"/>
            <a:ext cx="2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60280" y="5176800"/>
            <a:ext cx="9655200" cy="2192400"/>
            <a:chOff x="260280" y="5176800"/>
            <a:chExt cx="9655200" cy="2192400"/>
          </a:xfrm>
        </p:grpSpPr>
        <p:sp>
          <p:nvSpPr>
            <p:cNvPr id="257" name=""/>
            <p:cNvSpPr/>
            <p:nvPr/>
          </p:nvSpPr>
          <p:spPr>
            <a:xfrm>
              <a:off x="260280" y="5176800"/>
              <a:ext cx="9655200" cy="2192400"/>
            </a:xfrm>
            <a:prstGeom prst="roundRect">
              <a:avLst>
                <a:gd name="adj" fmla="val 1787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33080"/>
                  <a:tab algn="l" pos="9882360"/>
                  <a:tab algn="l" pos="10331280"/>
                  <a:tab algn="l" pos="10780560"/>
                  <a:tab algn="l" pos="1078236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	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3"/>
            <a:stretch/>
          </p:blipFill>
          <p:spPr>
            <a:xfrm>
              <a:off x="566640" y="5484960"/>
              <a:ext cx="1708200" cy="146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"/>
          <p:cNvSpPr/>
          <p:nvPr/>
        </p:nvSpPr>
        <p:spPr>
          <a:xfrm>
            <a:off x="2114640" y="5362560"/>
            <a:ext cx="71625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わたし</a:t>
            </a:r>
            <a:r>
              <a:rPr b="0" lang="ja-JP" sz="44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きょうこさん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みかちゃん"/>
                <a:ea typeface="みかちゃん"/>
              </a:rPr>
              <a:t>に</a:t>
            </a:r>
            <a:r>
              <a:rPr b="0" lang="en-US" sz="4400" spc="-1" strike="noStrike" u="sng">
                <a:solidFill>
                  <a:srgbClr val="800000"/>
                </a:solidFill>
                <a:uFillTx/>
                <a:latin typeface="みかちゃん"/>
                <a:ea typeface="みかちゃん"/>
              </a:rPr>
              <a:t>(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みかちゃん"/>
                <a:ea typeface="みかちゃん"/>
              </a:rPr>
              <a:t>から</a:t>
            </a:r>
            <a:r>
              <a:rPr b="0" lang="en-US" sz="4400" spc="-1" strike="noStrike" u="sng">
                <a:solidFill>
                  <a:srgbClr val="800000"/>
                </a:solidFill>
                <a:uFillTx/>
                <a:latin typeface="みかちゃん"/>
                <a:ea typeface="みかちゃ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プレゼント</a:t>
            </a:r>
            <a:r>
              <a:rPr b="0" lang="ja-JP" sz="44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を</a:t>
            </a:r>
            <a:r>
              <a:rPr b="0" lang="ja-JP" sz="44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もらいます</a:t>
            </a: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3274560" y="3909600"/>
            <a:ext cx="2341800" cy="334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1" name=""/>
          <p:cNvSpPr/>
          <p:nvPr/>
        </p:nvSpPr>
        <p:spPr>
          <a:xfrm>
            <a:off x="130320" y="117360"/>
            <a:ext cx="9950400" cy="1069920"/>
          </a:xfrm>
          <a:prstGeom prst="roundRect">
            <a:avLst>
              <a:gd name="adj" fmla="val 148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なつみさん</a:t>
            </a:r>
            <a:r>
              <a:rPr b="0" lang="ja-JP" sz="3200" spc="-1" strike="noStrike">
                <a:solidFill>
                  <a:srgbClr val="800000"/>
                </a:solidFill>
                <a:latin typeface="Kochi Mincho"/>
                <a:ea typeface="Kochi Mincho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きょうこさん</a:t>
            </a:r>
            <a:r>
              <a:rPr b="0" lang="ja-JP" sz="3200" spc="-1" strike="noStrike">
                <a:solidFill>
                  <a:srgbClr val="800000"/>
                </a:solidFill>
                <a:latin typeface="Kochi Mincho"/>
                <a:ea typeface="Kochi Mincho"/>
              </a:rPr>
              <a:t>に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プレゼント</a:t>
            </a:r>
            <a:r>
              <a:rPr b="0" lang="ja-JP" sz="3200" spc="-1" strike="noStrike">
                <a:solidFill>
                  <a:srgbClr val="800000"/>
                </a:solidFill>
                <a:latin typeface="Kochi Mincho"/>
                <a:ea typeface="Kochi Mincho"/>
              </a:rPr>
              <a:t>を</a:t>
            </a:r>
            <a:r>
              <a:rPr b="0" lang="ja-JP" sz="3200" spc="-1" strike="noStrike">
                <a:solidFill>
                  <a:srgbClr val="ff0000"/>
                </a:solidFill>
                <a:latin typeface="Kochi Mincho"/>
                <a:ea typeface="Kochi Mincho"/>
              </a:rPr>
              <a:t>もらいます</a:t>
            </a: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dur="indefinite" fill="hold">
                      <p:stCondLst>
                        <p:cond delay="indefinite"/>
                      </p:stCondLst>
                      <p:childTnLst>
                        <p:par>
                          <p:cTn id="3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741320" y="414360"/>
            <a:ext cx="14412600" cy="10904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21240" y="3290760"/>
            <a:ext cx="2920680" cy="18860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" name=""/>
          <p:cNvSpPr/>
          <p:nvPr/>
        </p:nvSpPr>
        <p:spPr>
          <a:xfrm>
            <a:off x="600120" y="235080"/>
            <a:ext cx="8742240" cy="146052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フォーク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で</a:t>
            </a:r>
            <a:r>
              <a:rPr b="0" lang="en-US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 たべ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572080" y="744480"/>
            <a:ext cx="2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3" name=""/>
          <p:cNvSpPr/>
          <p:nvPr/>
        </p:nvSpPr>
        <p:spPr>
          <a:xfrm>
            <a:off x="130320" y="117360"/>
            <a:ext cx="9950400" cy="1069920"/>
          </a:xfrm>
          <a:prstGeom prst="roundRect">
            <a:avLst>
              <a:gd name="adj" fmla="val 148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なつみさん</a:t>
            </a:r>
            <a:r>
              <a:rPr b="0" lang="ja-JP" sz="3200" spc="-1" strike="noStrike">
                <a:solidFill>
                  <a:srgbClr val="800000"/>
                </a:solidFill>
                <a:latin typeface="Kochi Mincho"/>
                <a:ea typeface="Kochi Mincho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ロランさん</a:t>
            </a:r>
            <a:r>
              <a:rPr b="0" lang="ja-JP" sz="3200" spc="-1" strike="noStrike">
                <a:solidFill>
                  <a:srgbClr val="800000"/>
                </a:solidFill>
                <a:latin typeface="Kochi Mincho"/>
                <a:ea typeface="Kochi Mincho"/>
              </a:rPr>
              <a:t>に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はな</a:t>
            </a:r>
            <a:r>
              <a:rPr b="0" lang="ja-JP" sz="3200" spc="-1" strike="noStrike">
                <a:solidFill>
                  <a:srgbClr val="800000"/>
                </a:solidFill>
                <a:latin typeface="Kochi Mincho"/>
                <a:ea typeface="Kochi Mincho"/>
              </a:rPr>
              <a:t>を</a:t>
            </a:r>
            <a:r>
              <a:rPr b="0" lang="ja-JP" sz="3200" spc="-1" strike="noStrike">
                <a:solidFill>
                  <a:srgbClr val="ff0000"/>
                </a:solidFill>
                <a:latin typeface="Kochi Mincho"/>
                <a:ea typeface="Kochi Mincho"/>
              </a:rPr>
              <a:t>もらいます</a:t>
            </a: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657760" y="1873080"/>
            <a:ext cx="3289320" cy="7560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flipH="1" flipV="1">
            <a:off x="3133800" y="3909600"/>
            <a:ext cx="2341440" cy="334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92280" y="2112840"/>
            <a:ext cx="2447640" cy="703908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260280" y="5176800"/>
            <a:ext cx="9655200" cy="2192400"/>
            <a:chOff x="260280" y="5176800"/>
            <a:chExt cx="9655200" cy="2192400"/>
          </a:xfrm>
        </p:grpSpPr>
        <p:sp>
          <p:nvSpPr>
            <p:cNvPr id="268" name=""/>
            <p:cNvSpPr/>
            <p:nvPr/>
          </p:nvSpPr>
          <p:spPr>
            <a:xfrm>
              <a:off x="260280" y="5176800"/>
              <a:ext cx="9655200" cy="2192400"/>
            </a:xfrm>
            <a:prstGeom prst="roundRect">
              <a:avLst>
                <a:gd name="adj" fmla="val 1787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33080"/>
                  <a:tab algn="l" pos="9882360"/>
                  <a:tab algn="l" pos="10331280"/>
                  <a:tab algn="l" pos="10780560"/>
                  <a:tab algn="l" pos="1078236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	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3"/>
            <a:stretch/>
          </p:blipFill>
          <p:spPr>
            <a:xfrm>
              <a:off x="566640" y="5484960"/>
              <a:ext cx="1708200" cy="146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2114640" y="5362560"/>
            <a:ext cx="5484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わたし</a:t>
            </a:r>
            <a:r>
              <a:rPr b="0" lang="ja-JP" sz="44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ロランさん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みかちゃん"/>
                <a:ea typeface="みかちゃん"/>
              </a:rPr>
              <a:t>に</a:t>
            </a:r>
            <a:r>
              <a:rPr b="0" lang="en-US" sz="4400" spc="-1" strike="noStrike" u="sng">
                <a:solidFill>
                  <a:srgbClr val="800000"/>
                </a:solidFill>
                <a:uFillTx/>
                <a:latin typeface="みかちゃん"/>
                <a:ea typeface="みかちゃん"/>
              </a:rPr>
              <a:t>(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みかちゃん"/>
                <a:ea typeface="みかちゃん"/>
              </a:rPr>
              <a:t>から</a:t>
            </a:r>
            <a:r>
              <a:rPr b="0" lang="en-US" sz="4400" spc="-1" strike="noStrike" u="sng">
                <a:solidFill>
                  <a:srgbClr val="800000"/>
                </a:solidFill>
                <a:uFillTx/>
                <a:latin typeface="みかちゃん"/>
                <a:ea typeface="みかちゃ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はな</a:t>
            </a:r>
            <a:r>
              <a:rPr b="0" lang="ja-JP" sz="44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を</a:t>
            </a:r>
            <a:r>
              <a:rPr b="0" lang="ja-JP" sz="44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もらいます</a:t>
            </a: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dur="indefinite" fill="hold">
                      <p:stCondLst>
                        <p:cond delay="indefinite"/>
                      </p:stCondLst>
                      <p:childTnLst>
                        <p:par>
                          <p:cTn id="3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dur="indefinite" fill="hold">
                      <p:stCondLst>
                        <p:cond delay="indefinite"/>
                      </p:stCondLst>
                      <p:childTnLst>
                        <p:par>
                          <p:cTn id="3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dur="indefinite" fill="hold">
                      <p:stCondLst>
                        <p:cond delay="indefinite"/>
                      </p:stCondLst>
                      <p:childTnLst>
                        <p:par>
                          <p:cTn id="3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007400" y="1119240"/>
            <a:ext cx="2447640" cy="7039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69960" y="1562040"/>
            <a:ext cx="2924280" cy="65246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 flipV="1">
            <a:off x="4044960" y="3909600"/>
            <a:ext cx="2335320" cy="334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35080" y="5135400"/>
            <a:ext cx="9369360" cy="2260800"/>
            <a:chOff x="235080" y="5135400"/>
            <a:chExt cx="9369360" cy="2260800"/>
          </a:xfrm>
        </p:grpSpPr>
        <p:sp>
          <p:nvSpPr>
            <p:cNvPr id="275" name=""/>
            <p:cNvSpPr/>
            <p:nvPr/>
          </p:nvSpPr>
          <p:spPr>
            <a:xfrm>
              <a:off x="235080" y="5135400"/>
              <a:ext cx="9369360" cy="2260800"/>
            </a:xfrm>
            <a:prstGeom prst="roundRect">
              <a:avLst>
                <a:gd name="adj" fmla="val 2019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33080"/>
                  <a:tab algn="l" pos="9882360"/>
                  <a:tab algn="l" pos="10331280"/>
                  <a:tab algn="l" pos="10780560"/>
                  <a:tab algn="l" pos="1078236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	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566640" y="5484960"/>
              <a:ext cx="1644840" cy="146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"/>
          <p:cNvSpPr/>
          <p:nvPr/>
        </p:nvSpPr>
        <p:spPr>
          <a:xfrm>
            <a:off x="2114640" y="5362560"/>
            <a:ext cx="71625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きょうこさん</a:t>
            </a:r>
            <a:r>
              <a:rPr b="0" lang="ja-JP" sz="44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わたし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みかちゃん"/>
                <a:ea typeface="みかちゃん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プレゼント</a:t>
            </a:r>
            <a:r>
              <a:rPr b="0" lang="ja-JP" sz="44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を</a:t>
            </a:r>
            <a:r>
              <a:rPr b="0" lang="ja-JP" sz="44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あげました</a:t>
            </a: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57080" y="4970520"/>
            <a:ext cx="8909280" cy="2386080"/>
            <a:chOff x="757080" y="4970520"/>
            <a:chExt cx="8909280" cy="2386080"/>
          </a:xfrm>
        </p:grpSpPr>
        <p:sp>
          <p:nvSpPr>
            <p:cNvPr id="279" name=""/>
            <p:cNvSpPr/>
            <p:nvPr/>
          </p:nvSpPr>
          <p:spPr>
            <a:xfrm>
              <a:off x="759960" y="4970520"/>
              <a:ext cx="8902800" cy="23860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57080" y="4970520"/>
              <a:ext cx="8909280" cy="23860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dur="indefinite" fill="hold">
                      <p:stCondLst>
                        <p:cond delay="indefinite"/>
                      </p:stCondLst>
                      <p:childTnLst>
                        <p:par>
                          <p:cTn id="3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dur="indefinite" fill="hold">
                      <p:stCondLst>
                        <p:cond delay="indefinite"/>
                      </p:stCondLst>
                      <p:childTnLst>
                        <p:par>
                          <p:cTn id="3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dur="indefinite" fill="hold">
                      <p:stCondLst>
                        <p:cond delay="indefinite"/>
                      </p:stCondLst>
                      <p:childTnLst>
                        <p:par>
                          <p:cTn id="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007400" y="1119240"/>
            <a:ext cx="2447640" cy="70390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69960" y="1562040"/>
            <a:ext cx="2924280" cy="6524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 flipV="1">
            <a:off x="4044960" y="3909600"/>
            <a:ext cx="2335320" cy="334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35080" y="5135400"/>
            <a:ext cx="9369360" cy="2260800"/>
            <a:chOff x="235080" y="5135400"/>
            <a:chExt cx="9369360" cy="2260800"/>
          </a:xfrm>
        </p:grpSpPr>
        <p:sp>
          <p:nvSpPr>
            <p:cNvPr id="285" name=""/>
            <p:cNvSpPr/>
            <p:nvPr/>
          </p:nvSpPr>
          <p:spPr>
            <a:xfrm>
              <a:off x="235080" y="5135400"/>
              <a:ext cx="9369360" cy="2260800"/>
            </a:xfrm>
            <a:prstGeom prst="roundRect">
              <a:avLst>
                <a:gd name="adj" fmla="val 2019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33080"/>
                  <a:tab algn="l" pos="9882360"/>
                  <a:tab algn="l" pos="10331280"/>
                  <a:tab algn="l" pos="10780560"/>
                  <a:tab algn="l" pos="1078236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	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3"/>
            <a:stretch/>
          </p:blipFill>
          <p:spPr>
            <a:xfrm>
              <a:off x="622440" y="5383080"/>
              <a:ext cx="1361880" cy="170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"/>
          <p:cNvSpPr/>
          <p:nvPr/>
        </p:nvSpPr>
        <p:spPr>
          <a:xfrm>
            <a:off x="2114640" y="5362560"/>
            <a:ext cx="7721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なつみさん</a:t>
            </a:r>
            <a:r>
              <a:rPr b="0" lang="ja-JP" sz="44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わたし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みかちゃん"/>
                <a:ea typeface="みかちゃん"/>
              </a:rPr>
              <a:t>に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(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みかちゃん"/>
                <a:ea typeface="みかちゃん"/>
              </a:rPr>
              <a:t>から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	</a:t>
            </a: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プレゼント</a:t>
            </a:r>
            <a:r>
              <a:rPr b="0" lang="ja-JP" sz="44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を</a:t>
            </a:r>
            <a:r>
              <a:rPr b="0" lang="ja-JP" sz="44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もらいました</a:t>
            </a: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57080" y="4970520"/>
            <a:ext cx="8909280" cy="2386080"/>
            <a:chOff x="757080" y="4970520"/>
            <a:chExt cx="8909280" cy="2386080"/>
          </a:xfrm>
        </p:grpSpPr>
        <p:sp>
          <p:nvSpPr>
            <p:cNvPr id="289" name=""/>
            <p:cNvSpPr/>
            <p:nvPr/>
          </p:nvSpPr>
          <p:spPr>
            <a:xfrm>
              <a:off x="759960" y="4970520"/>
              <a:ext cx="8902800" cy="23860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57080" y="4970520"/>
              <a:ext cx="8909280" cy="23860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dur="indefinite" fill="hold">
                      <p:stCondLst>
                        <p:cond delay="indefinite"/>
                      </p:stCondLst>
                      <p:childTnLst>
                        <p:par>
                          <p:cTn id="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dur="indefinite" fill="hold">
                      <p:stCondLst>
                        <p:cond delay="indefinite"/>
                      </p:stCondLst>
                      <p:childTnLst>
                        <p:par>
                          <p:cTn id="4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dur="indefinite" fill="hold">
                      <p:stCondLst>
                        <p:cond delay="indefinite"/>
                      </p:stCondLst>
                      <p:childTnLst>
                        <p:par>
                          <p:cTn id="4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935520" y="139680"/>
            <a:ext cx="5933880" cy="37908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7191360" y="3728880"/>
            <a:ext cx="1000080" cy="29908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854760" y="3321000"/>
            <a:ext cx="1670040" cy="35751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4368960" y="2455920"/>
            <a:ext cx="2733480" cy="67244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5478480" y="1397160"/>
            <a:ext cx="1219320" cy="139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dur="indefinite" fill="hold">
                      <p:stCondLst>
                        <p:cond delay="indefinite"/>
                      </p:stCondLst>
                      <p:childTnLst>
                        <p:par>
                          <p:cTn id="4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dur="indefinite" fill="hold">
                      <p:stCondLst>
                        <p:cond delay="indefinite"/>
                      </p:stCondLst>
                      <p:childTnLst>
                        <p:par>
                          <p:cTn id="4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935520" y="139680"/>
            <a:ext cx="5933880" cy="3790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17360" y="262080"/>
            <a:ext cx="3300480" cy="1212840"/>
          </a:xfrm>
          <a:prstGeom prst="roundRect">
            <a:avLst>
              <a:gd name="adj" fmla="val 1478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れ、どうぞ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8" name=""/>
          <p:cNvSpPr/>
          <p:nvPr/>
        </p:nvSpPr>
        <p:spPr>
          <a:xfrm>
            <a:off x="6615000" y="1565280"/>
            <a:ext cx="3157560" cy="1670040"/>
          </a:xfrm>
          <a:prstGeom prst="roundRect">
            <a:avLst>
              <a:gd name="adj" fmla="val 1074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ありがと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ござい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820800" y="2266920"/>
            <a:ext cx="2811240" cy="6521400"/>
            <a:chOff x="820800" y="2266920"/>
            <a:chExt cx="2811240" cy="652140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820800" y="2266920"/>
              <a:ext cx="2701800" cy="65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3"/>
            <a:stretch/>
          </p:blipFill>
          <p:spPr>
            <a:xfrm>
              <a:off x="2635200" y="3730680"/>
              <a:ext cx="996840" cy="298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4637160" y="2455920"/>
            <a:ext cx="2733480" cy="67244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5499000" y="1395360"/>
            <a:ext cx="1219320" cy="13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dur="indefinite" fill="hold">
                      <p:stCondLst>
                        <p:cond delay="indefinite"/>
                      </p:stCondLst>
                      <p:childTnLst>
                        <p:par>
                          <p:cTn id="4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dur="indefinite" fill="hold">
                      <p:stCondLst>
                        <p:cond delay="indefinite"/>
                      </p:stCondLst>
                      <p:childTnLst>
                        <p:par>
                          <p:cTn id="4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dur="indefinite" fill="hold">
                      <p:stCondLst>
                        <p:cond delay="indefinite"/>
                      </p:stCondLst>
                      <p:childTnLst>
                        <p:par>
                          <p:cTn id="4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138320" y="1676520"/>
            <a:ext cx="2152440" cy="72482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3935520" y="139680"/>
            <a:ext cx="5933880" cy="379080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5251320" y="871560"/>
            <a:ext cx="4332240" cy="5826240"/>
            <a:chOff x="5251320" y="871560"/>
            <a:chExt cx="4332240" cy="5826240"/>
          </a:xfrm>
        </p:grpSpPr>
        <p:pic>
          <p:nvPicPr>
            <p:cNvPr id="307" name="" descr=""/>
            <p:cNvPicPr/>
            <p:nvPr/>
          </p:nvPicPr>
          <p:blipFill>
            <a:blip r:embed="rId3"/>
            <a:stretch/>
          </p:blipFill>
          <p:spPr>
            <a:xfrm>
              <a:off x="5251320" y="1638360"/>
              <a:ext cx="2635560" cy="50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4"/>
            <a:stretch/>
          </p:blipFill>
          <p:spPr>
            <a:xfrm>
              <a:off x="5719680" y="871560"/>
              <a:ext cx="3863880" cy="24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"/>
          <p:cNvSpPr/>
          <p:nvPr/>
        </p:nvSpPr>
        <p:spPr>
          <a:xfrm>
            <a:off x="5284800" y="3809880"/>
            <a:ext cx="4795920" cy="5300640"/>
          </a:xfrm>
          <a:custGeom>
            <a:avLst/>
            <a:gdLst>
              <a:gd name="textAreaLeft" fmla="*/ 360 w 4795920"/>
              <a:gd name="textAreaRight" fmla="*/ 4795560 w 4795920"/>
              <a:gd name="textAreaTop" fmla="*/ 360 h 5300640"/>
              <a:gd name="textAreaBottom" fmla="*/ 5300280 h 5300640"/>
            </a:gdLst>
            <a:ahLst/>
            <a:rect l="textAreaLeft" t="textAreaTop" r="textAreaRight" b="textAreaBottom"/>
            <a:pathLst>
              <a:path w="21600" h="23873">
                <a:moveTo>
                  <a:pt x="7" y="0"/>
                </a:moveTo>
                <a:arcTo wR="7" hR="7" stAng="16200000" swAng="-5400000"/>
                <a:lnTo>
                  <a:pt x="0" y="23866"/>
                </a:lnTo>
                <a:arcTo wR="7" hR="7" stAng="10800000" swAng="-5400000"/>
                <a:lnTo>
                  <a:pt x="21593" y="23873"/>
                </a:lnTo>
                <a:arcTo wR="7" hR="7" stAng="5400000" swAng="-5400000"/>
                <a:lnTo>
                  <a:pt x="21600" y="7"/>
                </a:lnTo>
                <a:arcTo wR="7" hR="7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0" name=""/>
          <p:cNvSpPr/>
          <p:nvPr/>
        </p:nvSpPr>
        <p:spPr>
          <a:xfrm>
            <a:off x="5219640" y="3809880"/>
            <a:ext cx="4645080" cy="130320"/>
          </a:xfrm>
          <a:prstGeom prst="roundRect">
            <a:avLst>
              <a:gd name="adj" fmla="val 1218"/>
            </a:avLst>
          </a:prstGeom>
          <a:solidFill>
            <a:srgbClr val="4c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704880" y="5010120"/>
            <a:ext cx="7381800" cy="2189160"/>
            <a:chOff x="704880" y="5010120"/>
            <a:chExt cx="7381800" cy="2189160"/>
          </a:xfrm>
        </p:grpSpPr>
        <p:sp>
          <p:nvSpPr>
            <p:cNvPr id="312" name=""/>
            <p:cNvSpPr/>
            <p:nvPr/>
          </p:nvSpPr>
          <p:spPr>
            <a:xfrm>
              <a:off x="704880" y="5010120"/>
              <a:ext cx="7381800" cy="2189160"/>
            </a:xfrm>
            <a:prstGeom prst="roundRect">
              <a:avLst>
                <a:gd name="adj" fmla="val 2086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33080"/>
                  <a:tab algn="l" pos="9882360"/>
                  <a:tab algn="l" pos="10331280"/>
                  <a:tab algn="l" pos="10780560"/>
                  <a:tab algn="l" pos="1078236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	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313" name="" descr=""/>
            <p:cNvPicPr/>
            <p:nvPr/>
          </p:nvPicPr>
          <p:blipFill>
            <a:blip r:embed="rId5"/>
            <a:stretch/>
          </p:blipFill>
          <p:spPr>
            <a:xfrm>
              <a:off x="766800" y="5595840"/>
              <a:ext cx="1184400" cy="148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4" name=""/>
          <p:cNvGrpSpPr/>
          <p:nvPr/>
        </p:nvGrpSpPr>
        <p:grpSpPr>
          <a:xfrm>
            <a:off x="2152800" y="5310360"/>
            <a:ext cx="5568840" cy="1519200"/>
            <a:chOff x="2152800" y="5310360"/>
            <a:chExt cx="5568840" cy="1519200"/>
          </a:xfrm>
        </p:grpSpPr>
        <p:sp>
          <p:nvSpPr>
            <p:cNvPr id="315" name=""/>
            <p:cNvSpPr/>
            <p:nvPr/>
          </p:nvSpPr>
          <p:spPr>
            <a:xfrm>
              <a:off x="2152800" y="5310360"/>
              <a:ext cx="5568840" cy="15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わたし</a:t>
              </a:r>
              <a:r>
                <a:rPr b="0" lang="ja-JP" sz="4000" spc="-1" strike="noStrike">
                  <a:solidFill>
                    <a:srgbClr val="800000"/>
                  </a:solidFill>
                  <a:latin typeface="みかちゃん"/>
                  <a:ea typeface="みかちゃん"/>
                </a:rPr>
                <a:t>は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ロランさん</a:t>
              </a:r>
              <a:r>
                <a:rPr b="0" lang="ja-JP" sz="4000" spc="-1" strike="noStrike">
                  <a:solidFill>
                    <a:srgbClr val="800000"/>
                  </a:solidFill>
                  <a:latin typeface="みかちゃん"/>
                  <a:ea typeface="みかちゃん"/>
                </a:rPr>
                <a:t>に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かさ</a:t>
              </a:r>
              <a:r>
                <a:rPr b="0" lang="ja-JP" sz="4000" spc="-1" strike="noStrike">
                  <a:solidFill>
                    <a:srgbClr val="800000"/>
                  </a:solidFill>
                  <a:latin typeface="みかちゃん"/>
                  <a:ea typeface="みかちゃん"/>
                </a:rPr>
                <a:t>を</a:t>
              </a:r>
              <a:r>
                <a:rPr b="0" lang="ja-JP" sz="4000" spc="-1" strike="noStrike" u="sng">
                  <a:solidFill>
                    <a:srgbClr val="ff0000"/>
                  </a:solidFill>
                  <a:uFillTx/>
                  <a:latin typeface="みかちゃん"/>
                  <a:ea typeface="みかちゃん"/>
                </a:rPr>
                <a:t>かしました</a:t>
              </a:r>
              <a:r>
                <a:rPr b="0" lang="ja-JP" sz="4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02040" y="5989680"/>
              <a:ext cx="3034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" bIns="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Bitstream Vera Serif"/>
                </a:rPr>
                <a:t>か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30320" y="117360"/>
            <a:ext cx="9950400" cy="1069920"/>
          </a:xfrm>
          <a:prstGeom prst="roundRect">
            <a:avLst>
              <a:gd name="adj" fmla="val 148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きょうこさん</a:t>
            </a:r>
            <a:r>
              <a:rPr b="0" lang="ja-JP" sz="3200" spc="-1" strike="noStrike">
                <a:solidFill>
                  <a:srgbClr val="800000"/>
                </a:solidFill>
                <a:latin typeface="Kochi Mincho"/>
                <a:ea typeface="Kochi Mincho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ロランさん</a:t>
            </a:r>
            <a:r>
              <a:rPr b="0" lang="ja-JP" sz="3200" spc="-1" strike="noStrike">
                <a:solidFill>
                  <a:srgbClr val="800000"/>
                </a:solidFill>
                <a:latin typeface="Kochi Mincho"/>
                <a:ea typeface="Kochi Mincho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かさ</a:t>
            </a:r>
            <a:r>
              <a:rPr b="0" lang="ja-JP" sz="3200" spc="-1" strike="noStrike">
                <a:solidFill>
                  <a:srgbClr val="800000"/>
                </a:solidFill>
                <a:latin typeface="Kochi Mincho"/>
                <a:ea typeface="Kochi Mincho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かしました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dur="indefinite" fill="hold">
                      <p:stCondLst>
                        <p:cond delay="indefinite"/>
                      </p:stCondLst>
                      <p:childTnLst>
                        <p:par>
                          <p:cTn id="4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dur="indefinite" fill="hold">
                      <p:stCondLst>
                        <p:cond delay="indefinite"/>
                      </p:stCondLst>
                      <p:childTnLst>
                        <p:par>
                          <p:cTn id="4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dur="indefinite" fill="hold">
                      <p:stCondLst>
                        <p:cond delay="indefinite"/>
                      </p:stCondLst>
                      <p:childTnLst>
                        <p:par>
                          <p:cTn id="4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686040" y="165240"/>
            <a:ext cx="5934240" cy="37908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6770520" y="1158840"/>
            <a:ext cx="1905120" cy="666756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-828720" y="1182600"/>
            <a:ext cx="5668920" cy="7718400"/>
            <a:chOff x="-828720" y="1182600"/>
            <a:chExt cx="5668920" cy="7718400"/>
          </a:xfrm>
        </p:grpSpPr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1393920" y="2197080"/>
              <a:ext cx="3446280" cy="67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4"/>
            <a:stretch/>
          </p:blipFill>
          <p:spPr>
            <a:xfrm>
              <a:off x="-828720" y="1182600"/>
              <a:ext cx="5054760" cy="328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5284800" y="3887640"/>
            <a:ext cx="4795920" cy="4705560"/>
          </a:xfrm>
          <a:prstGeom prst="roundRect">
            <a:avLst>
              <a:gd name="adj" fmla="val 3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4" name=""/>
          <p:cNvSpPr/>
          <p:nvPr/>
        </p:nvSpPr>
        <p:spPr>
          <a:xfrm>
            <a:off x="5219640" y="3809880"/>
            <a:ext cx="4370400" cy="142920"/>
          </a:xfrm>
          <a:prstGeom prst="roundRect">
            <a:avLst>
              <a:gd name="adj" fmla="val 1111"/>
            </a:avLst>
          </a:prstGeom>
          <a:solidFill>
            <a:srgbClr val="4c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61960" y="4879800"/>
            <a:ext cx="7381800" cy="2189160"/>
            <a:chOff x="561960" y="4879800"/>
            <a:chExt cx="7381800" cy="2189160"/>
          </a:xfrm>
        </p:grpSpPr>
        <p:sp>
          <p:nvSpPr>
            <p:cNvPr id="326" name=""/>
            <p:cNvSpPr/>
            <p:nvPr/>
          </p:nvSpPr>
          <p:spPr>
            <a:xfrm>
              <a:off x="561960" y="4879800"/>
              <a:ext cx="7381800" cy="2189160"/>
            </a:xfrm>
            <a:prstGeom prst="roundRect">
              <a:avLst>
                <a:gd name="adj" fmla="val 2086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33080"/>
                  <a:tab algn="l" pos="9882360"/>
                  <a:tab algn="l" pos="10331280"/>
                  <a:tab algn="l" pos="10780560"/>
                  <a:tab algn="l" pos="1078236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	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5"/>
            <a:stretch/>
          </p:blipFill>
          <p:spPr>
            <a:xfrm>
              <a:off x="830160" y="5489640"/>
              <a:ext cx="1206720" cy="135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"/>
          <p:cNvSpPr/>
          <p:nvPr/>
        </p:nvSpPr>
        <p:spPr>
          <a:xfrm>
            <a:off x="130320" y="117360"/>
            <a:ext cx="9950400" cy="1069920"/>
          </a:xfrm>
          <a:prstGeom prst="roundRect">
            <a:avLst>
              <a:gd name="adj" fmla="val 148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ロランさん</a:t>
            </a:r>
            <a:r>
              <a:rPr b="0" lang="ja-JP" sz="3200" spc="-1" strike="noStrike">
                <a:solidFill>
                  <a:srgbClr val="800000"/>
                </a:solidFill>
                <a:latin typeface="Kochi Mincho"/>
                <a:ea typeface="Kochi Mincho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きょうこさん</a:t>
            </a:r>
            <a:r>
              <a:rPr b="0" lang="ja-JP" sz="3200" spc="-1" strike="noStrike">
                <a:solidFill>
                  <a:srgbClr val="800000"/>
                </a:solidFill>
                <a:latin typeface="Kochi Mincho"/>
                <a:ea typeface="Kochi Mincho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かさ</a:t>
            </a:r>
            <a:r>
              <a:rPr b="0" lang="ja-JP" sz="3200" spc="-1" strike="noStrike">
                <a:solidFill>
                  <a:srgbClr val="800000"/>
                </a:solidFill>
                <a:latin typeface="Kochi Mincho"/>
                <a:ea typeface="Kochi Mincho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かりました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6743880" y="5040360"/>
            <a:ext cx="1000080" cy="1549440"/>
          </a:xfrm>
          <a:prstGeom prst="line">
            <a:avLst/>
          </a:prstGeom>
          <a:ln w="72000">
            <a:solidFill>
              <a:srgbClr val="00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232320" y="2832120"/>
            <a:ext cx="880920" cy="1577880"/>
          </a:xfrm>
          <a:prstGeom prst="line">
            <a:avLst/>
          </a:prstGeom>
          <a:ln w="72000">
            <a:solidFill>
              <a:srgbClr val="00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336760" y="2519280"/>
            <a:ext cx="881280" cy="1577880"/>
          </a:xfrm>
          <a:prstGeom prst="line">
            <a:avLst/>
          </a:prstGeom>
          <a:ln w="72000">
            <a:solidFill>
              <a:srgbClr val="00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316040" y="3780000"/>
            <a:ext cx="880920" cy="1577880"/>
          </a:xfrm>
          <a:prstGeom prst="line">
            <a:avLst/>
          </a:prstGeom>
          <a:ln w="72000">
            <a:solidFill>
              <a:srgbClr val="00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962160" y="1301760"/>
            <a:ext cx="880920" cy="1577880"/>
          </a:xfrm>
          <a:prstGeom prst="line">
            <a:avLst/>
          </a:prstGeom>
          <a:ln w="72000">
            <a:solidFill>
              <a:srgbClr val="00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856040" y="4900680"/>
            <a:ext cx="881280" cy="1577880"/>
          </a:xfrm>
          <a:prstGeom prst="line">
            <a:avLst/>
          </a:prstGeom>
          <a:ln w="72000">
            <a:solidFill>
              <a:srgbClr val="00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735680" y="1662120"/>
            <a:ext cx="880920" cy="1577880"/>
          </a:xfrm>
          <a:prstGeom prst="line">
            <a:avLst/>
          </a:prstGeom>
          <a:ln w="72000">
            <a:solidFill>
              <a:srgbClr val="00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9021600" y="2700360"/>
            <a:ext cx="881280" cy="1577880"/>
          </a:xfrm>
          <a:prstGeom prst="line">
            <a:avLst/>
          </a:prstGeom>
          <a:ln w="72000">
            <a:solidFill>
              <a:srgbClr val="00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062320" y="1440000"/>
            <a:ext cx="880920" cy="1577880"/>
          </a:xfrm>
          <a:prstGeom prst="line">
            <a:avLst/>
          </a:prstGeom>
          <a:ln w="72000">
            <a:solidFill>
              <a:srgbClr val="00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8481960" y="5040360"/>
            <a:ext cx="881280" cy="1577880"/>
          </a:xfrm>
          <a:prstGeom prst="line">
            <a:avLst/>
          </a:prstGeom>
          <a:ln w="72000">
            <a:solidFill>
              <a:srgbClr val="00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143160" y="5649840"/>
            <a:ext cx="1000080" cy="1549440"/>
          </a:xfrm>
          <a:prstGeom prst="line">
            <a:avLst/>
          </a:prstGeom>
          <a:ln w="72000">
            <a:solidFill>
              <a:srgbClr val="00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309760" y="5337000"/>
            <a:ext cx="5568840" cy="1519560"/>
            <a:chOff x="2309760" y="5337000"/>
            <a:chExt cx="5568840" cy="1519560"/>
          </a:xfrm>
        </p:grpSpPr>
        <p:sp>
          <p:nvSpPr>
            <p:cNvPr id="341" name=""/>
            <p:cNvSpPr/>
            <p:nvPr/>
          </p:nvSpPr>
          <p:spPr>
            <a:xfrm>
              <a:off x="2309760" y="5337000"/>
              <a:ext cx="556884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わたし</a:t>
              </a:r>
              <a:r>
                <a:rPr b="0" lang="ja-JP" sz="4000" spc="-1" strike="noStrike">
                  <a:solidFill>
                    <a:srgbClr val="800000"/>
                  </a:solidFill>
                  <a:latin typeface="みかちゃん"/>
                  <a:ea typeface="みかちゃん"/>
                </a:rPr>
                <a:t>は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きょうこさん</a:t>
              </a:r>
              <a:r>
                <a:rPr b="0" lang="ja-JP" sz="4000" spc="-1" strike="noStrike">
                  <a:solidFill>
                    <a:srgbClr val="800000"/>
                  </a:solidFill>
                  <a:latin typeface="みかちゃん"/>
                  <a:ea typeface="みかちゃん"/>
                </a:rPr>
                <a:t>に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かさ</a:t>
              </a:r>
              <a:r>
                <a:rPr b="0" lang="ja-JP" sz="4000" spc="-1" strike="noStrike">
                  <a:solidFill>
                    <a:srgbClr val="800000"/>
                  </a:solidFill>
                  <a:latin typeface="みかちゃん"/>
                  <a:ea typeface="みかちゃん"/>
                </a:rPr>
                <a:t>を</a:t>
              </a:r>
              <a:r>
                <a:rPr b="0" lang="ja-JP" sz="4000" spc="-1" strike="noStrike" u="sng">
                  <a:solidFill>
                    <a:srgbClr val="ff0000"/>
                  </a:solidFill>
                  <a:uFillTx/>
                  <a:latin typeface="みかちゃん"/>
                  <a:ea typeface="みかちゃん"/>
                </a:rPr>
                <a:t>かりました</a:t>
              </a:r>
              <a:r>
                <a:rPr b="0" lang="ja-JP" sz="4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70520" y="6040440"/>
              <a:ext cx="3031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" bIns="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Bitstream Vera Serif"/>
                </a:rPr>
                <a:t>か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dur="indefinite" fill="hold">
                      <p:stCondLst>
                        <p:cond delay="indefinite"/>
                      </p:stCondLst>
                      <p:childTnLst>
                        <p:par>
                          <p:cTn id="4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dur="indefinite" fill="hold">
                      <p:stCondLst>
                        <p:cond delay="indefinite"/>
                      </p:stCondLst>
                      <p:childTnLst>
                        <p:par>
                          <p:cTn id="4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dur="indefinite" fill="hold">
                      <p:stCondLst>
                        <p:cond delay="indefinite"/>
                      </p:stCondLst>
                      <p:childTnLst>
                        <p:par>
                          <p:cTn id="4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549600" y="5454720"/>
            <a:ext cx="2517840" cy="14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4" name=""/>
          <p:cNvSpPr/>
          <p:nvPr/>
        </p:nvSpPr>
        <p:spPr>
          <a:xfrm>
            <a:off x="2322360" y="1422360"/>
            <a:ext cx="2962440" cy="1474920"/>
          </a:xfrm>
          <a:prstGeom prst="roundRect">
            <a:avLst>
              <a:gd name="adj" fmla="val 12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ありがとう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ございました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5" name=""/>
          <p:cNvSpPr/>
          <p:nvPr/>
        </p:nvSpPr>
        <p:spPr>
          <a:xfrm>
            <a:off x="3092400" y="3052800"/>
            <a:ext cx="3549600" cy="1474920"/>
          </a:xfrm>
          <a:prstGeom prst="roundRect">
            <a:avLst>
              <a:gd name="adj" fmla="val 1217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いえ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どういたしまして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624120" y="4879800"/>
            <a:ext cx="2354400" cy="1800"/>
          </a:xfrm>
          <a:prstGeom prst="line">
            <a:avLst/>
          </a:prstGeom>
          <a:ln w="72000">
            <a:solidFill>
              <a:srgbClr val="ff0000">
                <a:alpha val="25000"/>
              </a:srgbClr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7" name=""/>
          <p:cNvSpPr/>
          <p:nvPr/>
        </p:nvSpPr>
        <p:spPr>
          <a:xfrm>
            <a:off x="130320" y="117360"/>
            <a:ext cx="9950400" cy="1069920"/>
          </a:xfrm>
          <a:prstGeom prst="roundRect">
            <a:avLst>
              <a:gd name="adj" fmla="val 148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ロランさん</a:t>
            </a:r>
            <a:r>
              <a:rPr b="0" lang="ja-JP" sz="3200" spc="-1" strike="noStrike">
                <a:solidFill>
                  <a:srgbClr val="800000"/>
                </a:solidFill>
                <a:latin typeface="Kochi Mincho"/>
                <a:ea typeface="Kochi Mincho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きょうこさん</a:t>
            </a:r>
            <a:r>
              <a:rPr b="0" lang="ja-JP" sz="3200" spc="-1" strike="noStrike">
                <a:solidFill>
                  <a:srgbClr val="800000"/>
                </a:solidFill>
                <a:latin typeface="Kochi Mincho"/>
                <a:ea typeface="Kochi Mincho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かさ</a:t>
            </a:r>
            <a:r>
              <a:rPr b="0" lang="ja-JP" sz="3200" spc="-1" strike="noStrike">
                <a:solidFill>
                  <a:srgbClr val="800000"/>
                </a:solidFill>
                <a:latin typeface="Kochi Mincho"/>
                <a:ea typeface="Kochi Mincho"/>
              </a:rPr>
              <a:t>を</a:t>
            </a:r>
            <a:r>
              <a:rPr b="0" lang="ja-JP" sz="3200" spc="-1" strike="noStrike">
                <a:solidFill>
                  <a:srgbClr val="ff0000"/>
                </a:solidFill>
                <a:latin typeface="Kochi Mincho"/>
                <a:ea typeface="Kochi Mincho"/>
              </a:rPr>
              <a:t>かえしました</a:t>
            </a:r>
            <a:r>
              <a:rPr b="0" lang="ja-JP" sz="3200" spc="-1" strike="noStrike">
                <a:solidFill>
                  <a:srgbClr val="000000"/>
                </a:solidFill>
                <a:latin typeface="Kochi Mincho"/>
                <a:ea typeface="Kochi Mincho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12920" y="1603440"/>
            <a:ext cx="2401560" cy="75596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 rot="20880000">
            <a:off x="2189160" y="3701880"/>
            <a:ext cx="1000080" cy="29908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6999120" y="2406600"/>
            <a:ext cx="2152800" cy="653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dur="indefinite" fill="hold">
                      <p:stCondLst>
                        <p:cond delay="indefinite"/>
                      </p:stCondLst>
                      <p:childTnLst>
                        <p:par>
                          <p:cTn id="4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130320" y="117360"/>
            <a:ext cx="9947160" cy="1067040"/>
            <a:chOff x="130320" y="117360"/>
            <a:chExt cx="9947160" cy="1067040"/>
          </a:xfrm>
        </p:grpSpPr>
        <p:sp>
          <p:nvSpPr>
            <p:cNvPr id="352" name=""/>
            <p:cNvSpPr/>
            <p:nvPr/>
          </p:nvSpPr>
          <p:spPr>
            <a:xfrm>
              <a:off x="130320" y="117360"/>
              <a:ext cx="9947160" cy="1067040"/>
            </a:xfrm>
            <a:prstGeom prst="roundRect">
              <a:avLst>
                <a:gd name="adj" fmla="val 14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912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Kochi Mincho"/>
                  <a:ea typeface="Kochi Mincho"/>
                </a:rPr>
                <a:t>せんせい</a:t>
              </a:r>
              <a:r>
                <a:rPr b="0" lang="ja-JP" sz="3200" spc="-1" strike="noStrike">
                  <a:solidFill>
                    <a:srgbClr val="800000"/>
                  </a:solidFill>
                  <a:latin typeface="Kochi Mincho"/>
                  <a:ea typeface="Kochi Mincho"/>
                </a:rPr>
                <a:t>は</a:t>
              </a:r>
              <a:r>
                <a:rPr b="0" lang="ja-JP" sz="3200" spc="-1" strike="noStrike">
                  <a:solidFill>
                    <a:srgbClr val="000000"/>
                  </a:solidFill>
                  <a:latin typeface="Kochi Mincho"/>
                  <a:ea typeface="Kochi Mincho"/>
                </a:rPr>
                <a:t>がくせい</a:t>
              </a:r>
              <a:r>
                <a:rPr b="0" lang="ja-JP" sz="3200" spc="-1" strike="noStrike">
                  <a:solidFill>
                    <a:srgbClr val="800000"/>
                  </a:solidFill>
                  <a:latin typeface="Kochi Mincho"/>
                  <a:ea typeface="Kochi Mincho"/>
                </a:rPr>
                <a:t>に</a:t>
              </a:r>
              <a:r>
                <a:rPr b="0" lang="ja-JP" sz="3200" spc="-1" strike="noStrike">
                  <a:solidFill>
                    <a:srgbClr val="000000"/>
                  </a:solidFill>
                  <a:latin typeface="Kochi Mincho"/>
                  <a:ea typeface="Kochi Mincho"/>
                </a:rPr>
                <a:t>にほんご</a:t>
              </a:r>
              <a:r>
                <a:rPr b="0" lang="ja-JP" sz="3200" spc="-1" strike="noStrike">
                  <a:solidFill>
                    <a:srgbClr val="800000"/>
                  </a:solidFill>
                  <a:latin typeface="Kochi Mincho"/>
                  <a:ea typeface="Kochi Mincho"/>
                </a:rPr>
                <a:t>を</a:t>
              </a:r>
              <a:r>
                <a:rPr b="0" lang="ja-JP" sz="3200" spc="-1" strike="noStrike">
                  <a:solidFill>
                    <a:srgbClr val="ff0000"/>
                  </a:solidFill>
                  <a:latin typeface="Kochi Mincho"/>
                  <a:ea typeface="Kochi Mincho"/>
                </a:rPr>
                <a:t>おしえます</a:t>
              </a:r>
              <a:r>
                <a:rPr b="0" lang="ja-JP" sz="3200" spc="-1" strike="noStrike">
                  <a:solidFill>
                    <a:srgbClr val="000000"/>
                  </a:solidFill>
                  <a:latin typeface="Kochi Mincho"/>
                  <a:ea typeface="Kochi Mincho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dur="indefinite" fill="hold">
                      <p:stCondLst>
                        <p:cond delay="indefinite"/>
                      </p:stCondLst>
                      <p:childTnLst>
                        <p:par>
                          <p:cTn id="4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130320" y="117360"/>
            <a:ext cx="9947160" cy="1067040"/>
            <a:chOff x="130320" y="117360"/>
            <a:chExt cx="9947160" cy="1067040"/>
          </a:xfrm>
        </p:grpSpPr>
        <p:sp>
          <p:nvSpPr>
            <p:cNvPr id="354" name=""/>
            <p:cNvSpPr/>
            <p:nvPr/>
          </p:nvSpPr>
          <p:spPr>
            <a:xfrm>
              <a:off x="130320" y="117360"/>
              <a:ext cx="9947160" cy="1067040"/>
            </a:xfrm>
            <a:prstGeom prst="roundRect">
              <a:avLst>
                <a:gd name="adj" fmla="val 14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912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Kochi Mincho"/>
                  <a:ea typeface="Kochi Mincho"/>
                </a:rPr>
                <a:t>がくせい</a:t>
              </a:r>
              <a:r>
                <a:rPr b="0" lang="ja-JP" sz="3200" spc="-1" strike="noStrike">
                  <a:solidFill>
                    <a:srgbClr val="800000"/>
                  </a:solidFill>
                  <a:latin typeface="Kochi Mincho"/>
                  <a:ea typeface="Kochi Mincho"/>
                </a:rPr>
                <a:t>は</a:t>
              </a:r>
              <a:r>
                <a:rPr b="0" lang="ja-JP" sz="3200" spc="-1" strike="noStrike">
                  <a:solidFill>
                    <a:srgbClr val="000000"/>
                  </a:solidFill>
                  <a:latin typeface="Kochi Mincho"/>
                  <a:ea typeface="Kochi Mincho"/>
                </a:rPr>
                <a:t>せんせい</a:t>
              </a:r>
              <a:r>
                <a:rPr b="0" lang="ja-JP" sz="3200" spc="-1" strike="noStrike">
                  <a:solidFill>
                    <a:srgbClr val="800000"/>
                  </a:solidFill>
                  <a:latin typeface="Kochi Mincho"/>
                  <a:ea typeface="Kochi Mincho"/>
                </a:rPr>
                <a:t>に</a:t>
              </a:r>
              <a:r>
                <a:rPr b="0" lang="ja-JP" sz="3200" spc="-1" strike="noStrike">
                  <a:solidFill>
                    <a:srgbClr val="000000"/>
                  </a:solidFill>
                  <a:latin typeface="Kochi Mincho"/>
                  <a:ea typeface="Kochi Mincho"/>
                </a:rPr>
                <a:t>にほんご</a:t>
              </a:r>
              <a:r>
                <a:rPr b="0" lang="ja-JP" sz="3200" spc="-1" strike="noStrike">
                  <a:solidFill>
                    <a:srgbClr val="800000"/>
                  </a:solidFill>
                  <a:latin typeface="Kochi Mincho"/>
                  <a:ea typeface="Kochi Mincho"/>
                </a:rPr>
                <a:t>を</a:t>
              </a:r>
              <a:r>
                <a:rPr b="0" lang="ja-JP" sz="3200" spc="-1" strike="noStrike">
                  <a:solidFill>
                    <a:srgbClr val="ff0000"/>
                  </a:solidFill>
                  <a:latin typeface="Kochi Mincho"/>
                  <a:ea typeface="Kochi Mincho"/>
                </a:rPr>
                <a:t>ならいます</a:t>
              </a:r>
              <a:r>
                <a:rPr b="0" lang="ja-JP" sz="3200" spc="-1" strike="noStrike">
                  <a:solidFill>
                    <a:srgbClr val="000000"/>
                  </a:solidFill>
                  <a:latin typeface="Kochi Mincho"/>
                  <a:ea typeface="Kochi Mincho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dur="indefinite" fill="hold">
                      <p:stCondLst>
                        <p:cond delay="indefinite"/>
                      </p:stCondLst>
                      <p:childTnLst>
                        <p:par>
                          <p:cTn id="4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636560" y="1781280"/>
            <a:ext cx="12755520" cy="8989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84360" y="4292640"/>
            <a:ext cx="2727360" cy="13572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4" name=""/>
          <p:cNvSpPr/>
          <p:nvPr/>
        </p:nvSpPr>
        <p:spPr>
          <a:xfrm>
            <a:off x="600120" y="235080"/>
            <a:ext cx="8742240" cy="146052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はし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で</a:t>
            </a:r>
            <a:r>
              <a:rPr b="0" lang="en-US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 たべ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92280" y="782640"/>
            <a:ext cx="216540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Kochi Gothic"/>
                <a:ea typeface="Kochi Gothic"/>
              </a:rPr>
              <a:t>わたし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Kochi Gothic"/>
                <a:ea typeface="Kochi Gothic"/>
              </a:rPr>
              <a:t>ー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6" name=""/>
          <p:cNvSpPr/>
          <p:nvPr/>
        </p:nvSpPr>
        <p:spPr>
          <a:xfrm>
            <a:off x="6550200" y="822240"/>
            <a:ext cx="216504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Kochi Gothic"/>
                <a:ea typeface="Kochi Gothic"/>
              </a:rPr>
              <a:t>ー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7" name=""/>
          <p:cNvSpPr/>
          <p:nvPr/>
        </p:nvSpPr>
        <p:spPr>
          <a:xfrm>
            <a:off x="2583000" y="3079800"/>
            <a:ext cx="439740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2579760" y="5075280"/>
            <a:ext cx="440352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9" name=""/>
          <p:cNvSpPr/>
          <p:nvPr/>
        </p:nvSpPr>
        <p:spPr>
          <a:xfrm>
            <a:off x="3117960" y="1617840"/>
            <a:ext cx="3184560" cy="2217600"/>
          </a:xfrm>
          <a:prstGeom prst="roundRect">
            <a:avLst>
              <a:gd name="adj" fmla="val 6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あげます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かします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おしえます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でんわ</a:t>
            </a:r>
            <a:r>
              <a:rPr b="0" lang="ja-JP" sz="2400" spc="-1" strike="noStrike">
                <a:solidFill>
                  <a:srgbClr val="800000"/>
                </a:solidFill>
                <a:latin typeface="Kochi Gothic"/>
                <a:ea typeface="Kochi Gothic"/>
              </a:rPr>
              <a:t>を</a:t>
            </a:r>
            <a:r>
              <a:rPr b="0" lang="ja-JP" sz="24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かけます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てがみ</a:t>
            </a:r>
            <a:r>
              <a:rPr b="0" lang="ja-JP" sz="2400" spc="-1" strike="noStrike">
                <a:solidFill>
                  <a:srgbClr val="800000"/>
                </a:solidFill>
                <a:latin typeface="Kochi Gothic"/>
                <a:ea typeface="Kochi Gothic"/>
              </a:rPr>
              <a:t>を</a:t>
            </a:r>
            <a:r>
              <a:rPr b="0" lang="ja-JP" sz="24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かきます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Kochi Gothic"/>
                <a:ea typeface="Kochi Gothic"/>
              </a:rPr>
              <a:t>レポートをおくります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0" name=""/>
          <p:cNvSpPr/>
          <p:nvPr/>
        </p:nvSpPr>
        <p:spPr>
          <a:xfrm>
            <a:off x="3262320" y="4462560"/>
            <a:ext cx="3067200" cy="2217600"/>
          </a:xfrm>
          <a:prstGeom prst="roundRect">
            <a:avLst>
              <a:gd name="adj" fmla="val 69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Kochi Mincho"/>
                <a:ea typeface="Kochi Mincho"/>
              </a:rPr>
              <a:t>もらいます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かります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ならいます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でんわ</a:t>
            </a:r>
            <a:r>
              <a:rPr b="0" lang="ja-JP" sz="2400" spc="-1" strike="noStrike">
                <a:solidFill>
                  <a:srgbClr val="800000"/>
                </a:solidFill>
                <a:latin typeface="Kochi Mincho"/>
                <a:ea typeface="Kochi Mincho"/>
              </a:rPr>
              <a:t>を</a:t>
            </a:r>
            <a:r>
              <a:rPr b="0" lang="ja-JP" sz="2400" spc="-1" strike="noStrike">
                <a:solidFill>
                  <a:srgbClr val="000000"/>
                </a:solidFill>
                <a:latin typeface="Kochi Mincho"/>
                <a:ea typeface="Kochi Mincho"/>
              </a:rPr>
              <a:t>もらいます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てがみ</a:t>
            </a:r>
            <a:r>
              <a:rPr b="0" lang="ja-JP" sz="2400" spc="-1" strike="noStrike">
                <a:solidFill>
                  <a:srgbClr val="800000"/>
                </a:solidFill>
                <a:latin typeface="Kochi Mincho"/>
                <a:ea typeface="Kochi Mincho"/>
              </a:rPr>
              <a:t>を</a:t>
            </a:r>
            <a:r>
              <a:rPr b="0" lang="ja-JP" sz="2400" spc="-1" strike="noStrike">
                <a:solidFill>
                  <a:srgbClr val="000000"/>
                </a:solidFill>
                <a:latin typeface="Kochi Mincho"/>
                <a:ea typeface="Kochi Mincho"/>
              </a:rPr>
              <a:t>もらいます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Kochi Mincho"/>
                <a:ea typeface="Kochi Mincho"/>
              </a:rPr>
              <a:t>レポート</a:t>
            </a:r>
            <a:r>
              <a:rPr b="0" lang="ja-JP" sz="2400" spc="-1" strike="noStrike">
                <a:solidFill>
                  <a:srgbClr val="800000"/>
                </a:solidFill>
                <a:latin typeface="Kochi Mincho"/>
                <a:ea typeface="Kochi Mincho"/>
              </a:rPr>
              <a:t>を</a:t>
            </a:r>
            <a:r>
              <a:rPr b="0" lang="ja-JP" sz="2400" spc="-1" strike="noStrike">
                <a:solidFill>
                  <a:srgbClr val="000000"/>
                </a:solidFill>
                <a:latin typeface="Kochi Mincho"/>
                <a:ea typeface="Kochi Mincho"/>
              </a:rPr>
              <a:t>もらいます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1" name=""/>
          <p:cNvSpPr/>
          <p:nvPr/>
        </p:nvSpPr>
        <p:spPr>
          <a:xfrm>
            <a:off x="6392880" y="2387520"/>
            <a:ext cx="782640" cy="522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に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2" name=""/>
          <p:cNvSpPr/>
          <p:nvPr/>
        </p:nvSpPr>
        <p:spPr>
          <a:xfrm>
            <a:off x="6354720" y="4437000"/>
            <a:ext cx="782640" cy="522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に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3" name=""/>
          <p:cNvSpPr/>
          <p:nvPr/>
        </p:nvSpPr>
        <p:spPr>
          <a:xfrm>
            <a:off x="6354720" y="5192640"/>
            <a:ext cx="782640" cy="522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から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4" name=""/>
          <p:cNvSpPr/>
          <p:nvPr/>
        </p:nvSpPr>
        <p:spPr>
          <a:xfrm>
            <a:off x="2805120" y="1004760"/>
            <a:ext cx="782640" cy="730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201080" y="1976400"/>
            <a:ext cx="2401560" cy="75596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476280" y="2674800"/>
            <a:ext cx="2152800" cy="653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17600" y="2882880"/>
            <a:ext cx="8794800" cy="1440"/>
          </a:xfrm>
          <a:prstGeom prst="line">
            <a:avLst/>
          </a:prstGeom>
          <a:ln w="2520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8" name=""/>
          <p:cNvSpPr/>
          <p:nvPr/>
        </p:nvSpPr>
        <p:spPr>
          <a:xfrm>
            <a:off x="3560760" y="2298600"/>
            <a:ext cx="1227240" cy="1003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いま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9" name=""/>
          <p:cNvSpPr/>
          <p:nvPr/>
        </p:nvSpPr>
        <p:spPr>
          <a:xfrm>
            <a:off x="2400480" y="3679920"/>
            <a:ext cx="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82520" y="3027240"/>
            <a:ext cx="3767040" cy="2644200"/>
            <a:chOff x="182520" y="3027240"/>
            <a:chExt cx="3767040" cy="2644200"/>
          </a:xfrm>
        </p:grpSpPr>
        <p:sp>
          <p:nvSpPr>
            <p:cNvPr id="371" name=""/>
            <p:cNvSpPr/>
            <p:nvPr/>
          </p:nvSpPr>
          <p:spPr>
            <a:xfrm flipV="1">
              <a:off x="835200" y="3027240"/>
              <a:ext cx="0" cy="6552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182520" y="3642840"/>
              <a:ext cx="3767040" cy="2028600"/>
              <a:chOff x="182520" y="3642840"/>
              <a:chExt cx="3767040" cy="2028600"/>
            </a:xfrm>
          </p:grpSpPr>
          <p:sp>
            <p:nvSpPr>
              <p:cNvPr id="373" name=""/>
              <p:cNvSpPr/>
              <p:nvPr/>
            </p:nvSpPr>
            <p:spPr>
              <a:xfrm>
                <a:off x="182520" y="3655080"/>
                <a:ext cx="3767040" cy="2016360"/>
              </a:xfrm>
              <a:prstGeom prst="roundRect">
                <a:avLst>
                  <a:gd name="adj" fmla="val 74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86400" bIns="0" anchor="ctr" anchorCtr="1">
                <a:noAutofit/>
              </a:bodyPr>
              <a:p>
                <a:pPr algn="ctr">
                  <a:lnSpc>
                    <a:spcPct val="8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ja-JP" sz="4000" spc="-1" strike="noStrike" u="sng">
                    <a:solidFill>
                      <a:srgbClr val="ff0000"/>
                    </a:solidFill>
                    <a:uFillTx/>
                    <a:latin typeface="みかちゃん"/>
                    <a:ea typeface="みかちゃん"/>
                  </a:rPr>
                  <a:t>もう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みかちゃん"/>
                    <a:ea typeface="みかちゃん"/>
                  </a:rPr>
                  <a:t> 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みかちゃん"/>
                    <a:ea typeface="みかちゃん"/>
                  </a:rPr>
                  <a:t>6</a:t>
                </a:r>
                <a:r>
                  <a:rPr b="0" lang="ja-JP" sz="4000" spc="-1" strike="noStrike">
                    <a:solidFill>
                      <a:srgbClr val="000000"/>
                    </a:solidFill>
                    <a:latin typeface="みかちゃん"/>
                    <a:ea typeface="みかちゃん"/>
                  </a:rPr>
                  <a:t>か</a:t>
                </a:r>
                <a:r>
                  <a:rPr b="0" lang="ja-JP" sz="4000" spc="-1" strike="noStrike">
                    <a:solidFill>
                      <a:srgbClr val="800000"/>
                    </a:solidFill>
                    <a:latin typeface="みかちゃん"/>
                    <a:ea typeface="みかちゃん"/>
                  </a:rPr>
                  <a:t>を</a:t>
                </a:r>
                <a:endParaRPr b="0" lang="en-US" sz="4000" spc="-1" strike="noStrike">
                  <a:solidFill>
                    <a:srgbClr val="000000"/>
                  </a:solidFill>
                  <a:latin typeface="Bitstream Vera Serif"/>
                </a:endParaRPr>
              </a:p>
              <a:p>
                <a:pPr algn="ctr">
                  <a:lnSpc>
                    <a:spcPct val="8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ja-JP" sz="4000" spc="-1" strike="noStrike">
                    <a:solidFill>
                      <a:srgbClr val="000000"/>
                    </a:solidFill>
                    <a:latin typeface="みかちゃん"/>
                    <a:ea typeface="みかちゃん"/>
                  </a:rPr>
                  <a:t>ならいました。</a:t>
                </a:r>
                <a:endParaRPr b="0" lang="en-US" sz="40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62440" y="3642840"/>
                <a:ext cx="3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5481720" y="3002040"/>
            <a:ext cx="3767040" cy="2618640"/>
            <a:chOff x="5481720" y="3002040"/>
            <a:chExt cx="3767040" cy="2618640"/>
          </a:xfrm>
        </p:grpSpPr>
        <p:sp>
          <p:nvSpPr>
            <p:cNvPr id="376" name=""/>
            <p:cNvSpPr/>
            <p:nvPr/>
          </p:nvSpPr>
          <p:spPr>
            <a:xfrm flipV="1">
              <a:off x="5989680" y="3002040"/>
              <a:ext cx="0" cy="6544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5481720" y="3593160"/>
              <a:ext cx="3767040" cy="2027520"/>
              <a:chOff x="5481720" y="3593160"/>
              <a:chExt cx="3767040" cy="2027520"/>
            </a:xfrm>
          </p:grpSpPr>
          <p:sp>
            <p:nvSpPr>
              <p:cNvPr id="378" name=""/>
              <p:cNvSpPr/>
              <p:nvPr/>
            </p:nvSpPr>
            <p:spPr>
              <a:xfrm>
                <a:off x="5481720" y="3605400"/>
                <a:ext cx="3767040" cy="2015280"/>
              </a:xfrm>
              <a:prstGeom prst="roundRect">
                <a:avLst>
                  <a:gd name="adj" fmla="val 74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86400" bIns="0" anchor="ctr" anchorCtr="1">
                <a:noAutofit/>
              </a:bodyPr>
              <a:p>
                <a:pPr algn="ctr">
                  <a:lnSpc>
                    <a:spcPct val="8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みかちゃん"/>
                    <a:ea typeface="みかちゃん"/>
                  </a:rPr>
                  <a:t>8</a:t>
                </a:r>
                <a:r>
                  <a:rPr b="0" lang="ja-JP" sz="4000" spc="-1" strike="noStrike">
                    <a:solidFill>
                      <a:srgbClr val="000000"/>
                    </a:solidFill>
                    <a:latin typeface="みかちゃん"/>
                    <a:ea typeface="みかちゃん"/>
                  </a:rPr>
                  <a:t>か？</a:t>
                </a:r>
                <a:endParaRPr b="0" lang="en-US" sz="4000" spc="-1" strike="noStrike">
                  <a:solidFill>
                    <a:srgbClr val="000000"/>
                  </a:solidFill>
                  <a:latin typeface="Bitstream Vera Serif"/>
                </a:endParaRPr>
              </a:p>
              <a:p>
                <a:pPr algn="ctr">
                  <a:lnSpc>
                    <a:spcPct val="8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ja-JP" sz="4000" spc="-1" strike="noStrike" u="sng">
                    <a:solidFill>
                      <a:srgbClr val="ff0000"/>
                    </a:solidFill>
                    <a:uFillTx/>
                    <a:latin typeface="みかちゃん"/>
                    <a:ea typeface="みかちゃん"/>
                  </a:rPr>
                  <a:t>まだです</a:t>
                </a:r>
                <a:r>
                  <a:rPr b="0" lang="ja-JP" sz="4000" spc="-1" strike="noStrike">
                    <a:solidFill>
                      <a:srgbClr val="000000"/>
                    </a:solidFill>
                    <a:latin typeface="みかちゃん"/>
                    <a:ea typeface="みかちゃん"/>
                  </a:rPr>
                  <a:t>。</a:t>
                </a:r>
                <a:endParaRPr b="0" lang="en-US" sz="40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259840" y="3593160"/>
                <a:ext cx="36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4384800" y="1017360"/>
            <a:ext cx="4484520" cy="1392120"/>
            <a:chOff x="4384800" y="1017360"/>
            <a:chExt cx="4484520" cy="1392120"/>
          </a:xfrm>
        </p:grpSpPr>
        <p:sp>
          <p:nvSpPr>
            <p:cNvPr id="381" name=""/>
            <p:cNvSpPr/>
            <p:nvPr/>
          </p:nvSpPr>
          <p:spPr>
            <a:xfrm flipV="1">
              <a:off x="4384800" y="1017360"/>
              <a:ext cx="0" cy="139212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84800" y="1318680"/>
              <a:ext cx="1484280" cy="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87760" y="1486440"/>
              <a:ext cx="4381560" cy="723600"/>
            </a:xfrm>
            <a:prstGeom prst="roundRect">
              <a:avLst>
                <a:gd name="adj" fmla="val 21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 u="sng">
                  <a:solidFill>
                    <a:srgbClr val="ff0000"/>
                  </a:solidFill>
                  <a:uFillTx/>
                  <a:latin typeface="みかちゃん"/>
                  <a:ea typeface="みかちゃん"/>
                </a:rPr>
                <a:t>これから</a:t>
              </a:r>
              <a:r>
                <a:rPr b="0" lang="en-US" sz="4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 します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dur="indefinite" fill="hold">
                      <p:stCondLst>
                        <p:cond delay="indefinite"/>
                      </p:stCondLst>
                      <p:childTnLst>
                        <p:par>
                          <p:cTn id="5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dur="indefinite" fill="hold">
                      <p:stCondLst>
                        <p:cond delay="indefinite"/>
                      </p:stCondLst>
                      <p:childTnLst>
                        <p:par>
                          <p:cTn id="5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dur="indefinite" fill="hold">
                      <p:stCondLst>
                        <p:cond delay="indefinite"/>
                      </p:stCondLst>
                      <p:childTnLst>
                        <p:par>
                          <p:cTn id="5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0120" y="235080"/>
            <a:ext cx="8742240" cy="146052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スプーン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で</a:t>
            </a:r>
            <a:r>
              <a:rPr b="0" lang="en-US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 のみ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34880" y="1573200"/>
            <a:ext cx="9234720" cy="6919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757680" y="3471840"/>
            <a:ext cx="2047680" cy="9651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208080" y="1781280"/>
            <a:ext cx="10287000" cy="7458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59240" y="3581280"/>
            <a:ext cx="2492280" cy="18129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0120" y="236520"/>
            <a:ext cx="8739000" cy="1457280"/>
            <a:chOff x="600120" y="236520"/>
            <a:chExt cx="8739000" cy="1457280"/>
          </a:xfrm>
        </p:grpSpPr>
        <p:sp>
          <p:nvSpPr>
            <p:cNvPr id="61" name=""/>
            <p:cNvSpPr/>
            <p:nvPr/>
          </p:nvSpPr>
          <p:spPr>
            <a:xfrm>
              <a:off x="600120" y="236520"/>
              <a:ext cx="8739000" cy="1457280"/>
            </a:xfrm>
            <a:prstGeom prst="roundRect">
              <a:avLst>
                <a:gd name="adj" fmla="val 10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て</a:t>
              </a: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みかちゃん"/>
                  <a:ea typeface="みかちゃん"/>
                </a:rPr>
                <a:t>で</a:t>
              </a:r>
              <a:r>
                <a:rPr b="0" lang="en-US" sz="48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 たべます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0720" y="1490760"/>
            <a:ext cx="8783640" cy="6191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684600" y="5372280"/>
            <a:ext cx="2492280" cy="18126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" name=""/>
          <p:cNvSpPr/>
          <p:nvPr/>
        </p:nvSpPr>
        <p:spPr>
          <a:xfrm>
            <a:off x="600120" y="236520"/>
            <a:ext cx="8742240" cy="146052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フォーク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と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ナイフ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で</a:t>
            </a:r>
            <a:r>
              <a:rPr b="0" lang="en-US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 たべ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208080" y="1946160"/>
            <a:ext cx="10287000" cy="745812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600120" y="236520"/>
            <a:ext cx="8739000" cy="1457280"/>
            <a:chOff x="600120" y="236520"/>
            <a:chExt cx="8739000" cy="1457280"/>
          </a:xfrm>
        </p:grpSpPr>
        <p:sp>
          <p:nvSpPr>
            <p:cNvPr id="67" name=""/>
            <p:cNvSpPr/>
            <p:nvPr/>
          </p:nvSpPr>
          <p:spPr>
            <a:xfrm>
              <a:off x="600120" y="236520"/>
              <a:ext cx="8739000" cy="1457280"/>
            </a:xfrm>
            <a:prstGeom prst="roundRect">
              <a:avLst>
                <a:gd name="adj" fmla="val 10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何</a:t>
              </a: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みかちゃん"/>
                  <a:ea typeface="みかちゃん"/>
                </a:rPr>
                <a:t>で</a:t>
              </a:r>
              <a:r>
                <a:rPr b="0" lang="en-US" sz="48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 たべますか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27120" y="365040"/>
              <a:ext cx="606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" bIns="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Bitstream Vera Serif"/>
                </a:rPr>
                <a:t>なん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659040" y="3936960"/>
            <a:ext cx="1839960" cy="19828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06320" y="828720"/>
            <a:ext cx="8942400" cy="6505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932360" y="4971960"/>
            <a:ext cx="927000" cy="14749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" name=""/>
          <p:cNvSpPr/>
          <p:nvPr/>
        </p:nvSpPr>
        <p:spPr>
          <a:xfrm>
            <a:off x="2570040" y="2792520"/>
            <a:ext cx="2378160" cy="24256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3" name=""/>
          <p:cNvSpPr/>
          <p:nvPr/>
        </p:nvSpPr>
        <p:spPr>
          <a:xfrm>
            <a:off x="430200" y="1527120"/>
            <a:ext cx="3352680" cy="126540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Kochi Mincho"/>
                <a:ea typeface="Kochi Mincho"/>
              </a:rPr>
              <a:t>ボールペン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20:55:45Z</dcterms:created>
  <dc:creator/>
  <dc:description/>
  <dc:language>en-US</dc:language>
  <cp:lastModifiedBy/>
  <dcterms:modified xsi:type="dcterms:W3CDTF">2016-05-24T19:17:09Z</dcterms:modified>
  <cp:revision>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