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7.jpeg" ContentType="image/jpe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668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8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8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9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9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9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9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9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0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0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0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7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0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0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1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1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1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1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1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2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2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2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7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2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2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3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3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3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3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3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4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4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4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7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4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4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5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5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5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5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5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6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6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6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7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6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6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7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7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7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7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7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8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8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8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7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8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8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9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9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9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9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9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0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0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0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8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0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0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1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1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1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1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1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2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2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2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8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2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2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3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3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3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3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3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4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4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4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8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4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4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360360"/>
            <a:ext cx="694512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だい </a:t>
            </a:r>
            <a:r>
              <a:rPr b="0" lang="en-US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16 </a:t>
            </a: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1979640"/>
            <a:ext cx="4219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80000"/>
            <a:ext cx="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1800360" y="4032360"/>
            <a:ext cx="404496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て け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〜て、…て、ーーー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〜てから、…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〜は…がーー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EPSON 教科書体Ｍ"/>
                <a:ea typeface="EPSON 教科書体Ｍ"/>
              </a:rPr>
              <a:t>〜は…のようで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flipV="1">
            <a:off x="1138320" y="1491840"/>
            <a:ext cx="6495840" cy="132876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774960" y="1800360"/>
            <a:ext cx="1952640" cy="1771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81200" y="4792680"/>
            <a:ext cx="8545320" cy="11383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どうやって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だいがく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へ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いきますか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440" y="493560"/>
            <a:ext cx="1035000" cy="2654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885080" y="657360"/>
            <a:ext cx="1517760" cy="1195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81200" y="6151680"/>
            <a:ext cx="8545320" cy="11379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43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mikachan"/>
                <a:ea typeface="mikachan"/>
              </a:rPr>
              <a:t>バスにの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mikachan"/>
                <a:ea typeface="mikachan"/>
              </a:rPr>
              <a:t>って</a:t>
            </a:r>
            <a:r>
              <a:rPr b="0" lang="ja-JP" sz="4400" spc="-1" strike="noStrike">
                <a:solidFill>
                  <a:srgbClr val="000000"/>
                </a:solidFill>
                <a:latin typeface="mikachan"/>
                <a:ea typeface="mikachan"/>
              </a:rPr>
              <a:t>いき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flipV="1">
            <a:off x="1138320" y="1491840"/>
            <a:ext cx="6495840" cy="132876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774960" y="1800360"/>
            <a:ext cx="1952640" cy="1771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81200" y="4792680"/>
            <a:ext cx="8545320" cy="11383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どうやって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だいがく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へ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いきますか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522440" y="493560"/>
            <a:ext cx="103500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885080" y="657360"/>
            <a:ext cx="1517760" cy="119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81200" y="6151680"/>
            <a:ext cx="8545320" cy="11379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43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mikachan"/>
                <a:ea typeface="mikachan"/>
              </a:rPr>
              <a:t>バスにの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mikachan"/>
                <a:ea typeface="mikachan"/>
              </a:rPr>
              <a:t>って</a:t>
            </a:r>
            <a:r>
              <a:rPr b="0" lang="ja-JP" sz="4400" spc="-1" strike="noStrike">
                <a:solidFill>
                  <a:srgbClr val="000000"/>
                </a:solidFill>
                <a:latin typeface="mikachan"/>
                <a:ea typeface="mikachan"/>
              </a:rPr>
              <a:t>いき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226200" y="1052640"/>
            <a:ext cx="3457440" cy="5019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62040" y="701640"/>
            <a:ext cx="8545320" cy="11383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どうやって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ほん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かりますか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368520" y="2898720"/>
            <a:ext cx="2152800" cy="6515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19040" y="3730680"/>
            <a:ext cx="1666800" cy="333360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-617400" y="5943600"/>
            <a:ext cx="4248000" cy="2747880"/>
            <a:chOff x="-617400" y="5943600"/>
            <a:chExt cx="4248000" cy="2747880"/>
          </a:xfrm>
        </p:grpSpPr>
        <p:sp>
          <p:nvSpPr>
            <p:cNvPr id="109" name=""/>
            <p:cNvSpPr/>
            <p:nvPr/>
          </p:nvSpPr>
          <p:spPr>
            <a:xfrm>
              <a:off x="-617400" y="5943600"/>
              <a:ext cx="4248000" cy="2747880"/>
            </a:xfrm>
            <a:custGeom>
              <a:avLst/>
              <a:gdLst/>
              <a:ahLst/>
              <a:rect l="l" t="t" r="r" b="b"/>
              <a:pathLst>
                <a:path w="11810" h="7644">
                  <a:moveTo>
                    <a:pt x="11809" y="7643"/>
                  </a:moveTo>
                  <a:lnTo>
                    <a:pt x="11809" y="1910"/>
                  </a:lnTo>
                  <a:lnTo>
                    <a:pt x="9898" y="0"/>
                  </a:lnTo>
                  <a:lnTo>
                    <a:pt x="0" y="0"/>
                  </a:lnTo>
                  <a:lnTo>
                    <a:pt x="0" y="5733"/>
                  </a:lnTo>
                  <a:lnTo>
                    <a:pt x="1911" y="7643"/>
                  </a:lnTo>
                  <a:lnTo>
                    <a:pt x="11809" y="7643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-617400" y="5943600"/>
              <a:ext cx="4248000" cy="684360"/>
            </a:xfrm>
            <a:custGeom>
              <a:avLst/>
              <a:gdLst/>
              <a:ahLst/>
              <a:rect l="l" t="t" r="r" b="b"/>
              <a:pathLst>
                <a:path w="11810" h="1911">
                  <a:moveTo>
                    <a:pt x="11809" y="1910"/>
                  </a:moveTo>
                  <a:lnTo>
                    <a:pt x="9898" y="0"/>
                  </a:lnTo>
                  <a:lnTo>
                    <a:pt x="0" y="0"/>
                  </a:lnTo>
                  <a:lnTo>
                    <a:pt x="1911" y="1910"/>
                  </a:lnTo>
                  <a:lnTo>
                    <a:pt x="11809" y="1910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-617400" y="5943600"/>
              <a:ext cx="685800" cy="2747880"/>
            </a:xfrm>
            <a:custGeom>
              <a:avLst/>
              <a:gdLst/>
              <a:ahLst/>
              <a:rect l="l" t="t" r="r" b="b"/>
              <a:pathLst>
                <a:path w="1912" h="7644">
                  <a:moveTo>
                    <a:pt x="1911" y="7643"/>
                  </a:moveTo>
                  <a:lnTo>
                    <a:pt x="1911" y="1910"/>
                  </a:lnTo>
                  <a:lnTo>
                    <a:pt x="0" y="0"/>
                  </a:lnTo>
                  <a:lnTo>
                    <a:pt x="0" y="5733"/>
                  </a:lnTo>
                  <a:lnTo>
                    <a:pt x="1911" y="7643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79440" y="5657760"/>
            <a:ext cx="8510400" cy="146844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43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226200" y="1052640"/>
            <a:ext cx="3457440" cy="5019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62040" y="701640"/>
            <a:ext cx="8545320" cy="11383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どうやって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ほん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かりますか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368520" y="2898720"/>
            <a:ext cx="2152800" cy="6515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19040" y="3730680"/>
            <a:ext cx="1666800" cy="33336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-617400" y="5943600"/>
            <a:ext cx="4248000" cy="2747880"/>
            <a:chOff x="-617400" y="5943600"/>
            <a:chExt cx="4248000" cy="2747880"/>
          </a:xfrm>
        </p:grpSpPr>
        <p:sp>
          <p:nvSpPr>
            <p:cNvPr id="118" name=""/>
            <p:cNvSpPr/>
            <p:nvPr/>
          </p:nvSpPr>
          <p:spPr>
            <a:xfrm>
              <a:off x="-617400" y="5943600"/>
              <a:ext cx="4248000" cy="2747880"/>
            </a:xfrm>
            <a:custGeom>
              <a:avLst/>
              <a:gdLst/>
              <a:ahLst/>
              <a:rect l="l" t="t" r="r" b="b"/>
              <a:pathLst>
                <a:path w="11810" h="7644">
                  <a:moveTo>
                    <a:pt x="11809" y="7643"/>
                  </a:moveTo>
                  <a:lnTo>
                    <a:pt x="11809" y="1910"/>
                  </a:lnTo>
                  <a:lnTo>
                    <a:pt x="9898" y="0"/>
                  </a:lnTo>
                  <a:lnTo>
                    <a:pt x="0" y="0"/>
                  </a:lnTo>
                  <a:lnTo>
                    <a:pt x="0" y="5733"/>
                  </a:lnTo>
                  <a:lnTo>
                    <a:pt x="1911" y="7643"/>
                  </a:lnTo>
                  <a:lnTo>
                    <a:pt x="11809" y="7643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-617400" y="5943600"/>
              <a:ext cx="4248000" cy="684360"/>
            </a:xfrm>
            <a:custGeom>
              <a:avLst/>
              <a:gdLst/>
              <a:ahLst/>
              <a:rect l="l" t="t" r="r" b="b"/>
              <a:pathLst>
                <a:path w="11810" h="1911">
                  <a:moveTo>
                    <a:pt x="11809" y="1910"/>
                  </a:moveTo>
                  <a:lnTo>
                    <a:pt x="9898" y="0"/>
                  </a:lnTo>
                  <a:lnTo>
                    <a:pt x="0" y="0"/>
                  </a:lnTo>
                  <a:lnTo>
                    <a:pt x="1911" y="1910"/>
                  </a:lnTo>
                  <a:lnTo>
                    <a:pt x="11809" y="1910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-617400" y="5943600"/>
              <a:ext cx="685800" cy="2747880"/>
            </a:xfrm>
            <a:custGeom>
              <a:avLst/>
              <a:gdLst/>
              <a:ahLst/>
              <a:rect l="l" t="t" r="r" b="b"/>
              <a:pathLst>
                <a:path w="1912" h="7644">
                  <a:moveTo>
                    <a:pt x="1911" y="7643"/>
                  </a:moveTo>
                  <a:lnTo>
                    <a:pt x="1911" y="1910"/>
                  </a:lnTo>
                  <a:lnTo>
                    <a:pt x="0" y="0"/>
                  </a:lnTo>
                  <a:lnTo>
                    <a:pt x="0" y="5733"/>
                  </a:lnTo>
                  <a:lnTo>
                    <a:pt x="1911" y="7643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79440" y="5657760"/>
            <a:ext cx="8510400" cy="146844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43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mikachan"/>
                <a:ea typeface="mikachan"/>
              </a:rPr>
              <a:t>ここでカードをつく</a:t>
            </a:r>
            <a:r>
              <a:rPr b="0" lang="ja-JP" sz="4400" spc="-1" strike="noStrike" u="sng">
                <a:solidFill>
                  <a:srgbClr val="000000"/>
                </a:solidFill>
                <a:uFillTx/>
                <a:latin typeface="mikachan"/>
                <a:ea typeface="mikachan"/>
              </a:rPr>
              <a:t>って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mikachan"/>
                <a:ea typeface="mikachan"/>
              </a:rPr>
              <a:t>かりてください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538960" y="1639800"/>
            <a:ext cx="3814560" cy="2718000"/>
          </a:xfrm>
          <a:prstGeom prst="roundRect">
            <a:avLst>
              <a:gd name="adj" fmla="val 56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3" name=""/>
          <p:cNvSpPr/>
          <p:nvPr/>
        </p:nvSpPr>
        <p:spPr>
          <a:xfrm>
            <a:off x="5538960" y="3033720"/>
            <a:ext cx="3824280" cy="163440"/>
          </a:xfrm>
          <a:prstGeom prst="roundRect">
            <a:avLst>
              <a:gd name="adj" fmla="val 97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4" name=""/>
          <p:cNvSpPr/>
          <p:nvPr/>
        </p:nvSpPr>
        <p:spPr>
          <a:xfrm rot="12780000">
            <a:off x="6686640" y="1487520"/>
            <a:ext cx="101520" cy="3093840"/>
          </a:xfrm>
          <a:custGeom>
            <a:avLst/>
            <a:gdLst>
              <a:gd name="textAreaLeft" fmla="*/ 360 w 101520"/>
              <a:gd name="textAreaRight" fmla="*/ 101160 w 101520"/>
              <a:gd name="textAreaTop" fmla="*/ 360 h 3093840"/>
              <a:gd name="textAreaBottom" fmla="*/ 3093480 h 3093840"/>
            </a:gdLst>
            <a:ahLst/>
            <a:rect l="textAreaLeft" t="textAreaTop" r="textAreaRight" b="textAreaBottom"/>
            <a:pathLst>
              <a:path w="21600" h="656014">
                <a:moveTo>
                  <a:pt x="337" y="0"/>
                </a:moveTo>
                <a:arcTo wR="337" hR="337" stAng="16200000" swAng="-5400000"/>
                <a:lnTo>
                  <a:pt x="0" y="655677"/>
                </a:lnTo>
                <a:arcTo wR="337" hR="337" stAng="10800000" swAng="-5400000"/>
                <a:lnTo>
                  <a:pt x="21263" y="656014"/>
                </a:lnTo>
                <a:arcTo wR="337" hR="337" stAng="5400000" swAng="-5400000"/>
                <a:lnTo>
                  <a:pt x="21600" y="337"/>
                </a:lnTo>
                <a:arcTo wR="337" hR="337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5" name=""/>
          <p:cNvSpPr/>
          <p:nvPr/>
        </p:nvSpPr>
        <p:spPr>
          <a:xfrm>
            <a:off x="4683240" y="2116080"/>
            <a:ext cx="1269720" cy="1800"/>
          </a:xfrm>
          <a:prstGeom prst="line">
            <a:avLst/>
          </a:prstGeom>
          <a:ln w="324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6" name=""/>
          <p:cNvSpPr/>
          <p:nvPr/>
        </p:nvSpPr>
        <p:spPr>
          <a:xfrm>
            <a:off x="4471920" y="104760"/>
            <a:ext cx="277920" cy="4286160"/>
          </a:xfrm>
          <a:custGeom>
            <a:avLst/>
            <a:gdLst>
              <a:gd name="textAreaLeft" fmla="*/ 360 w 277920"/>
              <a:gd name="textAreaRight" fmla="*/ 277560 w 277920"/>
              <a:gd name="textAreaTop" fmla="*/ 360 h 4286160"/>
              <a:gd name="textAreaBottom" fmla="*/ 4285800 h 4286160"/>
            </a:gdLst>
            <a:ahLst/>
            <a:rect l="textAreaLeft" t="textAreaTop" r="textAreaRight" b="textAreaBottom"/>
            <a:pathLst>
              <a:path w="21600" h="332718">
                <a:moveTo>
                  <a:pt x="124" y="0"/>
                </a:moveTo>
                <a:arcTo wR="124" hR="124" stAng="16200000" swAng="-5400000"/>
                <a:lnTo>
                  <a:pt x="0" y="332594"/>
                </a:lnTo>
                <a:arcTo wR="124" hR="124" stAng="10800000" swAng="-5400000"/>
                <a:lnTo>
                  <a:pt x="21476" y="332718"/>
                </a:lnTo>
                <a:arcTo wR="124" hR="124" stAng="5400000" swAng="-5400000"/>
                <a:lnTo>
                  <a:pt x="21600" y="124"/>
                </a:lnTo>
                <a:arcTo wR="124" hR="124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7" name=""/>
          <p:cNvSpPr/>
          <p:nvPr/>
        </p:nvSpPr>
        <p:spPr>
          <a:xfrm>
            <a:off x="568440" y="5172120"/>
            <a:ext cx="8797680" cy="1971720"/>
          </a:xfrm>
          <a:prstGeom prst="roundRect">
            <a:avLst>
              <a:gd name="adj" fmla="val 7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8" name=""/>
          <p:cNvSpPr/>
          <p:nvPr/>
        </p:nvSpPr>
        <p:spPr>
          <a:xfrm>
            <a:off x="2077920" y="388800"/>
            <a:ext cx="2108160" cy="1490760"/>
          </a:xfrm>
          <a:prstGeom prst="roundRect">
            <a:avLst>
              <a:gd name="adj" fmla="val 106"/>
            </a:avLst>
          </a:prstGeom>
          <a:gradFill rotWithShape="0">
            <a:gsLst>
              <a:gs pos="0">
                <a:srgbClr val="000000"/>
              </a:gs>
              <a:gs pos="100000">
                <a:srgbClr val="ff6633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11560" y="1268280"/>
            <a:ext cx="1004760" cy="3052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92160" y="1380960"/>
            <a:ext cx="2471760" cy="2232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55680" y="596880"/>
            <a:ext cx="879480" cy="919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2" name=""/>
          <p:cNvSpPr/>
          <p:nvPr/>
        </p:nvSpPr>
        <p:spPr>
          <a:xfrm>
            <a:off x="430200" y="679320"/>
            <a:ext cx="739800" cy="744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3" name=""/>
          <p:cNvSpPr/>
          <p:nvPr/>
        </p:nvSpPr>
        <p:spPr>
          <a:xfrm>
            <a:off x="814320" y="1122480"/>
            <a:ext cx="158760" cy="201600"/>
          </a:xfrm>
          <a:prstGeom prst="line">
            <a:avLst/>
          </a:prstGeom>
          <a:ln w="10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791640" y="696960"/>
            <a:ext cx="25560" cy="428400"/>
          </a:xfrm>
          <a:prstGeom prst="line">
            <a:avLst/>
          </a:prstGeom>
          <a:ln w="10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137280" y="584280"/>
            <a:ext cx="287496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538960" y="1639800"/>
            <a:ext cx="3814560" cy="2718000"/>
          </a:xfrm>
          <a:prstGeom prst="roundRect">
            <a:avLst>
              <a:gd name="adj" fmla="val 56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7" name=""/>
          <p:cNvSpPr/>
          <p:nvPr/>
        </p:nvSpPr>
        <p:spPr>
          <a:xfrm>
            <a:off x="5538960" y="3033720"/>
            <a:ext cx="3824280" cy="163440"/>
          </a:xfrm>
          <a:prstGeom prst="roundRect">
            <a:avLst>
              <a:gd name="adj" fmla="val 97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8" name=""/>
          <p:cNvSpPr/>
          <p:nvPr/>
        </p:nvSpPr>
        <p:spPr>
          <a:xfrm rot="12780000">
            <a:off x="6686640" y="1487520"/>
            <a:ext cx="101520" cy="3093840"/>
          </a:xfrm>
          <a:custGeom>
            <a:avLst/>
            <a:gdLst>
              <a:gd name="textAreaLeft" fmla="*/ 360 w 101520"/>
              <a:gd name="textAreaRight" fmla="*/ 101160 w 101520"/>
              <a:gd name="textAreaTop" fmla="*/ 360 h 3093840"/>
              <a:gd name="textAreaBottom" fmla="*/ 3093480 h 3093840"/>
            </a:gdLst>
            <a:ahLst/>
            <a:rect l="textAreaLeft" t="textAreaTop" r="textAreaRight" b="textAreaBottom"/>
            <a:pathLst>
              <a:path w="21600" h="656014">
                <a:moveTo>
                  <a:pt x="337" y="0"/>
                </a:moveTo>
                <a:arcTo wR="337" hR="337" stAng="16200000" swAng="-5400000"/>
                <a:lnTo>
                  <a:pt x="0" y="655677"/>
                </a:lnTo>
                <a:arcTo wR="337" hR="337" stAng="10800000" swAng="-5400000"/>
                <a:lnTo>
                  <a:pt x="21263" y="656014"/>
                </a:lnTo>
                <a:arcTo wR="337" hR="337" stAng="5400000" swAng="-5400000"/>
                <a:lnTo>
                  <a:pt x="21600" y="337"/>
                </a:lnTo>
                <a:arcTo wR="337" hR="337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9" name=""/>
          <p:cNvSpPr/>
          <p:nvPr/>
        </p:nvSpPr>
        <p:spPr>
          <a:xfrm>
            <a:off x="4683240" y="2116080"/>
            <a:ext cx="1269720" cy="1800"/>
          </a:xfrm>
          <a:prstGeom prst="line">
            <a:avLst/>
          </a:prstGeom>
          <a:ln w="324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0" name=""/>
          <p:cNvSpPr/>
          <p:nvPr/>
        </p:nvSpPr>
        <p:spPr>
          <a:xfrm>
            <a:off x="4471920" y="104760"/>
            <a:ext cx="277920" cy="4286160"/>
          </a:xfrm>
          <a:custGeom>
            <a:avLst/>
            <a:gdLst>
              <a:gd name="textAreaLeft" fmla="*/ 360 w 277920"/>
              <a:gd name="textAreaRight" fmla="*/ 277560 w 277920"/>
              <a:gd name="textAreaTop" fmla="*/ 360 h 4286160"/>
              <a:gd name="textAreaBottom" fmla="*/ 4285800 h 4286160"/>
            </a:gdLst>
            <a:ahLst/>
            <a:rect l="textAreaLeft" t="textAreaTop" r="textAreaRight" b="textAreaBottom"/>
            <a:pathLst>
              <a:path w="21600" h="332718">
                <a:moveTo>
                  <a:pt x="124" y="0"/>
                </a:moveTo>
                <a:arcTo wR="124" hR="124" stAng="16200000" swAng="-5400000"/>
                <a:lnTo>
                  <a:pt x="0" y="332594"/>
                </a:lnTo>
                <a:arcTo wR="124" hR="124" stAng="10800000" swAng="-5400000"/>
                <a:lnTo>
                  <a:pt x="21476" y="332718"/>
                </a:lnTo>
                <a:arcTo wR="124" hR="124" stAng="5400000" swAng="-5400000"/>
                <a:lnTo>
                  <a:pt x="21600" y="124"/>
                </a:lnTo>
                <a:arcTo wR="124" hR="124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1" name=""/>
          <p:cNvSpPr/>
          <p:nvPr/>
        </p:nvSpPr>
        <p:spPr>
          <a:xfrm>
            <a:off x="568440" y="5172120"/>
            <a:ext cx="8797680" cy="1971720"/>
          </a:xfrm>
          <a:prstGeom prst="roundRect">
            <a:avLst>
              <a:gd name="adj" fmla="val 7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かいしゃ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おわっ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て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から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	</a:t>
            </a:r>
            <a:r>
              <a:rPr b="0" lang="en-US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	</a:t>
            </a:r>
            <a:r>
              <a:rPr b="0" lang="en-US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	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テニスをし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2" name=""/>
          <p:cNvSpPr/>
          <p:nvPr/>
        </p:nvSpPr>
        <p:spPr>
          <a:xfrm>
            <a:off x="2077920" y="388800"/>
            <a:ext cx="2108160" cy="1490760"/>
          </a:xfrm>
          <a:prstGeom prst="roundRect">
            <a:avLst>
              <a:gd name="adj" fmla="val 106"/>
            </a:avLst>
          </a:prstGeom>
          <a:gradFill rotWithShape="0">
            <a:gsLst>
              <a:gs pos="0">
                <a:srgbClr val="000000"/>
              </a:gs>
              <a:gs pos="100000">
                <a:srgbClr val="ff6633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11560" y="1268280"/>
            <a:ext cx="1004760" cy="3052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992160" y="1380960"/>
            <a:ext cx="2471760" cy="2232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5680" y="596880"/>
            <a:ext cx="879480" cy="919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6" name=""/>
          <p:cNvSpPr/>
          <p:nvPr/>
        </p:nvSpPr>
        <p:spPr>
          <a:xfrm>
            <a:off x="430200" y="679320"/>
            <a:ext cx="739800" cy="744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7" name=""/>
          <p:cNvSpPr/>
          <p:nvPr/>
        </p:nvSpPr>
        <p:spPr>
          <a:xfrm>
            <a:off x="814320" y="1122480"/>
            <a:ext cx="158760" cy="201600"/>
          </a:xfrm>
          <a:prstGeom prst="line">
            <a:avLst/>
          </a:prstGeom>
          <a:ln w="10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791640" y="696960"/>
            <a:ext cx="25560" cy="428400"/>
          </a:xfrm>
          <a:prstGeom prst="line">
            <a:avLst/>
          </a:prstGeom>
          <a:ln w="10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137280" y="584280"/>
            <a:ext cx="287496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2360" y="4695840"/>
            <a:ext cx="9471240" cy="1905120"/>
          </a:xfrm>
          <a:prstGeom prst="roundRect">
            <a:avLst>
              <a:gd name="adj" fmla="val 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あさ、おき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て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シャワー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あび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てから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ごはん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たべま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1" name=""/>
          <p:cNvSpPr/>
          <p:nvPr/>
        </p:nvSpPr>
        <p:spPr>
          <a:xfrm>
            <a:off x="2765520" y="1773360"/>
            <a:ext cx="793800" cy="1440"/>
          </a:xfrm>
          <a:prstGeom prst="line">
            <a:avLst/>
          </a:prstGeom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2" name=""/>
          <p:cNvSpPr/>
          <p:nvPr/>
        </p:nvSpPr>
        <p:spPr>
          <a:xfrm>
            <a:off x="6126120" y="1852560"/>
            <a:ext cx="793800" cy="1800"/>
          </a:xfrm>
          <a:custGeom>
            <a:avLst/>
            <a:gdLst/>
            <a:ahLst/>
            <a:rect l="l" t="t" r="r" b="b"/>
            <a:pathLst>
              <a:path w="2206" h="1">
                <a:moveTo>
                  <a:pt x="0" y="0"/>
                </a:moveTo>
                <a:lnTo>
                  <a:pt x="2205" y="0"/>
                </a:lnTo>
              </a:path>
            </a:pathLst>
          </a:custGeom>
          <a:noFill/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3" name=""/>
          <p:cNvSpPr/>
          <p:nvPr/>
        </p:nvSpPr>
        <p:spPr>
          <a:xfrm>
            <a:off x="-344520" y="198360"/>
            <a:ext cx="6416640" cy="3108240"/>
          </a:xfrm>
          <a:prstGeom prst="roundRect">
            <a:avLst>
              <a:gd name="adj" fmla="val 51"/>
            </a:avLst>
          </a:prstGeom>
          <a:noFill/>
          <a:ln w="10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337440" y="1838160"/>
            <a:ext cx="793440" cy="1800"/>
          </a:xfrm>
          <a:prstGeom prst="line">
            <a:avLst/>
          </a:prstGeom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5" name=""/>
          <p:cNvSpPr/>
          <p:nvPr/>
        </p:nvSpPr>
        <p:spPr>
          <a:xfrm>
            <a:off x="2805120" y="1852560"/>
            <a:ext cx="793800" cy="1800"/>
          </a:xfrm>
          <a:prstGeom prst="line">
            <a:avLst/>
          </a:prstGeom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6" name=""/>
          <p:cNvSpPr/>
          <p:nvPr/>
        </p:nvSpPr>
        <p:spPr>
          <a:xfrm>
            <a:off x="2765520" y="185760"/>
            <a:ext cx="1440" cy="3043080"/>
          </a:xfrm>
          <a:prstGeom prst="line">
            <a:avLst/>
          </a:prstGeom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7" name=""/>
          <p:cNvSpPr/>
          <p:nvPr/>
        </p:nvSpPr>
        <p:spPr>
          <a:xfrm>
            <a:off x="252360" y="4695840"/>
            <a:ext cx="9471240" cy="1905120"/>
          </a:xfrm>
          <a:prstGeom prst="roundRect">
            <a:avLst>
              <a:gd name="adj" fmla="val 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あさ、おき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てから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シャワー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あび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て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ごはん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たべま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64960" y="4668840"/>
            <a:ext cx="9684000" cy="1905120"/>
          </a:xfrm>
          <a:prstGeom prst="roundRect">
            <a:avLst>
              <a:gd name="adj" fmla="val 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あさ、おき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てから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シャワー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あび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てから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ごはん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たべ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9" name=""/>
          <p:cNvSpPr/>
          <p:nvPr/>
        </p:nvSpPr>
        <p:spPr>
          <a:xfrm>
            <a:off x="2805120" y="1852560"/>
            <a:ext cx="793800" cy="1800"/>
          </a:xfrm>
          <a:prstGeom prst="line">
            <a:avLst/>
          </a:prstGeom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0" name=""/>
          <p:cNvSpPr/>
          <p:nvPr/>
        </p:nvSpPr>
        <p:spPr>
          <a:xfrm>
            <a:off x="2765520" y="185760"/>
            <a:ext cx="1440" cy="3043080"/>
          </a:xfrm>
          <a:prstGeom prst="line">
            <a:avLst/>
          </a:prstGeom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1" name=""/>
          <p:cNvSpPr/>
          <p:nvPr/>
        </p:nvSpPr>
        <p:spPr>
          <a:xfrm>
            <a:off x="6164280" y="1825560"/>
            <a:ext cx="793800" cy="1800"/>
          </a:xfrm>
          <a:prstGeom prst="line">
            <a:avLst/>
          </a:prstGeom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2" name=""/>
          <p:cNvSpPr/>
          <p:nvPr/>
        </p:nvSpPr>
        <p:spPr>
          <a:xfrm>
            <a:off x="6124680" y="158760"/>
            <a:ext cx="1440" cy="3043080"/>
          </a:xfrm>
          <a:prstGeom prst="line">
            <a:avLst/>
          </a:prstGeom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76280" y="4643280"/>
            <a:ext cx="9191520" cy="1743120"/>
            <a:chOff x="476280" y="4643280"/>
            <a:chExt cx="9191520" cy="1743120"/>
          </a:xfrm>
        </p:grpSpPr>
        <p:sp>
          <p:nvSpPr>
            <p:cNvPr id="164" name=""/>
            <p:cNvSpPr/>
            <p:nvPr/>
          </p:nvSpPr>
          <p:spPr>
            <a:xfrm>
              <a:off x="478800" y="4643280"/>
              <a:ext cx="9185400" cy="174312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76280" y="4643280"/>
              <a:ext cx="9191520" cy="174312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 flipV="1">
            <a:off x="2289240" y="1491840"/>
            <a:ext cx="5344920" cy="10638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7" name=""/>
          <p:cNvSpPr/>
          <p:nvPr/>
        </p:nvSpPr>
        <p:spPr>
          <a:xfrm>
            <a:off x="6997680" y="252360"/>
            <a:ext cx="2567160" cy="11383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85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mikachan"/>
                <a:ea typeface="mikachan"/>
              </a:rPr>
              <a:t>パリ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8" name=""/>
          <p:cNvSpPr/>
          <p:nvPr/>
        </p:nvSpPr>
        <p:spPr>
          <a:xfrm>
            <a:off x="714240" y="3294000"/>
            <a:ext cx="9286920" cy="11383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TGV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に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のっ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て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から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パリ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へ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いき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61520" y="3016080"/>
            <a:ext cx="9191880" cy="1743120"/>
            <a:chOff x="461520" y="3016080"/>
            <a:chExt cx="9191880" cy="1743120"/>
          </a:xfrm>
        </p:grpSpPr>
        <p:sp>
          <p:nvSpPr>
            <p:cNvPr id="170" name=""/>
            <p:cNvSpPr/>
            <p:nvPr/>
          </p:nvSpPr>
          <p:spPr>
            <a:xfrm>
              <a:off x="464760" y="3016080"/>
              <a:ext cx="9185400" cy="174312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61520" y="3016080"/>
              <a:ext cx="9191880" cy="174312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691080" y="158760"/>
            <a:ext cx="1440" cy="3043080"/>
          </a:xfrm>
          <a:custGeom>
            <a:avLst/>
            <a:gdLst/>
            <a:ahLst/>
            <a:rect l="l" t="t" r="r" b="b"/>
            <a:pathLst>
              <a:path w="1" h="8453">
                <a:moveTo>
                  <a:pt x="0" y="0"/>
                </a:moveTo>
                <a:lnTo>
                  <a:pt x="0" y="8452"/>
                </a:lnTo>
              </a:path>
            </a:pathLst>
          </a:custGeom>
          <a:noFill/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3" name=""/>
          <p:cNvSpPr/>
          <p:nvPr/>
        </p:nvSpPr>
        <p:spPr>
          <a:xfrm>
            <a:off x="4133880" y="905040"/>
            <a:ext cx="16686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itstream Vera Serif"/>
              </a:rPr>
              <a:t>TGV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dur="indefinite" fill="hold">
                      <p:stCondLst>
                        <p:cond delay="indefinite"/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27080" y="299880"/>
            <a:ext cx="630576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 flipV="1">
            <a:off x="2289240" y="1491840"/>
            <a:ext cx="5344920" cy="106380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5" name=""/>
          <p:cNvSpPr/>
          <p:nvPr/>
        </p:nvSpPr>
        <p:spPr>
          <a:xfrm>
            <a:off x="6997680" y="252360"/>
            <a:ext cx="2567160" cy="11383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85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Kochi Gothic"/>
                <a:ea typeface="Kochi Gothic"/>
              </a:rPr>
              <a:t>パリ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6" name=""/>
          <p:cNvSpPr/>
          <p:nvPr/>
        </p:nvSpPr>
        <p:spPr>
          <a:xfrm>
            <a:off x="714240" y="3294000"/>
            <a:ext cx="9286920" cy="11383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TGV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に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のっ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て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から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パリ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へ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いき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7" name=""/>
          <p:cNvSpPr/>
          <p:nvPr/>
        </p:nvSpPr>
        <p:spPr>
          <a:xfrm>
            <a:off x="714240" y="5106960"/>
            <a:ext cx="9286920" cy="11383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TGV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に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のっ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て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パリ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へ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いき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61520" y="3016080"/>
            <a:ext cx="9191880" cy="1743120"/>
            <a:chOff x="461520" y="3016080"/>
            <a:chExt cx="9191880" cy="1743120"/>
          </a:xfrm>
        </p:grpSpPr>
        <p:sp>
          <p:nvSpPr>
            <p:cNvPr id="179" name=""/>
            <p:cNvSpPr/>
            <p:nvPr/>
          </p:nvSpPr>
          <p:spPr>
            <a:xfrm>
              <a:off x="464760" y="3016080"/>
              <a:ext cx="9185400" cy="174312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61520" y="3016080"/>
              <a:ext cx="9191880" cy="174312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133880" y="905040"/>
            <a:ext cx="16686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itstream Vera Serif"/>
              </a:rPr>
              <a:t>TGV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11120" y="1932120"/>
            <a:ext cx="9286920" cy="11379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デパート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へ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いっ</a:t>
            </a:r>
            <a:r>
              <a:rPr b="0" lang="ja-JP" sz="4800" spc="-1" strike="noStrike">
                <a:solidFill>
                  <a:srgbClr val="ff0000"/>
                </a:solidFill>
                <a:latin typeface="Y.Oz_F'04"/>
                <a:ea typeface="Y.OzN_'04"/>
              </a:rPr>
              <a:t>て</a:t>
            </a:r>
            <a:r>
              <a:rPr b="0" lang="en-US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CD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かい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3" name=""/>
          <p:cNvSpPr/>
          <p:nvPr/>
        </p:nvSpPr>
        <p:spPr>
          <a:xfrm>
            <a:off x="92160" y="4802040"/>
            <a:ext cx="9790200" cy="11383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デパート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へ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いっ</a:t>
            </a:r>
            <a:r>
              <a:rPr b="0" lang="ja-JP" sz="4800" spc="-1" strike="noStrike">
                <a:solidFill>
                  <a:srgbClr val="ff0000"/>
                </a:solidFill>
                <a:latin typeface="Y.Oz_F'04"/>
                <a:ea typeface="Y.OzN_'04"/>
              </a:rPr>
              <a:t>てから</a:t>
            </a:r>
            <a:r>
              <a:rPr b="0" lang="en-US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CD</a:t>
            </a:r>
            <a:r>
              <a:rPr b="0" lang="ja-JP" sz="4800" spc="-1" strike="noStrike">
                <a:solidFill>
                  <a:srgbClr val="800000"/>
                </a:solidFill>
                <a:latin typeface="Y.Oz_F'04"/>
                <a:ea typeface="Y.OzN_'04"/>
              </a:rPr>
              <a:t>を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N_'04"/>
              </a:rPr>
              <a:t>かい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 flipV="1">
            <a:off x="1957320" y="3583080"/>
            <a:ext cx="2540160" cy="82872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542880"/>
            <a:ext cx="9286560" cy="11383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デパート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へ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いっ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て</a:t>
            </a:r>
            <a:r>
              <a:rPr b="0" lang="en-US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CD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かい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410000" y="2028960"/>
            <a:ext cx="5343480" cy="3601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655040" y="2840040"/>
            <a:ext cx="1073160" cy="3149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905440" y="4405320"/>
            <a:ext cx="3706920" cy="18399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114880" y="3021120"/>
            <a:ext cx="1706760" cy="3311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6454800" y="3963960"/>
            <a:ext cx="834840" cy="816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334800" y="2963880"/>
            <a:ext cx="1428840" cy="39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 flipV="1">
            <a:off x="1957320" y="3583080"/>
            <a:ext cx="2540160" cy="82872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3" name=""/>
          <p:cNvSpPr/>
          <p:nvPr/>
        </p:nvSpPr>
        <p:spPr>
          <a:xfrm>
            <a:off x="358920" y="542880"/>
            <a:ext cx="9286560" cy="11383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デパート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へ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いっ</a:t>
            </a: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て</a:t>
            </a:r>
            <a:r>
              <a:rPr b="0" lang="en-US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CD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かい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410000" y="2028960"/>
            <a:ext cx="5343480" cy="360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655040" y="2840040"/>
            <a:ext cx="1073160" cy="3149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5905440" y="4405320"/>
            <a:ext cx="3706920" cy="18399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114880" y="3021120"/>
            <a:ext cx="1706760" cy="3311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454800" y="3963960"/>
            <a:ext cx="834840" cy="816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334800" y="2963880"/>
            <a:ext cx="1428840" cy="39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dur="indefinite" fill="hold">
                      <p:stCondLst>
                        <p:cond delay="indefinite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 fill="hold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946240" y="1657440"/>
            <a:ext cx="3122640" cy="21700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V="1">
            <a:off x="1933560" y="3433320"/>
            <a:ext cx="2154240" cy="65412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2" name=""/>
          <p:cNvSpPr/>
          <p:nvPr/>
        </p:nvSpPr>
        <p:spPr>
          <a:xfrm>
            <a:off x="4352760" y="3333600"/>
            <a:ext cx="1005120" cy="119088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3" name=""/>
          <p:cNvSpPr/>
          <p:nvPr/>
        </p:nvSpPr>
        <p:spPr>
          <a:xfrm>
            <a:off x="210960" y="463680"/>
            <a:ext cx="9790200" cy="11379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_F'04"/>
              </a:rPr>
              <a:t>デパート</a:t>
            </a:r>
            <a:r>
              <a:rPr b="0" lang="ja-JP" sz="4000" spc="-1" strike="noStrike">
                <a:solidFill>
                  <a:srgbClr val="800000"/>
                </a:solidFill>
                <a:latin typeface="Y.Oz_F'04"/>
                <a:ea typeface="Y.Oz_F'04"/>
              </a:rPr>
              <a:t>へ</a:t>
            </a: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_F'04"/>
              </a:rPr>
              <a:t>いっ</a:t>
            </a:r>
            <a:r>
              <a:rPr b="0" lang="ja-JP" sz="4000" spc="-1" strike="noStrike">
                <a:solidFill>
                  <a:srgbClr val="ff0000"/>
                </a:solidFill>
                <a:latin typeface="Y.Oz_F'04"/>
                <a:ea typeface="Y.Oz_F'04"/>
              </a:rPr>
              <a:t>てから</a:t>
            </a:r>
            <a:r>
              <a:rPr b="0" lang="en-US" sz="4000" spc="-1" strike="noStrike">
                <a:solidFill>
                  <a:srgbClr val="000000"/>
                </a:solidFill>
                <a:latin typeface="Y.Oz_F'04"/>
                <a:ea typeface="Y.Oz_F'04"/>
              </a:rPr>
              <a:t>CD</a:t>
            </a:r>
            <a:r>
              <a:rPr b="0" lang="ja-JP" sz="4000" spc="-1" strike="noStrike">
                <a:solidFill>
                  <a:srgbClr val="800000"/>
                </a:solidFill>
                <a:latin typeface="Y.Oz_F'04"/>
                <a:ea typeface="Y.Oz_F'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.Oz_F'04"/>
                <a:ea typeface="Y.Oz_F'04"/>
              </a:rPr>
              <a:t>かい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4" name=""/>
          <p:cNvSpPr/>
          <p:nvPr/>
        </p:nvSpPr>
        <p:spPr>
          <a:xfrm>
            <a:off x="3757680" y="2354400"/>
            <a:ext cx="3413160" cy="1944720"/>
          </a:xfrm>
          <a:custGeom>
            <a:avLst/>
            <a:gdLst/>
            <a:ahLst/>
            <a:rect l="l" t="t" r="r" b="b"/>
            <a:pathLst>
              <a:path w="9482" h="5403">
                <a:moveTo>
                  <a:pt x="0" y="5402"/>
                </a:moveTo>
                <a:lnTo>
                  <a:pt x="9481" y="0"/>
                </a:lnTo>
              </a:path>
            </a:pathLst>
          </a:custGeom>
          <a:noFill/>
          <a:ln w="10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602480" y="4832280"/>
            <a:ext cx="1073160" cy="3149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5853240" y="6399360"/>
            <a:ext cx="3706560" cy="1839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5062680" y="5013360"/>
            <a:ext cx="1706400" cy="3311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6402240" y="5958000"/>
            <a:ext cx="835200" cy="8157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34800" y="2963880"/>
            <a:ext cx="1428840" cy="39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7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946240" y="1657440"/>
            <a:ext cx="3122640" cy="2170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flipV="1">
            <a:off x="1933560" y="3433320"/>
            <a:ext cx="2154240" cy="65412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2" name=""/>
          <p:cNvSpPr/>
          <p:nvPr/>
        </p:nvSpPr>
        <p:spPr>
          <a:xfrm>
            <a:off x="4352760" y="3333600"/>
            <a:ext cx="1005120" cy="119088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3" name=""/>
          <p:cNvSpPr/>
          <p:nvPr/>
        </p:nvSpPr>
        <p:spPr>
          <a:xfrm>
            <a:off x="210960" y="463680"/>
            <a:ext cx="9790200" cy="11379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デパート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へ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いっ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てから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CD</a:t>
            </a:r>
            <a:r>
              <a:rPr b="0" lang="ja-JP" sz="40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かい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4" name=""/>
          <p:cNvSpPr/>
          <p:nvPr/>
        </p:nvSpPr>
        <p:spPr>
          <a:xfrm>
            <a:off x="3757680" y="2354400"/>
            <a:ext cx="3413160" cy="1944720"/>
          </a:xfrm>
          <a:custGeom>
            <a:avLst/>
            <a:gdLst/>
            <a:ahLst/>
            <a:rect l="l" t="t" r="r" b="b"/>
            <a:pathLst>
              <a:path w="9482" h="5403">
                <a:moveTo>
                  <a:pt x="0" y="5402"/>
                </a:moveTo>
                <a:lnTo>
                  <a:pt x="9481" y="0"/>
                </a:lnTo>
              </a:path>
            </a:pathLst>
          </a:custGeom>
          <a:noFill/>
          <a:ln w="10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602480" y="4832280"/>
            <a:ext cx="1073160" cy="3149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853240" y="6399360"/>
            <a:ext cx="3706560" cy="18396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5062680" y="5013360"/>
            <a:ext cx="1706400" cy="3311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6402240" y="5958000"/>
            <a:ext cx="835200" cy="815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334800" y="2963880"/>
            <a:ext cx="1428840" cy="39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dur="indefinite" fill="hold">
                      <p:stCondLst>
                        <p:cond delay="indefinite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7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dur="indefinite" fill="hold">
                      <p:stCondLst>
                        <p:cond delay="indefinite"/>
                      </p:stCondLst>
                      <p:childTnLst>
                        <p:par>
                          <p:cTn id="2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04920" y="369720"/>
            <a:ext cx="10078920" cy="70898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12760" y="463680"/>
            <a:ext cx="9790200" cy="11379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ぞう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からだ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おおき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2" name=""/>
          <p:cNvSpPr/>
          <p:nvPr/>
        </p:nvSpPr>
        <p:spPr>
          <a:xfrm>
            <a:off x="3584520" y="2222640"/>
            <a:ext cx="4710240" cy="3797280"/>
          </a:xfrm>
          <a:prstGeom prst="ellipse">
            <a:avLst/>
          </a:pr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04920" y="369720"/>
            <a:ext cx="10078920" cy="70898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12760" y="463680"/>
            <a:ext cx="9790200" cy="11379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ぞう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からだ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おおき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5" name=""/>
          <p:cNvSpPr/>
          <p:nvPr/>
        </p:nvSpPr>
        <p:spPr>
          <a:xfrm>
            <a:off x="3584520" y="2222640"/>
            <a:ext cx="4710240" cy="3797280"/>
          </a:xfrm>
          <a:prstGeom prst="ellipse">
            <a:avLst/>
          </a:pr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04920" y="369720"/>
            <a:ext cx="10078920" cy="70898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flipH="1" flipV="1">
            <a:off x="4575240" y="2933280"/>
            <a:ext cx="1844640" cy="334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8" name=""/>
          <p:cNvSpPr/>
          <p:nvPr/>
        </p:nvSpPr>
        <p:spPr>
          <a:xfrm>
            <a:off x="212760" y="463680"/>
            <a:ext cx="9790200" cy="11379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ぞう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_F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みみ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_F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おおき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04920" y="369720"/>
            <a:ext cx="10078920" cy="7089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flipH="1" flipV="1">
            <a:off x="4575240" y="2933280"/>
            <a:ext cx="1844640" cy="334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1" name=""/>
          <p:cNvSpPr/>
          <p:nvPr/>
        </p:nvSpPr>
        <p:spPr>
          <a:xfrm>
            <a:off x="212760" y="463680"/>
            <a:ext cx="9790200" cy="11379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ぞう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みみ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おおき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3760" y="479520"/>
            <a:ext cx="9001080" cy="666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04920" y="369720"/>
            <a:ext cx="10078920" cy="7089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 flipH="1" flipV="1">
            <a:off x="1413000" y="5657400"/>
            <a:ext cx="1844640" cy="334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4" name=""/>
          <p:cNvSpPr/>
          <p:nvPr/>
        </p:nvSpPr>
        <p:spPr>
          <a:xfrm>
            <a:off x="212760" y="463680"/>
            <a:ext cx="9790200" cy="11379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ぞう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_F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はな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_F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なが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04920" y="369720"/>
            <a:ext cx="10078920" cy="7089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flipH="1" flipV="1">
            <a:off x="1413000" y="5657400"/>
            <a:ext cx="1844640" cy="334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7" name=""/>
          <p:cNvSpPr/>
          <p:nvPr/>
        </p:nvSpPr>
        <p:spPr>
          <a:xfrm>
            <a:off x="212760" y="463680"/>
            <a:ext cx="9790200" cy="11379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ぞう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はな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なが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6600" y="264960"/>
            <a:ext cx="10079280" cy="70898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12760" y="463680"/>
            <a:ext cx="9790200" cy="11379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このいぬ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_F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はな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_F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あか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0" name=""/>
          <p:cNvSpPr/>
          <p:nvPr/>
        </p:nvSpPr>
        <p:spPr>
          <a:xfrm>
            <a:off x="515880" y="2289240"/>
            <a:ext cx="595440" cy="181296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6600" y="264960"/>
            <a:ext cx="10079280" cy="7089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12760" y="463680"/>
            <a:ext cx="9790200" cy="11379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このいぬ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はな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あか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3" name=""/>
          <p:cNvSpPr/>
          <p:nvPr/>
        </p:nvSpPr>
        <p:spPr>
          <a:xfrm>
            <a:off x="515880" y="2289240"/>
            <a:ext cx="595440" cy="181296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dur="indefinite" fill="hold">
                      <p:stCondLst>
                        <p:cond delay="indefinite"/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 fill="hold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6600" y="264960"/>
            <a:ext cx="10079280" cy="70898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12760" y="463680"/>
            <a:ext cx="9790200" cy="11379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このいぬ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_F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め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_F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ちいさ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165400" y="2063880"/>
            <a:ext cx="1898640" cy="112536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dur="indefinite" fill="hold">
                      <p:stCondLst>
                        <p:cond delay="indefinite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 fill="hold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6600" y="264960"/>
            <a:ext cx="10079280" cy="70898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12760" y="463680"/>
            <a:ext cx="9790200" cy="11379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このいぬ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め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ちいさ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165400" y="2063880"/>
            <a:ext cx="1898640" cy="112536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dur="indefinite" fill="hold">
                      <p:stCondLst>
                        <p:cond delay="indefinite"/>
                      </p:stCondLst>
                      <p:childTnLst>
                        <p:par>
                          <p:cTn id="2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6600" y="264960"/>
            <a:ext cx="10079280" cy="70898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12760" y="463680"/>
            <a:ext cx="9790200" cy="11379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このいぬ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_F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みみ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_F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おおき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2" name=""/>
          <p:cNvSpPr/>
          <p:nvPr/>
        </p:nvSpPr>
        <p:spPr>
          <a:xfrm>
            <a:off x="2274840" y="1932120"/>
            <a:ext cx="2301840" cy="3174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dur="indefinite" fill="hold">
                      <p:stCondLst>
                        <p:cond delay="indefinite"/>
                      </p:stCondLst>
                      <p:childTnLst>
                        <p:par>
                          <p:cTn id="3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 fill="hold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6600" y="264960"/>
            <a:ext cx="10079280" cy="70898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12760" y="463680"/>
            <a:ext cx="9790200" cy="11379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このいぬ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みみ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おおき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5" name=""/>
          <p:cNvSpPr/>
          <p:nvPr/>
        </p:nvSpPr>
        <p:spPr>
          <a:xfrm>
            <a:off x="2274840" y="1932120"/>
            <a:ext cx="2301840" cy="3174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dur="indefinite" fill="hold">
                      <p:stCondLst>
                        <p:cond delay="indefinite"/>
                      </p:stCondLst>
                      <p:childTnLst>
                        <p:par>
                          <p:cTn id="3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 fill="hold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6600" y="264960"/>
            <a:ext cx="10079280" cy="7089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12760" y="463680"/>
            <a:ext cx="9790200" cy="11379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このいぬ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_F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からだ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_F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なが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8" name=""/>
          <p:cNvSpPr/>
          <p:nvPr/>
        </p:nvSpPr>
        <p:spPr>
          <a:xfrm>
            <a:off x="3505320" y="3400560"/>
            <a:ext cx="5781600" cy="21700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dur="indefinite" fill="hold">
                      <p:stCondLst>
                        <p:cond delay="indefinite"/>
                      </p:stCondLst>
                      <p:childTnLst>
                        <p:par>
                          <p:cTn id="3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 fill="hold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6600" y="264960"/>
            <a:ext cx="10079280" cy="7089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12760" y="463680"/>
            <a:ext cx="9790200" cy="11379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このいぬ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からだ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なが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1" name=""/>
          <p:cNvSpPr/>
          <p:nvPr/>
        </p:nvSpPr>
        <p:spPr>
          <a:xfrm>
            <a:off x="3505320" y="3400560"/>
            <a:ext cx="5781600" cy="21700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dur="indefinite" fill="hold">
                      <p:stCondLst>
                        <p:cond delay="indefinite"/>
                      </p:stCondLst>
                      <p:childTnLst>
                        <p:par>
                          <p:cTn id="3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 fill="hold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2360" y="4695840"/>
            <a:ext cx="9458280" cy="146844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あさ、おき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て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、ごはんをたべま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0" name=""/>
          <p:cNvSpPr/>
          <p:nvPr/>
        </p:nvSpPr>
        <p:spPr>
          <a:xfrm>
            <a:off x="4621320" y="2050920"/>
            <a:ext cx="793800" cy="1800"/>
          </a:xfrm>
          <a:prstGeom prst="line">
            <a:avLst/>
          </a:prstGeom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1120" y="336600"/>
            <a:ext cx="3963960" cy="4179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04040" y="652320"/>
            <a:ext cx="4251240" cy="336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6600" y="264960"/>
            <a:ext cx="10079280" cy="7089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12760" y="463680"/>
            <a:ext cx="9790200" cy="11379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このいぬ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_F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あし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_F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みじか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4" name=""/>
          <p:cNvSpPr/>
          <p:nvPr/>
        </p:nvSpPr>
        <p:spPr>
          <a:xfrm>
            <a:off x="2000160" y="5079960"/>
            <a:ext cx="7683480" cy="10987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 fill="hold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6600" y="264960"/>
            <a:ext cx="10079280" cy="70898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12760" y="463680"/>
            <a:ext cx="9790200" cy="11379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このいぬ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あし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みじか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7" name=""/>
          <p:cNvSpPr/>
          <p:nvPr/>
        </p:nvSpPr>
        <p:spPr>
          <a:xfrm>
            <a:off x="2000160" y="5079960"/>
            <a:ext cx="7683480" cy="10987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dur="indefinite" fill="hold">
                      <p:stCondLst>
                        <p:cond delay="indefinite"/>
                      </p:stCondLst>
                      <p:childTnLst>
                        <p:par>
                          <p:cTn id="3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6600" y="264960"/>
            <a:ext cx="10079280" cy="7089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12760" y="463680"/>
            <a:ext cx="9790200" cy="11379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このいぬ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_F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お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_F'04"/>
              </a:rPr>
              <a:t>も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みじか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0" name=""/>
          <p:cNvSpPr/>
          <p:nvPr/>
        </p:nvSpPr>
        <p:spPr>
          <a:xfrm>
            <a:off x="8904240" y="3400560"/>
            <a:ext cx="754200" cy="7668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dur="indefinite" fill="hold">
                      <p:stCondLst>
                        <p:cond delay="indefinite"/>
                      </p:stCondLst>
                      <p:childTnLst>
                        <p:par>
                          <p:cTn id="3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 fill="hold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6600" y="264960"/>
            <a:ext cx="10079280" cy="70898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12760" y="463680"/>
            <a:ext cx="9790200" cy="11379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このいぬ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お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も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みじか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3" name=""/>
          <p:cNvSpPr/>
          <p:nvPr/>
        </p:nvSpPr>
        <p:spPr>
          <a:xfrm>
            <a:off x="8904240" y="3400560"/>
            <a:ext cx="754200" cy="7668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dur="indefinite" fill="hold">
                      <p:stCondLst>
                        <p:cond delay="indefinite"/>
                      </p:stCondLst>
                      <p:childTnLst>
                        <p:par>
                          <p:cTn id="3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 fill="hold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359320" y="1282680"/>
            <a:ext cx="4111560" cy="4977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8040" y="1089000"/>
            <a:ext cx="4564080" cy="50626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879480" y="4762440"/>
            <a:ext cx="1862280" cy="21859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59320" y="1282680"/>
            <a:ext cx="4111560" cy="4977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08040" y="1089000"/>
            <a:ext cx="4564080" cy="50626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794720" y="3673440"/>
            <a:ext cx="1807920" cy="18162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917720" y="185760"/>
            <a:ext cx="3214800" cy="66675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1" name=""/>
          <p:cNvSpPr/>
          <p:nvPr/>
        </p:nvSpPr>
        <p:spPr>
          <a:xfrm>
            <a:off x="4730760" y="334800"/>
            <a:ext cx="5092560" cy="107640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せ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_F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たか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394000" y="1409760"/>
            <a:ext cx="2286000" cy="7559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4967280" y="2584440"/>
            <a:ext cx="2206800" cy="639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dur="indefinite" fill="hold">
                      <p:stCondLst>
                        <p:cond delay="indefinite"/>
                      </p:stCondLst>
                      <p:childTnLst>
                        <p:par>
                          <p:cTn id="3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 fill="hold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917720" y="185760"/>
            <a:ext cx="3214800" cy="66675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5" name=""/>
          <p:cNvSpPr/>
          <p:nvPr/>
        </p:nvSpPr>
        <p:spPr>
          <a:xfrm>
            <a:off x="4730760" y="334800"/>
            <a:ext cx="5092560" cy="107640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せ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たか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394000" y="1409760"/>
            <a:ext cx="2286000" cy="75596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4967280" y="2584440"/>
            <a:ext cx="2206800" cy="639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dur="indefinite" fill="hold">
                      <p:stCondLst>
                        <p:cond delay="indefinite"/>
                      </p:stCondLst>
                      <p:childTnLst>
                        <p:par>
                          <p:cTn id="3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 fill="hold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967280" y="2565360"/>
            <a:ext cx="2244600" cy="64166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106960" y="1415880"/>
            <a:ext cx="2540160" cy="58485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0" name=""/>
          <p:cNvSpPr/>
          <p:nvPr/>
        </p:nvSpPr>
        <p:spPr>
          <a:xfrm>
            <a:off x="4730760" y="334800"/>
            <a:ext cx="5092560" cy="107640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せ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_F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ひく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2414520" y="1430280"/>
            <a:ext cx="228600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dur="indefinite" fill="hold">
                      <p:stCondLst>
                        <p:cond delay="indefinite"/>
                      </p:stCondLst>
                      <p:childTnLst>
                        <p:par>
                          <p:cTn id="3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 fill="hold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967280" y="2565360"/>
            <a:ext cx="2244600" cy="64166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106960" y="1415880"/>
            <a:ext cx="2540160" cy="58485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4" name=""/>
          <p:cNvSpPr/>
          <p:nvPr/>
        </p:nvSpPr>
        <p:spPr>
          <a:xfrm>
            <a:off x="4730760" y="334800"/>
            <a:ext cx="5092560" cy="107640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せ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ひく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2414520" y="1430280"/>
            <a:ext cx="228600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dur="indefinite" fill="hold">
                      <p:stCondLst>
                        <p:cond delay="indefinite"/>
                      </p:stCondLst>
                      <p:childTnLst>
                        <p:par>
                          <p:cTn id="3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 fill="hold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2360" y="4695840"/>
            <a:ext cx="9458280" cy="146844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あさ、おき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て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、ごはんをたべま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4" name=""/>
          <p:cNvSpPr/>
          <p:nvPr/>
        </p:nvSpPr>
        <p:spPr>
          <a:xfrm>
            <a:off x="4621320" y="2050920"/>
            <a:ext cx="793800" cy="1800"/>
          </a:xfrm>
          <a:prstGeom prst="line">
            <a:avLst/>
          </a:prstGeom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1120" y="336600"/>
            <a:ext cx="3963960" cy="4179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504040" y="652320"/>
            <a:ext cx="4251240" cy="336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389400" y="2679840"/>
            <a:ext cx="2155680" cy="16002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7" name=""/>
          <p:cNvSpPr/>
          <p:nvPr/>
        </p:nvSpPr>
        <p:spPr>
          <a:xfrm>
            <a:off x="3440160" y="5211720"/>
            <a:ext cx="1746360" cy="1428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8" name=""/>
          <p:cNvSpPr/>
          <p:nvPr/>
        </p:nvSpPr>
        <p:spPr>
          <a:xfrm>
            <a:off x="212760" y="608040"/>
            <a:ext cx="9867960" cy="143820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ロランさん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きょうこさん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より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9" name=""/>
          <p:cNvSpPr/>
          <p:nvPr/>
        </p:nvSpPr>
        <p:spPr>
          <a:xfrm>
            <a:off x="4024440" y="5578560"/>
            <a:ext cx="6476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139760" y="1949400"/>
            <a:ext cx="2203560" cy="27306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695160" y="4721400"/>
            <a:ext cx="2346480" cy="28382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218120" y="3206880"/>
            <a:ext cx="5824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dur="indefinite" fill="hold">
                      <p:stCondLst>
                        <p:cond delay="indefinite"/>
                      </p:stCondLst>
                      <p:childTnLst>
                        <p:par>
                          <p:cTn id="3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 fill="hold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389400" y="2679840"/>
            <a:ext cx="2155680" cy="16002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4" name=""/>
          <p:cNvSpPr/>
          <p:nvPr/>
        </p:nvSpPr>
        <p:spPr>
          <a:xfrm>
            <a:off x="3440160" y="5211720"/>
            <a:ext cx="1746360" cy="1428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5" name=""/>
          <p:cNvSpPr/>
          <p:nvPr/>
        </p:nvSpPr>
        <p:spPr>
          <a:xfrm>
            <a:off x="212760" y="608040"/>
            <a:ext cx="9867960" cy="143820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ロランさん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きょうこさん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より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とし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うえ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6" name=""/>
          <p:cNvSpPr/>
          <p:nvPr/>
        </p:nvSpPr>
        <p:spPr>
          <a:xfrm>
            <a:off x="4024440" y="5578560"/>
            <a:ext cx="6476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139760" y="1949400"/>
            <a:ext cx="2203560" cy="27306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95160" y="4721400"/>
            <a:ext cx="2346480" cy="28382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218120" y="3206880"/>
            <a:ext cx="5824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dur="indefinite" fill="hold">
                      <p:stCondLst>
                        <p:cond delay="indefinite"/>
                      </p:stCondLst>
                      <p:childTnLst>
                        <p:par>
                          <p:cTn id="3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 fill="hold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389400" y="2679840"/>
            <a:ext cx="2155680" cy="16002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1" name=""/>
          <p:cNvSpPr/>
          <p:nvPr/>
        </p:nvSpPr>
        <p:spPr>
          <a:xfrm>
            <a:off x="3440160" y="5211720"/>
            <a:ext cx="1746360" cy="1428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2" name=""/>
          <p:cNvSpPr/>
          <p:nvPr/>
        </p:nvSpPr>
        <p:spPr>
          <a:xfrm>
            <a:off x="212760" y="608040"/>
            <a:ext cx="9867960" cy="143820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きょうこさん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ロランさん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より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3" name=""/>
          <p:cNvSpPr/>
          <p:nvPr/>
        </p:nvSpPr>
        <p:spPr>
          <a:xfrm>
            <a:off x="4024440" y="5578560"/>
            <a:ext cx="6476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139760" y="1949400"/>
            <a:ext cx="2203560" cy="27306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695160" y="4721400"/>
            <a:ext cx="2346480" cy="28382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4218120" y="3206880"/>
            <a:ext cx="5824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dur="indefinite" fill="hold">
                      <p:stCondLst>
                        <p:cond delay="indefinite"/>
                      </p:stCondLst>
                      <p:childTnLst>
                        <p:par>
                          <p:cTn id="4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 fill="hold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389400" y="2679840"/>
            <a:ext cx="2155680" cy="16002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8" name=""/>
          <p:cNvSpPr/>
          <p:nvPr/>
        </p:nvSpPr>
        <p:spPr>
          <a:xfrm>
            <a:off x="3440160" y="5211720"/>
            <a:ext cx="1746360" cy="1428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9" name=""/>
          <p:cNvSpPr/>
          <p:nvPr/>
        </p:nvSpPr>
        <p:spPr>
          <a:xfrm>
            <a:off x="212760" y="608040"/>
            <a:ext cx="9867960" cy="143820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きょうこさん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ロランさん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より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とし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した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0" name=""/>
          <p:cNvSpPr/>
          <p:nvPr/>
        </p:nvSpPr>
        <p:spPr>
          <a:xfrm>
            <a:off x="4024440" y="5578560"/>
            <a:ext cx="6476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139760" y="1949400"/>
            <a:ext cx="2203560" cy="27306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695160" y="4721400"/>
            <a:ext cx="2346480" cy="28382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4218120" y="3206880"/>
            <a:ext cx="5824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dur="indefinite" fill="hold">
                      <p:stCondLst>
                        <p:cond delay="indefinite"/>
                      </p:stCondLst>
                      <p:childTnLst>
                        <p:par>
                          <p:cTn id="4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 fill="hold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556080" y="2705040"/>
            <a:ext cx="1746000" cy="1428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5" name=""/>
          <p:cNvSpPr/>
          <p:nvPr/>
        </p:nvSpPr>
        <p:spPr>
          <a:xfrm>
            <a:off x="212760" y="608040"/>
            <a:ext cx="9867960" cy="143820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きょうこさん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と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なつみさん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6" name=""/>
          <p:cNvSpPr/>
          <p:nvPr/>
        </p:nvSpPr>
        <p:spPr>
          <a:xfrm>
            <a:off x="3556080" y="2705040"/>
            <a:ext cx="1746000" cy="1428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3071880"/>
            <a:ext cx="6476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811080" y="2212920"/>
            <a:ext cx="2346480" cy="28386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2940120" y="5392800"/>
            <a:ext cx="2408040" cy="20224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5402160" y="5834160"/>
            <a:ext cx="1746360" cy="14284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1" name=""/>
          <p:cNvSpPr/>
          <p:nvPr/>
        </p:nvSpPr>
        <p:spPr>
          <a:xfrm>
            <a:off x="5402160" y="5834160"/>
            <a:ext cx="1746360" cy="14284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2" name=""/>
          <p:cNvSpPr/>
          <p:nvPr/>
        </p:nvSpPr>
        <p:spPr>
          <a:xfrm>
            <a:off x="5986440" y="6200640"/>
            <a:ext cx="6476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dur="indefinite" fill="hold">
                      <p:stCondLst>
                        <p:cond delay="indefinite"/>
                      </p:stCondLst>
                      <p:childTnLst>
                        <p:par>
                          <p:cTn id="4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 fill="hold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556080" y="2705040"/>
            <a:ext cx="1746000" cy="1428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4" name=""/>
          <p:cNvSpPr/>
          <p:nvPr/>
        </p:nvSpPr>
        <p:spPr>
          <a:xfrm>
            <a:off x="212760" y="608040"/>
            <a:ext cx="9867960" cy="143820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きょうこさん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と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なつみさん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.OzN_'04"/>
                <a:ea typeface="Y.OzN_'04"/>
              </a:rPr>
              <a:t>おなじ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とし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5" name=""/>
          <p:cNvSpPr/>
          <p:nvPr/>
        </p:nvSpPr>
        <p:spPr>
          <a:xfrm>
            <a:off x="3556080" y="2705040"/>
            <a:ext cx="1746000" cy="1428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6" name=""/>
          <p:cNvSpPr/>
          <p:nvPr/>
        </p:nvSpPr>
        <p:spPr>
          <a:xfrm>
            <a:off x="4140360" y="3071880"/>
            <a:ext cx="6476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811080" y="2212920"/>
            <a:ext cx="2346480" cy="28386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2940120" y="5392800"/>
            <a:ext cx="2408040" cy="20224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402160" y="5834160"/>
            <a:ext cx="1746360" cy="14284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0" name=""/>
          <p:cNvSpPr/>
          <p:nvPr/>
        </p:nvSpPr>
        <p:spPr>
          <a:xfrm>
            <a:off x="5402160" y="5834160"/>
            <a:ext cx="1746360" cy="14284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1" name=""/>
          <p:cNvSpPr/>
          <p:nvPr/>
        </p:nvSpPr>
        <p:spPr>
          <a:xfrm>
            <a:off x="5986440" y="6200640"/>
            <a:ext cx="6476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08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dur="indefinite" fill="hold">
                      <p:stCondLst>
                        <p:cond delay="indefinite"/>
                      </p:stCondLst>
                      <p:childTnLst>
                        <p:par>
                          <p:cTn id="4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 fill="hold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6160" y="423720"/>
            <a:ext cx="9789840" cy="11383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にほん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やま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おお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17520" y="1393920"/>
            <a:ext cx="9225000" cy="66261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309840" y="5062680"/>
            <a:ext cx="1646280" cy="9442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6202440" y="3440160"/>
            <a:ext cx="1646280" cy="9446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4332240" y="4780080"/>
            <a:ext cx="1646280" cy="9442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5991120" y="4038480"/>
            <a:ext cx="1646280" cy="9446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6"/>
          <a:stretch/>
        </p:blipFill>
        <p:spPr>
          <a:xfrm>
            <a:off x="4351320" y="5291280"/>
            <a:ext cx="1646280" cy="9442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7"/>
          <a:stretch/>
        </p:blipFill>
        <p:spPr>
          <a:xfrm>
            <a:off x="5956200" y="4710240"/>
            <a:ext cx="1646280" cy="9442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8"/>
          <a:stretch/>
        </p:blipFill>
        <p:spPr>
          <a:xfrm>
            <a:off x="2357280" y="5149800"/>
            <a:ext cx="1646280" cy="9446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9"/>
          <a:stretch/>
        </p:blipFill>
        <p:spPr>
          <a:xfrm>
            <a:off x="1511280" y="5203800"/>
            <a:ext cx="1646280" cy="944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10"/>
          <a:stretch/>
        </p:blipFill>
        <p:spPr>
          <a:xfrm>
            <a:off x="7102440" y="1711440"/>
            <a:ext cx="1646280" cy="9442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11"/>
          <a:stretch/>
        </p:blipFill>
        <p:spPr>
          <a:xfrm>
            <a:off x="682560" y="6402240"/>
            <a:ext cx="1646280" cy="9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dur="indefinite" fill="hold">
                      <p:stCondLst>
                        <p:cond delay="indefinite"/>
                      </p:stCondLst>
                      <p:childTnLst>
                        <p:par>
                          <p:cTn id="4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 fill="hold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46160" y="423720"/>
            <a:ext cx="9789840" cy="11383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にほん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やま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おお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17520" y="1393920"/>
            <a:ext cx="9225000" cy="66261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3309840" y="5062680"/>
            <a:ext cx="1646280" cy="9442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6202440" y="3440160"/>
            <a:ext cx="1646280" cy="9446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332240" y="4780080"/>
            <a:ext cx="1646280" cy="944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5991120" y="4038480"/>
            <a:ext cx="1646280" cy="9446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6"/>
          <a:stretch/>
        </p:blipFill>
        <p:spPr>
          <a:xfrm>
            <a:off x="4351320" y="5291280"/>
            <a:ext cx="1646280" cy="9442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7"/>
          <a:stretch/>
        </p:blipFill>
        <p:spPr>
          <a:xfrm>
            <a:off x="5956200" y="4710240"/>
            <a:ext cx="1646280" cy="9442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8"/>
          <a:stretch/>
        </p:blipFill>
        <p:spPr>
          <a:xfrm>
            <a:off x="2357280" y="5149800"/>
            <a:ext cx="1646280" cy="9446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9"/>
          <a:stretch/>
        </p:blipFill>
        <p:spPr>
          <a:xfrm>
            <a:off x="1511280" y="5203800"/>
            <a:ext cx="1646280" cy="9446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0"/>
          <a:stretch/>
        </p:blipFill>
        <p:spPr>
          <a:xfrm>
            <a:off x="7102440" y="1711440"/>
            <a:ext cx="1646280" cy="9442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1"/>
          <a:stretch/>
        </p:blipFill>
        <p:spPr>
          <a:xfrm>
            <a:off x="682560" y="6402240"/>
            <a:ext cx="1646280" cy="9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dur="indefinite" fill="hold">
                      <p:stCondLst>
                        <p:cond delay="indefinite"/>
                      </p:stCondLst>
                      <p:childTnLst>
                        <p:par>
                          <p:cTn id="4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 fill="hold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44360" y="423720"/>
            <a:ext cx="9790200" cy="11383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ボルドー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_F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くるま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_F'04"/>
                <a:ea typeface="Y.Oz_F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_F'04"/>
                <a:ea typeface="Y.Oz_F'04"/>
              </a:rPr>
              <a:t>おお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92080" y="2770200"/>
            <a:ext cx="2036880" cy="12175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630680" y="5310360"/>
            <a:ext cx="2036880" cy="12175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2320920" y="4145040"/>
            <a:ext cx="2036880" cy="12175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4313160" y="2805120"/>
            <a:ext cx="2036880" cy="12175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5"/>
          <a:stretch/>
        </p:blipFill>
        <p:spPr>
          <a:xfrm>
            <a:off x="6872400" y="5415120"/>
            <a:ext cx="2036520" cy="12175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6"/>
          <a:stretch/>
        </p:blipFill>
        <p:spPr>
          <a:xfrm>
            <a:off x="6607080" y="3844800"/>
            <a:ext cx="2036880" cy="12178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7"/>
          <a:stretch/>
        </p:blipFill>
        <p:spPr>
          <a:xfrm>
            <a:off x="2320920" y="1569960"/>
            <a:ext cx="2036880" cy="12175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8"/>
          <a:stretch/>
        </p:blipFill>
        <p:spPr>
          <a:xfrm>
            <a:off x="1790640" y="5769000"/>
            <a:ext cx="2036880" cy="12175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6014880" y="1940040"/>
            <a:ext cx="42786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Y.Oz_F'04"/>
              </a:rPr>
              <a:t>BORDEAUX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dur="indefinite" fill="hold">
                      <p:stCondLst>
                        <p:cond delay="indefinite"/>
                      </p:stCondLst>
                      <p:childTnLst>
                        <p:par>
                          <p:cTn id="4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 fill="hold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44360" y="423720"/>
            <a:ext cx="9790200" cy="11383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ボルドー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くるま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おお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892080" y="2770200"/>
            <a:ext cx="2036880" cy="12175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4630680" y="5310360"/>
            <a:ext cx="2036880" cy="12175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2320920" y="4145040"/>
            <a:ext cx="2036880" cy="1217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>
            <a:off x="4313160" y="2805120"/>
            <a:ext cx="2036880" cy="12175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5"/>
          <a:stretch/>
        </p:blipFill>
        <p:spPr>
          <a:xfrm>
            <a:off x="6872400" y="5415120"/>
            <a:ext cx="2036520" cy="12175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6"/>
          <a:stretch/>
        </p:blipFill>
        <p:spPr>
          <a:xfrm>
            <a:off x="6607080" y="3844800"/>
            <a:ext cx="2036880" cy="12178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7"/>
          <a:stretch/>
        </p:blipFill>
        <p:spPr>
          <a:xfrm>
            <a:off x="2320920" y="1569960"/>
            <a:ext cx="2036880" cy="12175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8"/>
          <a:stretch/>
        </p:blipFill>
        <p:spPr>
          <a:xfrm>
            <a:off x="1790640" y="5769000"/>
            <a:ext cx="2036880" cy="12175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6014880" y="1940040"/>
            <a:ext cx="42786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Y.Oz_F'04"/>
              </a:rPr>
              <a:t>BORDEAUX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dur="indefinite" fill="hold">
                      <p:stCondLst>
                        <p:cond delay="indefinite"/>
                      </p:stCondLst>
                      <p:childTnLst>
                        <p:par>
                          <p:cTn id="4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 fill="hold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7280" y="4554360"/>
            <a:ext cx="9458280" cy="146844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8" name=""/>
          <p:cNvSpPr/>
          <p:nvPr/>
        </p:nvSpPr>
        <p:spPr>
          <a:xfrm>
            <a:off x="2646360" y="1820880"/>
            <a:ext cx="793800" cy="1440"/>
          </a:xfrm>
          <a:prstGeom prst="line">
            <a:avLst/>
          </a:prstGeom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2360" y="336600"/>
            <a:ext cx="2570040" cy="2855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386160" y="882720"/>
            <a:ext cx="2698560" cy="2046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803920" y="1820880"/>
            <a:ext cx="793800" cy="1440"/>
          </a:xfrm>
          <a:prstGeom prst="line">
            <a:avLst/>
          </a:prstGeom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431200" y="285840"/>
            <a:ext cx="1517760" cy="1195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flipV="1">
            <a:off x="7761240" y="1424160"/>
            <a:ext cx="1441440" cy="6602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708600" y="565200"/>
            <a:ext cx="1035360" cy="265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90520" y="1374840"/>
            <a:ext cx="9790200" cy="11383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ボルドー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ワイン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ゆうめ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7" name=""/>
          <p:cNvSpPr/>
          <p:nvPr/>
        </p:nvSpPr>
        <p:spPr>
          <a:xfrm>
            <a:off x="4457880" y="3611520"/>
            <a:ext cx="1693800" cy="112392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55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Kochi Gothic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8" name=""/>
          <p:cNvSpPr/>
          <p:nvPr/>
        </p:nvSpPr>
        <p:spPr>
          <a:xfrm>
            <a:off x="290520" y="4808520"/>
            <a:ext cx="9790200" cy="11383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ーさんのまち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なに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ゆうめいですか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9" name=""/>
          <p:cNvSpPr/>
          <p:nvPr/>
        </p:nvSpPr>
        <p:spPr>
          <a:xfrm>
            <a:off x="1158840" y="704880"/>
            <a:ext cx="79596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29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BORDEAUX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ja-JP" sz="4800" spc="-1" strike="noStrike">
                <a:solidFill>
                  <a:srgbClr val="000000"/>
                </a:solidFill>
                <a:latin typeface="mikachan"/>
                <a:ea typeface="mikachan"/>
              </a:rPr>
              <a:t>ゆうめい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0" name=""/>
          <p:cNvSpPr/>
          <p:nvPr/>
        </p:nvSpPr>
        <p:spPr>
          <a:xfrm>
            <a:off x="1160640" y="704880"/>
            <a:ext cx="79596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29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BORDEAUX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ja-JP" sz="4800" spc="-1" strike="noStrike">
                <a:solidFill>
                  <a:srgbClr val="000000"/>
                </a:solidFill>
                <a:latin typeface="mikachan"/>
                <a:ea typeface="mikachan"/>
              </a:rPr>
              <a:t>ゆうめい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1" name=""/>
          <p:cNvSpPr/>
          <p:nvPr/>
        </p:nvSpPr>
        <p:spPr>
          <a:xfrm>
            <a:off x="600120" y="3995640"/>
            <a:ext cx="79596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29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mikachan"/>
                <a:ea typeface="mikachan"/>
              </a:rPr>
              <a:t>ーさんのまち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ja-JP" sz="4800" spc="-1" strike="noStrike">
                <a:solidFill>
                  <a:srgbClr val="000000"/>
                </a:solidFill>
                <a:latin typeface="mikachan"/>
                <a:ea typeface="mikachan"/>
              </a:rPr>
              <a:t>ゆうめい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dur="indefinite" fill="hold">
                      <p:stCondLst>
                        <p:cond delay="indefinite"/>
                      </p:stCondLst>
                      <p:childTnLst>
                        <p:par>
                          <p:cTn id="4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 fill="hold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dur="indefinite" fill="hold">
                      <p:stCondLst>
                        <p:cond delay="indefinite"/>
                      </p:stCondLst>
                      <p:childTnLst>
                        <p:par>
                          <p:cTn id="4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dur="indefinite" fill="hold">
                      <p:stCondLst>
                        <p:cond delay="indefinite"/>
                      </p:stCondLst>
                      <p:childTnLst>
                        <p:par>
                          <p:cTn id="4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 fill="hold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90520" y="1374840"/>
            <a:ext cx="9790200" cy="11383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ボルドー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ワイン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ゆうめ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3" name=""/>
          <p:cNvSpPr/>
          <p:nvPr/>
        </p:nvSpPr>
        <p:spPr>
          <a:xfrm>
            <a:off x="4457880" y="3611520"/>
            <a:ext cx="1693800" cy="112392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55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Kochi Gothic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4" name=""/>
          <p:cNvSpPr/>
          <p:nvPr/>
        </p:nvSpPr>
        <p:spPr>
          <a:xfrm>
            <a:off x="290520" y="4808520"/>
            <a:ext cx="9790200" cy="11383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ーさんのまち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は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なに</a:t>
            </a:r>
            <a:r>
              <a:rPr b="0" lang="ja-JP" sz="4400" spc="-1" strike="noStrike" u="sng">
                <a:solidFill>
                  <a:srgbClr val="800000"/>
                </a:solidFill>
                <a:uFillTx/>
                <a:latin typeface="Y.OzN_'04"/>
                <a:ea typeface="Y.OzN_'04"/>
              </a:rPr>
              <a:t>が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ゆうめいですか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5" name=""/>
          <p:cNvSpPr/>
          <p:nvPr/>
        </p:nvSpPr>
        <p:spPr>
          <a:xfrm>
            <a:off x="1158840" y="704880"/>
            <a:ext cx="79596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29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BORDEAUX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ja-JP" sz="4800" spc="-1" strike="noStrike">
                <a:solidFill>
                  <a:srgbClr val="000000"/>
                </a:solidFill>
                <a:latin typeface="mikachan"/>
                <a:ea typeface="mikachan"/>
              </a:rPr>
              <a:t>ゆうめい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6" name=""/>
          <p:cNvSpPr/>
          <p:nvPr/>
        </p:nvSpPr>
        <p:spPr>
          <a:xfrm>
            <a:off x="1160640" y="704880"/>
            <a:ext cx="79596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29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BORDEAUX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ja-JP" sz="4800" spc="-1" strike="noStrike">
                <a:solidFill>
                  <a:srgbClr val="000000"/>
                </a:solidFill>
                <a:latin typeface="mikachan"/>
                <a:ea typeface="mikachan"/>
              </a:rPr>
              <a:t>ゆうめい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7" name=""/>
          <p:cNvSpPr/>
          <p:nvPr/>
        </p:nvSpPr>
        <p:spPr>
          <a:xfrm>
            <a:off x="600120" y="3995640"/>
            <a:ext cx="79596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29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mikachan"/>
                <a:ea typeface="mikachan"/>
              </a:rPr>
              <a:t>ーさんのまち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mikachan"/>
                <a:ea typeface="mikachan"/>
              </a:rPr>
              <a:t>	</a:t>
            </a:r>
            <a:r>
              <a:rPr b="0" lang="ja-JP" sz="4800" spc="-1" strike="noStrike">
                <a:solidFill>
                  <a:srgbClr val="000000"/>
                </a:solidFill>
                <a:latin typeface="mikachan"/>
                <a:ea typeface="mikachan"/>
              </a:rPr>
              <a:t>ゆうめい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dur="indefinite" fill="hold">
                      <p:stCondLst>
                        <p:cond delay="indefinite"/>
                      </p:stCondLst>
                      <p:childTnLst>
                        <p:par>
                          <p:cTn id="4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 fill="hold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dur="indefinite" fill="hold">
                      <p:stCondLst>
                        <p:cond delay="indefinite"/>
                      </p:stCondLst>
                      <p:childTnLst>
                        <p:par>
                          <p:cTn id="4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dur="indefinite" fill="hold">
                      <p:stCondLst>
                        <p:cond delay="indefinite"/>
                      </p:stCondLst>
                      <p:childTnLst>
                        <p:par>
                          <p:cTn id="4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 fill="hold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809640" y="744480"/>
            <a:ext cx="1906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85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TGV</a:t>
            </a:r>
            <a:r>
              <a:rPr b="0" lang="ja-JP" sz="60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は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387360" y="2373480"/>
            <a:ext cx="4059360" cy="1368360"/>
            <a:chOff x="387360" y="2373480"/>
            <a:chExt cx="4059360" cy="1368360"/>
          </a:xfrm>
        </p:grpSpPr>
        <p:sp>
          <p:nvSpPr>
            <p:cNvPr id="400" name=""/>
            <p:cNvSpPr/>
            <p:nvPr/>
          </p:nvSpPr>
          <p:spPr>
            <a:xfrm>
              <a:off x="387360" y="2373480"/>
              <a:ext cx="4059360" cy="136836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852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たかいです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807160" y="2387520"/>
            <a:ext cx="4002120" cy="1327320"/>
            <a:chOff x="5807160" y="2387520"/>
            <a:chExt cx="4002120" cy="1327320"/>
          </a:xfrm>
        </p:grpSpPr>
        <p:sp>
          <p:nvSpPr>
            <p:cNvPr id="402" name=""/>
            <p:cNvSpPr/>
            <p:nvPr/>
          </p:nvSpPr>
          <p:spPr>
            <a:xfrm>
              <a:off x="5807160" y="2387520"/>
              <a:ext cx="4002120" cy="132732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852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べんりです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217600" y="378288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7175520" y="379584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552920" y="2440080"/>
            <a:ext cx="1160640" cy="1160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71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0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が</a:t>
            </a:r>
            <a:endParaRPr b="0" lang="en-US" sz="8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6" name=""/>
          <p:cNvSpPr/>
          <p:nvPr/>
        </p:nvSpPr>
        <p:spPr>
          <a:xfrm>
            <a:off x="3600360" y="4370400"/>
            <a:ext cx="3392640" cy="1440"/>
          </a:xfrm>
          <a:prstGeom prst="line">
            <a:avLst/>
          </a:prstGeom>
          <a:ln w="10800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dur="indefinite" fill="hold">
                      <p:stCondLst>
                        <p:cond delay="indefinite"/>
                      </p:stCondLst>
                      <p:childTnLst>
                        <p:par>
                          <p:cTn id="4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809640" y="744480"/>
            <a:ext cx="1906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85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TGV</a:t>
            </a:r>
            <a:r>
              <a:rPr b="0" lang="ja-JP" sz="60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は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87360" y="2373480"/>
            <a:ext cx="4059360" cy="1368360"/>
            <a:chOff x="387360" y="2373480"/>
            <a:chExt cx="4059360" cy="1368360"/>
          </a:xfrm>
        </p:grpSpPr>
        <p:sp>
          <p:nvSpPr>
            <p:cNvPr id="409" name=""/>
            <p:cNvSpPr/>
            <p:nvPr/>
          </p:nvSpPr>
          <p:spPr>
            <a:xfrm>
              <a:off x="387360" y="2373480"/>
              <a:ext cx="4059360" cy="136836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852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たかいです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807160" y="2387520"/>
            <a:ext cx="4002120" cy="1327320"/>
            <a:chOff x="5807160" y="2387520"/>
            <a:chExt cx="4002120" cy="1327320"/>
          </a:xfrm>
        </p:grpSpPr>
        <p:sp>
          <p:nvSpPr>
            <p:cNvPr id="411" name=""/>
            <p:cNvSpPr/>
            <p:nvPr/>
          </p:nvSpPr>
          <p:spPr>
            <a:xfrm>
              <a:off x="5807160" y="2387520"/>
              <a:ext cx="4002120" cy="132732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852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べんりです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2217600" y="378288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7175520" y="379584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4552920" y="2440080"/>
            <a:ext cx="1160640" cy="1160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71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0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が</a:t>
            </a:r>
            <a:endParaRPr b="0" lang="en-US" sz="8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5" name=""/>
          <p:cNvSpPr/>
          <p:nvPr/>
        </p:nvSpPr>
        <p:spPr>
          <a:xfrm>
            <a:off x="3600360" y="4370400"/>
            <a:ext cx="3392640" cy="1440"/>
          </a:xfrm>
          <a:prstGeom prst="line">
            <a:avLst/>
          </a:prstGeom>
          <a:ln w="10800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dur="indefinite" fill="hold">
                      <p:stCondLst>
                        <p:cond delay="indefinite"/>
                      </p:stCondLst>
                      <p:childTnLst>
                        <p:par>
                          <p:cTn id="5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376200" y="1488960"/>
            <a:ext cx="1706760" cy="22608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1143000" y="2108160"/>
            <a:ext cx="1652760" cy="13399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2548080" y="1496880"/>
            <a:ext cx="1484280" cy="12430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2484360" y="2003400"/>
            <a:ext cx="1287720" cy="18064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809640" y="744480"/>
            <a:ext cx="380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85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まいにち、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5"/>
          <a:stretch/>
        </p:blipFill>
        <p:spPr>
          <a:xfrm>
            <a:off x="1289160" y="1789200"/>
            <a:ext cx="2298600" cy="29066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6"/>
          <a:stretch/>
        </p:blipFill>
        <p:spPr>
          <a:xfrm>
            <a:off x="2205000" y="533556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7"/>
          <a:stretch/>
        </p:blipFill>
        <p:spPr>
          <a:xfrm>
            <a:off x="7162920" y="5348160"/>
            <a:ext cx="1123920" cy="1123920"/>
          </a:xfrm>
          <a:prstGeom prst="rect">
            <a:avLst/>
          </a:prstGeom>
          <a:ln w="0">
            <a:noFill/>
          </a:ln>
        </p:spPr>
      </p:pic>
      <p:grpSp>
        <p:nvGrpSpPr>
          <p:cNvPr id="424" name=""/>
          <p:cNvGrpSpPr/>
          <p:nvPr/>
        </p:nvGrpSpPr>
        <p:grpSpPr>
          <a:xfrm>
            <a:off x="96840" y="3794040"/>
            <a:ext cx="9699480" cy="1500120"/>
            <a:chOff x="96840" y="3794040"/>
            <a:chExt cx="9699480" cy="1500120"/>
          </a:xfrm>
        </p:grpSpPr>
        <p:grpSp>
          <p:nvGrpSpPr>
            <p:cNvPr id="425" name=""/>
            <p:cNvGrpSpPr/>
            <p:nvPr/>
          </p:nvGrpSpPr>
          <p:grpSpPr>
            <a:xfrm>
              <a:off x="96840" y="3794040"/>
              <a:ext cx="4336920" cy="1500120"/>
              <a:chOff x="96840" y="3794040"/>
              <a:chExt cx="4336920" cy="1500120"/>
            </a:xfrm>
          </p:grpSpPr>
          <p:sp>
            <p:nvSpPr>
              <p:cNvPr id="426" name=""/>
              <p:cNvSpPr/>
              <p:nvPr/>
            </p:nvSpPr>
            <p:spPr>
              <a:xfrm>
                <a:off x="96840" y="3794040"/>
                <a:ext cx="4336920" cy="1500120"/>
              </a:xfrm>
              <a:prstGeom prst="roundRect">
                <a:avLst>
                  <a:gd name="adj" fmla="val 102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5794200" y="3940200"/>
              <a:ext cx="4002120" cy="1326960"/>
              <a:chOff x="5794200" y="3940200"/>
              <a:chExt cx="4002120" cy="1326960"/>
            </a:xfrm>
          </p:grpSpPr>
          <p:sp>
            <p:nvSpPr>
              <p:cNvPr id="428" name=""/>
              <p:cNvSpPr/>
              <p:nvPr/>
            </p:nvSpPr>
            <p:spPr>
              <a:xfrm>
                <a:off x="5794200" y="3940200"/>
                <a:ext cx="4002120" cy="1326960"/>
              </a:xfrm>
              <a:prstGeom prst="roundRect">
                <a:avLst>
                  <a:gd name="adj" fmla="val 116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4540320" y="3992400"/>
              <a:ext cx="1157040" cy="11574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3587760" y="5924520"/>
            <a:ext cx="3392640" cy="1440"/>
          </a:xfrm>
          <a:prstGeom prst="line">
            <a:avLst/>
          </a:prstGeom>
          <a:ln w="10800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8"/>
          <a:stretch/>
        </p:blipFill>
        <p:spPr>
          <a:xfrm>
            <a:off x="6716880" y="1373040"/>
            <a:ext cx="1307880" cy="24195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9"/>
          <a:stretch/>
        </p:blipFill>
        <p:spPr>
          <a:xfrm>
            <a:off x="7770960" y="2098800"/>
            <a:ext cx="449280" cy="10429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10"/>
          <a:stretch/>
        </p:blipFill>
        <p:spPr>
          <a:xfrm>
            <a:off x="6694560" y="2170080"/>
            <a:ext cx="449280" cy="10429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7972560" y="1128600"/>
            <a:ext cx="3063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29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8080"/>
                </a:solidFill>
                <a:latin typeface="mikachan"/>
                <a:ea typeface="mikachan"/>
              </a:rPr>
              <a:t>♪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5" name=""/>
          <p:cNvSpPr/>
          <p:nvPr/>
        </p:nvSpPr>
        <p:spPr>
          <a:xfrm>
            <a:off x="6280200" y="1270080"/>
            <a:ext cx="3063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29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8080"/>
                </a:solidFill>
                <a:latin typeface="mikachan"/>
                <a:ea typeface="mikachan"/>
              </a:rPr>
              <a:t>♪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6" name=""/>
          <p:cNvSpPr/>
          <p:nvPr/>
        </p:nvSpPr>
        <p:spPr>
          <a:xfrm>
            <a:off x="8078760" y="2292480"/>
            <a:ext cx="3063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29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8080"/>
                </a:solidFill>
                <a:latin typeface="mikachan"/>
                <a:ea typeface="mikachan"/>
              </a:rPr>
              <a:t>♪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dur="indefinite" fill="hold">
                      <p:stCondLst>
                        <p:cond delay="indefinite"/>
                      </p:stCondLst>
                      <p:childTnLst>
                        <p:par>
                          <p:cTn id="5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 fill="hold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376200" y="1488960"/>
            <a:ext cx="1706760" cy="22608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1143000" y="2108160"/>
            <a:ext cx="1652760" cy="13399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2548080" y="1496880"/>
            <a:ext cx="1484280" cy="12430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2484360" y="2003400"/>
            <a:ext cx="1287720" cy="18064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809640" y="744480"/>
            <a:ext cx="380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85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まいにち、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5"/>
          <a:stretch/>
        </p:blipFill>
        <p:spPr>
          <a:xfrm>
            <a:off x="1289160" y="1789200"/>
            <a:ext cx="2298600" cy="290664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6"/>
          <a:stretch/>
        </p:blipFill>
        <p:spPr>
          <a:xfrm>
            <a:off x="2205000" y="533556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7"/>
          <a:stretch/>
        </p:blipFill>
        <p:spPr>
          <a:xfrm>
            <a:off x="7162920" y="5348160"/>
            <a:ext cx="1123920" cy="112392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96840" y="3794040"/>
            <a:ext cx="9699480" cy="1500120"/>
            <a:chOff x="96840" y="3794040"/>
            <a:chExt cx="9699480" cy="1500120"/>
          </a:xfrm>
        </p:grpSpPr>
        <p:grpSp>
          <p:nvGrpSpPr>
            <p:cNvPr id="446" name=""/>
            <p:cNvGrpSpPr/>
            <p:nvPr/>
          </p:nvGrpSpPr>
          <p:grpSpPr>
            <a:xfrm>
              <a:off x="96840" y="3794040"/>
              <a:ext cx="4336920" cy="1500120"/>
              <a:chOff x="96840" y="3794040"/>
              <a:chExt cx="4336920" cy="1500120"/>
            </a:xfrm>
          </p:grpSpPr>
          <p:sp>
            <p:nvSpPr>
              <p:cNvPr id="447" name=""/>
              <p:cNvSpPr/>
              <p:nvPr/>
            </p:nvSpPr>
            <p:spPr>
              <a:xfrm>
                <a:off x="96840" y="3794040"/>
                <a:ext cx="4336920" cy="1500120"/>
              </a:xfrm>
              <a:prstGeom prst="roundRect">
                <a:avLst>
                  <a:gd name="adj" fmla="val 102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2960" bIns="0" anchor="ctr" anchorCtr="1">
                <a:noAutofit/>
              </a:bodyPr>
              <a:p>
                <a:pPr algn="ctr">
                  <a:lnSpc>
                    <a:spcPct val="8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ja-JP" sz="4800" spc="-1" strike="noStrike">
                    <a:solidFill>
                      <a:srgbClr val="000000"/>
                    </a:solidFill>
                    <a:latin typeface="みかちゃん"/>
                    <a:ea typeface="みかちゃん"/>
                  </a:rPr>
                  <a:t>たいへんです</a:t>
                </a:r>
                <a:endParaRPr b="0" lang="en-US" sz="48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5794200" y="3940200"/>
              <a:ext cx="4002120" cy="1326960"/>
              <a:chOff x="5794200" y="3940200"/>
              <a:chExt cx="4002120" cy="1326960"/>
            </a:xfrm>
          </p:grpSpPr>
          <p:sp>
            <p:nvSpPr>
              <p:cNvPr id="449" name=""/>
              <p:cNvSpPr/>
              <p:nvPr/>
            </p:nvSpPr>
            <p:spPr>
              <a:xfrm>
                <a:off x="5794200" y="3940200"/>
                <a:ext cx="4002120" cy="1326960"/>
              </a:xfrm>
              <a:prstGeom prst="roundRect">
                <a:avLst>
                  <a:gd name="adj" fmla="val 116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2960" bIns="0" anchor="ctr" anchorCtr="1">
                <a:noAutofit/>
              </a:bodyPr>
              <a:p>
                <a:pPr algn="ctr">
                  <a:lnSpc>
                    <a:spcPct val="8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ja-JP" sz="4800" spc="-1" strike="noStrike">
                    <a:solidFill>
                      <a:srgbClr val="000000"/>
                    </a:solidFill>
                    <a:latin typeface="みかちゃん"/>
                    <a:ea typeface="みかちゃん"/>
                  </a:rPr>
                  <a:t>たのしいです</a:t>
                </a:r>
                <a:endParaRPr b="0" lang="en-US" sz="48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4540320" y="3992400"/>
              <a:ext cx="1157040" cy="11574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136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 u="sng">
                  <a:solidFill>
                    <a:srgbClr val="ff0000"/>
                  </a:solidFill>
                  <a:uFillTx/>
                  <a:latin typeface="みかちゃん"/>
                  <a:ea typeface="みかちゃん"/>
                </a:rPr>
                <a:t>が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3587760" y="5924520"/>
            <a:ext cx="3392640" cy="1440"/>
          </a:xfrm>
          <a:prstGeom prst="line">
            <a:avLst/>
          </a:prstGeom>
          <a:ln w="10800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8"/>
          <a:stretch/>
        </p:blipFill>
        <p:spPr>
          <a:xfrm>
            <a:off x="6716880" y="1373040"/>
            <a:ext cx="1307880" cy="24195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9"/>
          <a:stretch/>
        </p:blipFill>
        <p:spPr>
          <a:xfrm>
            <a:off x="7770960" y="2098800"/>
            <a:ext cx="449280" cy="104292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10"/>
          <a:stretch/>
        </p:blipFill>
        <p:spPr>
          <a:xfrm>
            <a:off x="6694560" y="2170080"/>
            <a:ext cx="449280" cy="104292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7972560" y="1128600"/>
            <a:ext cx="3063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29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8080"/>
                </a:solidFill>
                <a:latin typeface="mikachan"/>
                <a:ea typeface="mikachan"/>
              </a:rPr>
              <a:t>♪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6" name=""/>
          <p:cNvSpPr/>
          <p:nvPr/>
        </p:nvSpPr>
        <p:spPr>
          <a:xfrm>
            <a:off x="6280200" y="1270080"/>
            <a:ext cx="3063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29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8080"/>
                </a:solidFill>
                <a:latin typeface="mikachan"/>
                <a:ea typeface="mikachan"/>
              </a:rPr>
              <a:t>♪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7" name=""/>
          <p:cNvSpPr/>
          <p:nvPr/>
        </p:nvSpPr>
        <p:spPr>
          <a:xfrm>
            <a:off x="8078760" y="2292480"/>
            <a:ext cx="3063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29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8080"/>
                </a:solidFill>
                <a:latin typeface="mikachan"/>
                <a:ea typeface="mikachan"/>
              </a:rPr>
              <a:t>♪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dur="indefinite" fill="hold">
                      <p:stCondLst>
                        <p:cond delay="indefinite"/>
                      </p:stCondLst>
                      <p:childTnLst>
                        <p:par>
                          <p:cTn id="5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 fill="hold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809640" y="744480"/>
            <a:ext cx="7586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85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ふゆ</a:t>
            </a:r>
            <a:r>
              <a:rPr b="0" lang="ja-JP" sz="60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の</a:t>
            </a: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うみ</a:t>
            </a:r>
            <a:r>
              <a:rPr b="0" lang="ja-JP" sz="60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は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744480" y="2414520"/>
            <a:ext cx="3702240" cy="1327320"/>
            <a:chOff x="744480" y="2414520"/>
            <a:chExt cx="3702240" cy="1327320"/>
          </a:xfrm>
        </p:grpSpPr>
        <p:sp>
          <p:nvSpPr>
            <p:cNvPr id="460" name=""/>
            <p:cNvSpPr/>
            <p:nvPr/>
          </p:nvSpPr>
          <p:spPr>
            <a:xfrm>
              <a:off x="744480" y="2414520"/>
              <a:ext cx="3702240" cy="132732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852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 </a:t>
              </a:r>
              <a:r>
                <a:rPr b="0" lang="ja-JP" sz="6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ーです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5807160" y="2387520"/>
            <a:ext cx="4002120" cy="1327320"/>
            <a:chOff x="5807160" y="2387520"/>
            <a:chExt cx="4002120" cy="1327320"/>
          </a:xfrm>
        </p:grpSpPr>
        <p:sp>
          <p:nvSpPr>
            <p:cNvPr id="462" name=""/>
            <p:cNvSpPr/>
            <p:nvPr/>
          </p:nvSpPr>
          <p:spPr>
            <a:xfrm>
              <a:off x="5807160" y="2387520"/>
              <a:ext cx="4002120" cy="132732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852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 </a:t>
              </a:r>
              <a:r>
                <a:rPr b="0" lang="ja-JP" sz="6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ーです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217600" y="378288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7175520" y="379584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4552920" y="2440080"/>
            <a:ext cx="1160640" cy="1160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71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0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が</a:t>
            </a:r>
            <a:endParaRPr b="0" lang="en-US" sz="8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6" name=""/>
          <p:cNvSpPr/>
          <p:nvPr/>
        </p:nvSpPr>
        <p:spPr>
          <a:xfrm>
            <a:off x="3600360" y="4370400"/>
            <a:ext cx="3392640" cy="1440"/>
          </a:xfrm>
          <a:prstGeom prst="line">
            <a:avLst/>
          </a:prstGeom>
          <a:ln w="10800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809640" y="7444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85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ワットさん</a:t>
            </a:r>
            <a:r>
              <a:rPr b="0" lang="ja-JP" sz="60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は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95120" y="2340000"/>
            <a:ext cx="3694320" cy="1414440"/>
            <a:chOff x="195120" y="2340000"/>
            <a:chExt cx="3694320" cy="1414440"/>
          </a:xfrm>
        </p:grpSpPr>
        <p:sp>
          <p:nvSpPr>
            <p:cNvPr id="469" name=""/>
            <p:cNvSpPr/>
            <p:nvPr/>
          </p:nvSpPr>
          <p:spPr>
            <a:xfrm>
              <a:off x="195120" y="2340000"/>
              <a:ext cx="3694320" cy="1414440"/>
            </a:xfrm>
            <a:prstGeom prst="roundRect">
              <a:avLst>
                <a:gd name="adj" fmla="val 11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684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イギリスじんです。</a:t>
              </a: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807160" y="2387520"/>
            <a:ext cx="4002120" cy="1327320"/>
            <a:chOff x="5807160" y="2387520"/>
            <a:chExt cx="4002120" cy="1327320"/>
          </a:xfrm>
        </p:grpSpPr>
        <p:sp>
          <p:nvSpPr>
            <p:cNvPr id="471" name=""/>
            <p:cNvSpPr/>
            <p:nvPr/>
          </p:nvSpPr>
          <p:spPr>
            <a:xfrm>
              <a:off x="5807160" y="2387520"/>
              <a:ext cx="4002120" cy="132732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1556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せんせいです</a:t>
              </a: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235080" y="3719520"/>
            <a:ext cx="1722240" cy="1017720"/>
          </a:xfrm>
          <a:prstGeom prst="roundRect">
            <a:avLst>
              <a:gd name="adj" fmla="val 15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8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Nom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77840" y="2336760"/>
            <a:ext cx="5554800" cy="1654200"/>
            <a:chOff x="177840" y="2336760"/>
            <a:chExt cx="5554800" cy="1654200"/>
          </a:xfrm>
        </p:grpSpPr>
        <p:sp>
          <p:nvSpPr>
            <p:cNvPr id="474" name=""/>
            <p:cNvSpPr/>
            <p:nvPr/>
          </p:nvSpPr>
          <p:spPr>
            <a:xfrm>
              <a:off x="177840" y="2336760"/>
              <a:ext cx="5554800" cy="1654200"/>
            </a:xfrm>
            <a:prstGeom prst="roundRect">
              <a:avLst>
                <a:gd name="adj" fmla="val 9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1556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イギリスじん</a:t>
              </a:r>
              <a:r>
                <a:rPr b="0" lang="en-US" sz="5400" spc="-1" strike="noStrike" u="sng">
                  <a:solidFill>
                    <a:srgbClr val="ff0000"/>
                  </a:solidFill>
                  <a:uFillTx/>
                  <a:latin typeface="みかちゃん"/>
                  <a:ea typeface="みかちゃん"/>
                </a:rPr>
                <a:t>  </a:t>
              </a: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2895480" y="392580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7070760" y="390060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dur="indefinite" fill="hold">
                      <p:stCondLst>
                        <p:cond delay="indefinite"/>
                      </p:stCondLst>
                      <p:childTnLst>
                        <p:par>
                          <p:cTn id="5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809640" y="7444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85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ワットさん</a:t>
            </a:r>
            <a:r>
              <a:rPr b="0" lang="ja-JP" sz="60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は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95120" y="2340000"/>
            <a:ext cx="3694320" cy="1414440"/>
            <a:chOff x="195120" y="2340000"/>
            <a:chExt cx="3694320" cy="1414440"/>
          </a:xfrm>
        </p:grpSpPr>
        <p:sp>
          <p:nvSpPr>
            <p:cNvPr id="479" name=""/>
            <p:cNvSpPr/>
            <p:nvPr/>
          </p:nvSpPr>
          <p:spPr>
            <a:xfrm>
              <a:off x="195120" y="2340000"/>
              <a:ext cx="3694320" cy="1414440"/>
            </a:xfrm>
            <a:prstGeom prst="roundRect">
              <a:avLst>
                <a:gd name="adj" fmla="val 11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684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イギリスじんです。</a:t>
              </a: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5807160" y="2387520"/>
            <a:ext cx="4002120" cy="1327320"/>
            <a:chOff x="5807160" y="2387520"/>
            <a:chExt cx="4002120" cy="1327320"/>
          </a:xfrm>
        </p:grpSpPr>
        <p:sp>
          <p:nvSpPr>
            <p:cNvPr id="481" name=""/>
            <p:cNvSpPr/>
            <p:nvPr/>
          </p:nvSpPr>
          <p:spPr>
            <a:xfrm>
              <a:off x="5807160" y="2387520"/>
              <a:ext cx="4002120" cy="132732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1556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せんせいです</a:t>
              </a: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235080" y="3719520"/>
            <a:ext cx="1722240" cy="1017720"/>
          </a:xfrm>
          <a:prstGeom prst="roundRect">
            <a:avLst>
              <a:gd name="adj" fmla="val 15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8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Nom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77840" y="2336760"/>
            <a:ext cx="5554800" cy="1654200"/>
            <a:chOff x="177840" y="2336760"/>
            <a:chExt cx="5554800" cy="1654200"/>
          </a:xfrm>
        </p:grpSpPr>
        <p:sp>
          <p:nvSpPr>
            <p:cNvPr id="484" name=""/>
            <p:cNvSpPr/>
            <p:nvPr/>
          </p:nvSpPr>
          <p:spPr>
            <a:xfrm>
              <a:off x="177840" y="2336760"/>
              <a:ext cx="5554800" cy="1654200"/>
            </a:xfrm>
            <a:prstGeom prst="roundRect">
              <a:avLst>
                <a:gd name="adj" fmla="val 9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1556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イギリスじん</a:t>
              </a:r>
              <a:r>
                <a:rPr b="0" lang="ja-JP" sz="5400" spc="-1" strike="noStrike" u="sng">
                  <a:solidFill>
                    <a:srgbClr val="ff0000"/>
                  </a:solidFill>
                  <a:uFillTx/>
                  <a:latin typeface="みかちゃん"/>
                  <a:ea typeface="みかちゃん"/>
                </a:rPr>
                <a:t>で</a:t>
              </a: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2895480" y="392580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7070760" y="390060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dur="indefinite" fill="hold">
                      <p:stCondLst>
                        <p:cond delay="indefinite"/>
                      </p:stCondLst>
                      <p:childTnLst>
                        <p:par>
                          <p:cTn id="5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809640" y="7444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85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のじしょ</a:t>
            </a:r>
            <a:r>
              <a:rPr b="0" lang="ja-JP" sz="60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は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0" y="2373480"/>
            <a:ext cx="3689280" cy="1380960"/>
            <a:chOff x="0" y="2373480"/>
            <a:chExt cx="3689280" cy="1380960"/>
          </a:xfrm>
        </p:grpSpPr>
        <p:sp>
          <p:nvSpPr>
            <p:cNvPr id="489" name=""/>
            <p:cNvSpPr/>
            <p:nvPr/>
          </p:nvSpPr>
          <p:spPr>
            <a:xfrm>
              <a:off x="0" y="2373480"/>
              <a:ext cx="3689280" cy="1380960"/>
            </a:xfrm>
            <a:prstGeom prst="roundRect">
              <a:avLst>
                <a:gd name="adj" fmla="val 11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296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べんりです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807160" y="2387520"/>
            <a:ext cx="4002120" cy="1327320"/>
            <a:chOff x="5807160" y="2387520"/>
            <a:chExt cx="4002120" cy="1327320"/>
          </a:xfrm>
        </p:grpSpPr>
        <p:sp>
          <p:nvSpPr>
            <p:cNvPr id="491" name=""/>
            <p:cNvSpPr/>
            <p:nvPr/>
          </p:nvSpPr>
          <p:spPr>
            <a:xfrm>
              <a:off x="5807160" y="2387520"/>
              <a:ext cx="4002120" cy="132732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852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やすいです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7175520" y="379584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2008080" y="386244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235080" y="3719520"/>
            <a:ext cx="1722240" cy="1017720"/>
          </a:xfrm>
          <a:prstGeom prst="roundRect">
            <a:avLst>
              <a:gd name="adj" fmla="val 15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8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Adj</a:t>
            </a: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な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0" y="2224080"/>
            <a:ext cx="5554800" cy="1654200"/>
            <a:chOff x="0" y="2224080"/>
            <a:chExt cx="5554800" cy="1654200"/>
          </a:xfrm>
        </p:grpSpPr>
        <p:sp>
          <p:nvSpPr>
            <p:cNvPr id="496" name=""/>
            <p:cNvSpPr/>
            <p:nvPr/>
          </p:nvSpPr>
          <p:spPr>
            <a:xfrm>
              <a:off x="0" y="2224080"/>
              <a:ext cx="5554800" cy="1654200"/>
            </a:xfrm>
            <a:prstGeom prst="roundRect">
              <a:avLst>
                <a:gd name="adj" fmla="val 9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14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6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べんり</a:t>
              </a:r>
              <a:r>
                <a:rPr b="0" lang="en-US" sz="6600" spc="-1" strike="noStrike" u="sng">
                  <a:solidFill>
                    <a:srgbClr val="ff0000"/>
                  </a:solidFill>
                  <a:uFillTx/>
                  <a:latin typeface="みかちゃん"/>
                  <a:ea typeface="みかちゃん"/>
                </a:rPr>
                <a:t>  </a:t>
              </a:r>
              <a:endParaRPr b="0" lang="en-US" sz="6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dur="indefinite" fill="hold">
                      <p:stCondLst>
                        <p:cond delay="indefinite"/>
                      </p:stCondLst>
                      <p:childTnLst>
                        <p:par>
                          <p:cTn id="5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87280" y="4554360"/>
            <a:ext cx="9458280" cy="146844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あさ、おき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て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、ごはんをたべ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て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だいがくへ いきま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6" name=""/>
          <p:cNvSpPr/>
          <p:nvPr/>
        </p:nvSpPr>
        <p:spPr>
          <a:xfrm>
            <a:off x="2646360" y="1820880"/>
            <a:ext cx="793800" cy="1440"/>
          </a:xfrm>
          <a:prstGeom prst="line">
            <a:avLst/>
          </a:prstGeom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2360" y="336600"/>
            <a:ext cx="2570040" cy="2855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386160" y="882720"/>
            <a:ext cx="2698560" cy="2046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803920" y="1820880"/>
            <a:ext cx="793800" cy="1440"/>
          </a:xfrm>
          <a:prstGeom prst="line">
            <a:avLst/>
          </a:prstGeom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431200" y="285840"/>
            <a:ext cx="1517760" cy="1195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V="1">
            <a:off x="7761240" y="1424160"/>
            <a:ext cx="1441440" cy="6602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708600" y="565200"/>
            <a:ext cx="1035360" cy="265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809640" y="7444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85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のじしょ</a:t>
            </a:r>
            <a:r>
              <a:rPr b="0" lang="ja-JP" sz="60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は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0" y="2373480"/>
            <a:ext cx="3689280" cy="1380960"/>
            <a:chOff x="0" y="2373480"/>
            <a:chExt cx="3689280" cy="1380960"/>
          </a:xfrm>
        </p:grpSpPr>
        <p:sp>
          <p:nvSpPr>
            <p:cNvPr id="499" name=""/>
            <p:cNvSpPr/>
            <p:nvPr/>
          </p:nvSpPr>
          <p:spPr>
            <a:xfrm>
              <a:off x="0" y="2373480"/>
              <a:ext cx="3689280" cy="1380960"/>
            </a:xfrm>
            <a:prstGeom prst="roundRect">
              <a:avLst>
                <a:gd name="adj" fmla="val 11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296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べんりです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5807160" y="2387520"/>
            <a:ext cx="4002120" cy="1327320"/>
            <a:chOff x="5807160" y="2387520"/>
            <a:chExt cx="4002120" cy="1327320"/>
          </a:xfrm>
        </p:grpSpPr>
        <p:sp>
          <p:nvSpPr>
            <p:cNvPr id="501" name=""/>
            <p:cNvSpPr/>
            <p:nvPr/>
          </p:nvSpPr>
          <p:spPr>
            <a:xfrm>
              <a:off x="5807160" y="2387520"/>
              <a:ext cx="4002120" cy="132732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852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やすいです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7175520" y="379584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2008080" y="386244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235080" y="3719520"/>
            <a:ext cx="1722240" cy="1017720"/>
          </a:xfrm>
          <a:prstGeom prst="roundRect">
            <a:avLst>
              <a:gd name="adj" fmla="val 15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8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Adj</a:t>
            </a: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な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0" y="2224080"/>
            <a:ext cx="5554800" cy="1654200"/>
            <a:chOff x="0" y="2224080"/>
            <a:chExt cx="5554800" cy="1654200"/>
          </a:xfrm>
        </p:grpSpPr>
        <p:sp>
          <p:nvSpPr>
            <p:cNvPr id="506" name=""/>
            <p:cNvSpPr/>
            <p:nvPr/>
          </p:nvSpPr>
          <p:spPr>
            <a:xfrm>
              <a:off x="0" y="2224080"/>
              <a:ext cx="5554800" cy="1654200"/>
            </a:xfrm>
            <a:prstGeom prst="roundRect">
              <a:avLst>
                <a:gd name="adj" fmla="val 9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14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6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べんり</a:t>
              </a:r>
              <a:r>
                <a:rPr b="0" lang="ja-JP" sz="6600" spc="-1" strike="noStrike" u="sng">
                  <a:solidFill>
                    <a:srgbClr val="ff0000"/>
                  </a:solidFill>
                  <a:uFillTx/>
                  <a:latin typeface="みかちゃん"/>
                  <a:ea typeface="みかちゃん"/>
                </a:rPr>
                <a:t>で</a:t>
              </a:r>
              <a:endParaRPr b="0" lang="en-US" sz="6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dur="indefinite" fill="hold">
                      <p:stCondLst>
                        <p:cond delay="indefinite"/>
                      </p:stCondLst>
                      <p:childTnLst>
                        <p:par>
                          <p:cTn id="5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809640" y="744480"/>
            <a:ext cx="685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85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のレストランは、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47680" y="2297160"/>
            <a:ext cx="3494160" cy="1326960"/>
            <a:chOff x="247680" y="2297160"/>
            <a:chExt cx="3494160" cy="1326960"/>
          </a:xfrm>
        </p:grpSpPr>
        <p:sp>
          <p:nvSpPr>
            <p:cNvPr id="509" name=""/>
            <p:cNvSpPr/>
            <p:nvPr/>
          </p:nvSpPr>
          <p:spPr>
            <a:xfrm>
              <a:off x="247680" y="2297160"/>
              <a:ext cx="3494160" cy="132696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296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やすいです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807160" y="2387520"/>
            <a:ext cx="4002120" cy="1327320"/>
            <a:chOff x="5807160" y="2387520"/>
            <a:chExt cx="4002120" cy="1327320"/>
          </a:xfrm>
        </p:grpSpPr>
        <p:sp>
          <p:nvSpPr>
            <p:cNvPr id="511" name=""/>
            <p:cNvSpPr/>
            <p:nvPr/>
          </p:nvSpPr>
          <p:spPr>
            <a:xfrm>
              <a:off x="5807160" y="2387520"/>
              <a:ext cx="4002120" cy="132732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296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おいしいです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235080" y="3719520"/>
            <a:ext cx="1722240" cy="1017720"/>
          </a:xfrm>
          <a:prstGeom prst="roundRect">
            <a:avLst>
              <a:gd name="adj" fmla="val 15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8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Adj</a:t>
            </a: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06200" y="2031840"/>
            <a:ext cx="5554800" cy="1654200"/>
            <a:chOff x="106200" y="2031840"/>
            <a:chExt cx="5554800" cy="1654200"/>
          </a:xfrm>
        </p:grpSpPr>
        <p:sp>
          <p:nvSpPr>
            <p:cNvPr id="514" name=""/>
            <p:cNvSpPr/>
            <p:nvPr/>
          </p:nvSpPr>
          <p:spPr>
            <a:xfrm>
              <a:off x="106200" y="2031840"/>
              <a:ext cx="5554800" cy="1654200"/>
            </a:xfrm>
            <a:prstGeom prst="roundRect">
              <a:avLst>
                <a:gd name="adj" fmla="val 9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14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6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やす</a:t>
              </a:r>
              <a:r>
                <a:rPr b="0" lang="en-US" sz="6600" spc="-1" strike="noStrike" u="sng">
                  <a:solidFill>
                    <a:srgbClr val="ff0000"/>
                  </a:solidFill>
                  <a:uFillTx/>
                  <a:latin typeface="みかちゃん"/>
                  <a:ea typeface="みかちゃん"/>
                </a:rPr>
                <a:t>    </a:t>
              </a:r>
              <a:endParaRPr b="0" lang="en-US" sz="6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2517840" y="366552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7149960" y="37450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dur="indefinite" fill="hold">
                      <p:stCondLst>
                        <p:cond delay="indefinite"/>
                      </p:stCondLst>
                      <p:childTnLst>
                        <p:par>
                          <p:cTn id="5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809640" y="744480"/>
            <a:ext cx="685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85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のレストランは、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247680" y="2297160"/>
            <a:ext cx="3494160" cy="1326960"/>
            <a:chOff x="247680" y="2297160"/>
            <a:chExt cx="3494160" cy="1326960"/>
          </a:xfrm>
        </p:grpSpPr>
        <p:sp>
          <p:nvSpPr>
            <p:cNvPr id="519" name=""/>
            <p:cNvSpPr/>
            <p:nvPr/>
          </p:nvSpPr>
          <p:spPr>
            <a:xfrm>
              <a:off x="247680" y="2297160"/>
              <a:ext cx="3494160" cy="132696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296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やすいです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5807160" y="2387520"/>
            <a:ext cx="4002120" cy="1327320"/>
            <a:chOff x="5807160" y="2387520"/>
            <a:chExt cx="4002120" cy="1327320"/>
          </a:xfrm>
        </p:grpSpPr>
        <p:sp>
          <p:nvSpPr>
            <p:cNvPr id="521" name=""/>
            <p:cNvSpPr/>
            <p:nvPr/>
          </p:nvSpPr>
          <p:spPr>
            <a:xfrm>
              <a:off x="5807160" y="2387520"/>
              <a:ext cx="4002120" cy="132732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296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おいしいです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35080" y="3719520"/>
            <a:ext cx="1722240" cy="1017720"/>
          </a:xfrm>
          <a:prstGeom prst="roundRect">
            <a:avLst>
              <a:gd name="adj" fmla="val 15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8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Adj</a:t>
            </a: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06200" y="2031840"/>
            <a:ext cx="5554800" cy="1654200"/>
            <a:chOff x="106200" y="2031840"/>
            <a:chExt cx="5554800" cy="1654200"/>
          </a:xfrm>
        </p:grpSpPr>
        <p:sp>
          <p:nvSpPr>
            <p:cNvPr id="524" name=""/>
            <p:cNvSpPr/>
            <p:nvPr/>
          </p:nvSpPr>
          <p:spPr>
            <a:xfrm>
              <a:off x="106200" y="2031840"/>
              <a:ext cx="5554800" cy="1654200"/>
            </a:xfrm>
            <a:prstGeom prst="roundRect">
              <a:avLst>
                <a:gd name="adj" fmla="val 9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14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6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やす</a:t>
              </a:r>
              <a:r>
                <a:rPr b="0" lang="ja-JP" sz="6600" spc="-1" strike="noStrike" u="sng">
                  <a:solidFill>
                    <a:srgbClr val="ff0000"/>
                  </a:solidFill>
                  <a:uFillTx/>
                  <a:latin typeface="みかちゃん"/>
                  <a:ea typeface="みかちゃん"/>
                </a:rPr>
                <a:t>くて</a:t>
              </a:r>
              <a:endParaRPr b="0" lang="en-US" sz="6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2517840" y="366552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7149960" y="37450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dur="indefinite" fill="hold">
                      <p:stCondLst>
                        <p:cond delay="indefinite"/>
                      </p:stCondLst>
                      <p:childTnLst>
                        <p:par>
                          <p:cTn id="5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809640" y="744480"/>
            <a:ext cx="380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85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まいにち、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96840" y="2276640"/>
            <a:ext cx="3645000" cy="1347480"/>
            <a:chOff x="96840" y="2276640"/>
            <a:chExt cx="3645000" cy="1347480"/>
          </a:xfrm>
        </p:grpSpPr>
        <p:sp>
          <p:nvSpPr>
            <p:cNvPr id="529" name=""/>
            <p:cNvSpPr/>
            <p:nvPr/>
          </p:nvSpPr>
          <p:spPr>
            <a:xfrm>
              <a:off x="96840" y="2276640"/>
              <a:ext cx="3645000" cy="134748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7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いそがしいです。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807160" y="2387520"/>
            <a:ext cx="4002120" cy="1327320"/>
            <a:chOff x="5807160" y="2387520"/>
            <a:chExt cx="4002120" cy="1327320"/>
          </a:xfrm>
        </p:grpSpPr>
        <p:sp>
          <p:nvSpPr>
            <p:cNvPr id="531" name=""/>
            <p:cNvSpPr/>
            <p:nvPr/>
          </p:nvSpPr>
          <p:spPr>
            <a:xfrm>
              <a:off x="5807160" y="2387520"/>
              <a:ext cx="4002120" cy="132732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1556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たいへんです</a:t>
              </a: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235080" y="3719520"/>
            <a:ext cx="1722240" cy="1017720"/>
          </a:xfrm>
          <a:prstGeom prst="roundRect">
            <a:avLst>
              <a:gd name="adj" fmla="val 15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8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Adj</a:t>
            </a: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0" y="2181240"/>
            <a:ext cx="5554800" cy="1654200"/>
            <a:chOff x="0" y="2181240"/>
            <a:chExt cx="5554800" cy="1654200"/>
          </a:xfrm>
        </p:grpSpPr>
        <p:sp>
          <p:nvSpPr>
            <p:cNvPr id="534" name=""/>
            <p:cNvSpPr/>
            <p:nvPr/>
          </p:nvSpPr>
          <p:spPr>
            <a:xfrm>
              <a:off x="0" y="2181240"/>
              <a:ext cx="5554800" cy="1654200"/>
            </a:xfrm>
            <a:prstGeom prst="roundRect">
              <a:avLst>
                <a:gd name="adj" fmla="val 9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14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6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いそがし</a:t>
              </a:r>
              <a:r>
                <a:rPr b="0" lang="en-US" sz="6600" spc="-1" strike="noStrike" u="sng">
                  <a:solidFill>
                    <a:srgbClr val="ff0000"/>
                  </a:solidFill>
                  <a:uFillTx/>
                  <a:latin typeface="みかちゃん"/>
                  <a:ea typeface="みかちゃん"/>
                </a:rPr>
                <a:t>   </a:t>
              </a:r>
              <a:endParaRPr b="0" lang="en-US" sz="6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2400480" y="371808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7188120" y="383544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dur="indefinite" fill="hold">
                      <p:stCondLst>
                        <p:cond delay="indefinite"/>
                      </p:stCondLst>
                      <p:childTnLst>
                        <p:par>
                          <p:cTn id="5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809640" y="744480"/>
            <a:ext cx="380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85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まいにち、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96840" y="2276640"/>
            <a:ext cx="3645000" cy="1347480"/>
            <a:chOff x="96840" y="2276640"/>
            <a:chExt cx="3645000" cy="1347480"/>
          </a:xfrm>
        </p:grpSpPr>
        <p:sp>
          <p:nvSpPr>
            <p:cNvPr id="539" name=""/>
            <p:cNvSpPr/>
            <p:nvPr/>
          </p:nvSpPr>
          <p:spPr>
            <a:xfrm>
              <a:off x="96840" y="2276640"/>
              <a:ext cx="3645000" cy="134748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7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いそがしいです。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5807160" y="2387520"/>
            <a:ext cx="4002120" cy="1327320"/>
            <a:chOff x="5807160" y="2387520"/>
            <a:chExt cx="4002120" cy="1327320"/>
          </a:xfrm>
        </p:grpSpPr>
        <p:sp>
          <p:nvSpPr>
            <p:cNvPr id="541" name=""/>
            <p:cNvSpPr/>
            <p:nvPr/>
          </p:nvSpPr>
          <p:spPr>
            <a:xfrm>
              <a:off x="5807160" y="2387520"/>
              <a:ext cx="4002120" cy="132732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1556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たいへんです</a:t>
              </a: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235080" y="3719520"/>
            <a:ext cx="1722240" cy="1017720"/>
          </a:xfrm>
          <a:prstGeom prst="roundRect">
            <a:avLst>
              <a:gd name="adj" fmla="val 15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8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Adj</a:t>
            </a: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0" y="2181240"/>
            <a:ext cx="5554800" cy="1654200"/>
            <a:chOff x="0" y="2181240"/>
            <a:chExt cx="5554800" cy="1654200"/>
          </a:xfrm>
        </p:grpSpPr>
        <p:sp>
          <p:nvSpPr>
            <p:cNvPr id="544" name=""/>
            <p:cNvSpPr/>
            <p:nvPr/>
          </p:nvSpPr>
          <p:spPr>
            <a:xfrm>
              <a:off x="0" y="2181240"/>
              <a:ext cx="5554800" cy="1654200"/>
            </a:xfrm>
            <a:prstGeom prst="roundRect">
              <a:avLst>
                <a:gd name="adj" fmla="val 9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14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6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いそがし</a:t>
              </a:r>
              <a:r>
                <a:rPr b="0" lang="ja-JP" sz="6600" spc="-1" strike="noStrike" u="sng">
                  <a:solidFill>
                    <a:srgbClr val="ff0000"/>
                  </a:solidFill>
                  <a:uFillTx/>
                  <a:latin typeface="みかちゃん"/>
                  <a:ea typeface="みかちゃん"/>
                </a:rPr>
                <a:t>くて</a:t>
              </a:r>
              <a:endParaRPr b="0" lang="en-US" sz="6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2400480" y="371808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7188120" y="383544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dur="indefinite" fill="hold">
                      <p:stCondLst>
                        <p:cond delay="indefinite"/>
                      </p:stCondLst>
                      <p:childTnLst>
                        <p:par>
                          <p:cTn id="5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558720" y="3763800"/>
            <a:ext cx="8777520" cy="1327320"/>
            <a:chOff x="558720" y="3763800"/>
            <a:chExt cx="8777520" cy="1327320"/>
          </a:xfrm>
        </p:grpSpPr>
        <p:sp>
          <p:nvSpPr>
            <p:cNvPr id="548" name=""/>
            <p:cNvSpPr/>
            <p:nvPr/>
          </p:nvSpPr>
          <p:spPr>
            <a:xfrm>
              <a:off x="558720" y="3763800"/>
              <a:ext cx="8777520" cy="132732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このじしょはべんりでいいです。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612720" y="760320"/>
            <a:ext cx="8777520" cy="1327320"/>
            <a:chOff x="612720" y="760320"/>
            <a:chExt cx="8777520" cy="1327320"/>
          </a:xfrm>
        </p:grpSpPr>
        <p:sp>
          <p:nvSpPr>
            <p:cNvPr id="550" name=""/>
            <p:cNvSpPr/>
            <p:nvPr/>
          </p:nvSpPr>
          <p:spPr>
            <a:xfrm>
              <a:off x="612720" y="760320"/>
              <a:ext cx="8777520" cy="132732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このじしょはよくてべんりです。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3162240" y="5186520"/>
            <a:ext cx="3568680" cy="842760"/>
            <a:chOff x="3162240" y="5186520"/>
            <a:chExt cx="3568680" cy="842760"/>
          </a:xfrm>
        </p:grpSpPr>
        <p:sp>
          <p:nvSpPr>
            <p:cNvPr id="552" name=""/>
            <p:cNvSpPr/>
            <p:nvPr/>
          </p:nvSpPr>
          <p:spPr>
            <a:xfrm>
              <a:off x="3162240" y="5330880"/>
              <a:ext cx="3568680" cy="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281400" y="5186520"/>
              <a:ext cx="2814480" cy="8427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ですから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266640" y="2195640"/>
            <a:ext cx="3568680" cy="842760"/>
            <a:chOff x="3266640" y="2195640"/>
            <a:chExt cx="3568680" cy="842760"/>
          </a:xfrm>
        </p:grpSpPr>
        <p:sp>
          <p:nvSpPr>
            <p:cNvPr id="555" name=""/>
            <p:cNvSpPr/>
            <p:nvPr/>
          </p:nvSpPr>
          <p:spPr>
            <a:xfrm flipH="1">
              <a:off x="3266640" y="2341440"/>
              <a:ext cx="3568680" cy="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02760" y="2195640"/>
              <a:ext cx="2808720" cy="8427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ですから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595440" y="542880"/>
            <a:ext cx="9191520" cy="1743120"/>
            <a:chOff x="595440" y="542880"/>
            <a:chExt cx="9191520" cy="1743120"/>
          </a:xfrm>
        </p:grpSpPr>
        <p:sp>
          <p:nvSpPr>
            <p:cNvPr id="558" name=""/>
            <p:cNvSpPr/>
            <p:nvPr/>
          </p:nvSpPr>
          <p:spPr>
            <a:xfrm>
              <a:off x="599760" y="542880"/>
              <a:ext cx="9185400" cy="174312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595440" y="542880"/>
              <a:ext cx="9191520" cy="174312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dur="indefinite" fill="hold">
                      <p:stCondLst>
                        <p:cond delay="indefinite"/>
                      </p:stCondLst>
                      <p:childTnLst>
                        <p:par>
                          <p:cTn id="5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dur="indefinite" fill="hold">
                      <p:stCondLst>
                        <p:cond delay="indefinite"/>
                      </p:stCondLst>
                      <p:childTnLst>
                        <p:par>
                          <p:cTn id="5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dur="indefinite" fill="hold">
                      <p:stCondLst>
                        <p:cond delay="indefinite"/>
                      </p:stCondLst>
                      <p:childTnLst>
                        <p:par>
                          <p:cTn id="6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dur="indefinite" fill="hold">
                      <p:stCondLst>
                        <p:cond delay="indefinite"/>
                      </p:stCondLst>
                      <p:childTnLst>
                        <p:par>
                          <p:cTn id="6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558720" y="3763800"/>
            <a:ext cx="8777520" cy="1327320"/>
            <a:chOff x="558720" y="3763800"/>
            <a:chExt cx="8777520" cy="1327320"/>
          </a:xfrm>
        </p:grpSpPr>
        <p:sp>
          <p:nvSpPr>
            <p:cNvPr id="561" name=""/>
            <p:cNvSpPr/>
            <p:nvPr/>
          </p:nvSpPr>
          <p:spPr>
            <a:xfrm>
              <a:off x="558720" y="3763800"/>
              <a:ext cx="8777520" cy="132732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TGV</a:t>
              </a:r>
              <a:r>
                <a:rPr b="0" lang="ja-JP" sz="44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ははやくてべんりです。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12720" y="760320"/>
            <a:ext cx="8777520" cy="1327320"/>
            <a:chOff x="612720" y="760320"/>
            <a:chExt cx="8777520" cy="1327320"/>
          </a:xfrm>
        </p:grpSpPr>
        <p:sp>
          <p:nvSpPr>
            <p:cNvPr id="563" name=""/>
            <p:cNvSpPr/>
            <p:nvPr/>
          </p:nvSpPr>
          <p:spPr>
            <a:xfrm>
              <a:off x="612720" y="760320"/>
              <a:ext cx="8777520" cy="132732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TGV</a:t>
              </a:r>
              <a:r>
                <a:rPr b="0" lang="ja-JP" sz="44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はべんりではやいです。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3162240" y="5186520"/>
            <a:ext cx="3568680" cy="842760"/>
            <a:chOff x="3162240" y="5186520"/>
            <a:chExt cx="3568680" cy="842760"/>
          </a:xfrm>
        </p:grpSpPr>
        <p:sp>
          <p:nvSpPr>
            <p:cNvPr id="565" name=""/>
            <p:cNvSpPr/>
            <p:nvPr/>
          </p:nvSpPr>
          <p:spPr>
            <a:xfrm>
              <a:off x="3162240" y="5330880"/>
              <a:ext cx="3568680" cy="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81400" y="5186520"/>
              <a:ext cx="2814480" cy="8427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ですから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3266640" y="2195640"/>
            <a:ext cx="3568680" cy="842760"/>
            <a:chOff x="3266640" y="2195640"/>
            <a:chExt cx="3568680" cy="842760"/>
          </a:xfrm>
        </p:grpSpPr>
        <p:sp>
          <p:nvSpPr>
            <p:cNvPr id="568" name=""/>
            <p:cNvSpPr/>
            <p:nvPr/>
          </p:nvSpPr>
          <p:spPr>
            <a:xfrm flipH="1">
              <a:off x="3266640" y="2341440"/>
              <a:ext cx="3568680" cy="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902760" y="2195640"/>
              <a:ext cx="2808720" cy="8427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1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ですから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95440" y="542880"/>
            <a:ext cx="9191520" cy="1743120"/>
            <a:chOff x="595440" y="542880"/>
            <a:chExt cx="9191520" cy="1743120"/>
          </a:xfrm>
        </p:grpSpPr>
        <p:sp>
          <p:nvSpPr>
            <p:cNvPr id="571" name=""/>
            <p:cNvSpPr/>
            <p:nvPr/>
          </p:nvSpPr>
          <p:spPr>
            <a:xfrm>
              <a:off x="599760" y="542880"/>
              <a:ext cx="9185400" cy="174312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595440" y="542880"/>
              <a:ext cx="9191520" cy="174312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dur="indefinite" fill="hold">
                      <p:stCondLst>
                        <p:cond delay="indefinite"/>
                      </p:stCondLst>
                      <p:childTnLst>
                        <p:par>
                          <p:cTn id="6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dur="indefinite" fill="hold">
                      <p:stCondLst>
                        <p:cond delay="indefinite"/>
                      </p:stCondLst>
                      <p:childTnLst>
                        <p:par>
                          <p:cTn id="6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dur="indefinite" fill="hold">
                      <p:stCondLst>
                        <p:cond delay="indefinite"/>
                      </p:stCondLst>
                      <p:childTnLst>
                        <p:par>
                          <p:cTn id="6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1000" fill="hold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dur="indefinite" fill="hold">
                      <p:stCondLst>
                        <p:cond delay="indefinite"/>
                      </p:stCondLst>
                      <p:childTnLst>
                        <p:par>
                          <p:cTn id="6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304920" y="369720"/>
            <a:ext cx="10078920" cy="708984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 flipH="1" flipV="1">
            <a:off x="4575240" y="2933280"/>
            <a:ext cx="1844640" cy="334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75" name=""/>
          <p:cNvSpPr/>
          <p:nvPr/>
        </p:nvSpPr>
        <p:spPr>
          <a:xfrm>
            <a:off x="212760" y="463680"/>
            <a:ext cx="9736200" cy="1520640"/>
          </a:xfrm>
          <a:prstGeom prst="roundRect">
            <a:avLst>
              <a:gd name="adj" fmla="val 10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76" name=""/>
          <p:cNvSpPr/>
          <p:nvPr/>
        </p:nvSpPr>
        <p:spPr>
          <a:xfrm flipH="1" flipV="1">
            <a:off x="1676520" y="5103360"/>
            <a:ext cx="1844640" cy="334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dur="indefinite" fill="hold">
                      <p:stCondLst>
                        <p:cond delay="indefinite"/>
                      </p:stCondLst>
                      <p:childTnLst>
                        <p:par>
                          <p:cTn id="6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1000" fill="hold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304920" y="369720"/>
            <a:ext cx="10078920" cy="708984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 flipH="1" flipV="1">
            <a:off x="4575240" y="2933280"/>
            <a:ext cx="1844640" cy="334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79" name=""/>
          <p:cNvSpPr/>
          <p:nvPr/>
        </p:nvSpPr>
        <p:spPr>
          <a:xfrm>
            <a:off x="212760" y="463680"/>
            <a:ext cx="9736200" cy="1520640"/>
          </a:xfrm>
          <a:prstGeom prst="roundRect">
            <a:avLst>
              <a:gd name="adj" fmla="val 10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ぞう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みみ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おおき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くて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はな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ながいで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80" name=""/>
          <p:cNvSpPr/>
          <p:nvPr/>
        </p:nvSpPr>
        <p:spPr>
          <a:xfrm flipH="1" flipV="1">
            <a:off x="1676520" y="5103360"/>
            <a:ext cx="1844640" cy="3348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dur="indefinite" fill="hold">
                      <p:stCondLst>
                        <p:cond delay="indefinite"/>
                      </p:stCondLst>
                      <p:childTnLst>
                        <p:par>
                          <p:cTn id="6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1000" fill="hold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66600" y="264960"/>
            <a:ext cx="10079280" cy="708984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212760" y="463680"/>
            <a:ext cx="9790200" cy="1361880"/>
          </a:xfrm>
          <a:prstGeom prst="roundRect">
            <a:avLst>
              <a:gd name="adj" fmla="val 11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83" name=""/>
          <p:cNvSpPr/>
          <p:nvPr/>
        </p:nvSpPr>
        <p:spPr>
          <a:xfrm>
            <a:off x="2843280" y="3373560"/>
            <a:ext cx="6468840" cy="18795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84" name=""/>
          <p:cNvSpPr/>
          <p:nvPr/>
        </p:nvSpPr>
        <p:spPr>
          <a:xfrm>
            <a:off x="2195640" y="5345280"/>
            <a:ext cx="7011720" cy="11365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dur="indefinite" fill="hold">
                      <p:stCondLst>
                        <p:cond delay="indefinite"/>
                      </p:stCondLst>
                      <p:childTnLst>
                        <p:par>
                          <p:cTn id="6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 fill="hold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765520" y="1773360"/>
            <a:ext cx="793800" cy="1440"/>
          </a:xfrm>
          <a:prstGeom prst="line">
            <a:avLst/>
          </a:prstGeom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4" name=""/>
          <p:cNvSpPr/>
          <p:nvPr/>
        </p:nvSpPr>
        <p:spPr>
          <a:xfrm>
            <a:off x="6126120" y="1852560"/>
            <a:ext cx="793800" cy="1800"/>
          </a:xfrm>
          <a:prstGeom prst="line">
            <a:avLst/>
          </a:prstGeom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5" name=""/>
          <p:cNvSpPr/>
          <p:nvPr/>
        </p:nvSpPr>
        <p:spPr>
          <a:xfrm>
            <a:off x="2179800" y="5256360"/>
            <a:ext cx="537840" cy="1440"/>
          </a:xfrm>
          <a:prstGeom prst="line">
            <a:avLst/>
          </a:prstGeom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6" name=""/>
          <p:cNvSpPr/>
          <p:nvPr/>
        </p:nvSpPr>
        <p:spPr>
          <a:xfrm>
            <a:off x="4460760" y="5315040"/>
            <a:ext cx="538200" cy="1440"/>
          </a:xfrm>
          <a:prstGeom prst="line">
            <a:avLst/>
          </a:prstGeom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7" name=""/>
          <p:cNvSpPr/>
          <p:nvPr/>
        </p:nvSpPr>
        <p:spPr>
          <a:xfrm>
            <a:off x="6908760" y="5275440"/>
            <a:ext cx="538200" cy="1440"/>
          </a:xfrm>
          <a:prstGeom prst="line">
            <a:avLst/>
          </a:prstGeom>
          <a:ln w="180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8" name=""/>
          <p:cNvSpPr/>
          <p:nvPr/>
        </p:nvSpPr>
        <p:spPr>
          <a:xfrm>
            <a:off x="465120" y="5843520"/>
            <a:ext cx="9458280" cy="146844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あさ、おき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て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、シャワーをあび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て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ごはんを たべ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て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、だいがくへ いき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86880" y="5675400"/>
            <a:ext cx="9191880" cy="1743120"/>
            <a:chOff x="686880" y="5675400"/>
            <a:chExt cx="9191880" cy="1743120"/>
          </a:xfrm>
        </p:grpSpPr>
        <p:sp>
          <p:nvSpPr>
            <p:cNvPr id="80" name=""/>
            <p:cNvSpPr/>
            <p:nvPr/>
          </p:nvSpPr>
          <p:spPr>
            <a:xfrm>
              <a:off x="690120" y="5675400"/>
              <a:ext cx="9185400" cy="174312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86880" y="5675400"/>
              <a:ext cx="9191880" cy="174312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22200" y="2879640"/>
            <a:ext cx="9458280" cy="146844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あさ、おき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て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、シャワーをあび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て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ごはんを たべま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3" name=""/>
          <p:cNvSpPr/>
          <p:nvPr/>
        </p:nvSpPr>
        <p:spPr>
          <a:xfrm>
            <a:off x="8124840" y="51894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92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Bitstream Vera Serif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4</a:t>
            </a:r>
            <a:r>
              <a:rPr b="0" lang="ja-JP" sz="3200" spc="-1" strike="noStrike">
                <a:solidFill>
                  <a:srgbClr val="000000"/>
                </a:solidFill>
                <a:latin typeface="Bitstream Vera Serif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5</a:t>
            </a:r>
            <a:r>
              <a:rPr b="0" lang="ja-JP" sz="3200" spc="-1" strike="noStrike">
                <a:solidFill>
                  <a:srgbClr val="000000"/>
                </a:solidFill>
                <a:latin typeface="Bitstream Vera Serif"/>
              </a:rPr>
              <a:t>、、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66600" y="264960"/>
            <a:ext cx="10079280" cy="708984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212760" y="463680"/>
            <a:ext cx="9790200" cy="1361880"/>
          </a:xfrm>
          <a:prstGeom prst="roundRect">
            <a:avLst>
              <a:gd name="adj" fmla="val 11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このいぬ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からだ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なが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くて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あし</a:t>
            </a:r>
            <a:r>
              <a:rPr b="0" lang="ja-JP" sz="48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みじかいで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87" name=""/>
          <p:cNvSpPr/>
          <p:nvPr/>
        </p:nvSpPr>
        <p:spPr>
          <a:xfrm>
            <a:off x="2843280" y="3373560"/>
            <a:ext cx="6468840" cy="18795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88" name=""/>
          <p:cNvSpPr/>
          <p:nvPr/>
        </p:nvSpPr>
        <p:spPr>
          <a:xfrm>
            <a:off x="2195640" y="5345280"/>
            <a:ext cx="7011720" cy="11365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dur="indefinite" fill="hold">
                      <p:stCondLst>
                        <p:cond delay="indefinite"/>
                      </p:stCondLst>
                      <p:childTnLst>
                        <p:par>
                          <p:cTn id="6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 fill="hold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2362320" y="-182520"/>
            <a:ext cx="5329080" cy="75596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193680" y="247680"/>
            <a:ext cx="3262320" cy="1076400"/>
          </a:xfrm>
          <a:prstGeom prst="roundRect">
            <a:avLst>
              <a:gd name="adj" fmla="val 14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うちゅうじ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4451400" y="738360"/>
            <a:ext cx="3809880" cy="3420720"/>
          </a:xfrm>
          <a:prstGeom prst="cloudCallout">
            <a:avLst>
              <a:gd name="adj1" fmla="val 79587"/>
              <a:gd name="adj2" fmla="val 8976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247680" y="1695600"/>
            <a:ext cx="3230640" cy="832320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7210440" y="979560"/>
            <a:ext cx="2790720" cy="753840"/>
          </a:xfrm>
          <a:prstGeom prst="roundRect">
            <a:avLst>
              <a:gd name="adj" fmla="val 20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にんぎょう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(poupée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665280" y="5986440"/>
            <a:ext cx="8777160" cy="1327320"/>
            <a:chOff x="665280" y="5986440"/>
            <a:chExt cx="8777160" cy="1327320"/>
          </a:xfrm>
        </p:grpSpPr>
        <p:sp>
          <p:nvSpPr>
            <p:cNvPr id="595" name=""/>
            <p:cNvSpPr/>
            <p:nvPr/>
          </p:nvSpPr>
          <p:spPr>
            <a:xfrm>
              <a:off x="665280" y="5986440"/>
              <a:ext cx="8777160" cy="132732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5678640" y="1419120"/>
            <a:ext cx="1827000" cy="222264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 flipV="1">
            <a:off x="3510000" y="2595600"/>
            <a:ext cx="1914480" cy="644400"/>
          </a:xfrm>
          <a:prstGeom prst="line">
            <a:avLst/>
          </a:prstGeom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3352680" y="2271240"/>
            <a:ext cx="1825920" cy="598680"/>
          </a:xfrm>
          <a:prstGeom prst="line">
            <a:avLst/>
          </a:prstGeom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dur="indefinite" fill="hold">
                      <p:stCondLst>
                        <p:cond delay="indefinite"/>
                      </p:stCondLst>
                      <p:childTnLst>
                        <p:par>
                          <p:cTn id="6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1000" fill="hold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4451400" y="738360"/>
            <a:ext cx="3809880" cy="3420720"/>
          </a:xfrm>
          <a:prstGeom prst="cloudCallout">
            <a:avLst>
              <a:gd name="adj1" fmla="val 79587"/>
              <a:gd name="adj2" fmla="val 8976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247680" y="1695600"/>
            <a:ext cx="3230640" cy="832320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7210440" y="979560"/>
            <a:ext cx="2790720" cy="753840"/>
          </a:xfrm>
          <a:prstGeom prst="roundRect">
            <a:avLst>
              <a:gd name="adj" fmla="val 20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にんぎょう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(poupée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665280" y="5986440"/>
            <a:ext cx="8777160" cy="1327320"/>
            <a:chOff x="665280" y="5986440"/>
            <a:chExt cx="8777160" cy="1327320"/>
          </a:xfrm>
        </p:grpSpPr>
        <p:sp>
          <p:nvSpPr>
            <p:cNvPr id="603" name=""/>
            <p:cNvSpPr/>
            <p:nvPr/>
          </p:nvSpPr>
          <p:spPr>
            <a:xfrm>
              <a:off x="665280" y="5986440"/>
              <a:ext cx="8777160" cy="132732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852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にんぎょう</a:t>
              </a:r>
              <a:r>
                <a:rPr b="0" lang="ja-JP" sz="6000" spc="-1" strike="noStrike">
                  <a:solidFill>
                    <a:srgbClr val="800000"/>
                  </a:solidFill>
                  <a:latin typeface="みかちゃん"/>
                  <a:ea typeface="みかちゃん"/>
                </a:rPr>
                <a:t>の</a:t>
              </a:r>
              <a:r>
                <a:rPr b="0" lang="ja-JP" sz="6000" spc="-1" strike="noStrike">
                  <a:solidFill>
                    <a:srgbClr val="ff0000"/>
                  </a:solidFill>
                  <a:latin typeface="みかちゃん"/>
                  <a:ea typeface="みかちゃん"/>
                </a:rPr>
                <a:t>ようです</a:t>
              </a:r>
              <a:r>
                <a:rPr b="0" lang="ja-JP" sz="6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。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678640" y="1419120"/>
            <a:ext cx="1827000" cy="22226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 flipV="1">
            <a:off x="3510000" y="2595600"/>
            <a:ext cx="1914480" cy="644400"/>
          </a:xfrm>
          <a:prstGeom prst="line">
            <a:avLst/>
          </a:prstGeom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352680" y="2271240"/>
            <a:ext cx="1825920" cy="598680"/>
          </a:xfrm>
          <a:prstGeom prst="line">
            <a:avLst/>
          </a:prstGeom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dur="indefinite" fill="hold">
                      <p:stCondLst>
                        <p:cond delay="indefinite"/>
                      </p:stCondLst>
                      <p:childTnLst>
                        <p:par>
                          <p:cTn id="6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1000" fill="hold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4451400" y="738360"/>
            <a:ext cx="3809880" cy="3420720"/>
          </a:xfrm>
          <a:prstGeom prst="cloudCallout">
            <a:avLst>
              <a:gd name="adj1" fmla="val 79587"/>
              <a:gd name="adj2" fmla="val 8976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247680" y="1695600"/>
            <a:ext cx="3230640" cy="832320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5678640" y="1419120"/>
            <a:ext cx="1827000" cy="2222640"/>
          </a:xfrm>
          <a:prstGeom prst="rect">
            <a:avLst/>
          </a:prstGeom>
          <a:ln w="0">
            <a:noFill/>
          </a:ln>
        </p:spPr>
      </p:pic>
      <p:grpSp>
        <p:nvGrpSpPr>
          <p:cNvPr id="610" name=""/>
          <p:cNvGrpSpPr/>
          <p:nvPr/>
        </p:nvGrpSpPr>
        <p:grpSpPr>
          <a:xfrm>
            <a:off x="344520" y="5986440"/>
            <a:ext cx="9099360" cy="1327320"/>
            <a:chOff x="344520" y="5986440"/>
            <a:chExt cx="9099360" cy="1327320"/>
          </a:xfrm>
        </p:grpSpPr>
        <p:sp>
          <p:nvSpPr>
            <p:cNvPr id="611" name=""/>
            <p:cNvSpPr/>
            <p:nvPr/>
          </p:nvSpPr>
          <p:spPr>
            <a:xfrm>
              <a:off x="344520" y="5986440"/>
              <a:ext cx="9099360" cy="132732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612" name=""/>
          <p:cNvSpPr/>
          <p:nvPr/>
        </p:nvSpPr>
        <p:spPr>
          <a:xfrm flipV="1">
            <a:off x="3510000" y="2595600"/>
            <a:ext cx="1914480" cy="644400"/>
          </a:xfrm>
          <a:prstGeom prst="line">
            <a:avLst/>
          </a:prstGeom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3352680" y="2271240"/>
            <a:ext cx="1825920" cy="598680"/>
          </a:xfrm>
          <a:prstGeom prst="line">
            <a:avLst/>
          </a:prstGeom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14" name=""/>
          <p:cNvSpPr/>
          <p:nvPr/>
        </p:nvSpPr>
        <p:spPr>
          <a:xfrm>
            <a:off x="7210440" y="979560"/>
            <a:ext cx="2790720" cy="753840"/>
          </a:xfrm>
          <a:prstGeom prst="roundRect">
            <a:avLst>
              <a:gd name="adj" fmla="val 20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にんぎょう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(poupée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4451400" y="738360"/>
            <a:ext cx="3809880" cy="3420720"/>
          </a:xfrm>
          <a:prstGeom prst="cloudCallout">
            <a:avLst>
              <a:gd name="adj1" fmla="val 79587"/>
              <a:gd name="adj2" fmla="val 8976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247680" y="1695600"/>
            <a:ext cx="3230640" cy="832320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5678640" y="1419120"/>
            <a:ext cx="1827000" cy="222264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44520" y="5986440"/>
            <a:ext cx="9099360" cy="1327320"/>
            <a:chOff x="344520" y="5986440"/>
            <a:chExt cx="9099360" cy="1327320"/>
          </a:xfrm>
        </p:grpSpPr>
        <p:sp>
          <p:nvSpPr>
            <p:cNvPr id="619" name=""/>
            <p:cNvSpPr/>
            <p:nvPr/>
          </p:nvSpPr>
          <p:spPr>
            <a:xfrm>
              <a:off x="344520" y="5986440"/>
              <a:ext cx="9099360" cy="132732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5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にんぎょう</a:t>
              </a:r>
              <a:r>
                <a:rPr b="0" lang="ja-JP" sz="4000" spc="-1" strike="noStrike">
                  <a:solidFill>
                    <a:srgbClr val="800000"/>
                  </a:solidFill>
                  <a:latin typeface="みかちゃん"/>
                  <a:ea typeface="みかちゃん"/>
                </a:rPr>
                <a:t>の</a:t>
              </a:r>
              <a:r>
                <a:rPr b="0" lang="ja-JP" sz="4000" spc="-1" strike="noStrike">
                  <a:solidFill>
                    <a:srgbClr val="ff0000"/>
                  </a:solidFill>
                  <a:latin typeface="みかちゃん"/>
                  <a:ea typeface="みかちゃん"/>
                </a:rPr>
                <a:t>ような</a:t>
              </a:r>
              <a:r>
                <a:rPr b="0" lang="ja-JP" sz="4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おんなのこです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620" name=""/>
          <p:cNvSpPr/>
          <p:nvPr/>
        </p:nvSpPr>
        <p:spPr>
          <a:xfrm flipV="1">
            <a:off x="3510000" y="2595600"/>
            <a:ext cx="1914480" cy="644400"/>
          </a:xfrm>
          <a:prstGeom prst="line">
            <a:avLst/>
          </a:prstGeom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3352680" y="2271240"/>
            <a:ext cx="1825920" cy="598680"/>
          </a:xfrm>
          <a:prstGeom prst="line">
            <a:avLst/>
          </a:prstGeom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22" name=""/>
          <p:cNvSpPr/>
          <p:nvPr/>
        </p:nvSpPr>
        <p:spPr>
          <a:xfrm>
            <a:off x="7210440" y="979560"/>
            <a:ext cx="2790720" cy="753840"/>
          </a:xfrm>
          <a:prstGeom prst="roundRect">
            <a:avLst>
              <a:gd name="adj" fmla="val 20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にんぎょう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(poupée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4451400" y="738360"/>
            <a:ext cx="3809880" cy="3420720"/>
          </a:xfrm>
          <a:prstGeom prst="cloudCallout">
            <a:avLst>
              <a:gd name="adj1" fmla="val 79587"/>
              <a:gd name="adj2" fmla="val 8976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247680" y="1695600"/>
            <a:ext cx="3230640" cy="832320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2"/>
          <a:stretch/>
        </p:blipFill>
        <p:spPr>
          <a:xfrm>
            <a:off x="5678640" y="1419120"/>
            <a:ext cx="1827000" cy="2222640"/>
          </a:xfrm>
          <a:prstGeom prst="rect">
            <a:avLst/>
          </a:prstGeom>
          <a:ln w="0">
            <a:noFill/>
          </a:ln>
        </p:spPr>
      </p:pic>
      <p:grpSp>
        <p:nvGrpSpPr>
          <p:cNvPr id="626" name=""/>
          <p:cNvGrpSpPr/>
          <p:nvPr/>
        </p:nvGrpSpPr>
        <p:grpSpPr>
          <a:xfrm>
            <a:off x="344520" y="5172120"/>
            <a:ext cx="9099360" cy="2141640"/>
            <a:chOff x="344520" y="5172120"/>
            <a:chExt cx="9099360" cy="2141640"/>
          </a:xfrm>
        </p:grpSpPr>
        <p:sp>
          <p:nvSpPr>
            <p:cNvPr id="627" name=""/>
            <p:cNvSpPr/>
            <p:nvPr/>
          </p:nvSpPr>
          <p:spPr>
            <a:xfrm>
              <a:off x="344520" y="5172120"/>
              <a:ext cx="9099360" cy="2141640"/>
            </a:xfrm>
            <a:prstGeom prst="roundRect">
              <a:avLst>
                <a:gd name="adj" fmla="val 7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628" name=""/>
          <p:cNvSpPr/>
          <p:nvPr/>
        </p:nvSpPr>
        <p:spPr>
          <a:xfrm flipV="1">
            <a:off x="3508200" y="2595600"/>
            <a:ext cx="1914840" cy="644400"/>
          </a:xfrm>
          <a:prstGeom prst="line">
            <a:avLst/>
          </a:prstGeom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352680" y="2271240"/>
            <a:ext cx="1825920" cy="598680"/>
          </a:xfrm>
          <a:prstGeom prst="line">
            <a:avLst/>
          </a:prstGeom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30" name=""/>
          <p:cNvSpPr/>
          <p:nvPr/>
        </p:nvSpPr>
        <p:spPr>
          <a:xfrm>
            <a:off x="7210440" y="979560"/>
            <a:ext cx="2790720" cy="753840"/>
          </a:xfrm>
          <a:prstGeom prst="roundRect">
            <a:avLst>
              <a:gd name="adj" fmla="val 20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にんぎょう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(poupée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4451400" y="738360"/>
            <a:ext cx="3809880" cy="3420720"/>
          </a:xfrm>
          <a:prstGeom prst="cloudCallout">
            <a:avLst>
              <a:gd name="adj1" fmla="val 79587"/>
              <a:gd name="adj2" fmla="val 8976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247680" y="1695600"/>
            <a:ext cx="3230640" cy="832320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5678640" y="1419120"/>
            <a:ext cx="1827000" cy="2222640"/>
          </a:xfrm>
          <a:prstGeom prst="rect">
            <a:avLst/>
          </a:prstGeom>
          <a:ln w="0">
            <a:noFill/>
          </a:ln>
        </p:spPr>
      </p:pic>
      <p:grpSp>
        <p:nvGrpSpPr>
          <p:cNvPr id="634" name=""/>
          <p:cNvGrpSpPr/>
          <p:nvPr/>
        </p:nvGrpSpPr>
        <p:grpSpPr>
          <a:xfrm>
            <a:off x="344520" y="5172120"/>
            <a:ext cx="9099360" cy="2141640"/>
            <a:chOff x="344520" y="5172120"/>
            <a:chExt cx="9099360" cy="2141640"/>
          </a:xfrm>
        </p:grpSpPr>
        <p:sp>
          <p:nvSpPr>
            <p:cNvPr id="635" name=""/>
            <p:cNvSpPr/>
            <p:nvPr/>
          </p:nvSpPr>
          <p:spPr>
            <a:xfrm>
              <a:off x="344520" y="5172120"/>
              <a:ext cx="9099360" cy="2141640"/>
            </a:xfrm>
            <a:prstGeom prst="roundRect">
              <a:avLst>
                <a:gd name="adj" fmla="val 7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852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にんぎょう</a:t>
              </a:r>
              <a:r>
                <a:rPr b="0" lang="ja-JP" sz="6000" spc="-1" strike="noStrike">
                  <a:solidFill>
                    <a:srgbClr val="800000"/>
                  </a:solidFill>
                  <a:latin typeface="みかちゃん"/>
                  <a:ea typeface="みかちゃん"/>
                </a:rPr>
                <a:t>の</a:t>
              </a:r>
              <a:r>
                <a:rPr b="0" lang="ja-JP" sz="6000" spc="-1" strike="noStrike">
                  <a:solidFill>
                    <a:srgbClr val="ff0000"/>
                  </a:solidFill>
                  <a:latin typeface="みかちゃん"/>
                  <a:ea typeface="みかちゃん"/>
                </a:rPr>
                <a:t>ように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かわいいです。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636" name=""/>
          <p:cNvSpPr/>
          <p:nvPr/>
        </p:nvSpPr>
        <p:spPr>
          <a:xfrm flipV="1">
            <a:off x="3508200" y="2595600"/>
            <a:ext cx="1914840" cy="644400"/>
          </a:xfrm>
          <a:prstGeom prst="line">
            <a:avLst/>
          </a:prstGeom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3352680" y="2271240"/>
            <a:ext cx="1825920" cy="598680"/>
          </a:xfrm>
          <a:prstGeom prst="line">
            <a:avLst/>
          </a:prstGeom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38" name=""/>
          <p:cNvSpPr/>
          <p:nvPr/>
        </p:nvSpPr>
        <p:spPr>
          <a:xfrm>
            <a:off x="7210440" y="979560"/>
            <a:ext cx="2790720" cy="753840"/>
          </a:xfrm>
          <a:prstGeom prst="roundRect">
            <a:avLst>
              <a:gd name="adj" fmla="val 20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にんぎょう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(poupée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0" y="1430280"/>
            <a:ext cx="10078920" cy="727236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5000760" y="1468440"/>
            <a:ext cx="1137960" cy="568440"/>
          </a:xfrm>
          <a:prstGeom prst="line">
            <a:avLst/>
          </a:prstGeom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41" name=""/>
          <p:cNvSpPr/>
          <p:nvPr/>
        </p:nvSpPr>
        <p:spPr>
          <a:xfrm>
            <a:off x="4908600" y="1798560"/>
            <a:ext cx="1084320" cy="528840"/>
          </a:xfrm>
          <a:prstGeom prst="line">
            <a:avLst/>
          </a:prstGeom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344520" y="5516640"/>
            <a:ext cx="9099360" cy="1798560"/>
            <a:chOff x="344520" y="5516640"/>
            <a:chExt cx="9099360" cy="1798560"/>
          </a:xfrm>
        </p:grpSpPr>
        <p:sp>
          <p:nvSpPr>
            <p:cNvPr id="643" name=""/>
            <p:cNvSpPr/>
            <p:nvPr/>
          </p:nvSpPr>
          <p:spPr>
            <a:xfrm>
              <a:off x="344520" y="5516640"/>
              <a:ext cx="9099360" cy="1798560"/>
            </a:xfrm>
            <a:prstGeom prst="roundRect">
              <a:avLst>
                <a:gd name="adj" fmla="val 88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2468520" y="992160"/>
            <a:ext cx="21258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24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itstream Vera Serif"/>
              </a:rPr>
              <a:t>Zidane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dur="indefinite" fill="hold">
                      <p:stCondLst>
                        <p:cond delay="indefinite"/>
                      </p:stCondLst>
                      <p:childTnLst>
                        <p:par>
                          <p:cTn id="6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 fill="hold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0" y="1430280"/>
            <a:ext cx="10078920" cy="727236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5000760" y="1468440"/>
            <a:ext cx="1137960" cy="568440"/>
          </a:xfrm>
          <a:prstGeom prst="line">
            <a:avLst/>
          </a:prstGeom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47" name=""/>
          <p:cNvSpPr/>
          <p:nvPr/>
        </p:nvSpPr>
        <p:spPr>
          <a:xfrm>
            <a:off x="4908600" y="1798560"/>
            <a:ext cx="1084320" cy="528840"/>
          </a:xfrm>
          <a:prstGeom prst="line">
            <a:avLst/>
          </a:prstGeom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44520" y="5516640"/>
            <a:ext cx="9099360" cy="1798560"/>
            <a:chOff x="344520" y="5516640"/>
            <a:chExt cx="9099360" cy="1798560"/>
          </a:xfrm>
        </p:grpSpPr>
        <p:sp>
          <p:nvSpPr>
            <p:cNvPr id="649" name=""/>
            <p:cNvSpPr/>
            <p:nvPr/>
          </p:nvSpPr>
          <p:spPr>
            <a:xfrm>
              <a:off x="344520" y="5516640"/>
              <a:ext cx="9099360" cy="1798560"/>
            </a:xfrm>
            <a:prstGeom prst="roundRect">
              <a:avLst>
                <a:gd name="adj" fmla="val 88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852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ジダン</a:t>
              </a:r>
              <a:r>
                <a:rPr b="0" lang="ja-JP" sz="6000" spc="-1" strike="noStrike">
                  <a:solidFill>
                    <a:srgbClr val="800000"/>
                  </a:solidFill>
                  <a:latin typeface="みかちゃん"/>
                  <a:ea typeface="みかちゃん"/>
                </a:rPr>
                <a:t>の</a:t>
              </a:r>
              <a:r>
                <a:rPr b="0" lang="ja-JP" sz="6000" spc="-1" strike="noStrike">
                  <a:solidFill>
                    <a:srgbClr val="ff0000"/>
                  </a:solidFill>
                  <a:latin typeface="みかちゃん"/>
                  <a:ea typeface="みかちゃん"/>
                </a:rPr>
                <a:t>ように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サッカー</a:t>
              </a:r>
              <a:r>
                <a:rPr b="0" lang="ja-JP" sz="6000" spc="-1" strike="noStrike">
                  <a:solidFill>
                    <a:srgbClr val="800000"/>
                  </a:solidFill>
                  <a:latin typeface="みかちゃん"/>
                  <a:ea typeface="みかちゃん"/>
                </a:rPr>
                <a:t>が</a:t>
              </a:r>
              <a:r>
                <a:rPr b="0" lang="ja-JP" sz="6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じょうずです。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2468520" y="992160"/>
            <a:ext cx="21258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24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itstream Vera Serif"/>
              </a:rPr>
              <a:t>Zidane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dur="indefinite" fill="hold">
                      <p:stCondLst>
                        <p:cond delay="indefinite"/>
                      </p:stCondLst>
                      <p:childTnLst>
                        <p:par>
                          <p:cTn id="6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1000" fill="hold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378240" y="387360"/>
            <a:ext cx="2036880" cy="1217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V="1">
            <a:off x="1138320" y="1491840"/>
            <a:ext cx="6495840" cy="132876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774960" y="1800360"/>
            <a:ext cx="1952640" cy="1771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81200" y="4792680"/>
            <a:ext cx="8545320" cy="113832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どうやって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だいがく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へ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いきますか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8" name=""/>
          <p:cNvSpPr/>
          <p:nvPr/>
        </p:nvSpPr>
        <p:spPr>
          <a:xfrm>
            <a:off x="4187880" y="1263600"/>
            <a:ext cx="1895400" cy="12780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55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Kochi Gothic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522440" y="493560"/>
            <a:ext cx="1035000" cy="2654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885080" y="657360"/>
            <a:ext cx="1517760" cy="1195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81200" y="6151680"/>
            <a:ext cx="8545320" cy="113796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43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mikachan"/>
                <a:ea typeface="mikachan"/>
              </a:rPr>
              <a:t>バスにの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mikachan"/>
                <a:ea typeface="mikachan"/>
              </a:rPr>
              <a:t>って</a:t>
            </a:r>
            <a:r>
              <a:rPr b="0" lang="ja-JP" sz="4400" spc="-1" strike="noStrike">
                <a:solidFill>
                  <a:srgbClr val="000000"/>
                </a:solidFill>
                <a:latin typeface="mikachan"/>
                <a:ea typeface="mikachan"/>
              </a:rPr>
              <a:t>いき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6819840" y="2073240"/>
            <a:ext cx="2400480" cy="739152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2925720" y="1338120"/>
            <a:ext cx="4195800" cy="1519560"/>
          </a:xfrm>
          <a:prstGeom prst="wedgeRoundRectCallout">
            <a:avLst>
              <a:gd name="adj1" fmla="val 56578"/>
              <a:gd name="adj2" fmla="val 70879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53" name=""/>
          <p:cNvSpPr/>
          <p:nvPr/>
        </p:nvSpPr>
        <p:spPr>
          <a:xfrm>
            <a:off x="3216240" y="1711440"/>
            <a:ext cx="313200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12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Encantado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Me llamo Yamada ..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344520" y="5516640"/>
            <a:ext cx="9099360" cy="1798560"/>
            <a:chOff x="344520" y="5516640"/>
            <a:chExt cx="9099360" cy="1798560"/>
          </a:xfrm>
        </p:grpSpPr>
        <p:sp>
          <p:nvSpPr>
            <p:cNvPr id="655" name=""/>
            <p:cNvSpPr/>
            <p:nvPr/>
          </p:nvSpPr>
          <p:spPr>
            <a:xfrm>
              <a:off x="344520" y="5516640"/>
              <a:ext cx="9099360" cy="1798560"/>
            </a:xfrm>
            <a:prstGeom prst="roundRect">
              <a:avLst>
                <a:gd name="adj" fmla="val 88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656" name=""/>
          <p:cNvSpPr/>
          <p:nvPr/>
        </p:nvSpPr>
        <p:spPr>
          <a:xfrm flipH="1">
            <a:off x="3606480" y="2959200"/>
            <a:ext cx="1144440" cy="568080"/>
          </a:xfrm>
          <a:prstGeom prst="line">
            <a:avLst/>
          </a:prstGeom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3752640" y="3289320"/>
            <a:ext cx="1090440" cy="528480"/>
          </a:xfrm>
          <a:prstGeom prst="line">
            <a:avLst/>
          </a:prstGeom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58" name=""/>
          <p:cNvSpPr/>
          <p:nvPr/>
        </p:nvSpPr>
        <p:spPr>
          <a:xfrm>
            <a:off x="2125800" y="3892680"/>
            <a:ext cx="15825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4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ikachan"/>
                <a:ea typeface="mikachan"/>
              </a:rPr>
              <a:t>スペインじ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dur="indefinite" fill="hold">
                      <p:stCondLst>
                        <p:cond delay="indefinite"/>
                      </p:stCondLst>
                      <p:childTnLst>
                        <p:par>
                          <p:cTn id="7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 fill="hold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6819840" y="2073240"/>
            <a:ext cx="2400480" cy="739152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2925720" y="1338120"/>
            <a:ext cx="4195800" cy="1519560"/>
          </a:xfrm>
          <a:prstGeom prst="wedgeRoundRectCallout">
            <a:avLst>
              <a:gd name="adj1" fmla="val 56578"/>
              <a:gd name="adj2" fmla="val 70879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61" name=""/>
          <p:cNvSpPr/>
          <p:nvPr/>
        </p:nvSpPr>
        <p:spPr>
          <a:xfrm>
            <a:off x="3216240" y="1711440"/>
            <a:ext cx="313200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12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Encantado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Me llamo Yamada ..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344520" y="5516640"/>
            <a:ext cx="9099360" cy="1798560"/>
            <a:chOff x="344520" y="5516640"/>
            <a:chExt cx="9099360" cy="1798560"/>
          </a:xfrm>
        </p:grpSpPr>
        <p:sp>
          <p:nvSpPr>
            <p:cNvPr id="663" name=""/>
            <p:cNvSpPr/>
            <p:nvPr/>
          </p:nvSpPr>
          <p:spPr>
            <a:xfrm>
              <a:off x="344520" y="5516640"/>
              <a:ext cx="9099360" cy="1798560"/>
            </a:xfrm>
            <a:prstGeom prst="roundRect">
              <a:avLst>
                <a:gd name="adj" fmla="val 88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852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スペインじん</a:t>
              </a:r>
              <a:r>
                <a:rPr b="0" lang="ja-JP" sz="6000" spc="-1" strike="noStrike">
                  <a:solidFill>
                    <a:srgbClr val="800000"/>
                  </a:solidFill>
                  <a:latin typeface="みかちゃん"/>
                  <a:ea typeface="みかちゃん"/>
                </a:rPr>
                <a:t>の</a:t>
              </a:r>
              <a:r>
                <a:rPr b="0" lang="ja-JP" sz="6000" spc="-1" strike="noStrike">
                  <a:solidFill>
                    <a:srgbClr val="ff0000"/>
                  </a:solidFill>
                  <a:latin typeface="みかちゃん"/>
                  <a:ea typeface="みかちゃん"/>
                </a:rPr>
                <a:t>ように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スペインご</a:t>
              </a:r>
              <a:r>
                <a:rPr b="0" lang="ja-JP" sz="6000" spc="-1" strike="noStrike">
                  <a:solidFill>
                    <a:srgbClr val="800000"/>
                  </a:solidFill>
                  <a:latin typeface="みかちゃん"/>
                  <a:ea typeface="みかちゃん"/>
                </a:rPr>
                <a:t>を</a:t>
              </a:r>
              <a:r>
                <a:rPr b="0" lang="ja-JP" sz="6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はなします。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664" name=""/>
          <p:cNvSpPr/>
          <p:nvPr/>
        </p:nvSpPr>
        <p:spPr>
          <a:xfrm flipH="1">
            <a:off x="3606480" y="2959200"/>
            <a:ext cx="1144440" cy="568080"/>
          </a:xfrm>
          <a:prstGeom prst="line">
            <a:avLst/>
          </a:prstGeom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752640" y="3289320"/>
            <a:ext cx="1090440" cy="528480"/>
          </a:xfrm>
          <a:prstGeom prst="line">
            <a:avLst/>
          </a:prstGeom>
          <a:ln w="144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66" name=""/>
          <p:cNvSpPr/>
          <p:nvPr/>
        </p:nvSpPr>
        <p:spPr>
          <a:xfrm>
            <a:off x="2125800" y="3892680"/>
            <a:ext cx="15825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4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ikachan"/>
                <a:ea typeface="mikachan"/>
              </a:rPr>
              <a:t>スペインじ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dur="indefinite" fill="hold">
                      <p:stCondLst>
                        <p:cond delay="indefinite"/>
                      </p:stCondLst>
                      <p:childTnLst>
                        <p:par>
                          <p:cTn id="7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 fill="hold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22:28:16Z</dcterms:created>
  <dc:creator/>
  <dc:description/>
  <dc:language>en-US</dc:language>
  <cp:lastModifiedBy/>
  <dcterms:modified xsi:type="dcterms:W3CDTF">2016-05-24T19:23:51Z</dcterms:modified>
  <cp:revision>68</cp:revision>
  <dc:subject/>
  <dc:title/>
</cp:coreProperties>
</file>