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3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-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3710B-5DC1-4BF7-AC81-222CAECE7217}" type="slidenum">
              <a:rPr b="0" lang="fr-FR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5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A9A-C791-4012-9BE5-416F4619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E74-630B-44CA-B2A4-14E1725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3CF-3A8A-42FE-8958-FDC0088F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263-D757-4030-B67F-DBF294D9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6F8-BD06-492F-9349-4DF7F89C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FA9-635E-4B5B-8555-ADCEF2EA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B14-C746-4382-A866-B3E7AB0F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F42-023B-45D1-B066-AA6D39E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F2A-43CD-442A-9ADF-AA951D1A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589-C6A1-41D7-9A5D-5311142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3D2-93C5-4AEF-B99F-A86813FD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50E-AB63-4848-A8AE-B84899A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5338A-1E89-473B-8DF4-A313132FFCA7}" type="slidenum">
              <a:rPr b="0" lang="fr-FR" sz="18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9280" y="360360"/>
            <a:ext cx="6945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fr-FR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8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979640"/>
            <a:ext cx="43988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10620360" y="5580000"/>
            <a:ext cx="181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032360"/>
            <a:ext cx="443052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じしょ けい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 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しゅみは 〜ことで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ことが</a:t>
            </a: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は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まえに …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28880" y="22748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9830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5425920" y="2313000"/>
            <a:ext cx="16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413320" y="4022640"/>
            <a:ext cx="21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16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84080" y="2200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22748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い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2930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833480" y="2273400"/>
            <a:ext cx="10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38419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017720" y="398304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よ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046160" y="4640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ｉ → ー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398304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む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71440" y="12240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5127480" y="22813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"/>
          <p:cNvSpPr/>
          <p:nvPr/>
        </p:nvSpPr>
        <p:spPr>
          <a:xfrm>
            <a:off x="5425920" y="2313000"/>
            <a:ext cx="8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み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297036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9" name=""/>
          <p:cNvSpPr/>
          <p:nvPr/>
        </p:nvSpPr>
        <p:spPr>
          <a:xfrm>
            <a:off x="6230880" y="2313000"/>
            <a:ext cx="10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5087880" y="38815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413320" y="4022640"/>
            <a:ext cx="129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46800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ー → </a:t>
            </a:r>
            <a:r>
              <a:rPr b="0" lang="fr-FR" sz="24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+ </a:t>
            </a:r>
            <a:r>
              <a:rPr b="0" lang="ja-JP" sz="18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562800" y="40608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る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694400" y="1266840"/>
            <a:ext cx="305244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5621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5549760"/>
            <a:ext cx="394020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く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4240080" y="66117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ans"/>
                <a:ea typeface="Y.OzN_'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ans"/>
                <a:ea typeface="Y.OzN_'04"/>
              </a:rPr>
              <a:t>する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8040" y="66600"/>
            <a:ext cx="8272440" cy="1131840"/>
            <a:chOff x="338040" y="66600"/>
            <a:chExt cx="8272440" cy="1131840"/>
          </a:xfrm>
        </p:grpSpPr>
        <p:sp>
          <p:nvSpPr>
            <p:cNvPr id="139" name=""/>
            <p:cNvSpPr/>
            <p:nvPr/>
          </p:nvSpPr>
          <p:spPr>
            <a:xfrm>
              <a:off x="338040" y="66600"/>
              <a:ext cx="8272440" cy="1131840"/>
            </a:xfrm>
            <a:prstGeom prst="roundRect">
              <a:avLst>
                <a:gd name="adj" fmla="val 139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じしょけい </a:t>
              </a:r>
              <a:r>
                <a:rPr b="0" lang="fr-FR" sz="6000" spc="-1" strike="noStrike">
                  <a:solidFill>
                    <a:srgbClr val="000000"/>
                  </a:solidFill>
                  <a:latin typeface="mikachan"/>
                  <a:ea typeface="mikachan"/>
                </a:rPr>
                <a:t>forme Dico</a:t>
              </a:r>
              <a:endParaRPr b="0" lang="en-US" sz="60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9280" y="1673280"/>
            <a:ext cx="3951360" cy="948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33640" y="1171440"/>
            <a:ext cx="31017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When I find myse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itstream Vera Sans"/>
              </a:rPr>
              <a:t>in times of trouble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22200" y="282600"/>
            <a:ext cx="4595760" cy="874800"/>
          </a:xfrm>
          <a:prstGeom prst="ellipse">
            <a:avLst/>
          </a:prstGeom>
          <a:solidFill>
            <a:srgbClr val="ffcc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939960" y="2381400"/>
            <a:ext cx="1428480" cy="14284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えいごのうた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た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3691080" y="642960"/>
            <a:ext cx="1761840" cy="1857240"/>
          </a:xfrm>
          <a:custGeom>
            <a:avLst/>
            <a:gdLst/>
            <a:ahLst/>
            <a:rect l="l" t="t" r="r" b="b"/>
            <a:pathLst>
              <a:path w="4896" h="5161">
                <a:moveTo>
                  <a:pt x="4895" y="5160"/>
                </a:moveTo>
                <a:cubicBezTo>
                  <a:pt x="4446" y="4193"/>
                  <a:pt x="3546" y="3705"/>
                  <a:pt x="2911" y="2845"/>
                </a:cubicBezTo>
                <a:cubicBezTo>
                  <a:pt x="2258" y="1960"/>
                  <a:pt x="1400" y="1245"/>
                  <a:pt x="794" y="331"/>
                </a:cubicBezTo>
                <a:lnTo>
                  <a:pt x="132" y="0"/>
                </a:lnTo>
                <a:lnTo>
                  <a:pt x="0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2886120"/>
            <a:ext cx="4143240" cy="479520"/>
          </a:xfrm>
          <a:custGeom>
            <a:avLst/>
            <a:gdLst/>
            <a:ahLst/>
            <a:rect l="l" t="t" r="r" b="b"/>
            <a:pathLst>
              <a:path w="11510" h="1331">
                <a:moveTo>
                  <a:pt x="11509" y="1176"/>
                </a:moveTo>
                <a:cubicBezTo>
                  <a:pt x="10698" y="956"/>
                  <a:pt x="9833" y="1330"/>
                  <a:pt x="9062" y="845"/>
                </a:cubicBezTo>
                <a:cubicBezTo>
                  <a:pt x="8322" y="380"/>
                  <a:pt x="7460" y="471"/>
                  <a:pt x="6615" y="316"/>
                </a:cubicBezTo>
                <a:cubicBezTo>
                  <a:pt x="5444" y="101"/>
                  <a:pt x="4226" y="189"/>
                  <a:pt x="3043" y="316"/>
                </a:cubicBezTo>
                <a:cubicBezTo>
                  <a:pt x="2200" y="406"/>
                  <a:pt x="1478" y="0"/>
                  <a:pt x="662" y="184"/>
                </a:cubicBezTo>
                <a:lnTo>
                  <a:pt x="0" y="184"/>
                </a:lnTo>
                <a:lnTo>
                  <a:pt x="0" y="1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28600" y="2081160"/>
            <a:ext cx="7513920" cy="512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hère Caroline,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comment vas-tu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Lucida Sans"/>
                <a:ea typeface="Kochi Mincho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 てがみ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てがみ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9240" y="906480"/>
            <a:ext cx="4560840" cy="665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4343400" y="2930400"/>
            <a:ext cx="1036800" cy="2922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5506920" y="1639800"/>
            <a:ext cx="3417840" cy="1611360"/>
          </a:xfrm>
          <a:prstGeom prst="roundRect">
            <a:avLst>
              <a:gd name="adj" fmla="val 9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もしもし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きょうこさん、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おげんきですか。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244440" y="438120"/>
            <a:ext cx="6256440" cy="9399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 でんわ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で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ん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け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52680" y="52560"/>
            <a:ext cx="6561000" cy="75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6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じ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き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1235160" y="2309760"/>
            <a:ext cx="1763640" cy="687600"/>
          </a:xfrm>
          <a:prstGeom prst="roundRect">
            <a:avLst>
              <a:gd name="adj" fmla="val 231"/>
            </a:avLst>
          </a:prstGeom>
          <a:solidFill>
            <a:srgbClr val="000000"/>
          </a:solidFill>
          <a:ln w="180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90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6</a:t>
            </a:r>
            <a:r>
              <a:rPr b="0" lang="ja-JP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：</a:t>
            </a:r>
            <a:r>
              <a:rPr b="0" lang="fr-FR" sz="4000" spc="-1" strike="noStrike">
                <a:solidFill>
                  <a:srgbClr val="ffff00"/>
                </a:solidFill>
                <a:latin typeface="Luxi Sans"/>
                <a:ea typeface="Luxi Sans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5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45440" y="3579840"/>
            <a:ext cx="2733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538200" y="5427720"/>
            <a:ext cx="92250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るいて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8560" y="1792440"/>
            <a:ext cx="4010040" cy="2842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08280" y="4067280"/>
            <a:ext cx="1735200" cy="938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こ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19160" y="2417760"/>
            <a:ext cx="5139000" cy="8524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3838680"/>
            <a:ext cx="2160360" cy="1549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0" y="1171440"/>
            <a:ext cx="13762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6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1200" y="558720"/>
            <a:ext cx="4748400" cy="849240"/>
          </a:xfrm>
          <a:prstGeom prst="roundRect">
            <a:avLst>
              <a:gd name="adj" fmla="val 18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みかちゃん"/>
                <a:ea typeface="みかちゃん"/>
              </a:rPr>
              <a:t>うんてん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638280" y="414180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くるま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うんてんする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2630520" y="1122480"/>
            <a:ext cx="463680" cy="3797280"/>
          </a:xfrm>
          <a:custGeom>
            <a:avLst/>
            <a:gdLst/>
            <a:ahLst/>
            <a:rect l="l" t="t" r="r" b="b"/>
            <a:pathLst>
              <a:path w="1287" h="10548">
                <a:moveTo>
                  <a:pt x="0" y="0"/>
                </a:moveTo>
                <a:lnTo>
                  <a:pt x="1286" y="1054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2960" y="3848040"/>
            <a:ext cx="4440240" cy="22906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878360" y="3797280"/>
            <a:ext cx="5032440" cy="267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836640" y="164304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およぐ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20800" y="55872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ギタ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743200" y="24130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10078920" cy="713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47760" y="1881360"/>
            <a:ext cx="9469440" cy="14252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カメラ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う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1569960" y="1657440"/>
            <a:ext cx="6513480" cy="4060800"/>
          </a:xfrm>
          <a:prstGeom prst="line">
            <a:avLst/>
          </a:prstGeom>
          <a:ln w="108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360360"/>
            <a:ext cx="3900600" cy="1158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よむことができます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2960640"/>
            <a:ext cx="8183520" cy="1300320"/>
          </a:xfrm>
          <a:prstGeom prst="roundRect">
            <a:avLst>
              <a:gd name="adj" fmla="val 12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だ</a:t>
            </a: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 よむこと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62040" y="546120"/>
            <a:ext cx="8826480" cy="6467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82800" y="5321160"/>
            <a:ext cx="876780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もう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たべる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3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28760" y="577800"/>
            <a:ext cx="4091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? : ?? 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〜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けんがくし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329256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2879640"/>
            <a:ext cx="4162320" cy="5380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415120" y="141120"/>
            <a:ext cx="4481280" cy="2945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738600" y="3666960"/>
            <a:ext cx="5667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んじ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けんが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38400" y="852480"/>
            <a:ext cx="40906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こんばん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た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3230640"/>
            <a:ext cx="6046920" cy="2360520"/>
          </a:xfrm>
          <a:prstGeom prst="wedgeRoundRectCallout">
            <a:avLst>
              <a:gd name="adj1" fmla="val -46601"/>
              <a:gd name="adj2" fmla="val 6050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179800"/>
            <a:ext cx="4162320" cy="5379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19480" y="3857760"/>
            <a:ext cx="505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よやくする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60360"/>
            <a:ext cx="3419640" cy="90000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539640"/>
            <a:ext cx="2212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レストラン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   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59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1120" y="2374920"/>
            <a:ext cx="1773360" cy="833400"/>
          </a:xfrm>
          <a:prstGeom prst="roundRect">
            <a:avLst>
              <a:gd name="adj" fmla="val 190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カード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"/>
          <p:cNvSpPr/>
          <p:nvPr/>
        </p:nvSpPr>
        <p:spPr>
          <a:xfrm>
            <a:off x="2585880" y="493560"/>
            <a:ext cx="6426360" cy="1940040"/>
          </a:xfrm>
          <a:prstGeom prst="wedgeRoundRectCallout">
            <a:avLst>
              <a:gd name="adj1" fmla="val -46810"/>
              <a:gd name="adj2" fmla="val 106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57880" y="2255760"/>
            <a:ext cx="1803240" cy="5303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287880" y="4702320"/>
            <a:ext cx="5956200" cy="2857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340080" y="3938760"/>
            <a:ext cx="1341360" cy="1266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79640" y="3240000"/>
            <a:ext cx="2519280" cy="6120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2169720" y="4859280"/>
            <a:ext cx="988920" cy="725400"/>
            <a:chOff x="2169720" y="4859280"/>
            <a:chExt cx="988920" cy="725400"/>
          </a:xfrm>
        </p:grpSpPr>
        <p:sp>
          <p:nvSpPr>
            <p:cNvPr id="268" name=""/>
            <p:cNvSpPr/>
            <p:nvPr/>
          </p:nvSpPr>
          <p:spPr>
            <a:xfrm>
              <a:off x="2172960" y="4859280"/>
              <a:ext cx="98244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9720" y="4859280"/>
              <a:ext cx="988920" cy="725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698920" y="987480"/>
            <a:ext cx="62769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96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0000ff"/>
                </a:solidFill>
                <a:uFillTx/>
                <a:latin typeface="みかちゃん"/>
                <a:ea typeface="みかちゃん"/>
              </a:rPr>
              <a:t>カード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みかちゃん"/>
                <a:ea typeface="みかちゃん"/>
              </a:rPr>
              <a:t>で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はらう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が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きますか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38480" y="5799240"/>
            <a:ext cx="7842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なかなか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ンダ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みる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せん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7200" y="2978280"/>
            <a:ext cx="2152800" cy="6562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57280" y="720720"/>
            <a:ext cx="6102360" cy="47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9880" y="538632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ゅみはギター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7" name=""/>
          <p:cNvSpPr/>
          <p:nvPr/>
        </p:nvSpPr>
        <p:spPr>
          <a:xfrm>
            <a:off x="932040" y="546120"/>
            <a:ext cx="2131920" cy="738000"/>
          </a:xfrm>
          <a:prstGeom prst="roundRect">
            <a:avLst>
              <a:gd name="adj" fmla="val 21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34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しゅみ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294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449520" y="239760"/>
            <a:ext cx="6207120" cy="4332240"/>
            <a:chOff x="3449520" y="239760"/>
            <a:chExt cx="6207120" cy="4332240"/>
          </a:xfrm>
        </p:grpSpPr>
        <p:sp>
          <p:nvSpPr>
            <p:cNvPr id="300" name=""/>
            <p:cNvSpPr/>
            <p:nvPr/>
          </p:nvSpPr>
          <p:spPr>
            <a:xfrm>
              <a:off x="3449520" y="239760"/>
              <a:ext cx="6207120" cy="4332240"/>
            </a:xfrm>
            <a:prstGeom prst="roundRect">
              <a:avLst>
                <a:gd name="adj" fmla="val 413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460760" y="322200"/>
              <a:ext cx="3648240" cy="41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373480" y="3382920"/>
            <a:ext cx="1009440" cy="9050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45080" y="4719600"/>
            <a:ext cx="5551200" cy="1679760"/>
          </a:xfrm>
          <a:prstGeom prst="roundRect">
            <a:avLst>
              <a:gd name="adj" fmla="val 106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ニスを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きで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79280" y="1641600"/>
            <a:ext cx="2152800" cy="66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2440" y="952560"/>
            <a:ext cx="9537840" cy="1200240"/>
          </a:xfrm>
          <a:prstGeom prst="roundRect">
            <a:avLst>
              <a:gd name="adj" fmla="val 1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しま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9" name=""/>
          <p:cNvSpPr/>
          <p:nvPr/>
        </p:nvSpPr>
        <p:spPr>
          <a:xfrm>
            <a:off x="339840" y="3962520"/>
            <a:ext cx="9537480" cy="119988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にほんごをはなす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_F'04"/>
                <a:ea typeface="Y.OzN_'04"/>
              </a:rPr>
              <a:t>むずか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"/>
          <p:cNvSpPr/>
          <p:nvPr/>
        </p:nvSpPr>
        <p:spPr>
          <a:xfrm>
            <a:off x="4840200" y="2309760"/>
            <a:ext cx="1800" cy="1435320"/>
          </a:xfrm>
          <a:custGeom>
            <a:avLst/>
            <a:gdLst/>
            <a:ahLst/>
            <a:rect l="l" t="t" r="r" b="b"/>
            <a:pathLst>
              <a:path w="1" h="3988">
                <a:moveTo>
                  <a:pt x="0" y="0"/>
                </a:moveTo>
                <a:lnTo>
                  <a:pt x="0" y="3987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9120" y="334800"/>
            <a:ext cx="725976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スキ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73080" y="1922400"/>
            <a:ext cx="4335480" cy="5637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91040" y="3316320"/>
            <a:ext cx="285768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6191280" y="3862440"/>
            <a:ext cx="2857320" cy="2046240"/>
          </a:xfrm>
          <a:custGeom>
            <a:avLst/>
            <a:gdLst/>
            <a:ahLst/>
            <a:rect l="l" t="t" r="r" b="b"/>
            <a:pathLst>
              <a:path w="7938" h="5685">
                <a:moveTo>
                  <a:pt x="0" y="5684"/>
                </a:moveTo>
                <a:cubicBezTo>
                  <a:pt x="415" y="4967"/>
                  <a:pt x="954" y="4326"/>
                  <a:pt x="1568" y="3773"/>
                </a:cubicBezTo>
                <a:cubicBezTo>
                  <a:pt x="2036" y="3351"/>
                  <a:pt x="2653" y="3309"/>
                  <a:pt x="3234" y="3234"/>
                </a:cubicBezTo>
                <a:cubicBezTo>
                  <a:pt x="3823" y="3158"/>
                  <a:pt x="4315" y="2880"/>
                  <a:pt x="4802" y="2597"/>
                </a:cubicBezTo>
                <a:cubicBezTo>
                  <a:pt x="5565" y="2153"/>
                  <a:pt x="6064" y="1317"/>
                  <a:pt x="6908" y="980"/>
                </a:cubicBezTo>
                <a:lnTo>
                  <a:pt x="7496" y="490"/>
                </a:lnTo>
                <a:lnTo>
                  <a:pt x="7937" y="0"/>
                </a:lnTo>
                <a:lnTo>
                  <a:pt x="7888" y="49"/>
                </a:lnTo>
              </a:path>
            </a:pathLst>
          </a:custGeom>
          <a:noFill/>
          <a:ln w="36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41440" y="779400"/>
            <a:ext cx="953748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みます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5" name=""/>
          <p:cNvSpPr/>
          <p:nvPr/>
        </p:nvSpPr>
        <p:spPr>
          <a:xfrm>
            <a:off x="360360" y="4379760"/>
            <a:ext cx="9537840" cy="1200240"/>
          </a:xfrm>
          <a:prstGeom prst="roundRect">
            <a:avLst>
              <a:gd name="adj" fmla="val 1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みんなでおさけをのむ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こと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のしいです。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6" name=""/>
          <p:cNvSpPr/>
          <p:nvPr/>
        </p:nvSpPr>
        <p:spPr>
          <a:xfrm>
            <a:off x="5219640" y="2340000"/>
            <a:ext cx="1800" cy="1440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0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1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360" y="369720"/>
            <a:ext cx="4762440" cy="3386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732640" y="0"/>
            <a:ext cx="3755880" cy="3862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5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ね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べんきょうし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6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 べんきょうし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941640" y="1878120"/>
            <a:ext cx="1455840" cy="1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ごは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たべ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あび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4" name=""/>
          <p:cNvSpPr/>
          <p:nvPr/>
        </p:nvSpPr>
        <p:spPr>
          <a:xfrm>
            <a:off x="939960" y="4021200"/>
            <a:ext cx="6778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いつシャワーをあびますか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97480" y="539640"/>
            <a:ext cx="4141800" cy="324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81080" y="1620720"/>
            <a:ext cx="19382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N_'04"/>
              </a:rPr>
              <a:t>シャワー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4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5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72960" y="3600360"/>
            <a:ext cx="2146320" cy="5973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さんねん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まえ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した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740040" y="1720800"/>
            <a:ext cx="2157480" cy="1809720"/>
            <a:chOff x="3740040" y="1720800"/>
            <a:chExt cx="2157480" cy="1809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3740040" y="1720800"/>
              <a:ext cx="2157480" cy="18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V="1">
            <a:off x="2592360" y="2642760"/>
            <a:ext cx="1071720" cy="7333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1138320"/>
            <a:ext cx="9472680" cy="1440"/>
          </a:xfrm>
          <a:prstGeom prst="line">
            <a:avLst/>
          </a:prstGeom>
          <a:ln w="50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2" name=""/>
          <p:cNvSpPr/>
          <p:nvPr/>
        </p:nvSpPr>
        <p:spPr>
          <a:xfrm>
            <a:off x="7858080" y="1019160"/>
            <a:ext cx="1542960" cy="9698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96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ま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3" name=""/>
          <p:cNvSpPr/>
          <p:nvPr/>
        </p:nvSpPr>
        <p:spPr>
          <a:xfrm>
            <a:off x="5489640" y="241200"/>
            <a:ext cx="2778120" cy="1266840"/>
          </a:xfrm>
          <a:custGeom>
            <a:avLst/>
            <a:gdLst/>
            <a:ahLst/>
            <a:rect l="l" t="t" r="r" b="b"/>
            <a:pathLst>
              <a:path w="7718" h="3518">
                <a:moveTo>
                  <a:pt x="7717" y="2461"/>
                </a:moveTo>
                <a:cubicBezTo>
                  <a:pt x="7473" y="1504"/>
                  <a:pt x="6859" y="1607"/>
                  <a:pt x="6394" y="1311"/>
                </a:cubicBezTo>
                <a:cubicBezTo>
                  <a:pt x="6011" y="1068"/>
                  <a:pt x="5336" y="0"/>
                  <a:pt x="5144" y="761"/>
                </a:cubicBezTo>
                <a:cubicBezTo>
                  <a:pt x="4446" y="3517"/>
                  <a:pt x="4519" y="544"/>
                  <a:pt x="3785" y="467"/>
                </a:cubicBezTo>
                <a:cubicBezTo>
                  <a:pt x="3033" y="390"/>
                  <a:pt x="3063" y="2727"/>
                  <a:pt x="2535" y="1630"/>
                </a:cubicBezTo>
                <a:cubicBezTo>
                  <a:pt x="2206" y="947"/>
                  <a:pt x="1668" y="532"/>
                  <a:pt x="1176" y="1055"/>
                </a:cubicBezTo>
                <a:cubicBezTo>
                  <a:pt x="796" y="1459"/>
                  <a:pt x="340" y="1691"/>
                  <a:pt x="73" y="2334"/>
                </a:cubicBezTo>
                <a:lnTo>
                  <a:pt x="0" y="2525"/>
                </a:lnTo>
              </a:path>
            </a:pathLst>
          </a:cu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4" name=""/>
          <p:cNvSpPr/>
          <p:nvPr/>
        </p:nvSpPr>
        <p:spPr>
          <a:xfrm>
            <a:off x="4152960" y="965160"/>
            <a:ext cx="2409840" cy="731880"/>
          </a:xfrm>
          <a:prstGeom prst="roundRect">
            <a:avLst>
              <a:gd name="adj" fmla="val 21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352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3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ねん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はどこでしょう？</a:t>
            </a:r>
            <a:endParaRPr b="0" lang="en-US" sz="4400" spc="-1" strike="noStrike">
              <a:solidFill>
                <a:srgbClr val="000000"/>
              </a:solidFill>
              <a:latin typeface="Y.OzN_'04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がで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ーをしなければなりません </a:t>
            </a:r>
            <a:r>
              <a:rPr b="0" lang="fr-FR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11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をつかってレポートをしてください。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87720" y="412920"/>
            <a:ext cx="6049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ぶつえん</a:t>
            </a:r>
            <a:endParaRPr b="0" lang="en-US" sz="7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fr-FR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  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348240" y="216072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41120" y="5056200"/>
            <a:ext cx="9236160" cy="143028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とうさんとカリナさん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が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けっこん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こと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fr-FR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しっていますか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5" name=""/>
          <p:cNvSpPr/>
          <p:nvPr/>
        </p:nvSpPr>
        <p:spPr>
          <a:xfrm>
            <a:off x="2575080" y="565200"/>
            <a:ext cx="2187360" cy="846000"/>
          </a:xfrm>
          <a:prstGeom prst="roundRect">
            <a:avLst>
              <a:gd name="adj" fmla="val 185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かとう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ikachan"/>
                <a:ea typeface="mikachan"/>
              </a:rPr>
              <a:t>カリナさ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3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510000" y="4575240"/>
            <a:ext cx="524520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1" name=""/>
          <p:cNvSpPr/>
          <p:nvPr/>
        </p:nvSpPr>
        <p:spPr>
          <a:xfrm>
            <a:off x="3745080" y="4892760"/>
            <a:ext cx="17049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い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049720" y="4894200"/>
            <a:ext cx="3735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しっています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0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17400" y="299880"/>
            <a:ext cx="2467080" cy="3067200"/>
            <a:chOff x="617400" y="299880"/>
            <a:chExt cx="2467080" cy="30672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673200" y="344520"/>
              <a:ext cx="2411280" cy="30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617400" y="299880"/>
              <a:ext cx="997200" cy="296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93760" y="2700360"/>
            <a:ext cx="2405160" cy="6522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6300720" y="1979640"/>
            <a:ext cx="2652840" cy="7559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470400" y="5919840"/>
            <a:ext cx="6510240" cy="11253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8" name=""/>
          <p:cNvSpPr/>
          <p:nvPr/>
        </p:nvSpPr>
        <p:spPr>
          <a:xfrm>
            <a:off x="3679920" y="6224760"/>
            <a:ext cx="2212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いえ、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511960" y="6184800"/>
            <a:ext cx="47527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しりませんでした。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68520" y="334800"/>
            <a:ext cx="5345280" cy="6756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546120"/>
            <a:ext cx="4898880" cy="88272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し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692280" y="4792680"/>
            <a:ext cx="8719920" cy="134604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N_'04"/>
              </a:rPr>
              <a:t>の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うんてん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1177920"/>
            <a:ext cx="1041480" cy="3814920"/>
          </a:xfrm>
          <a:custGeom>
            <a:avLst/>
            <a:gdLst/>
            <a:ahLst/>
            <a:rect l="l" t="t" r="r" b="b"/>
            <a:pathLst>
              <a:path w="2892" h="10597">
                <a:moveTo>
                  <a:pt x="0" y="0"/>
                </a:moveTo>
                <a:lnTo>
                  <a:pt x="2891" y="105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3720" y="1935000"/>
            <a:ext cx="3705120" cy="5624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2320" y="5281560"/>
            <a:ext cx="9083880" cy="142560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_F'04"/>
                <a:ea typeface="Y.OzN_'04"/>
              </a:rPr>
              <a:t>ひく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こと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できます。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216000" y="546120"/>
            <a:ext cx="3660840" cy="750960"/>
          </a:xfrm>
          <a:prstGeom prst="roundRect">
            <a:avLst>
              <a:gd name="adj" fmla="val 20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_F'04"/>
                <a:ea typeface="Y.OzN_'04"/>
              </a:rPr>
              <a:t>ギター</a:t>
            </a:r>
            <a:r>
              <a:rPr b="0" lang="ja-JP" sz="32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_F'04"/>
                <a:ea typeface="Y.OzN_'04"/>
              </a:rPr>
              <a:t>ひきます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2341440" y="1111320"/>
            <a:ext cx="1165320" cy="4273560"/>
          </a:xfrm>
          <a:custGeom>
            <a:avLst/>
            <a:gdLst/>
            <a:ahLst/>
            <a:rect l="l" t="t" r="r" b="b"/>
            <a:pathLst>
              <a:path w="3235" h="11870">
                <a:moveTo>
                  <a:pt x="0" y="0"/>
                </a:moveTo>
                <a:lnTo>
                  <a:pt x="3234" y="11869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8280" y="2003400"/>
            <a:ext cx="438120" cy="676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54760" y="263844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7160" y="275760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43200" y="2414520"/>
            <a:ext cx="43812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440" y="1111320"/>
            <a:ext cx="1163880" cy="4273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3083040" y="5477040"/>
            <a:ext cx="1825560" cy="109836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6394320"/>
            <a:ext cx="3937320" cy="997200"/>
          </a:xfrm>
          <a:prstGeom prst="roundRect">
            <a:avLst>
              <a:gd name="adj" fmla="val 15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じしょけい</a:t>
            </a:r>
            <a:endParaRPr b="0" lang="en-US" sz="4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4:00:32Z</dcterms:created>
  <dc:creator/>
  <dc:description/>
  <dc:language>en-US</dc:language>
  <cp:lastModifiedBy/>
  <dcterms:modified xsi:type="dcterms:W3CDTF">2016-05-24T19:24:22Z</dcterms:modified>
  <cp:revision>19</cp:revision>
  <dc:subject/>
  <dc:title/>
</cp:coreProperties>
</file>