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6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9899640" y="558000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1622520" y="4229280"/>
            <a:ext cx="62960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84400" y="469800"/>
            <a:ext cx="7758000" cy="1836720"/>
          </a:xfrm>
          <a:prstGeom prst="wedgeRoundRectCallout">
            <a:avLst>
              <a:gd name="adj1" fmla="val 12273"/>
              <a:gd name="adj2" fmla="val 10784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2540160" y="414360"/>
            <a:ext cx="746748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じに えきで あいま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814320"/>
            <a:ext cx="5508720" cy="1408320"/>
          </a:xfrm>
          <a:prstGeom prst="wedgeRoundRectCallout">
            <a:avLst>
              <a:gd name="adj1" fmla="val 11398"/>
              <a:gd name="adj2" fmla="val 13619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154160"/>
            <a:ext cx="5586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ねえ、）きむら</a:t>
            </a: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くん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61160" y="896760"/>
            <a:ext cx="2181240" cy="1408320"/>
          </a:xfrm>
          <a:prstGeom prst="wedgeRoundRectCallout">
            <a:avLst>
              <a:gd name="adj1" fmla="val -47476"/>
              <a:gd name="adj2" fmla="val 13617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136224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に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814320"/>
            <a:ext cx="6626160" cy="1214640"/>
          </a:xfrm>
          <a:prstGeom prst="wedgeRoundRectCallout">
            <a:avLst>
              <a:gd name="adj1" fmla="val 1032"/>
              <a:gd name="adj2" fmla="val 1658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1154160"/>
            <a:ext cx="4515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モリエール、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き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71960" y="896760"/>
            <a:ext cx="5770440" cy="1422720"/>
          </a:xfrm>
          <a:prstGeom prst="wedgeRoundRectCallout">
            <a:avLst>
              <a:gd name="adj1" fmla="val 13152"/>
              <a:gd name="adj2" fmla="val 134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4275000" y="1320840"/>
            <a:ext cx="5543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けど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うして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290520"/>
            <a:ext cx="8807400" cy="1684440"/>
          </a:xfrm>
          <a:prstGeom prst="wedgeRoundRectCallout">
            <a:avLst>
              <a:gd name="adj1" fmla="val -9250"/>
              <a:gd name="adj2" fmla="val 133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565200" y="749160"/>
            <a:ext cx="67723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げきのチケットが にま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るから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あるん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けど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703440"/>
            <a:ext cx="6073920" cy="1519200"/>
          </a:xfrm>
          <a:prstGeom prst="wedgeRoundRectCallout">
            <a:avLst>
              <a:gd name="adj1" fmla="val 5680"/>
              <a:gd name="adj2" fmla="val 12990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565200" y="1003320"/>
            <a:ext cx="524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 い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い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34040" y="896760"/>
            <a:ext cx="5508360" cy="1408320"/>
          </a:xfrm>
          <a:prstGeom prst="wedgeRoundRectCallout">
            <a:avLst>
              <a:gd name="adj1" fmla="val 11398"/>
              <a:gd name="adj2" fmla="val 13619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4803840" y="984240"/>
            <a:ext cx="422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いね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ff"/>
                </a:solidFill>
                <a:latin typeface="YOzFontNP04"/>
                <a:ea typeface="YOzFontNP04"/>
              </a:rPr>
              <a:t>すごく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き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い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2080"/>
            <a:ext cx="6943680" cy="2415960"/>
          </a:xfrm>
          <a:prstGeom prst="wedgeRoundRectCallout">
            <a:avLst>
              <a:gd name="adj1" fmla="val 490"/>
              <a:gd name="adj2" fmla="val 7797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469800" y="647640"/>
            <a:ext cx="57564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げきは ごじだから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じに まちあわせ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しなくちゃ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03600" y="469800"/>
            <a:ext cx="6238800" cy="1836720"/>
          </a:xfrm>
          <a:prstGeom prst="wedgeRoundRectCallout">
            <a:avLst>
              <a:gd name="adj1" fmla="val 15921"/>
              <a:gd name="adj2" fmla="val 11610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3838680" y="606600"/>
            <a:ext cx="63910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かっ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じに えきで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おうよ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814320"/>
            <a:ext cx="5508720" cy="1408320"/>
          </a:xfrm>
          <a:prstGeom prst="wedgeRoundRectCallout">
            <a:avLst>
              <a:gd name="adj1" fmla="val 11398"/>
              <a:gd name="adj2" fmla="val 13619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469800" y="1154160"/>
            <a:ext cx="304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25560" y="1822320"/>
            <a:ext cx="3933720" cy="5465880"/>
          </a:xfrm>
          <a:custGeom>
            <a:avLst/>
            <a:gdLst>
              <a:gd name="textAreaLeft" fmla="*/ 360 w 3933720"/>
              <a:gd name="textAreaRight" fmla="*/ 3933360 w 3933720"/>
              <a:gd name="textAreaTop" fmla="*/ 360 h 5465880"/>
              <a:gd name="textAreaBottom" fmla="*/ 5465520 h 5465880"/>
            </a:gdLst>
            <a:ahLst/>
            <a:rect l="textAreaLeft" t="textAreaTop" r="textAreaRight" b="textAreaBottom"/>
            <a:pathLst>
              <a:path w="21600" h="30012">
                <a:moveTo>
                  <a:pt x="8" y="0"/>
                </a:moveTo>
                <a:arcTo wR="8" hR="8" stAng="16200000" swAng="-5400000"/>
                <a:lnTo>
                  <a:pt x="0" y="30004"/>
                </a:lnTo>
                <a:arcTo wR="8" hR="8" stAng="10800000" swAng="-5400000"/>
                <a:lnTo>
                  <a:pt x="21592" y="30012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1020600" y="711360"/>
            <a:ext cx="5583240" cy="76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さん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ん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き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きですが…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どうして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りますか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あるんですが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きません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いですね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きたい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ですから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ければいけませんね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りました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いましょう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4983120" y="1808280"/>
            <a:ext cx="3921120" cy="5494320"/>
          </a:xfrm>
          <a:custGeom>
            <a:avLst/>
            <a:gdLst>
              <a:gd name="textAreaLeft" fmla="*/ 360 w 3921120"/>
              <a:gd name="textAreaRight" fmla="*/ 3920760 w 3921120"/>
              <a:gd name="textAreaTop" fmla="*/ 360 h 5494320"/>
              <a:gd name="textAreaBottom" fmla="*/ 5493960 h 5494320"/>
            </a:gdLst>
            <a:ahLst/>
            <a:rect l="textAreaLeft" t="textAreaTop" r="textAreaRight" b="textAreaBottom"/>
            <a:pathLst>
              <a:path w="21600" h="30265">
                <a:moveTo>
                  <a:pt x="8" y="0"/>
                </a:moveTo>
                <a:arcTo wR="8" hR="8" stAng="16200000" swAng="-5400000"/>
                <a:lnTo>
                  <a:pt x="0" y="30257"/>
                </a:lnTo>
                <a:arcTo wR="8" hR="8" stAng="10800000" swAng="-5400000"/>
                <a:lnTo>
                  <a:pt x="21592" y="30265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5189400" y="711360"/>
            <a:ext cx="4060800" cy="79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くん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に？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き？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きだけど…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どうして？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るか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あるんだけど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かない？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いね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きたい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だから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なくちゃ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かった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おうよ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1316160" y="1890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ていねいた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319720" y="1890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0960" y="106200"/>
            <a:ext cx="3135600" cy="1401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た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53360" y="635040"/>
            <a:ext cx="1379520" cy="424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867280" y="423720"/>
            <a:ext cx="1646280" cy="4470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86400" y="330120"/>
            <a:ext cx="1643040" cy="4614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2870280" y="1544760"/>
            <a:ext cx="1931760" cy="148752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4430880" y="4927680"/>
            <a:ext cx="5576760" cy="1352520"/>
          </a:xfrm>
          <a:prstGeom prst="roundRect">
            <a:avLst>
              <a:gd name="adj" fmla="val 11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せい・しゃちょう・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98480" y="1863720"/>
            <a:ext cx="1924200" cy="546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8518680" y="330120"/>
            <a:ext cx="1460520" cy="4497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26960" y="2195640"/>
            <a:ext cx="174168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53360" y="635040"/>
            <a:ext cx="1379520" cy="424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423720"/>
            <a:ext cx="1646280" cy="447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586400" y="330120"/>
            <a:ext cx="1643040" cy="461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2870280" y="1544760"/>
            <a:ext cx="1931760" cy="148752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4956120" y="5013360"/>
            <a:ext cx="4846680" cy="1419120"/>
          </a:xfrm>
          <a:prstGeom prst="roundRect">
            <a:avLst>
              <a:gd name="adj" fmla="val 111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じめて あ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まり し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700280" y="1863720"/>
            <a:ext cx="1923840" cy="546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2760" y="1062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た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26960" y="2195640"/>
            <a:ext cx="1741680" cy="5172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518680" y="330120"/>
            <a:ext cx="1460520" cy="44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53360" y="635040"/>
            <a:ext cx="1379520" cy="424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867280" y="423720"/>
            <a:ext cx="1646280" cy="447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86400" y="330120"/>
            <a:ext cx="1643040" cy="4614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2870280" y="1544760"/>
            <a:ext cx="1931760" cy="148752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4789440" y="5427720"/>
            <a:ext cx="4556160" cy="1198440"/>
          </a:xfrm>
          <a:prstGeom prst="roundRect">
            <a:avLst>
              <a:gd name="adj" fmla="val 130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うえの人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も！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700280" y="1863720"/>
            <a:ext cx="1923840" cy="546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2760" y="1062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た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53960" y="2139840"/>
            <a:ext cx="1741680" cy="5172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8518680" y="330120"/>
            <a:ext cx="1460520" cy="44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0960" y="106200"/>
            <a:ext cx="3135600" cy="1401840"/>
          </a:xfrm>
          <a:prstGeom prst="roundRect">
            <a:avLst>
              <a:gd name="adj" fmla="val 11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2684520" y="2924280"/>
            <a:ext cx="2990880" cy="144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54280" y="3743280"/>
            <a:ext cx="2997360" cy="180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413480" y="1611360"/>
            <a:ext cx="1924200" cy="546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26960" y="1905120"/>
            <a:ext cx="1741680" cy="517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813280" y="2052720"/>
            <a:ext cx="2222640" cy="5024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48120" y="5410080"/>
            <a:ext cx="5484960" cy="1739880"/>
          </a:xfrm>
          <a:prstGeom prst="roundRect">
            <a:avLst>
              <a:gd name="adj" fmla="val 88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じとし・としした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れ・かのじょ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20800" y="108000"/>
            <a:ext cx="1981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あくあフォント"/>
                <a:ea typeface="あくあフォント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2684520" y="2924280"/>
            <a:ext cx="2990880" cy="144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54280" y="3743280"/>
            <a:ext cx="2997360" cy="180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608800" y="1600200"/>
            <a:ext cx="1562040" cy="4851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23080" y="1481040"/>
            <a:ext cx="1603440" cy="4865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248680" y="1441440"/>
            <a:ext cx="1673280" cy="4846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518160" y="2911320"/>
            <a:ext cx="1406520" cy="3480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7920" y="5410080"/>
            <a:ext cx="4708440" cy="1640160"/>
          </a:xfrm>
          <a:prstGeom prst="roundRect">
            <a:avLst>
              <a:gd name="adj" fmla="val 93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ぞ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うえも！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26960" y="1905120"/>
            <a:ext cx="1741680" cy="517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2760" y="1062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51440" y="3422520"/>
            <a:ext cx="1390680" cy="3581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989440" y="4179960"/>
            <a:ext cx="2890800" cy="48564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931080" y="3659040"/>
            <a:ext cx="1406520" cy="3480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687920" y="5410080"/>
            <a:ext cx="4708440" cy="1640160"/>
          </a:xfrm>
          <a:prstGeom prst="roundRect">
            <a:avLst>
              <a:gd name="adj" fmla="val 93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ど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00280" y="1863720"/>
            <a:ext cx="1923840" cy="5467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2760" y="10620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26960" y="2195640"/>
            <a:ext cx="174168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2920" y="1138320"/>
            <a:ext cx="9021600" cy="863640"/>
          </a:xfrm>
          <a:prstGeom prst="roundRect">
            <a:avLst>
              <a:gd name="adj" fmla="val 2076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、としょかんへいき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210960" y="1971720"/>
            <a:ext cx="7932960" cy="955800"/>
          </a:xfrm>
          <a:prstGeom prst="roundRect">
            <a:avLst>
              <a:gd name="adj" fmla="val 187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、としょかんへ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く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286240" y="4762440"/>
            <a:ext cx="4610160" cy="814320"/>
          </a:xfrm>
          <a:prstGeom prst="roundRect">
            <a:avLst>
              <a:gd name="adj" fmla="val 2206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5300640" y="5597640"/>
            <a:ext cx="4583160" cy="807840"/>
          </a:xfrm>
          <a:prstGeom prst="roundRect">
            <a:avLst>
              <a:gd name="adj" fmla="val 222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いく（よ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68760" y="4748040"/>
            <a:ext cx="5327640" cy="827280"/>
          </a:xfrm>
          <a:prstGeom prst="roundRect">
            <a:avLst>
              <a:gd name="adj" fmla="val 2172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いき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4006800" y="5564160"/>
            <a:ext cx="5878440" cy="841320"/>
          </a:xfrm>
          <a:prstGeom prst="roundRect">
            <a:avLst>
              <a:gd name="adj" fmla="val 213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いかな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467320" y="896760"/>
            <a:ext cx="4375080" cy="1408320"/>
          </a:xfrm>
          <a:prstGeom prst="wedgeRoundRectCallout">
            <a:avLst>
              <a:gd name="adj1" fmla="val 1412"/>
              <a:gd name="adj2" fmla="val 13617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6005520" y="1306440"/>
            <a:ext cx="2997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2920" y="1138320"/>
            <a:ext cx="9547200" cy="849240"/>
          </a:xfrm>
          <a:prstGeom prst="roundRect">
            <a:avLst>
              <a:gd name="adj" fmla="val 2115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、としょかんへいきま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210960" y="1971720"/>
            <a:ext cx="8817120" cy="996840"/>
          </a:xfrm>
          <a:prstGeom prst="roundRect">
            <a:avLst>
              <a:gd name="adj" fmla="val 1799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、としょかんへ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っ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218200" y="4803840"/>
            <a:ext cx="4678200" cy="771480"/>
          </a:xfrm>
          <a:prstGeom prst="roundRect">
            <a:avLst>
              <a:gd name="adj" fmla="val 2325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い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4568760" y="5597640"/>
            <a:ext cx="5315040" cy="849240"/>
          </a:xfrm>
          <a:prstGeom prst="roundRect">
            <a:avLst>
              <a:gd name="adj" fmla="val 2115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い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395520" y="4748040"/>
            <a:ext cx="6500880" cy="827280"/>
          </a:xfrm>
          <a:prstGeom prst="roundRect">
            <a:avLst>
              <a:gd name="adj" fmla="val 2172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いきません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3295800" y="5578560"/>
            <a:ext cx="6588000" cy="771480"/>
          </a:xfrm>
          <a:prstGeom prst="roundRect">
            <a:avLst>
              <a:gd name="adj" fmla="val 232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いかなか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60440" y="1434960"/>
            <a:ext cx="70009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0000" y="4735440"/>
            <a:ext cx="5218200" cy="841320"/>
          </a:xfrm>
          <a:prstGeom prst="roundRect">
            <a:avLst>
              <a:gd name="adj" fmla="val 2131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ん、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03880" y="4762440"/>
            <a:ext cx="5494320" cy="812880"/>
          </a:xfrm>
          <a:prstGeom prst="roundRect">
            <a:avLst>
              <a:gd name="adj" fmla="val 2206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うん、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2920" y="1138320"/>
            <a:ext cx="70009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は たのしい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247680" y="1971720"/>
            <a:ext cx="548964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のし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486320" y="4748040"/>
            <a:ext cx="5410080" cy="827280"/>
          </a:xfrm>
          <a:prstGeom prst="roundRect">
            <a:avLst>
              <a:gd name="adj" fmla="val 2172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たのし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4459320" y="5594400"/>
            <a:ext cx="5424480" cy="866880"/>
          </a:xfrm>
          <a:prstGeom prst="roundRect">
            <a:avLst>
              <a:gd name="adj" fmla="val 20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たのしい（よ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340080" y="4789440"/>
            <a:ext cx="6556320" cy="785880"/>
          </a:xfrm>
          <a:prstGeom prst="roundRect">
            <a:avLst>
              <a:gd name="adj" fmla="val 2287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たのしくな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3906720" y="5597640"/>
            <a:ext cx="5977080" cy="780840"/>
          </a:xfrm>
          <a:prstGeom prst="roundRect">
            <a:avLst>
              <a:gd name="adj" fmla="val 2296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たのしくな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2920" y="1138320"/>
            <a:ext cx="9698040" cy="807840"/>
          </a:xfrm>
          <a:prstGeom prst="roundRect">
            <a:avLst>
              <a:gd name="adj" fmla="val 2224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のパーティーはたのしかった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210960" y="1971720"/>
            <a:ext cx="875844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のパーティー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のしかっ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14320"/>
            <a:ext cx="4376880" cy="1214640"/>
          </a:xfrm>
          <a:prstGeom prst="wedgeRoundRectCallout">
            <a:avLst>
              <a:gd name="adj1" fmla="val 27263"/>
              <a:gd name="adj2" fmla="val 16579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469800" y="900000"/>
            <a:ext cx="3032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モリエー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か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2880" y="4789440"/>
            <a:ext cx="6115320" cy="785880"/>
          </a:xfrm>
          <a:prstGeom prst="roundRect">
            <a:avLst>
              <a:gd name="adj" fmla="val 2287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たのしかった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3824280" y="5597640"/>
            <a:ext cx="6059520" cy="725400"/>
          </a:xfrm>
          <a:prstGeom prst="roundRect">
            <a:avLst>
              <a:gd name="adj" fmla="val 247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たのしか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181240" y="4789440"/>
            <a:ext cx="7715160" cy="785880"/>
          </a:xfrm>
          <a:prstGeom prst="roundRect">
            <a:avLst>
              <a:gd name="adj" fmla="val 2287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たのしくなかった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2801880" y="5597640"/>
            <a:ext cx="7081920" cy="807840"/>
          </a:xfrm>
          <a:prstGeom prst="roundRect">
            <a:avLst>
              <a:gd name="adj" fmla="val 222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たのしくなか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2920" y="1138320"/>
            <a:ext cx="70009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844880" y="4818240"/>
            <a:ext cx="5051520" cy="758520"/>
          </a:xfrm>
          <a:prstGeom prst="roundRect">
            <a:avLst>
              <a:gd name="adj" fmla="val 236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ん、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030560" y="4844880"/>
            <a:ext cx="5865840" cy="730440"/>
          </a:xfrm>
          <a:prstGeom prst="roundRect">
            <a:avLst>
              <a:gd name="adj" fmla="val 2456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うん、 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2920" y="1138320"/>
            <a:ext cx="70009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は ひま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210960" y="1971720"/>
            <a:ext cx="548964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は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ま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535720" y="4748040"/>
            <a:ext cx="4360680" cy="827280"/>
          </a:xfrm>
          <a:prstGeom prst="roundRect">
            <a:avLst>
              <a:gd name="adj" fmla="val 2172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ひま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8" name=""/>
          <p:cNvSpPr/>
          <p:nvPr/>
        </p:nvSpPr>
        <p:spPr>
          <a:xfrm>
            <a:off x="4929120" y="5594400"/>
            <a:ext cx="4956120" cy="803160"/>
          </a:xfrm>
          <a:prstGeom prst="roundRect">
            <a:avLst>
              <a:gd name="adj" fmla="val 2232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ひま（だよ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71760" y="4680000"/>
            <a:ext cx="7426440" cy="895320"/>
          </a:xfrm>
          <a:prstGeom prst="roundRect">
            <a:avLst>
              <a:gd name="adj" fmla="val 200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ひまじゃあり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3" name=""/>
          <p:cNvSpPr/>
          <p:nvPr/>
        </p:nvSpPr>
        <p:spPr>
          <a:xfrm>
            <a:off x="2954160" y="5576760"/>
            <a:ext cx="6929640" cy="819360"/>
          </a:xfrm>
          <a:prstGeom prst="roundRect">
            <a:avLst>
              <a:gd name="adj" fmla="val 2189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ひまじゃな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2920" y="1138320"/>
            <a:ext cx="8856720" cy="850680"/>
          </a:xfrm>
          <a:prstGeom prst="roundRect">
            <a:avLst>
              <a:gd name="adj" fmla="val 2107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のテストは かんたんでした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210960" y="1971720"/>
            <a:ext cx="8361720" cy="914400"/>
          </a:xfrm>
          <a:prstGeom prst="roundRect">
            <a:avLst>
              <a:gd name="adj" fmla="val 196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のテストは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んたんだっ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224240" y="4818240"/>
            <a:ext cx="5672160" cy="758520"/>
          </a:xfrm>
          <a:prstGeom prst="roundRect">
            <a:avLst>
              <a:gd name="adj" fmla="val 236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かんたん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4348080" y="5597640"/>
            <a:ext cx="5535720" cy="807840"/>
          </a:xfrm>
          <a:prstGeom prst="roundRect">
            <a:avLst>
              <a:gd name="adj" fmla="val 2224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かんたんだ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71960" y="896760"/>
            <a:ext cx="5770440" cy="1422720"/>
          </a:xfrm>
          <a:prstGeom prst="wedgeRoundRectCallout">
            <a:avLst>
              <a:gd name="adj1" fmla="val 13152"/>
              <a:gd name="adj2" fmla="val 134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4275000" y="1066680"/>
            <a:ext cx="40230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ですが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て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713040" y="4071960"/>
            <a:ext cx="6183360" cy="1503360"/>
          </a:xfrm>
          <a:prstGeom prst="roundRect">
            <a:avLst>
              <a:gd name="adj" fmla="val 119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かんたんじゃ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3340080" y="5597640"/>
            <a:ext cx="6543720" cy="1415880"/>
          </a:xfrm>
          <a:prstGeom prst="roundRect">
            <a:avLst>
              <a:gd name="adj" fmla="val 12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う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んたんじゃなかっ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2920" y="1138320"/>
            <a:ext cx="70009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956120" y="4624560"/>
            <a:ext cx="4942080" cy="950760"/>
          </a:xfrm>
          <a:prstGeom prst="roundRect">
            <a:avLst>
              <a:gd name="adj" fmla="val 1889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ん、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348080" y="4762440"/>
            <a:ext cx="5548320" cy="814320"/>
          </a:xfrm>
          <a:prstGeom prst="roundRect">
            <a:avLst>
              <a:gd name="adj" fmla="val 2206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うん、   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2920" y="1138320"/>
            <a:ext cx="9434520" cy="820800"/>
          </a:xfrm>
          <a:prstGeom prst="roundRect">
            <a:avLst>
              <a:gd name="adj" fmla="val 2189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とワインとどちらがすき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6" name=""/>
          <p:cNvSpPr/>
          <p:nvPr/>
        </p:nvSpPr>
        <p:spPr>
          <a:xfrm>
            <a:off x="210960" y="1971720"/>
            <a:ext cx="8758440" cy="9396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とワインと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っち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が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き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749840" y="4776840"/>
            <a:ext cx="514836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ちらもすき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>
            <a:off x="4168800" y="5597640"/>
            <a:ext cx="5715000" cy="834840"/>
          </a:xfrm>
          <a:prstGeom prst="roundRect">
            <a:avLst>
              <a:gd name="adj" fmla="val 214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っちもすき（だよ）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>
            <a:off x="4483080" y="311040"/>
            <a:ext cx="48513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ちら → どっ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ちら → こっ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ちら → そっ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ちら → あっ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69920" y="1150920"/>
            <a:ext cx="9507600" cy="878040"/>
          </a:xfrm>
          <a:prstGeom prst="roundRect">
            <a:avLst>
              <a:gd name="adj" fmla="val 2046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としょかんへいきません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210960" y="1971720"/>
            <a:ext cx="8264880" cy="941400"/>
          </a:xfrm>
          <a:prstGeom prst="roundRect">
            <a:avLst>
              <a:gd name="adj" fmla="val 190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としょかんへ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ない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661000" y="2693880"/>
            <a:ext cx="2759040" cy="7837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859280" y="4818240"/>
            <a:ext cx="5037120" cy="758520"/>
          </a:xfrm>
          <a:prstGeom prst="roundRect">
            <a:avLst>
              <a:gd name="adj" fmla="val 236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え、いきま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>
            <a:off x="5149800" y="5597640"/>
            <a:ext cx="4735440" cy="793800"/>
          </a:xfrm>
          <a:prstGeom prst="roundRect">
            <a:avLst>
              <a:gd name="adj" fmla="val 22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ん、いこう</a:t>
            </a:r>
            <a:r>
              <a:rPr b="0" lang="en-US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よ</a:t>
            </a:r>
            <a:r>
              <a:rPr b="0" lang="en-US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865080" y="3241800"/>
            <a:ext cx="2668680" cy="689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3516480"/>
            <a:ext cx="3354480" cy="21207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H="1" flipV="1">
            <a:off x="3238200" y="4462200"/>
            <a:ext cx="1911240" cy="442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-349200" y="668160"/>
            <a:ext cx="1440" cy="35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0" y="298440"/>
            <a:ext cx="4809960" cy="2919600"/>
            <a:chOff x="0" y="298440"/>
            <a:chExt cx="4809960" cy="2919600"/>
          </a:xfrm>
        </p:grpSpPr>
        <p:sp>
          <p:nvSpPr>
            <p:cNvPr id="336" name=""/>
            <p:cNvSpPr/>
            <p:nvPr/>
          </p:nvSpPr>
          <p:spPr>
            <a:xfrm>
              <a:off x="0" y="298440"/>
              <a:ext cx="4809960" cy="2919600"/>
            </a:xfrm>
            <a:prstGeom prst="roundRect">
              <a:avLst>
                <a:gd name="adj" fmla="val 150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360" y="934920"/>
              <a:ext cx="4437000" cy="208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デパート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きましょう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050240" y="2346480"/>
            <a:ext cx="1923840" cy="4971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172120" y="1766880"/>
            <a:ext cx="1913040" cy="57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3516480"/>
            <a:ext cx="3354480" cy="2120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3641400" y="4172040"/>
            <a:ext cx="1260360" cy="792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3" name=""/>
          <p:cNvSpPr/>
          <p:nvPr/>
        </p:nvSpPr>
        <p:spPr>
          <a:xfrm>
            <a:off x="-349200" y="668160"/>
            <a:ext cx="1440" cy="35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0" y="311040"/>
            <a:ext cx="4809960" cy="2919600"/>
            <a:chOff x="0" y="311040"/>
            <a:chExt cx="4809960" cy="2919600"/>
          </a:xfrm>
        </p:grpSpPr>
        <p:sp>
          <p:nvSpPr>
            <p:cNvPr id="345" name=""/>
            <p:cNvSpPr/>
            <p:nvPr/>
          </p:nvSpPr>
          <p:spPr>
            <a:xfrm>
              <a:off x="0" y="311040"/>
              <a:ext cx="4809960" cy="2919600"/>
            </a:xfrm>
            <a:prstGeom prst="roundRect">
              <a:avLst>
                <a:gd name="adj" fmla="val 15000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360" y="896760"/>
              <a:ext cx="4437000" cy="2086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デパート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こう（よ）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370160" y="2727360"/>
            <a:ext cx="64800" cy="2962080"/>
          </a:xfrm>
          <a:custGeom>
            <a:avLst/>
            <a:gdLst/>
            <a:ahLst/>
            <a:rect l="l" t="t" r="r" b="b"/>
            <a:pathLst>
              <a:path w="183" h="8229">
                <a:moveTo>
                  <a:pt x="0" y="8228"/>
                </a:moveTo>
                <a:lnTo>
                  <a:pt x="182" y="0"/>
                </a:lnTo>
              </a:path>
            </a:pathLst>
          </a:custGeom>
          <a:noFill/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0" y="5597640"/>
            <a:ext cx="4029120" cy="1562040"/>
            <a:chOff x="0" y="5597640"/>
            <a:chExt cx="4029120" cy="1562040"/>
          </a:xfrm>
        </p:grpSpPr>
        <p:sp>
          <p:nvSpPr>
            <p:cNvPr id="349" name=""/>
            <p:cNvSpPr/>
            <p:nvPr/>
          </p:nvSpPr>
          <p:spPr>
            <a:xfrm>
              <a:off x="0" y="5597640"/>
              <a:ext cx="4029120" cy="1562040"/>
            </a:xfrm>
            <a:prstGeom prst="roundRect">
              <a:avLst>
                <a:gd name="adj" fmla="val 9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こうけい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881600" y="1976400"/>
            <a:ext cx="2138400" cy="5505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6899400" y="2387520"/>
            <a:ext cx="1923840" cy="4971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90520"/>
            <a:ext cx="7054920" cy="1684440"/>
          </a:xfrm>
          <a:prstGeom prst="wedgeRoundRectCallout">
            <a:avLst>
              <a:gd name="adj1" fmla="val 879"/>
              <a:gd name="adj2" fmla="val 133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303120" y="596880"/>
            <a:ext cx="705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チケットが にま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ますから（あるんですが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04880" y="1454040"/>
            <a:ext cx="404316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1030320" y="1595520"/>
            <a:ext cx="666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1720800" y="1625760"/>
            <a:ext cx="2895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き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1058760" y="2251080"/>
            <a:ext cx="340200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ｉ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o + 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1835280" y="1593720"/>
            <a:ext cx="1089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こ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692280" y="3164040"/>
            <a:ext cx="404316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9" name=""/>
          <p:cNvSpPr/>
          <p:nvPr/>
        </p:nvSpPr>
        <p:spPr>
          <a:xfrm>
            <a:off x="1017720" y="330516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0" name=""/>
          <p:cNvSpPr/>
          <p:nvPr/>
        </p:nvSpPr>
        <p:spPr>
          <a:xfrm>
            <a:off x="1770120" y="3405240"/>
            <a:ext cx="2895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み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1" name=""/>
          <p:cNvSpPr/>
          <p:nvPr/>
        </p:nvSpPr>
        <p:spPr>
          <a:xfrm>
            <a:off x="1046160" y="3960720"/>
            <a:ext cx="332280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ｉ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o + 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1697040" y="3303720"/>
            <a:ext cx="1117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も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325440" y="16992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4" name=""/>
          <p:cNvSpPr/>
          <p:nvPr/>
        </p:nvSpPr>
        <p:spPr>
          <a:xfrm>
            <a:off x="5100480" y="1492200"/>
            <a:ext cx="362448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5" name=""/>
          <p:cNvSpPr/>
          <p:nvPr/>
        </p:nvSpPr>
        <p:spPr>
          <a:xfrm>
            <a:off x="5427720" y="163512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6062760" y="1646280"/>
            <a:ext cx="2547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7" name=""/>
          <p:cNvSpPr/>
          <p:nvPr/>
        </p:nvSpPr>
        <p:spPr>
          <a:xfrm>
            <a:off x="5456160" y="2290680"/>
            <a:ext cx="369108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  → よ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8" name=""/>
          <p:cNvSpPr/>
          <p:nvPr/>
        </p:nvSpPr>
        <p:spPr>
          <a:xfrm>
            <a:off x="6230880" y="1633680"/>
            <a:ext cx="1117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よ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5089680" y="3201840"/>
            <a:ext cx="4270320" cy="114624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5415120" y="334332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>
            <a:off x="6676920" y="3343320"/>
            <a:ext cx="2548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ましょ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5443560" y="4000680"/>
            <a:ext cx="359712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ー → よ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3" name=""/>
          <p:cNvSpPr/>
          <p:nvPr/>
        </p:nvSpPr>
        <p:spPr>
          <a:xfrm>
            <a:off x="6562800" y="338292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よう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>
            <a:off x="5062680" y="24768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299880" y="501012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4213080" y="5081760"/>
            <a:ext cx="5353200" cy="10746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ましょう → こよ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7" name=""/>
          <p:cNvSpPr/>
          <p:nvPr/>
        </p:nvSpPr>
        <p:spPr>
          <a:xfrm>
            <a:off x="4187880" y="6281640"/>
            <a:ext cx="5337000" cy="1020960"/>
          </a:xfrm>
          <a:prstGeom prst="roundRect">
            <a:avLst>
              <a:gd name="adj" fmla="val 15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ましょう → しよ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  <p:set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07920" y="3160800"/>
            <a:ext cx="1917720" cy="2786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H="1">
            <a:off x="2893680" y="3868560"/>
            <a:ext cx="1152360" cy="460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447840" y="393840"/>
            <a:ext cx="6532560" cy="2501640"/>
            <a:chOff x="-447840" y="393840"/>
            <a:chExt cx="6532560" cy="2501640"/>
          </a:xfrm>
        </p:grpSpPr>
        <p:sp>
          <p:nvSpPr>
            <p:cNvPr id="381" name=""/>
            <p:cNvSpPr/>
            <p:nvPr/>
          </p:nvSpPr>
          <p:spPr>
            <a:xfrm>
              <a:off x="-44280" y="393840"/>
              <a:ext cx="6129000" cy="2501640"/>
            </a:xfrm>
            <a:prstGeom prst="roundRect">
              <a:avLst>
                <a:gd name="adj" fmla="val 7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-447840" y="70812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4160" y="441360"/>
              <a:ext cx="5113080" cy="2398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っしょに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としょか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で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べんきょうしようよ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77800" y="4637160"/>
            <a:ext cx="3622680" cy="2017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00640" y="2540160"/>
            <a:ext cx="4795920" cy="49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8" name=""/>
          <p:cNvSpPr/>
          <p:nvPr/>
        </p:nvSpPr>
        <p:spPr>
          <a:xfrm>
            <a:off x="123840" y="2925720"/>
            <a:ext cx="3230640" cy="2849760"/>
          </a:xfrm>
          <a:prstGeom prst="roundRect">
            <a:avLst>
              <a:gd name="adj" fmla="val 56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246240" y="271440"/>
            <a:ext cx="5378760" cy="2430360"/>
            <a:chOff x="-246240" y="271440"/>
            <a:chExt cx="5378760" cy="2430360"/>
          </a:xfrm>
        </p:grpSpPr>
        <p:sp>
          <p:nvSpPr>
            <p:cNvPr id="390" name=""/>
            <p:cNvSpPr/>
            <p:nvPr/>
          </p:nvSpPr>
          <p:spPr>
            <a:xfrm>
              <a:off x="155520" y="271440"/>
              <a:ext cx="4977000" cy="2430360"/>
            </a:xfrm>
            <a:prstGeom prst="roundRect">
              <a:avLst>
                <a:gd name="adj" fmla="val 7375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246240" y="568440"/>
              <a:ext cx="36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3720" y="755640"/>
              <a:ext cx="4532400" cy="175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びじゅつか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へ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いこうか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640560" y="1511280"/>
            <a:ext cx="3363840" cy="1263600"/>
            <a:chOff x="6640560" y="1511280"/>
            <a:chExt cx="3363840" cy="1263600"/>
          </a:xfrm>
        </p:grpSpPr>
        <p:sp>
          <p:nvSpPr>
            <p:cNvPr id="394" name=""/>
            <p:cNvSpPr/>
            <p:nvPr/>
          </p:nvSpPr>
          <p:spPr>
            <a:xfrm>
              <a:off x="6891480" y="1511280"/>
              <a:ext cx="3112920" cy="1263600"/>
            </a:xfrm>
            <a:prstGeom prst="roundRect">
              <a:avLst>
                <a:gd name="adj" fmla="val 14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40560" y="1671480"/>
              <a:ext cx="360" cy="35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59600" y="1763640"/>
              <a:ext cx="28335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こいく？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65280" y="825480"/>
            <a:ext cx="7162560" cy="1626840"/>
            <a:chOff x="665280" y="825480"/>
            <a:chExt cx="7162560" cy="1626840"/>
          </a:xfrm>
        </p:grpSpPr>
        <p:sp>
          <p:nvSpPr>
            <p:cNvPr id="398" name=""/>
            <p:cNvSpPr/>
            <p:nvPr/>
          </p:nvSpPr>
          <p:spPr>
            <a:xfrm>
              <a:off x="4064040" y="825480"/>
              <a:ext cx="3763800" cy="754200"/>
            </a:xfrm>
            <a:prstGeom prst="roundRect">
              <a:avLst>
                <a:gd name="adj" fmla="val 2373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どうですか？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65280" y="1386000"/>
              <a:ext cx="3593880" cy="1066320"/>
              <a:chOff x="665280" y="1386000"/>
              <a:chExt cx="3593880" cy="1066320"/>
            </a:xfrm>
          </p:grpSpPr>
          <p:sp>
            <p:nvSpPr>
              <p:cNvPr id="400" name=""/>
              <p:cNvSpPr/>
              <p:nvPr/>
            </p:nvSpPr>
            <p:spPr>
              <a:xfrm>
                <a:off x="665280" y="1481040"/>
                <a:ext cx="2930400" cy="971280"/>
              </a:xfrm>
              <a:prstGeom prst="ellipse">
                <a:avLst/>
              </a:prstGeom>
              <a:noFill/>
              <a:ln w="72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598920" y="1386000"/>
                <a:ext cx="660240" cy="599040"/>
              </a:xfrm>
              <a:prstGeom prst="line">
                <a:avLst/>
              </a:prstGeom>
              <a:ln w="72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392720" y="2305080"/>
            <a:ext cx="1936800" cy="5656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531120" y="2649600"/>
            <a:ext cx="2711160" cy="5422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17520" y="3024360"/>
            <a:ext cx="2960640" cy="1333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1819440" y="3811680"/>
            <a:ext cx="79056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-246240" y="271440"/>
            <a:ext cx="4156200" cy="2398680"/>
            <a:chOff x="-246240" y="271440"/>
            <a:chExt cx="4156200" cy="2398680"/>
          </a:xfrm>
        </p:grpSpPr>
        <p:sp>
          <p:nvSpPr>
            <p:cNvPr id="407" name=""/>
            <p:cNvSpPr/>
            <p:nvPr/>
          </p:nvSpPr>
          <p:spPr>
            <a:xfrm>
              <a:off x="63360" y="271440"/>
              <a:ext cx="3846600" cy="2398680"/>
            </a:xfrm>
            <a:prstGeom prst="roundRect">
              <a:avLst>
                <a:gd name="adj" fmla="val 7472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246240" y="571680"/>
              <a:ext cx="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1440" y="749160"/>
              <a:ext cx="3502080" cy="1737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えいが</a:t>
              </a:r>
              <a:r>
                <a:rPr b="0" lang="ja-JP" sz="48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みようか</a:t>
              </a:r>
              <a:r>
                <a:rPr b="0" lang="ja-JP" sz="48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640560" y="1511280"/>
            <a:ext cx="3363840" cy="1263600"/>
            <a:chOff x="6640560" y="1511280"/>
            <a:chExt cx="3363840" cy="1263600"/>
          </a:xfrm>
        </p:grpSpPr>
        <p:sp>
          <p:nvSpPr>
            <p:cNvPr id="411" name=""/>
            <p:cNvSpPr/>
            <p:nvPr/>
          </p:nvSpPr>
          <p:spPr>
            <a:xfrm>
              <a:off x="6891480" y="1511280"/>
              <a:ext cx="3112920" cy="1263600"/>
            </a:xfrm>
            <a:prstGeom prst="roundRect">
              <a:avLst>
                <a:gd name="adj" fmla="val 14157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40560" y="1671480"/>
              <a:ext cx="360" cy="35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59600" y="1763640"/>
              <a:ext cx="28335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なにする？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394160" y="2305080"/>
            <a:ext cx="1936800" cy="5656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531120" y="2651040"/>
            <a:ext cx="2711160" cy="5423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64000" y="176040"/>
            <a:ext cx="3922920" cy="119088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7760" y="299880"/>
            <a:ext cx="5746680" cy="1632240"/>
          </a:xfrm>
          <a:prstGeom prst="roundRect">
            <a:avLst>
              <a:gd name="adj" fmla="val 1099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い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830680" y="3654360"/>
            <a:ext cx="3106440" cy="820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916600" y="21081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6808680" y="2711520"/>
            <a:ext cx="1919520" cy="2124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585720" y="2222640"/>
            <a:ext cx="2038320" cy="65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77760" y="299880"/>
            <a:ext cx="5322960" cy="1657440"/>
          </a:xfrm>
          <a:prstGeom prst="roundRect">
            <a:avLst>
              <a:gd name="adj" fmla="val 1081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てつだおう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4" name=""/>
          <p:cNvSpPr/>
          <p:nvPr/>
        </p:nvSpPr>
        <p:spPr>
          <a:xfrm>
            <a:off x="5889600" y="425520"/>
            <a:ext cx="3922560" cy="1190520"/>
          </a:xfrm>
          <a:prstGeom prst="roundRect">
            <a:avLst>
              <a:gd name="adj" fmla="val 13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つうた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5916600" y="21081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808680" y="2711520"/>
            <a:ext cx="1919520" cy="2124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flipV="1">
            <a:off x="2830680" y="3654360"/>
            <a:ext cx="3106440" cy="820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077840" y="2622600"/>
            <a:ext cx="1951200" cy="62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847880" y="2427120"/>
            <a:ext cx="6773760" cy="13766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0" name=""/>
          <p:cNvSpPr/>
          <p:nvPr/>
        </p:nvSpPr>
        <p:spPr>
          <a:xfrm>
            <a:off x="2043000" y="604800"/>
            <a:ext cx="62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やまもとさんは ともだち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ょうとへ いき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1" name=""/>
          <p:cNvSpPr/>
          <p:nvPr/>
        </p:nvSpPr>
        <p:spPr>
          <a:xfrm>
            <a:off x="5021280" y="1641600"/>
            <a:ext cx="1440" cy="8157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2" name=""/>
          <p:cNvSpPr/>
          <p:nvPr/>
        </p:nvSpPr>
        <p:spPr>
          <a:xfrm>
            <a:off x="2165400" y="2600280"/>
            <a:ext cx="62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やまもとさんは ともだち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ょうとへ いく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3" name=""/>
          <p:cNvSpPr/>
          <p:nvPr/>
        </p:nvSpPr>
        <p:spPr>
          <a:xfrm>
            <a:off x="1817640" y="4348080"/>
            <a:ext cx="6577200" cy="13906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4" name=""/>
          <p:cNvSpPr/>
          <p:nvPr/>
        </p:nvSpPr>
        <p:spPr>
          <a:xfrm>
            <a:off x="2089080" y="4505400"/>
            <a:ext cx="575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やまもとさん ともだち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ょうと いく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5" name=""/>
          <p:cNvSpPr/>
          <p:nvPr/>
        </p:nvSpPr>
        <p:spPr>
          <a:xfrm>
            <a:off x="5083200" y="3606840"/>
            <a:ext cx="1440" cy="8157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6" name=""/>
          <p:cNvSpPr/>
          <p:nvPr/>
        </p:nvSpPr>
        <p:spPr>
          <a:xfrm>
            <a:off x="955800" y="2851200"/>
            <a:ext cx="695160" cy="711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65600"/>
            <a:ext cx="695160" cy="7113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8" name=""/>
          <p:cNvSpPr/>
          <p:nvPr/>
        </p:nvSpPr>
        <p:spPr>
          <a:xfrm>
            <a:off x="3102120" y="6040440"/>
            <a:ext cx="4398840" cy="771480"/>
          </a:xfrm>
          <a:prstGeom prst="roundRect">
            <a:avLst>
              <a:gd name="adj" fmla="val 20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は・を・が・へ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16160" y="2871720"/>
            <a:ext cx="7891200" cy="1376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0" name=""/>
          <p:cNvSpPr/>
          <p:nvPr/>
        </p:nvSpPr>
        <p:spPr>
          <a:xfrm>
            <a:off x="1511280" y="1049400"/>
            <a:ext cx="507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すみませんが、まど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あけて くださ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1" name=""/>
          <p:cNvSpPr/>
          <p:nvPr/>
        </p:nvSpPr>
        <p:spPr>
          <a:xfrm>
            <a:off x="4491000" y="2085840"/>
            <a:ext cx="1800" cy="816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2" name=""/>
          <p:cNvSpPr/>
          <p:nvPr/>
        </p:nvSpPr>
        <p:spPr>
          <a:xfrm>
            <a:off x="1633680" y="3298680"/>
            <a:ext cx="69404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わるいけど まど（を） あけ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316160" y="2871720"/>
            <a:ext cx="7453080" cy="3462480"/>
          </a:xfrm>
          <a:prstGeom prst="roundRect">
            <a:avLst>
              <a:gd name="adj" fmla="val 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4" name=""/>
          <p:cNvSpPr/>
          <p:nvPr/>
        </p:nvSpPr>
        <p:spPr>
          <a:xfrm>
            <a:off x="968400" y="1333440"/>
            <a:ext cx="8296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ゅくだいを しなければなりませ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5" name=""/>
          <p:cNvSpPr/>
          <p:nvPr/>
        </p:nvSpPr>
        <p:spPr>
          <a:xfrm>
            <a:off x="4491000" y="2085840"/>
            <a:ext cx="1800" cy="816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6" name=""/>
          <p:cNvSpPr/>
          <p:nvPr/>
        </p:nvSpPr>
        <p:spPr>
          <a:xfrm>
            <a:off x="1633680" y="3568680"/>
            <a:ext cx="626400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ゅくだいを しなければ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なきゃ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しなくちゃ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(familier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479920" y="2276640"/>
            <a:ext cx="2759040" cy="7837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84360" y="3220920"/>
            <a:ext cx="2668320" cy="6892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635040" y="1346040"/>
            <a:ext cx="6078600" cy="1224000"/>
          </a:xfrm>
          <a:prstGeom prst="wedgeRoundRectCallout">
            <a:avLst>
              <a:gd name="adj1" fmla="val -17916"/>
              <a:gd name="adj2" fmla="val 17836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0" name=""/>
          <p:cNvSpPr/>
          <p:nvPr/>
        </p:nvSpPr>
        <p:spPr>
          <a:xfrm>
            <a:off x="966960" y="1469880"/>
            <a:ext cx="5518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mikachan"/>
                <a:ea typeface="YOzFontNP04"/>
              </a:rPr>
              <a:t>きむら</a:t>
            </a:r>
            <a:r>
              <a:rPr b="0" lang="ja-JP" sz="4000" spc="-1" strike="noStrike">
                <a:solidFill>
                  <a:srgbClr val="ff0000"/>
                </a:solidFill>
                <a:latin typeface="mikachan"/>
                <a:ea typeface="YOzFontNP04"/>
              </a:rPr>
              <a:t>さん・く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1" name=""/>
          <p:cNvSpPr/>
          <p:nvPr/>
        </p:nvSpPr>
        <p:spPr>
          <a:xfrm>
            <a:off x="3251160" y="4006800"/>
            <a:ext cx="4203720" cy="2616120"/>
          </a:xfrm>
          <a:prstGeom prst="wedgeRoundRectCallout">
            <a:avLst>
              <a:gd name="adj1" fmla="val 27319"/>
              <a:gd name="adj2" fmla="val -69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4500720"/>
            <a:ext cx="30463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きょうこ</a:t>
            </a: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ちゃ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erif"/>
                <a:ea typeface="YOzFontNP04"/>
              </a:rPr>
              <a:t>∅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03440"/>
            <a:ext cx="6750000" cy="1519200"/>
          </a:xfrm>
          <a:prstGeom prst="wedgeRoundRectCallout">
            <a:avLst>
              <a:gd name="adj1" fmla="val 106"/>
              <a:gd name="adj2" fmla="val 1298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565200" y="1003320"/>
            <a:ext cx="6264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 いきません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25560" y="1822320"/>
            <a:ext cx="3933720" cy="5465880"/>
          </a:xfrm>
          <a:custGeom>
            <a:avLst/>
            <a:gdLst>
              <a:gd name="textAreaLeft" fmla="*/ 360 w 3933720"/>
              <a:gd name="textAreaRight" fmla="*/ 3933360 w 3933720"/>
              <a:gd name="textAreaTop" fmla="*/ 360 h 5465880"/>
              <a:gd name="textAreaBottom" fmla="*/ 5465520 h 5465880"/>
            </a:gdLst>
            <a:ahLst/>
            <a:rect l="textAreaLeft" t="textAreaTop" r="textAreaRight" b="textAreaBottom"/>
            <a:pathLst>
              <a:path w="21600" h="30012">
                <a:moveTo>
                  <a:pt x="8" y="0"/>
                </a:moveTo>
                <a:arcTo wR="8" hR="8" stAng="16200000" swAng="-5400000"/>
                <a:lnTo>
                  <a:pt x="0" y="30004"/>
                </a:lnTo>
                <a:arcTo wR="8" hR="8" stAng="10800000" swAng="-5400000"/>
                <a:lnTo>
                  <a:pt x="21592" y="30012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4" name=""/>
          <p:cNvSpPr/>
          <p:nvPr/>
        </p:nvSpPr>
        <p:spPr>
          <a:xfrm>
            <a:off x="4983120" y="1808280"/>
            <a:ext cx="3921120" cy="5494320"/>
          </a:xfrm>
          <a:custGeom>
            <a:avLst/>
            <a:gdLst>
              <a:gd name="textAreaLeft" fmla="*/ 360 w 3921120"/>
              <a:gd name="textAreaRight" fmla="*/ 3920760 w 3921120"/>
              <a:gd name="textAreaTop" fmla="*/ 360 h 5494320"/>
              <a:gd name="textAreaBottom" fmla="*/ 5493960 h 5494320"/>
            </a:gdLst>
            <a:ahLst/>
            <a:rect l="textAreaLeft" t="textAreaTop" r="textAreaRight" b="textAreaBottom"/>
            <a:pathLst>
              <a:path w="21600" h="30265">
                <a:moveTo>
                  <a:pt x="8" y="0"/>
                </a:moveTo>
                <a:arcTo wR="8" hR="8" stAng="16200000" swAng="-5400000"/>
                <a:lnTo>
                  <a:pt x="0" y="30257"/>
                </a:lnTo>
                <a:arcTo wR="8" hR="8" stAng="10800000" swAng="-5400000"/>
                <a:lnTo>
                  <a:pt x="21592" y="30265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5" name=""/>
          <p:cNvSpPr/>
          <p:nvPr/>
        </p:nvSpPr>
        <p:spPr>
          <a:xfrm>
            <a:off x="5413320" y="204840"/>
            <a:ext cx="3135240" cy="1401840"/>
          </a:xfrm>
          <a:prstGeom prst="roundRect">
            <a:avLst>
              <a:gd name="adj" fmla="val 11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おんなことば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6" name=""/>
          <p:cNvSpPr/>
          <p:nvPr/>
        </p:nvSpPr>
        <p:spPr>
          <a:xfrm>
            <a:off x="1373040" y="204840"/>
            <a:ext cx="3283200" cy="1401840"/>
          </a:xfrm>
          <a:prstGeom prst="roundRect">
            <a:avLst>
              <a:gd name="adj" fmla="val 11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とこことば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7" name=""/>
          <p:cNvSpPr/>
          <p:nvPr/>
        </p:nvSpPr>
        <p:spPr>
          <a:xfrm>
            <a:off x="3522600" y="2389320"/>
            <a:ext cx="2586240" cy="4913280"/>
          </a:xfrm>
          <a:custGeom>
            <a:avLst/>
            <a:gdLst>
              <a:gd name="textAreaLeft" fmla="*/ 360 w 2586240"/>
              <a:gd name="textAreaRight" fmla="*/ 2585880 w 2586240"/>
              <a:gd name="textAreaTop" fmla="*/ 360 h 4913280"/>
              <a:gd name="textAreaBottom" fmla="*/ 4912920 h 4913280"/>
            </a:gdLst>
            <a:ahLst/>
            <a:rect l="textAreaLeft" t="textAreaTop" r="textAreaRight" b="textAreaBottom"/>
            <a:pathLst>
              <a:path w="21600" h="41032">
                <a:moveTo>
                  <a:pt x="13" y="0"/>
                </a:moveTo>
                <a:arcTo wR="13" hR="13" stAng="16200000" swAng="-5400000"/>
                <a:lnTo>
                  <a:pt x="0" y="41019"/>
                </a:lnTo>
                <a:arcTo wR="13" hR="13" stAng="10800000" swAng="-5400000"/>
                <a:lnTo>
                  <a:pt x="21587" y="41032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8" name=""/>
          <p:cNvSpPr/>
          <p:nvPr/>
        </p:nvSpPr>
        <p:spPr>
          <a:xfrm>
            <a:off x="1541520" y="2027160"/>
            <a:ext cx="16412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ぼ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80"/>
                </a:solidFill>
                <a:latin typeface="Bitstream Vera Serif"/>
                <a:ea typeface="YOzFontNP04"/>
              </a:rPr>
              <a:t>おれ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9" name=""/>
          <p:cNvSpPr/>
          <p:nvPr/>
        </p:nvSpPr>
        <p:spPr>
          <a:xfrm>
            <a:off x="7015320" y="2165400"/>
            <a:ext cx="152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800000"/>
                </a:solidFill>
                <a:latin typeface="Bitstream Vera Serif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0" name=""/>
          <p:cNvSpPr/>
          <p:nvPr/>
        </p:nvSpPr>
        <p:spPr>
          <a:xfrm>
            <a:off x="4157640" y="234648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8000"/>
                </a:solidFill>
                <a:latin typeface="Bitstream Vera Serif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1" name=""/>
          <p:cNvSpPr/>
          <p:nvPr/>
        </p:nvSpPr>
        <p:spPr>
          <a:xfrm>
            <a:off x="4157640" y="343548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く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2" name=""/>
          <p:cNvSpPr/>
          <p:nvPr/>
        </p:nvSpPr>
        <p:spPr>
          <a:xfrm>
            <a:off x="6199200" y="3254400"/>
            <a:ext cx="3046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くわ（よ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3" name=""/>
          <p:cNvSpPr/>
          <p:nvPr/>
        </p:nvSpPr>
        <p:spPr>
          <a:xfrm>
            <a:off x="922320" y="4267080"/>
            <a:ext cx="3032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いくか？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4" name=""/>
          <p:cNvSpPr/>
          <p:nvPr/>
        </p:nvSpPr>
        <p:spPr>
          <a:xfrm>
            <a:off x="3990960" y="4327560"/>
            <a:ext cx="1508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いく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5" name=""/>
          <p:cNvSpPr/>
          <p:nvPr/>
        </p:nvSpPr>
        <p:spPr>
          <a:xfrm>
            <a:off x="3840120" y="5219640"/>
            <a:ext cx="200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てくれる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6" name=""/>
          <p:cNvSpPr/>
          <p:nvPr/>
        </p:nvSpPr>
        <p:spPr>
          <a:xfrm>
            <a:off x="1149480" y="5159520"/>
            <a:ext cx="250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てくれ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7" name=""/>
          <p:cNvSpPr/>
          <p:nvPr/>
        </p:nvSpPr>
        <p:spPr>
          <a:xfrm>
            <a:off x="4264200" y="5997600"/>
            <a:ext cx="1015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ひま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8" name=""/>
          <p:cNvSpPr/>
          <p:nvPr/>
        </p:nvSpPr>
        <p:spPr>
          <a:xfrm>
            <a:off x="6319800" y="596736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ひまだ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9" name=""/>
          <p:cNvSpPr/>
          <p:nvPr/>
        </p:nvSpPr>
        <p:spPr>
          <a:xfrm>
            <a:off x="1058760" y="5899320"/>
            <a:ext cx="2540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（ひまだ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667080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ひまだ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1" name=""/>
          <p:cNvSpPr/>
          <p:nvPr/>
        </p:nvSpPr>
        <p:spPr>
          <a:xfrm>
            <a:off x="6561000" y="6670800"/>
            <a:ext cx="1522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OzFontNP04"/>
              </a:rPr>
              <a:t>ひま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73040" y="5504040"/>
            <a:ext cx="368136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ミラーさ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161040" y="5027760"/>
            <a:ext cx="368136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です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4" name=""/>
          <p:cNvSpPr/>
          <p:nvPr/>
        </p:nvSpPr>
        <p:spPr>
          <a:xfrm>
            <a:off x="6175440" y="5821200"/>
            <a:ext cx="3681360" cy="800280"/>
          </a:xfrm>
          <a:prstGeom prst="roundRect">
            <a:avLst>
              <a:gd name="adj" fmla="val 2241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に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53880" y="4206960"/>
            <a:ext cx="5747040" cy="1587240"/>
          </a:xfrm>
          <a:prstGeom prst="roundRect">
            <a:avLst>
              <a:gd name="adj" fmla="val 1129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ともだち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はなみを 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5729400"/>
            <a:ext cx="7648560" cy="1587240"/>
          </a:xfrm>
          <a:prstGeom prst="roundRect">
            <a:avLst>
              <a:gd name="adj" fmla="val 1129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 ともだち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はなみ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する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んだけど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…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01680" y="2433600"/>
            <a:ext cx="5505480" cy="2103480"/>
          </a:xfrm>
          <a:prstGeom prst="roundRect">
            <a:avLst>
              <a:gd name="adj" fmla="val 853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ミラーさん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せん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8" name=""/>
          <p:cNvSpPr/>
          <p:nvPr/>
        </p:nvSpPr>
        <p:spPr>
          <a:xfrm>
            <a:off x="249120" y="4576680"/>
            <a:ext cx="5505480" cy="2103480"/>
          </a:xfrm>
          <a:prstGeom prst="roundRect">
            <a:avLst>
              <a:gd name="adj" fmla="val 85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ミラーさん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っしょ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かない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80880" y="3559320"/>
            <a:ext cx="5108760" cy="1600200"/>
          </a:xfrm>
          <a:prstGeom prst="roundRect">
            <a:avLst>
              <a:gd name="adj" fmla="val 1120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ね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へいきま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0" name=""/>
          <p:cNvSpPr/>
          <p:nvPr/>
        </p:nvSpPr>
        <p:spPr>
          <a:xfrm>
            <a:off x="353880" y="5173560"/>
            <a:ext cx="3878280" cy="1600200"/>
          </a:xfrm>
          <a:prstGeom prst="roundRect">
            <a:avLst>
              <a:gd name="adj" fmla="val 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いね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いくの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616200" y="4721400"/>
            <a:ext cx="6005520" cy="1284120"/>
          </a:xfrm>
          <a:prstGeom prst="roundRect">
            <a:avLst>
              <a:gd name="adj" fmla="val 1398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さかじょう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2" name=""/>
          <p:cNvSpPr/>
          <p:nvPr/>
        </p:nvSpPr>
        <p:spPr>
          <a:xfrm>
            <a:off x="4259160" y="5940360"/>
            <a:ext cx="5025960" cy="1216080"/>
          </a:xfrm>
          <a:prstGeom prst="roundRect">
            <a:avLst>
              <a:gd name="adj" fmla="val 1475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3333"/>
                </a:solidFill>
                <a:latin typeface="YOzFontNP04"/>
                <a:ea typeface="YOzFontNP04"/>
              </a:rPr>
              <a:t>おおさかじょう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87440" y="5027760"/>
            <a:ext cx="426240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じ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4" name=""/>
          <p:cNvSpPr/>
          <p:nvPr/>
        </p:nvSpPr>
        <p:spPr>
          <a:xfrm>
            <a:off x="514440" y="5821200"/>
            <a:ext cx="3681360" cy="800280"/>
          </a:xfrm>
          <a:prstGeom prst="roundRect">
            <a:avLst>
              <a:gd name="adj" fmla="val 2241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じ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857920" y="4618080"/>
            <a:ext cx="368136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10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6" name=""/>
          <p:cNvSpPr/>
          <p:nvPr/>
        </p:nvSpPr>
        <p:spPr>
          <a:xfrm>
            <a:off x="5845320" y="5437080"/>
            <a:ext cx="3681360" cy="800280"/>
          </a:xfrm>
          <a:prstGeom prst="roundRect">
            <a:avLst>
              <a:gd name="adj" fmla="val 2241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10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じ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735440" y="3478320"/>
            <a:ext cx="5345280" cy="1998720"/>
          </a:xfrm>
          <a:prstGeom prst="roundRect">
            <a:avLst>
              <a:gd name="adj" fmla="val 898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さかじょ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うえんえきで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いましょう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8" name=""/>
          <p:cNvSpPr/>
          <p:nvPr/>
        </p:nvSpPr>
        <p:spPr>
          <a:xfrm>
            <a:off x="4251240" y="5489640"/>
            <a:ext cx="5722920" cy="1909800"/>
          </a:xfrm>
          <a:prstGeom prst="roundRect">
            <a:avLst>
              <a:gd name="adj" fmla="val 939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さかじょ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うえんえきで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お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よ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34040" y="896760"/>
            <a:ext cx="5508360" cy="1408320"/>
          </a:xfrm>
          <a:prstGeom prst="wedgeRoundRectCallout">
            <a:avLst>
              <a:gd name="adj1" fmla="val 11398"/>
              <a:gd name="adj2" fmla="val 13619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984240"/>
            <a:ext cx="4674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ひ いきた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87440" y="5027760"/>
            <a:ext cx="4413240" cy="799920"/>
          </a:xfrm>
          <a:prstGeom prst="roundRect">
            <a:avLst>
              <a:gd name="adj" fmla="val 2241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0" name=""/>
          <p:cNvSpPr/>
          <p:nvPr/>
        </p:nvSpPr>
        <p:spPr>
          <a:xfrm>
            <a:off x="407880" y="5888160"/>
            <a:ext cx="4437000" cy="799920"/>
          </a:xfrm>
          <a:prstGeom prst="roundRect">
            <a:avLst>
              <a:gd name="adj" fmla="val 2241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かっ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363920" y="4737240"/>
            <a:ext cx="5465880" cy="1228680"/>
          </a:xfrm>
          <a:prstGeom prst="roundRect">
            <a:avLst>
              <a:gd name="adj" fmla="val 1459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じゃ、またあ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2080"/>
            <a:ext cx="7869240" cy="1946160"/>
          </a:xfrm>
          <a:prstGeom prst="wedgeRoundRectCallout">
            <a:avLst>
              <a:gd name="adj1" fmla="val 175"/>
              <a:gd name="adj2" fmla="val 10530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247680" y="480960"/>
            <a:ext cx="72802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んげきは ごじからですから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じに まちあわせ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なければいけません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1080" y="2862360"/>
            <a:ext cx="2668680" cy="689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49760" y="2266920"/>
            <a:ext cx="24544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5:07:19Z</dcterms:created>
  <dc:creator/>
  <dc:description/>
  <dc:language>en-US</dc:language>
  <cp:lastModifiedBy/>
  <dcterms:modified xsi:type="dcterms:W3CDTF">2016-05-24T19:25:14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