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653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4.png"/><Relationship Id="rId11" Type="http://schemas.openxmlformats.org/officeDocument/2006/relationships/image" Target="../media/image37.png"/><Relationship Id="rId12" Type="http://schemas.openxmlformats.org/officeDocument/2006/relationships/image" Target="../media/image2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4.png"/><Relationship Id="rId11" Type="http://schemas.openxmlformats.org/officeDocument/2006/relationships/image" Target="../media/image32.png"/><Relationship Id="rId12" Type="http://schemas.openxmlformats.org/officeDocument/2006/relationships/image" Target="../media/image40.png"/><Relationship Id="rId13" Type="http://schemas.openxmlformats.org/officeDocument/2006/relationships/image" Target="../media/image37.png"/><Relationship Id="rId14" Type="http://schemas.openxmlformats.org/officeDocument/2006/relationships/image" Target="../media/image41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4.png"/><Relationship Id="rId11" Type="http://schemas.openxmlformats.org/officeDocument/2006/relationships/image" Target="../media/image32.png"/><Relationship Id="rId12" Type="http://schemas.openxmlformats.org/officeDocument/2006/relationships/image" Target="../media/image40.png"/><Relationship Id="rId13" Type="http://schemas.openxmlformats.org/officeDocument/2006/relationships/image" Target="../media/image37.png"/><Relationship Id="rId14" Type="http://schemas.openxmlformats.org/officeDocument/2006/relationships/image" Target="../media/image41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6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49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49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49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0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4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686480"/>
            <a:ext cx="28494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てあげ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てもら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てくれ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799320" y="175896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179880" y="581040"/>
            <a:ext cx="1992240" cy="5900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11040" y="198360"/>
            <a:ext cx="2498760" cy="6132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88880" y="1054080"/>
            <a:ext cx="2990880" cy="6505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9048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1681200" y="6600960"/>
            <a:ext cx="670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はは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51000" y="1800360"/>
            <a:ext cx="1361880" cy="1266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278240" y="1060560"/>
            <a:ext cx="1524240" cy="2219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2160" y="244800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5689440" y="246060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3983040" y="5662440"/>
            <a:ext cx="10159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5702400" y="3346560"/>
            <a:ext cx="1270080" cy="1773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111240" y="5200560"/>
            <a:ext cx="152388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99320" y="175896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179880" y="581040"/>
            <a:ext cx="1992240" cy="5900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11040" y="198360"/>
            <a:ext cx="2498760" cy="6132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8880" y="1054080"/>
            <a:ext cx="2990880" cy="6505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9048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1681200" y="6600960"/>
            <a:ext cx="670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あね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51000" y="1800360"/>
            <a:ext cx="1361880" cy="1266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278240" y="1060560"/>
            <a:ext cx="1524240" cy="2219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92160" y="244800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5689440" y="246060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5214960" y="4584600"/>
            <a:ext cx="1757520" cy="5349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0" y="6389640"/>
            <a:ext cx="1639800" cy="898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27400" y="5259240"/>
            <a:ext cx="1016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433680" y="4084560"/>
            <a:ext cx="215280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99320" y="175896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00240" y="782640"/>
            <a:ext cx="1268280" cy="3684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71440" y="542880"/>
            <a:ext cx="1592280" cy="3830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84120" y="2716200"/>
            <a:ext cx="1905120" cy="4062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9048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1681200" y="660096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れ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した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297000" y="1542960"/>
            <a:ext cx="868320" cy="790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798640" y="1081080"/>
            <a:ext cx="971640" cy="13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1131840" y="3749760"/>
            <a:ext cx="1371600" cy="642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5888160" y="3782880"/>
            <a:ext cx="422280" cy="143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3162240" y="4719600"/>
            <a:ext cx="2698920" cy="4608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1587600" y="3902040"/>
            <a:ext cx="1508040" cy="1521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033560" y="6019920"/>
            <a:ext cx="4222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799320" y="175896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100240" y="782640"/>
            <a:ext cx="1268280" cy="368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1440" y="542880"/>
            <a:ext cx="1592280" cy="3830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84120" y="2716200"/>
            <a:ext cx="1905120" cy="4062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297000" y="1542960"/>
            <a:ext cx="86832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798640" y="1081080"/>
            <a:ext cx="971640" cy="138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1131840" y="3749760"/>
            <a:ext cx="1371600" cy="642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5888160" y="3782880"/>
            <a:ext cx="422280" cy="1438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V="1">
            <a:off x="3162240" y="4719600"/>
            <a:ext cx="2698920" cy="46080"/>
          </a:xfrm>
          <a:prstGeom prst="line">
            <a:avLst/>
          </a:prstGeom>
          <a:ln w="14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17520" y="1905120"/>
            <a:ext cx="2220840" cy="5767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048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1681200" y="660096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ロラン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2262240" y="516096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1109520" y="5959440"/>
            <a:ext cx="4222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5224320" y="2308320"/>
            <a:ext cx="3649680" cy="4325760"/>
            <a:chOff x="5224320" y="2308320"/>
            <a:chExt cx="3649680" cy="43257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6757920" y="2583000"/>
              <a:ext cx="2116080" cy="40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224320" y="2308320"/>
              <a:ext cx="1525680" cy="371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241800" y="3373560"/>
            <a:ext cx="2774880" cy="1584000"/>
            <a:chOff x="3241800" y="3373560"/>
            <a:chExt cx="2774880" cy="1584000"/>
          </a:xfrm>
        </p:grpSpPr>
        <p:sp>
          <p:nvSpPr>
            <p:cNvPr id="213" name=""/>
            <p:cNvSpPr/>
            <p:nvPr/>
          </p:nvSpPr>
          <p:spPr>
            <a:xfrm flipH="1">
              <a:off x="3241800" y="4061520"/>
              <a:ext cx="2774880" cy="8960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4142520" y="3373560"/>
              <a:ext cx="1019160" cy="89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8132760" y="475776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3114720" y="502272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2789280" y="616284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146480" y="2292480"/>
            <a:ext cx="679680" cy="1035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757760" y="1662120"/>
            <a:ext cx="520560" cy="712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037200" y="1646280"/>
            <a:ext cx="248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214632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425520" y="169920"/>
            <a:ext cx="8718480" cy="13320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3" name=""/>
          <p:cNvSpPr/>
          <p:nvPr/>
        </p:nvSpPr>
        <p:spPr>
          <a:xfrm>
            <a:off x="1549440" y="338040"/>
            <a:ext cx="710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441360" y="1954080"/>
            <a:ext cx="2448000" cy="7039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146160" y="209520"/>
            <a:ext cx="1377720" cy="1177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7699320" y="2809800"/>
            <a:ext cx="582840" cy="887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49440" y="339840"/>
            <a:ext cx="2030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01840" y="51436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2789280" y="616284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146480" y="2292480"/>
            <a:ext cx="679680" cy="1035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354640" y="1873080"/>
            <a:ext cx="520560" cy="712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37200" y="1646280"/>
            <a:ext cx="248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6732720" y="214632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425520" y="169920"/>
            <a:ext cx="8597880" cy="13320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5" name=""/>
          <p:cNvSpPr/>
          <p:nvPr/>
        </p:nvSpPr>
        <p:spPr>
          <a:xfrm>
            <a:off x="1549440" y="338040"/>
            <a:ext cx="710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56360" y="2647800"/>
            <a:ext cx="4444920" cy="4326120"/>
            <a:chOff x="5256360" y="2647800"/>
            <a:chExt cx="4444920" cy="4326120"/>
          </a:xfrm>
        </p:grpSpPr>
        <p:sp>
          <p:nvSpPr>
            <p:cNvPr id="237" name=""/>
            <p:cNvSpPr/>
            <p:nvPr/>
          </p:nvSpPr>
          <p:spPr>
            <a:xfrm>
              <a:off x="8182080" y="5095800"/>
              <a:ext cx="15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ロラン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256360" y="2647800"/>
              <a:ext cx="3649680" cy="4326120"/>
              <a:chOff x="5256360" y="2647800"/>
              <a:chExt cx="3649680" cy="4326120"/>
            </a:xfrm>
          </p:grpSpPr>
          <p:pic>
            <p:nvPicPr>
              <p:cNvPr id="2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9600" y="2922480"/>
                <a:ext cx="2116440" cy="405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56360" y="2647800"/>
                <a:ext cx="1525320" cy="37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46160" y="209520"/>
            <a:ext cx="1377720" cy="1177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441360" y="1954080"/>
            <a:ext cx="2448000" cy="703908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3241800" y="3373560"/>
            <a:ext cx="4046400" cy="1584000"/>
            <a:chOff x="3241800" y="3373560"/>
            <a:chExt cx="4046400" cy="1584000"/>
          </a:xfrm>
        </p:grpSpPr>
        <p:sp>
          <p:nvSpPr>
            <p:cNvPr id="244" name=""/>
            <p:cNvSpPr/>
            <p:nvPr/>
          </p:nvSpPr>
          <p:spPr>
            <a:xfrm flipH="1">
              <a:off x="3241800" y="4061520"/>
              <a:ext cx="4046400" cy="8960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5143680" y="3373560"/>
              <a:ext cx="899280" cy="89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1549440" y="339840"/>
            <a:ext cx="2030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576440" y="2197080"/>
            <a:ext cx="4522680" cy="5361120"/>
            <a:chOff x="1576440" y="2197080"/>
            <a:chExt cx="4522680" cy="5361120"/>
          </a:xfrm>
        </p:grpSpPr>
        <p:grpSp>
          <p:nvGrpSpPr>
            <p:cNvPr id="248" name=""/>
            <p:cNvGrpSpPr/>
            <p:nvPr/>
          </p:nvGrpSpPr>
          <p:grpSpPr>
            <a:xfrm>
              <a:off x="1576440" y="2197080"/>
              <a:ext cx="4522680" cy="5361120"/>
              <a:chOff x="1576440" y="2197080"/>
              <a:chExt cx="4522680" cy="5361120"/>
            </a:xfrm>
          </p:grpSpPr>
          <p:pic>
            <p:nvPicPr>
              <p:cNvPr id="2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2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7080"/>
                <a:ext cx="1892160" cy="460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1" name=""/>
          <p:cNvGrpSpPr/>
          <p:nvPr/>
        </p:nvGrpSpPr>
        <p:grpSpPr>
          <a:xfrm>
            <a:off x="2441520" y="4052880"/>
            <a:ext cx="3944880" cy="2100240"/>
            <a:chOff x="2441520" y="4052880"/>
            <a:chExt cx="3944880" cy="2100240"/>
          </a:xfrm>
        </p:grpSpPr>
        <p:sp>
          <p:nvSpPr>
            <p:cNvPr id="252" name=""/>
            <p:cNvSpPr/>
            <p:nvPr/>
          </p:nvSpPr>
          <p:spPr>
            <a:xfrm>
              <a:off x="2441520" y="4052880"/>
              <a:ext cx="3944880" cy="210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4481640" y="4568760"/>
              <a:ext cx="101412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5421240" y="2593800"/>
            <a:ext cx="1522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5484960" y="66787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6680" y="1711440"/>
            <a:ext cx="248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2130480" y="355680"/>
            <a:ext cx="659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274680" y="243000"/>
            <a:ext cx="1378080" cy="117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6593040" y="2793960"/>
            <a:ext cx="2447640" cy="7039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131920" y="355680"/>
            <a:ext cx="566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485640" y="679284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576440" y="2197080"/>
            <a:ext cx="4522680" cy="5361120"/>
            <a:chOff x="1576440" y="2197080"/>
            <a:chExt cx="4522680" cy="5361120"/>
          </a:xfrm>
        </p:grpSpPr>
        <p:grpSp>
          <p:nvGrpSpPr>
            <p:cNvPr id="267" name=""/>
            <p:cNvGrpSpPr/>
            <p:nvPr/>
          </p:nvGrpSpPr>
          <p:grpSpPr>
            <a:xfrm>
              <a:off x="1576440" y="2197080"/>
              <a:ext cx="4522680" cy="5361120"/>
              <a:chOff x="1576440" y="2197080"/>
              <a:chExt cx="4522680" cy="5361120"/>
            </a:xfrm>
          </p:grpSpPr>
          <p:pic>
            <p:nvPicPr>
              <p:cNvPr id="2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2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7080"/>
                <a:ext cx="1892160" cy="460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0" name=""/>
          <p:cNvGrpSpPr/>
          <p:nvPr/>
        </p:nvGrpSpPr>
        <p:grpSpPr>
          <a:xfrm>
            <a:off x="4416480" y="4498920"/>
            <a:ext cx="1971720" cy="1654200"/>
            <a:chOff x="4416480" y="4498920"/>
            <a:chExt cx="1971720" cy="1654200"/>
          </a:xfrm>
        </p:grpSpPr>
        <p:sp>
          <p:nvSpPr>
            <p:cNvPr id="271" name=""/>
            <p:cNvSpPr/>
            <p:nvPr/>
          </p:nvSpPr>
          <p:spPr>
            <a:xfrm>
              <a:off x="4416480" y="4710240"/>
              <a:ext cx="1971720" cy="144288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5019840" y="4498920"/>
              <a:ext cx="102204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5421240" y="2593800"/>
            <a:ext cx="1522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5484960" y="66787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776680" y="1711440"/>
            <a:ext cx="248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8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9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0" name=""/>
          <p:cNvSpPr/>
          <p:nvPr/>
        </p:nvSpPr>
        <p:spPr>
          <a:xfrm>
            <a:off x="2095560" y="355680"/>
            <a:ext cx="6853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274680" y="243000"/>
            <a:ext cx="1378080" cy="1177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593040" y="2793960"/>
            <a:ext cx="2447640" cy="7039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95560" y="355680"/>
            <a:ext cx="566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4" name=""/>
          <p:cNvSpPr/>
          <p:nvPr/>
        </p:nvSpPr>
        <p:spPr>
          <a:xfrm>
            <a:off x="487440" y="679284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1576440" y="2197080"/>
            <a:ext cx="4522680" cy="5361120"/>
            <a:chOff x="1576440" y="2197080"/>
            <a:chExt cx="4522680" cy="5361120"/>
          </a:xfrm>
        </p:grpSpPr>
        <p:grpSp>
          <p:nvGrpSpPr>
            <p:cNvPr id="286" name=""/>
            <p:cNvGrpSpPr/>
            <p:nvPr/>
          </p:nvGrpSpPr>
          <p:grpSpPr>
            <a:xfrm>
              <a:off x="1576440" y="2197080"/>
              <a:ext cx="4522680" cy="5361120"/>
              <a:chOff x="1576440" y="2197080"/>
              <a:chExt cx="4522680" cy="53611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2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7080"/>
                <a:ext cx="1892160" cy="460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9" name=""/>
          <p:cNvGrpSpPr/>
          <p:nvPr/>
        </p:nvGrpSpPr>
        <p:grpSpPr>
          <a:xfrm>
            <a:off x="2406600" y="4087800"/>
            <a:ext cx="3979800" cy="2065320"/>
            <a:chOff x="2406600" y="4087800"/>
            <a:chExt cx="3979800" cy="2065320"/>
          </a:xfrm>
        </p:grpSpPr>
        <p:sp>
          <p:nvSpPr>
            <p:cNvPr id="290" name=""/>
            <p:cNvSpPr/>
            <p:nvPr/>
          </p:nvSpPr>
          <p:spPr>
            <a:xfrm>
              <a:off x="2406600" y="4087800"/>
              <a:ext cx="3979800" cy="2065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/>
          <p:nvPr/>
        </p:nvSpPr>
        <p:spPr>
          <a:xfrm>
            <a:off x="5421240" y="2593800"/>
            <a:ext cx="1522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3" name=""/>
          <p:cNvSpPr/>
          <p:nvPr/>
        </p:nvSpPr>
        <p:spPr>
          <a:xfrm>
            <a:off x="736560" y="69199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776680" y="1711440"/>
            <a:ext cx="248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2166840" y="355680"/>
            <a:ext cx="659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6593040" y="2793960"/>
            <a:ext cx="2447640" cy="7039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166840" y="355680"/>
            <a:ext cx="566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66787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576440" y="2197080"/>
            <a:ext cx="4522680" cy="5361120"/>
            <a:chOff x="1576440" y="2197080"/>
            <a:chExt cx="4522680" cy="5361120"/>
          </a:xfrm>
        </p:grpSpPr>
        <p:grpSp>
          <p:nvGrpSpPr>
            <p:cNvPr id="305" name=""/>
            <p:cNvGrpSpPr/>
            <p:nvPr/>
          </p:nvGrpSpPr>
          <p:grpSpPr>
            <a:xfrm>
              <a:off x="1576440" y="2197080"/>
              <a:ext cx="4522680" cy="5361120"/>
              <a:chOff x="1576440" y="2197080"/>
              <a:chExt cx="4522680" cy="53611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2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7080"/>
                <a:ext cx="1892160" cy="460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8" name=""/>
          <p:cNvGrpSpPr/>
          <p:nvPr/>
        </p:nvGrpSpPr>
        <p:grpSpPr>
          <a:xfrm>
            <a:off x="2546280" y="4103640"/>
            <a:ext cx="3841920" cy="2048040"/>
            <a:chOff x="2546280" y="4103640"/>
            <a:chExt cx="3841920" cy="2048040"/>
          </a:xfrm>
        </p:grpSpPr>
        <p:sp>
          <p:nvSpPr>
            <p:cNvPr id="309" name=""/>
            <p:cNvSpPr/>
            <p:nvPr/>
          </p:nvSpPr>
          <p:spPr>
            <a:xfrm>
              <a:off x="2546280" y="4103640"/>
              <a:ext cx="3841920" cy="20480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"/>
          <p:cNvSpPr/>
          <p:nvPr/>
        </p:nvSpPr>
        <p:spPr>
          <a:xfrm>
            <a:off x="5421240" y="2593800"/>
            <a:ext cx="1522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2" name=""/>
          <p:cNvSpPr/>
          <p:nvPr/>
        </p:nvSpPr>
        <p:spPr>
          <a:xfrm>
            <a:off x="765000" y="68500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776680" y="1711440"/>
            <a:ext cx="248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6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7" name=""/>
          <p:cNvSpPr/>
          <p:nvPr/>
        </p:nvSpPr>
        <p:spPr>
          <a:xfrm>
            <a:off x="425520" y="169920"/>
            <a:ext cx="8891640" cy="12859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2166840" y="355680"/>
            <a:ext cx="734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593040" y="2793960"/>
            <a:ext cx="2447640" cy="7039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66840" y="341280"/>
            <a:ext cx="566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66787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92280" y="1906560"/>
            <a:ext cx="8636040" cy="7047000"/>
            <a:chOff x="692280" y="1906560"/>
            <a:chExt cx="8636040" cy="7047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883560" y="1906560"/>
              <a:ext cx="2444760" cy="70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92280" y="2432160"/>
              <a:ext cx="2921040" cy="65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flipV="1">
              <a:off x="4044960" y="3909960"/>
              <a:ext cx="2332080" cy="3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46160" y="5952960"/>
            <a:ext cx="5013360" cy="1362240"/>
          </a:xfrm>
          <a:prstGeom prst="roundRect">
            <a:avLst>
              <a:gd name="adj" fmla="val 213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んじょうび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めでと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6548400" y="6099120"/>
            <a:ext cx="3532320" cy="1243080"/>
          </a:xfrm>
          <a:prstGeom prst="roundRect">
            <a:avLst>
              <a:gd name="adj" fmla="val 1444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131760" y="2368440"/>
            <a:ext cx="181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5445000" y="2567160"/>
            <a:ext cx="181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687240" y="317520"/>
            <a:ext cx="9195120" cy="111132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2036880" y="369720"/>
            <a:ext cx="6092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プレゼン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576440" y="2197080"/>
            <a:ext cx="4522680" cy="5361120"/>
            <a:chOff x="1576440" y="2197080"/>
            <a:chExt cx="4522680" cy="5361120"/>
          </a:xfrm>
        </p:grpSpPr>
        <p:grpSp>
          <p:nvGrpSpPr>
            <p:cNvPr id="323" name=""/>
            <p:cNvGrpSpPr/>
            <p:nvPr/>
          </p:nvGrpSpPr>
          <p:grpSpPr>
            <a:xfrm>
              <a:off x="1576440" y="2197080"/>
              <a:ext cx="4522680" cy="5361120"/>
              <a:chOff x="1576440" y="2197080"/>
              <a:chExt cx="4522680" cy="5361120"/>
            </a:xfrm>
          </p:grpSpPr>
          <p:pic>
            <p:nvPicPr>
              <p:cNvPr id="3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2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7080"/>
                <a:ext cx="1892160" cy="460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6" name=""/>
          <p:cNvGrpSpPr/>
          <p:nvPr/>
        </p:nvGrpSpPr>
        <p:grpSpPr>
          <a:xfrm>
            <a:off x="4465800" y="4568760"/>
            <a:ext cx="1922400" cy="1584360"/>
            <a:chOff x="4465800" y="4568760"/>
            <a:chExt cx="1922400" cy="1584360"/>
          </a:xfrm>
        </p:grpSpPr>
        <p:sp>
          <p:nvSpPr>
            <p:cNvPr id="327" name=""/>
            <p:cNvSpPr/>
            <p:nvPr/>
          </p:nvSpPr>
          <p:spPr>
            <a:xfrm>
              <a:off x="4554360" y="4589640"/>
              <a:ext cx="1833840" cy="156348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5421240" y="2593800"/>
            <a:ext cx="1522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0" name=""/>
          <p:cNvSpPr/>
          <p:nvPr/>
        </p:nvSpPr>
        <p:spPr>
          <a:xfrm>
            <a:off x="5484960" y="66787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776680" y="1711440"/>
            <a:ext cx="248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5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>
            <a:off x="2203560" y="355680"/>
            <a:ext cx="659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6593040" y="2793960"/>
            <a:ext cx="2447640" cy="7039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471600" y="387360"/>
            <a:ext cx="1143000" cy="130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203560" y="355680"/>
            <a:ext cx="566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0" name=""/>
          <p:cNvSpPr/>
          <p:nvPr/>
        </p:nvSpPr>
        <p:spPr>
          <a:xfrm>
            <a:off x="765000" y="68500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576440" y="2197080"/>
            <a:ext cx="4522680" cy="5361120"/>
            <a:chOff x="1576440" y="2197080"/>
            <a:chExt cx="4522680" cy="5361120"/>
          </a:xfrm>
        </p:grpSpPr>
        <p:grpSp>
          <p:nvGrpSpPr>
            <p:cNvPr id="342" name=""/>
            <p:cNvGrpSpPr/>
            <p:nvPr/>
          </p:nvGrpSpPr>
          <p:grpSpPr>
            <a:xfrm>
              <a:off x="1576440" y="2197080"/>
              <a:ext cx="4522680" cy="5361120"/>
              <a:chOff x="1576440" y="2197080"/>
              <a:chExt cx="4522680" cy="5361120"/>
            </a:xfrm>
          </p:grpSpPr>
          <p:pic>
            <p:nvPicPr>
              <p:cNvPr id="3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2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7080"/>
                <a:ext cx="1892160" cy="460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5" name=""/>
          <p:cNvGrpSpPr/>
          <p:nvPr/>
        </p:nvGrpSpPr>
        <p:grpSpPr>
          <a:xfrm>
            <a:off x="4465800" y="4568760"/>
            <a:ext cx="2008080" cy="1490760"/>
            <a:chOff x="4465800" y="4568760"/>
            <a:chExt cx="2008080" cy="1490760"/>
          </a:xfrm>
        </p:grpSpPr>
        <p:sp>
          <p:nvSpPr>
            <p:cNvPr id="346" name=""/>
            <p:cNvSpPr/>
            <p:nvPr/>
          </p:nvSpPr>
          <p:spPr>
            <a:xfrm>
              <a:off x="4495680" y="4754520"/>
              <a:ext cx="1978200" cy="130500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5421240" y="2593800"/>
            <a:ext cx="1522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9" name=""/>
          <p:cNvSpPr/>
          <p:nvPr/>
        </p:nvSpPr>
        <p:spPr>
          <a:xfrm>
            <a:off x="5484960" y="66787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776680" y="1711440"/>
            <a:ext cx="248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3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4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5" name=""/>
          <p:cNvSpPr/>
          <p:nvPr/>
        </p:nvSpPr>
        <p:spPr>
          <a:xfrm>
            <a:off x="2203560" y="355680"/>
            <a:ext cx="659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6593040" y="2793960"/>
            <a:ext cx="2447640" cy="7039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03560" y="355680"/>
            <a:ext cx="566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8" name=""/>
          <p:cNvSpPr/>
          <p:nvPr/>
        </p:nvSpPr>
        <p:spPr>
          <a:xfrm>
            <a:off x="765000" y="68500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360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4" name=""/>
          <p:cNvSpPr/>
          <p:nvPr/>
        </p:nvSpPr>
        <p:spPr>
          <a:xfrm>
            <a:off x="2476440" y="185760"/>
            <a:ext cx="7458120" cy="187812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5" name=""/>
          <p:cNvSpPr/>
          <p:nvPr/>
        </p:nvSpPr>
        <p:spPr>
          <a:xfrm>
            <a:off x="3649680" y="236520"/>
            <a:ext cx="6227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6" name=""/>
          <p:cNvSpPr/>
          <p:nvPr/>
        </p:nvSpPr>
        <p:spPr>
          <a:xfrm>
            <a:off x="3665520" y="28465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7" name=""/>
          <p:cNvSpPr/>
          <p:nvPr/>
        </p:nvSpPr>
        <p:spPr>
          <a:xfrm>
            <a:off x="8317080" y="5648400"/>
            <a:ext cx="1522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1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84320" y="2252520"/>
            <a:ext cx="7651800" cy="8509320"/>
            <a:chOff x="1084320" y="2252520"/>
            <a:chExt cx="7651800" cy="8509320"/>
          </a:xfrm>
        </p:grpSpPr>
        <p:grpSp>
          <p:nvGrpSpPr>
            <p:cNvPr id="381" name=""/>
            <p:cNvGrpSpPr/>
            <p:nvPr/>
          </p:nvGrpSpPr>
          <p:grpSpPr>
            <a:xfrm>
              <a:off x="3009960" y="3373560"/>
              <a:ext cx="2774880" cy="1584360"/>
              <a:chOff x="3009960" y="3373560"/>
              <a:chExt cx="2774880" cy="158436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3009960" y="4060800"/>
                <a:ext cx="2774880" cy="897120"/>
              </a:xfrm>
              <a:prstGeom prst="line">
                <a:avLst/>
              </a:prstGeom>
              <a:ln w="108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pic>
            <p:nvPicPr>
              <p:cNvPr id="38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910680" y="3373560"/>
                <a:ext cx="1019520" cy="89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4" name="" descr=""/>
            <p:cNvPicPr/>
            <p:nvPr/>
          </p:nvPicPr>
          <p:blipFill>
            <a:blip r:embed="rId13"/>
            <a:stretch/>
          </p:blipFill>
          <p:spPr>
            <a:xfrm>
              <a:off x="1084320" y="3205080"/>
              <a:ext cx="2492280" cy="755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14"/>
            <a:stretch/>
          </p:blipFill>
          <p:spPr>
            <a:xfrm>
              <a:off x="5789520" y="2252520"/>
              <a:ext cx="2946600" cy="755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214488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389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37040" y="3373560"/>
            <a:ext cx="2774880" cy="1584360"/>
            <a:chOff x="4037040" y="3373560"/>
            <a:chExt cx="2774880" cy="1584360"/>
          </a:xfrm>
        </p:grpSpPr>
        <p:sp>
          <p:nvSpPr>
            <p:cNvPr id="404" name=""/>
            <p:cNvSpPr/>
            <p:nvPr/>
          </p:nvSpPr>
          <p:spPr>
            <a:xfrm>
              <a:off x="4037040" y="4060800"/>
              <a:ext cx="2774880" cy="8971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11"/>
            <a:stretch/>
          </p:blipFill>
          <p:spPr>
            <a:xfrm>
              <a:off x="4889520" y="3373560"/>
              <a:ext cx="102240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/>
          <p:cNvSpPr/>
          <p:nvPr/>
        </p:nvSpPr>
        <p:spPr>
          <a:xfrm>
            <a:off x="2476440" y="185760"/>
            <a:ext cx="7458120" cy="187812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7" name=""/>
          <p:cNvSpPr/>
          <p:nvPr/>
        </p:nvSpPr>
        <p:spPr>
          <a:xfrm>
            <a:off x="3649680" y="236520"/>
            <a:ext cx="6227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8" name=""/>
          <p:cNvSpPr/>
          <p:nvPr/>
        </p:nvSpPr>
        <p:spPr>
          <a:xfrm>
            <a:off x="3665520" y="28465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9" name=""/>
          <p:cNvSpPr/>
          <p:nvPr/>
        </p:nvSpPr>
        <p:spPr>
          <a:xfrm>
            <a:off x="8085240" y="569124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2"/>
          <a:stretch/>
        </p:blipFill>
        <p:spPr>
          <a:xfrm>
            <a:off x="6245280" y="320508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3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4"/>
          <a:stretch/>
        </p:blipFill>
        <p:spPr>
          <a:xfrm>
            <a:off x="1085760" y="2252520"/>
            <a:ext cx="2949840" cy="7559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5"/>
          <a:stretch/>
        </p:blipFill>
        <p:spPr>
          <a:xfrm>
            <a:off x="193356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417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037040" y="3373560"/>
            <a:ext cx="2774880" cy="1584360"/>
            <a:chOff x="4037040" y="3373560"/>
            <a:chExt cx="2774880" cy="1584360"/>
          </a:xfrm>
        </p:grpSpPr>
        <p:sp>
          <p:nvSpPr>
            <p:cNvPr id="432" name=""/>
            <p:cNvSpPr/>
            <p:nvPr/>
          </p:nvSpPr>
          <p:spPr>
            <a:xfrm>
              <a:off x="4037040" y="4060800"/>
              <a:ext cx="2774880" cy="8971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11"/>
            <a:stretch/>
          </p:blipFill>
          <p:spPr>
            <a:xfrm>
              <a:off x="4889520" y="3373560"/>
              <a:ext cx="102240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"/>
          <p:cNvSpPr/>
          <p:nvPr/>
        </p:nvSpPr>
        <p:spPr>
          <a:xfrm>
            <a:off x="2476440" y="185760"/>
            <a:ext cx="7429680" cy="2135160"/>
          </a:xfrm>
          <a:prstGeom prst="roundRect">
            <a:avLst>
              <a:gd name="adj" fmla="val 7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5" name=""/>
          <p:cNvSpPr/>
          <p:nvPr/>
        </p:nvSpPr>
        <p:spPr>
          <a:xfrm>
            <a:off x="3649680" y="236520"/>
            <a:ext cx="618660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きょうこさんの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6" name=""/>
          <p:cNvSpPr/>
          <p:nvPr/>
        </p:nvSpPr>
        <p:spPr>
          <a:xfrm>
            <a:off x="3665520" y="284652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7" name=""/>
          <p:cNvSpPr/>
          <p:nvPr/>
        </p:nvSpPr>
        <p:spPr>
          <a:xfrm>
            <a:off x="8085240" y="569124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2"/>
          <a:stretch/>
        </p:blipFill>
        <p:spPr>
          <a:xfrm>
            <a:off x="6245280" y="320508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3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4"/>
          <a:stretch/>
        </p:blipFill>
        <p:spPr>
          <a:xfrm>
            <a:off x="1085760" y="2252520"/>
            <a:ext cx="2949840" cy="75596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5"/>
          <a:stretch/>
        </p:blipFill>
        <p:spPr>
          <a:xfrm>
            <a:off x="2292480" y="492120"/>
            <a:ext cx="1143000" cy="1303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69720" y="1905120"/>
            <a:ext cx="9661680" cy="537984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4037040" y="2897280"/>
            <a:ext cx="1913040" cy="1201680"/>
            <a:chOff x="4037040" y="2897280"/>
            <a:chExt cx="1913040" cy="1201680"/>
          </a:xfrm>
        </p:grpSpPr>
        <p:sp>
          <p:nvSpPr>
            <p:cNvPr id="446" name=""/>
            <p:cNvSpPr/>
            <p:nvPr/>
          </p:nvSpPr>
          <p:spPr>
            <a:xfrm flipH="1">
              <a:off x="4037040" y="3419640"/>
              <a:ext cx="1913040" cy="679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4658040" y="2897280"/>
              <a:ext cx="70236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"/>
          <p:cNvSpPr/>
          <p:nvPr/>
        </p:nvSpPr>
        <p:spPr>
          <a:xfrm>
            <a:off x="676440" y="146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9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しえ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23976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69720" y="1905120"/>
            <a:ext cx="9661680" cy="537984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4475160" y="2870280"/>
            <a:ext cx="1913040" cy="1201680"/>
            <a:chOff x="4475160" y="2870280"/>
            <a:chExt cx="1913040" cy="1201680"/>
          </a:xfrm>
        </p:grpSpPr>
        <p:sp>
          <p:nvSpPr>
            <p:cNvPr id="454" name=""/>
            <p:cNvSpPr/>
            <p:nvPr/>
          </p:nvSpPr>
          <p:spPr>
            <a:xfrm>
              <a:off x="4475160" y="3392640"/>
              <a:ext cx="1913040" cy="679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5064120" y="2870280"/>
              <a:ext cx="7048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"/>
          <p:cNvSpPr/>
          <p:nvPr/>
        </p:nvSpPr>
        <p:spPr>
          <a:xfrm>
            <a:off x="676440" y="146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7" name=""/>
          <p:cNvSpPr/>
          <p:nvPr/>
        </p:nvSpPr>
        <p:spPr>
          <a:xfrm>
            <a:off x="1868400" y="24912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（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しえ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239760" y="28404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866960" y="266760"/>
            <a:ext cx="694692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69720" y="1906560"/>
            <a:ext cx="9661680" cy="538020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4475160" y="2870280"/>
            <a:ext cx="1913040" cy="1201680"/>
            <a:chOff x="4475160" y="2870280"/>
            <a:chExt cx="1913040" cy="1201680"/>
          </a:xfrm>
        </p:grpSpPr>
        <p:sp>
          <p:nvSpPr>
            <p:cNvPr id="462" name=""/>
            <p:cNvSpPr/>
            <p:nvPr/>
          </p:nvSpPr>
          <p:spPr>
            <a:xfrm>
              <a:off x="4475160" y="3392640"/>
              <a:ext cx="1913040" cy="679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5064120" y="2870280"/>
              <a:ext cx="7048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"/>
          <p:cNvSpPr/>
          <p:nvPr/>
        </p:nvSpPr>
        <p:spPr>
          <a:xfrm>
            <a:off x="676440" y="146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5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しえ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274680" y="243000"/>
            <a:ext cx="1378080" cy="1177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497720" y="222264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2282760" y="19749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552680" y="2766960"/>
            <a:ext cx="1919160" cy="2124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732640" y="5713560"/>
            <a:ext cx="4179600" cy="925200"/>
          </a:xfrm>
          <a:prstGeom prst="roundRect">
            <a:avLst>
              <a:gd name="adj" fmla="val 194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2" name=""/>
          <p:cNvSpPr/>
          <p:nvPr/>
        </p:nvSpPr>
        <p:spPr>
          <a:xfrm>
            <a:off x="5992920" y="5951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3" name=""/>
          <p:cNvSpPr/>
          <p:nvPr/>
        </p:nvSpPr>
        <p:spPr>
          <a:xfrm>
            <a:off x="225360" y="5807160"/>
            <a:ext cx="4041720" cy="1349280"/>
          </a:xfrm>
          <a:prstGeom prst="roundRect">
            <a:avLst>
              <a:gd name="adj" fmla="val 1329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4" name=""/>
          <p:cNvSpPr/>
          <p:nvPr/>
        </p:nvSpPr>
        <p:spPr>
          <a:xfrm>
            <a:off x="677880" y="173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5" name=""/>
          <p:cNvSpPr/>
          <p:nvPr/>
        </p:nvSpPr>
        <p:spPr>
          <a:xfrm>
            <a:off x="2050920" y="36972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6" name=""/>
          <p:cNvSpPr/>
          <p:nvPr/>
        </p:nvSpPr>
        <p:spPr>
          <a:xfrm>
            <a:off x="2368440" y="317520"/>
            <a:ext cx="2527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239760" y="284040"/>
            <a:ext cx="136512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585720" y="222264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475240" y="19749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6435720" y="248904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25360" y="3757680"/>
            <a:ext cx="4179960" cy="925560"/>
          </a:xfrm>
          <a:prstGeom prst="roundRect">
            <a:avLst>
              <a:gd name="adj" fmla="val 194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2" name=""/>
          <p:cNvSpPr/>
          <p:nvPr/>
        </p:nvSpPr>
        <p:spPr>
          <a:xfrm>
            <a:off x="503280" y="394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3" name=""/>
          <p:cNvSpPr/>
          <p:nvPr/>
        </p:nvSpPr>
        <p:spPr>
          <a:xfrm>
            <a:off x="677880" y="14760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4" name=""/>
          <p:cNvSpPr/>
          <p:nvPr/>
        </p:nvSpPr>
        <p:spPr>
          <a:xfrm>
            <a:off x="2009880" y="2379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5" name=""/>
          <p:cNvSpPr/>
          <p:nvPr/>
        </p:nvSpPr>
        <p:spPr>
          <a:xfrm>
            <a:off x="2023920" y="252360"/>
            <a:ext cx="3048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239760" y="28404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5853240" y="5807160"/>
            <a:ext cx="4041720" cy="1349280"/>
          </a:xfrm>
          <a:prstGeom prst="roundRect">
            <a:avLst>
              <a:gd name="adj" fmla="val 1329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12800" y="1676520"/>
            <a:ext cx="8459640" cy="8315280"/>
            <a:chOff x="712800" y="1676520"/>
            <a:chExt cx="8459640" cy="831528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161040" y="1676520"/>
              <a:ext cx="3011400" cy="755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712800" y="2435400"/>
              <a:ext cx="2638440" cy="75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 flipV="1">
              <a:off x="3638520" y="3909960"/>
              <a:ext cx="2338560" cy="3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46160" y="5952960"/>
            <a:ext cx="3916080" cy="1362240"/>
          </a:xfrm>
          <a:prstGeom prst="roundRect">
            <a:avLst>
              <a:gd name="adj" fmla="val 213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6402240" y="6099120"/>
            <a:ext cx="3605400" cy="1243080"/>
          </a:xfrm>
          <a:prstGeom prst="roundRect">
            <a:avLst>
              <a:gd name="adj" fmla="val 1444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んじょうび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めでと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131760" y="2368440"/>
            <a:ext cx="181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5594400" y="2546280"/>
            <a:ext cx="1781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317520"/>
            <a:ext cx="9195120" cy="111132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2036880" y="369720"/>
            <a:ext cx="65991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プレゼン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585720" y="222264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5475240" y="19749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6435720" y="248904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25360" y="3757680"/>
            <a:ext cx="4179960" cy="925560"/>
          </a:xfrm>
          <a:prstGeom prst="roundRect">
            <a:avLst>
              <a:gd name="adj" fmla="val 194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2" name=""/>
          <p:cNvSpPr/>
          <p:nvPr/>
        </p:nvSpPr>
        <p:spPr>
          <a:xfrm>
            <a:off x="503280" y="394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3" name=""/>
          <p:cNvSpPr/>
          <p:nvPr/>
        </p:nvSpPr>
        <p:spPr>
          <a:xfrm>
            <a:off x="677880" y="14760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4" name=""/>
          <p:cNvSpPr/>
          <p:nvPr/>
        </p:nvSpPr>
        <p:spPr>
          <a:xfrm>
            <a:off x="2009880" y="2379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5" name=""/>
          <p:cNvSpPr/>
          <p:nvPr/>
        </p:nvSpPr>
        <p:spPr>
          <a:xfrm>
            <a:off x="2023920" y="252360"/>
            <a:ext cx="2538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770040" y="458640"/>
            <a:ext cx="1143000" cy="13035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009880" y="2379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8" name=""/>
          <p:cNvSpPr/>
          <p:nvPr/>
        </p:nvSpPr>
        <p:spPr>
          <a:xfrm>
            <a:off x="5853240" y="5807160"/>
            <a:ext cx="4041720" cy="1349280"/>
          </a:xfrm>
          <a:prstGeom prst="roundRect">
            <a:avLst>
              <a:gd name="adj" fmla="val 1329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711440" y="190440"/>
            <a:ext cx="2422440" cy="1548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52280" y="239760"/>
            <a:ext cx="1347840" cy="495360"/>
          </a:xfrm>
          <a:prstGeom prst="roundRect">
            <a:avLst>
              <a:gd name="adj" fmla="val 36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、どうぞ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1" name=""/>
          <p:cNvSpPr/>
          <p:nvPr/>
        </p:nvSpPr>
        <p:spPr>
          <a:xfrm>
            <a:off x="2805120" y="773280"/>
            <a:ext cx="1289160" cy="682560"/>
          </a:xfrm>
          <a:prstGeom prst="roundRect">
            <a:avLst>
              <a:gd name="adj" fmla="val 262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ざいます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39560" y="1058760"/>
            <a:ext cx="1146240" cy="2660760"/>
            <a:chOff x="439560" y="1058760"/>
            <a:chExt cx="1146240" cy="2660760"/>
          </a:xfrm>
        </p:grpSpPr>
        <p:pic>
          <p:nvPicPr>
            <p:cNvPr id="503" name="" descr=""/>
            <p:cNvPicPr/>
            <p:nvPr/>
          </p:nvPicPr>
          <p:blipFill>
            <a:blip r:embed="rId2"/>
            <a:stretch/>
          </p:blipFill>
          <p:spPr>
            <a:xfrm>
              <a:off x="439560" y="1058760"/>
              <a:ext cx="110196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1181160" y="1655640"/>
              <a:ext cx="404640" cy="121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1998720" y="1135080"/>
            <a:ext cx="1116000" cy="27446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2349360" y="703440"/>
            <a:ext cx="497160" cy="5680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>
            <a:off x="3835440" y="3219480"/>
            <a:ext cx="1219320" cy="41068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7"/>
          <a:stretch/>
        </p:blipFill>
        <p:spPr>
          <a:xfrm>
            <a:off x="5419800" y="2349360"/>
            <a:ext cx="3362400" cy="214812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6165720" y="2763720"/>
            <a:ext cx="2452680" cy="3299040"/>
            <a:chOff x="6165720" y="2763720"/>
            <a:chExt cx="2452680" cy="3299040"/>
          </a:xfrm>
        </p:grpSpPr>
        <p:pic>
          <p:nvPicPr>
            <p:cNvPr id="510" name="" descr=""/>
            <p:cNvPicPr/>
            <p:nvPr/>
          </p:nvPicPr>
          <p:blipFill>
            <a:blip r:embed="rId8"/>
            <a:stretch/>
          </p:blipFill>
          <p:spPr>
            <a:xfrm>
              <a:off x="6165720" y="3197160"/>
              <a:ext cx="149076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9"/>
            <a:stretch/>
          </p:blipFill>
          <p:spPr>
            <a:xfrm>
              <a:off x="6432480" y="2763720"/>
              <a:ext cx="2185920" cy="14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6148440" y="4429080"/>
            <a:ext cx="2630520" cy="73080"/>
          </a:xfrm>
          <a:prstGeom prst="roundRect">
            <a:avLst>
              <a:gd name="adj" fmla="val 2171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3" name=""/>
          <p:cNvSpPr/>
          <p:nvPr/>
        </p:nvSpPr>
        <p:spPr>
          <a:xfrm>
            <a:off x="6184800" y="4429080"/>
            <a:ext cx="2716200" cy="3003480"/>
          </a:xfrm>
          <a:custGeom>
            <a:avLst/>
            <a:gdLst>
              <a:gd name="textAreaLeft" fmla="*/ 360 w 2716200"/>
              <a:gd name="textAreaRight" fmla="*/ 2715840 w 2716200"/>
              <a:gd name="textAreaTop" fmla="*/ 360 h 3003480"/>
              <a:gd name="textAreaBottom" fmla="*/ 3003120 h 3003480"/>
            </a:gdLst>
            <a:ahLst/>
            <a:rect l="textAreaLeft" t="textAreaTop" r="textAreaRight" b="textAreaBottom"/>
            <a:pathLst>
              <a:path w="21600" h="23884">
                <a:moveTo>
                  <a:pt x="12" y="0"/>
                </a:moveTo>
                <a:arcTo wR="12" hR="12" stAng="16200000" swAng="-5400000"/>
                <a:lnTo>
                  <a:pt x="0" y="23872"/>
                </a:lnTo>
                <a:arcTo wR="12" hR="12" stAng="10800000" swAng="-5400000"/>
                <a:lnTo>
                  <a:pt x="21588" y="23884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882960" y="5083200"/>
            <a:ext cx="6280200" cy="2127240"/>
            <a:chOff x="3882960" y="5083200"/>
            <a:chExt cx="6280200" cy="2127240"/>
          </a:xfrm>
        </p:grpSpPr>
        <p:sp>
          <p:nvSpPr>
            <p:cNvPr id="515" name=""/>
            <p:cNvSpPr/>
            <p:nvPr/>
          </p:nvSpPr>
          <p:spPr>
            <a:xfrm>
              <a:off x="3882960" y="5083200"/>
              <a:ext cx="6280200" cy="2127240"/>
            </a:xfrm>
            <a:prstGeom prst="roundRect">
              <a:avLst>
                <a:gd name="adj" fmla="val 2145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62520" y="5334120"/>
              <a:ext cx="2027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075200" y="5900760"/>
            <a:ext cx="6416640" cy="1247760"/>
            <a:chOff x="4075200" y="5900760"/>
            <a:chExt cx="6416640" cy="1247760"/>
          </a:xfrm>
        </p:grpSpPr>
        <p:sp>
          <p:nvSpPr>
            <p:cNvPr id="518" name=""/>
            <p:cNvSpPr/>
            <p:nvPr/>
          </p:nvSpPr>
          <p:spPr>
            <a:xfrm>
              <a:off x="4075200" y="5900760"/>
              <a:ext cx="641664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ロラン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に 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かしてあげ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19" name="" descr=""/>
          <p:cNvPicPr/>
          <p:nvPr/>
        </p:nvPicPr>
        <p:blipFill>
          <a:blip r:embed="rId10"/>
          <a:stretch/>
        </p:blipFill>
        <p:spPr>
          <a:xfrm>
            <a:off x="2612880" y="5357880"/>
            <a:ext cx="136548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711440" y="190440"/>
            <a:ext cx="2422440" cy="15480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52280" y="239760"/>
            <a:ext cx="1347840" cy="495360"/>
          </a:xfrm>
          <a:prstGeom prst="roundRect">
            <a:avLst>
              <a:gd name="adj" fmla="val 36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、どうぞ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2" name=""/>
          <p:cNvSpPr/>
          <p:nvPr/>
        </p:nvSpPr>
        <p:spPr>
          <a:xfrm>
            <a:off x="2805120" y="773280"/>
            <a:ext cx="1289160" cy="682560"/>
          </a:xfrm>
          <a:prstGeom prst="roundRect">
            <a:avLst>
              <a:gd name="adj" fmla="val 262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ざいます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9560" y="1058760"/>
            <a:ext cx="1146240" cy="2660760"/>
            <a:chOff x="439560" y="1058760"/>
            <a:chExt cx="1146240" cy="266076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439560" y="1058760"/>
              <a:ext cx="110196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3"/>
            <a:stretch/>
          </p:blipFill>
          <p:spPr>
            <a:xfrm>
              <a:off x="1181160" y="1655640"/>
              <a:ext cx="404640" cy="121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998720" y="1135080"/>
            <a:ext cx="1116000" cy="2744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2349360" y="703440"/>
            <a:ext cx="497160" cy="568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835440" y="3219480"/>
            <a:ext cx="1219320" cy="41068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5419800" y="2349360"/>
            <a:ext cx="3362400" cy="2148120"/>
          </a:xfrm>
          <a:prstGeom prst="rect">
            <a:avLst/>
          </a:prstGeom>
          <a:ln w="0">
            <a:noFill/>
          </a:ln>
        </p:spPr>
      </p:pic>
      <p:grpSp>
        <p:nvGrpSpPr>
          <p:cNvPr id="530" name=""/>
          <p:cNvGrpSpPr/>
          <p:nvPr/>
        </p:nvGrpSpPr>
        <p:grpSpPr>
          <a:xfrm>
            <a:off x="6165720" y="2763720"/>
            <a:ext cx="2452680" cy="3299040"/>
            <a:chOff x="6165720" y="2763720"/>
            <a:chExt cx="2452680" cy="3299040"/>
          </a:xfrm>
        </p:grpSpPr>
        <p:pic>
          <p:nvPicPr>
            <p:cNvPr id="531" name="" descr=""/>
            <p:cNvPicPr/>
            <p:nvPr/>
          </p:nvPicPr>
          <p:blipFill>
            <a:blip r:embed="rId8"/>
            <a:stretch/>
          </p:blipFill>
          <p:spPr>
            <a:xfrm>
              <a:off x="6165720" y="3197160"/>
              <a:ext cx="149076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9"/>
            <a:stretch/>
          </p:blipFill>
          <p:spPr>
            <a:xfrm>
              <a:off x="6432480" y="2763720"/>
              <a:ext cx="2185920" cy="14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6148440" y="4429080"/>
            <a:ext cx="2630520" cy="73080"/>
          </a:xfrm>
          <a:prstGeom prst="roundRect">
            <a:avLst>
              <a:gd name="adj" fmla="val 2171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4" name=""/>
          <p:cNvSpPr/>
          <p:nvPr/>
        </p:nvSpPr>
        <p:spPr>
          <a:xfrm>
            <a:off x="6184800" y="4429080"/>
            <a:ext cx="2716200" cy="3003480"/>
          </a:xfrm>
          <a:custGeom>
            <a:avLst/>
            <a:gdLst>
              <a:gd name="textAreaLeft" fmla="*/ 360 w 2716200"/>
              <a:gd name="textAreaRight" fmla="*/ 2715840 w 2716200"/>
              <a:gd name="textAreaTop" fmla="*/ 360 h 3003480"/>
              <a:gd name="textAreaBottom" fmla="*/ 3003120 h 3003480"/>
            </a:gdLst>
            <a:ahLst/>
            <a:rect l="textAreaLeft" t="textAreaTop" r="textAreaRight" b="textAreaBottom"/>
            <a:pathLst>
              <a:path w="21600" h="23884">
                <a:moveTo>
                  <a:pt x="12" y="0"/>
                </a:moveTo>
                <a:arcTo wR="12" hR="12" stAng="16200000" swAng="-5400000"/>
                <a:lnTo>
                  <a:pt x="0" y="23872"/>
                </a:lnTo>
                <a:arcTo wR="12" hR="12" stAng="10800000" swAng="-5400000"/>
                <a:lnTo>
                  <a:pt x="21588" y="23884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882960" y="5083200"/>
            <a:ext cx="6280200" cy="2127240"/>
            <a:chOff x="3882960" y="5083200"/>
            <a:chExt cx="6280200" cy="2127240"/>
          </a:xfrm>
        </p:grpSpPr>
        <p:sp>
          <p:nvSpPr>
            <p:cNvPr id="536" name=""/>
            <p:cNvSpPr/>
            <p:nvPr/>
          </p:nvSpPr>
          <p:spPr>
            <a:xfrm>
              <a:off x="3882960" y="5083200"/>
              <a:ext cx="6280200" cy="2127240"/>
            </a:xfrm>
            <a:prstGeom prst="roundRect">
              <a:avLst>
                <a:gd name="adj" fmla="val 2145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62520" y="5334120"/>
              <a:ext cx="2027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075200" y="5900760"/>
            <a:ext cx="6416640" cy="1247760"/>
            <a:chOff x="4075200" y="5900760"/>
            <a:chExt cx="6416640" cy="1247760"/>
          </a:xfrm>
        </p:grpSpPr>
        <p:sp>
          <p:nvSpPr>
            <p:cNvPr id="539" name=""/>
            <p:cNvSpPr/>
            <p:nvPr/>
          </p:nvSpPr>
          <p:spPr>
            <a:xfrm>
              <a:off x="4075200" y="5900760"/>
              <a:ext cx="641664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に 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かしてもらい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40" name="" descr=""/>
          <p:cNvPicPr/>
          <p:nvPr/>
        </p:nvPicPr>
        <p:blipFill>
          <a:blip r:embed="rId10"/>
          <a:stretch/>
        </p:blipFill>
        <p:spPr>
          <a:xfrm>
            <a:off x="2639880" y="5705640"/>
            <a:ext cx="1143000" cy="13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711440" y="190440"/>
            <a:ext cx="2422440" cy="1548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52280" y="239760"/>
            <a:ext cx="1347840" cy="495360"/>
          </a:xfrm>
          <a:prstGeom prst="roundRect">
            <a:avLst>
              <a:gd name="adj" fmla="val 36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、どうぞ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3" name=""/>
          <p:cNvSpPr/>
          <p:nvPr/>
        </p:nvSpPr>
        <p:spPr>
          <a:xfrm>
            <a:off x="2805120" y="773280"/>
            <a:ext cx="1289160" cy="682560"/>
          </a:xfrm>
          <a:prstGeom prst="roundRect">
            <a:avLst>
              <a:gd name="adj" fmla="val 262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ざいます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39560" y="1058760"/>
            <a:ext cx="1146240" cy="2660760"/>
            <a:chOff x="439560" y="1058760"/>
            <a:chExt cx="1146240" cy="2660760"/>
          </a:xfrm>
        </p:grpSpPr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439560" y="1058760"/>
              <a:ext cx="110196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3"/>
            <a:stretch/>
          </p:blipFill>
          <p:spPr>
            <a:xfrm>
              <a:off x="1181160" y="1655640"/>
              <a:ext cx="404640" cy="121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1998720" y="1135080"/>
            <a:ext cx="1116000" cy="27446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2349360" y="703440"/>
            <a:ext cx="497160" cy="56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3835440" y="3219480"/>
            <a:ext cx="1219320" cy="4106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5419800" y="2349360"/>
            <a:ext cx="3362400" cy="214812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6165720" y="2763720"/>
            <a:ext cx="2452680" cy="3299040"/>
            <a:chOff x="6165720" y="2763720"/>
            <a:chExt cx="2452680" cy="3299040"/>
          </a:xfrm>
        </p:grpSpPr>
        <p:pic>
          <p:nvPicPr>
            <p:cNvPr id="552" name="" descr=""/>
            <p:cNvPicPr/>
            <p:nvPr/>
          </p:nvPicPr>
          <p:blipFill>
            <a:blip r:embed="rId8"/>
            <a:stretch/>
          </p:blipFill>
          <p:spPr>
            <a:xfrm>
              <a:off x="6165720" y="3197160"/>
              <a:ext cx="149076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9"/>
            <a:stretch/>
          </p:blipFill>
          <p:spPr>
            <a:xfrm>
              <a:off x="6432480" y="2763720"/>
              <a:ext cx="2185920" cy="14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6148440" y="4429080"/>
            <a:ext cx="2630520" cy="73080"/>
          </a:xfrm>
          <a:prstGeom prst="roundRect">
            <a:avLst>
              <a:gd name="adj" fmla="val 2171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5" name=""/>
          <p:cNvSpPr/>
          <p:nvPr/>
        </p:nvSpPr>
        <p:spPr>
          <a:xfrm>
            <a:off x="6184800" y="4429080"/>
            <a:ext cx="2716200" cy="3003480"/>
          </a:xfrm>
          <a:custGeom>
            <a:avLst/>
            <a:gdLst>
              <a:gd name="textAreaLeft" fmla="*/ 360 w 2716200"/>
              <a:gd name="textAreaRight" fmla="*/ 2715840 w 2716200"/>
              <a:gd name="textAreaTop" fmla="*/ 360 h 3003480"/>
              <a:gd name="textAreaBottom" fmla="*/ 3003120 h 3003480"/>
            </a:gdLst>
            <a:ahLst/>
            <a:rect l="textAreaLeft" t="textAreaTop" r="textAreaRight" b="textAreaBottom"/>
            <a:pathLst>
              <a:path w="21600" h="23884">
                <a:moveTo>
                  <a:pt x="12" y="0"/>
                </a:moveTo>
                <a:arcTo wR="12" hR="12" stAng="16200000" swAng="-5400000"/>
                <a:lnTo>
                  <a:pt x="0" y="23872"/>
                </a:lnTo>
                <a:arcTo wR="12" hR="12" stAng="10800000" swAng="-5400000"/>
                <a:lnTo>
                  <a:pt x="21588" y="23884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882960" y="5083200"/>
            <a:ext cx="6280200" cy="2127240"/>
            <a:chOff x="3882960" y="5083200"/>
            <a:chExt cx="6280200" cy="2127240"/>
          </a:xfrm>
        </p:grpSpPr>
        <p:sp>
          <p:nvSpPr>
            <p:cNvPr id="557" name=""/>
            <p:cNvSpPr/>
            <p:nvPr/>
          </p:nvSpPr>
          <p:spPr>
            <a:xfrm>
              <a:off x="3882960" y="5083200"/>
              <a:ext cx="6280200" cy="2127240"/>
            </a:xfrm>
            <a:prstGeom prst="roundRect">
              <a:avLst>
                <a:gd name="adj" fmla="val 2145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62520" y="5334120"/>
              <a:ext cx="35514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075200" y="5900760"/>
            <a:ext cx="6416640" cy="1247760"/>
            <a:chOff x="4075200" y="5900760"/>
            <a:chExt cx="6416640" cy="1247760"/>
          </a:xfrm>
        </p:grpSpPr>
        <p:sp>
          <p:nvSpPr>
            <p:cNvPr id="560" name=""/>
            <p:cNvSpPr/>
            <p:nvPr/>
          </p:nvSpPr>
          <p:spPr>
            <a:xfrm>
              <a:off x="4075200" y="5900760"/>
              <a:ext cx="641664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（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に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）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かしてくれ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61" name="" descr=""/>
          <p:cNvPicPr/>
          <p:nvPr/>
        </p:nvPicPr>
        <p:blipFill>
          <a:blip r:embed="rId10"/>
          <a:stretch/>
        </p:blipFill>
        <p:spPr>
          <a:xfrm>
            <a:off x="2639880" y="5584680"/>
            <a:ext cx="1143000" cy="13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310440" y="1677960"/>
            <a:ext cx="2619360" cy="66675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912960" y="1944720"/>
            <a:ext cx="2641320" cy="7559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73200" y="5029200"/>
            <a:ext cx="267480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5" name=""/>
          <p:cNvSpPr/>
          <p:nvPr/>
        </p:nvSpPr>
        <p:spPr>
          <a:xfrm>
            <a:off x="6429240" y="462276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6" name=""/>
          <p:cNvSpPr/>
          <p:nvPr/>
        </p:nvSpPr>
        <p:spPr>
          <a:xfrm>
            <a:off x="515880" y="266760"/>
            <a:ext cx="9217080" cy="15127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コーヒ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れて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515880" y="266760"/>
            <a:ext cx="9217080" cy="15127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コーヒ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れて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847800" y="1677960"/>
            <a:ext cx="2619360" cy="66675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6222960" y="1946160"/>
            <a:ext cx="2641680" cy="75596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429240" y="502920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1" name=""/>
          <p:cNvSpPr/>
          <p:nvPr/>
        </p:nvSpPr>
        <p:spPr>
          <a:xfrm>
            <a:off x="673200" y="4622760"/>
            <a:ext cx="267480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3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4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5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213520" y="2963880"/>
            <a:ext cx="2590560" cy="37274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 flipH="1">
            <a:off x="4734000" y="3968640"/>
            <a:ext cx="1263600" cy="409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8" name=""/>
          <p:cNvSpPr/>
          <p:nvPr/>
        </p:nvSpPr>
        <p:spPr>
          <a:xfrm>
            <a:off x="2936880" y="1521000"/>
            <a:ext cx="6095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ほ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んで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9" name=""/>
          <p:cNvSpPr/>
          <p:nvPr/>
        </p:nvSpPr>
        <p:spPr>
          <a:xfrm>
            <a:off x="3413160" y="660096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0" name=""/>
          <p:cNvSpPr/>
          <p:nvPr/>
        </p:nvSpPr>
        <p:spPr>
          <a:xfrm>
            <a:off x="5992920" y="6588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-196920" y="3597120"/>
            <a:ext cx="2678040" cy="46850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3016080" y="3613320"/>
            <a:ext cx="2024280" cy="29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4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5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6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938320" y="2963880"/>
            <a:ext cx="2590920" cy="37274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749840" y="3968640"/>
            <a:ext cx="1257120" cy="409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9" name=""/>
          <p:cNvSpPr/>
          <p:nvPr/>
        </p:nvSpPr>
        <p:spPr>
          <a:xfrm>
            <a:off x="2936880" y="1521000"/>
            <a:ext cx="5486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ほ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んで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0" name=""/>
          <p:cNvSpPr/>
          <p:nvPr/>
        </p:nvSpPr>
        <p:spPr>
          <a:xfrm>
            <a:off x="3413160" y="6602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1" name=""/>
          <p:cNvSpPr/>
          <p:nvPr/>
        </p:nvSpPr>
        <p:spPr>
          <a:xfrm>
            <a:off x="6416640" y="6508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-196920" y="3597120"/>
            <a:ext cx="2678040" cy="46850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5891040" y="3510000"/>
            <a:ext cx="2024280" cy="29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5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6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7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8" name=""/>
          <p:cNvSpPr/>
          <p:nvPr/>
        </p:nvSpPr>
        <p:spPr>
          <a:xfrm>
            <a:off x="3122640" y="108432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ち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どうぶつえ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れていっ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-196920" y="3597120"/>
            <a:ext cx="2678040" cy="46850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6149880" y="3151080"/>
            <a:ext cx="3006720" cy="42642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 flipH="1" flipV="1">
            <a:off x="5124240" y="4655880"/>
            <a:ext cx="1044360" cy="1096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3948120"/>
            <a:ext cx="8794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zoo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4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5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6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7" name=""/>
          <p:cNvSpPr/>
          <p:nvPr/>
        </p:nvSpPr>
        <p:spPr>
          <a:xfrm>
            <a:off x="3122640" y="1084320"/>
            <a:ext cx="5792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ち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（わたしを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ぶつえ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れていっ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-196920" y="3597120"/>
            <a:ext cx="2678040" cy="46850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149880" y="3151080"/>
            <a:ext cx="3006720" cy="42642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 flipH="1" flipV="1">
            <a:off x="5124240" y="4655880"/>
            <a:ext cx="1044360" cy="1096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3948120"/>
            <a:ext cx="8794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zoo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712800" y="1676520"/>
            <a:ext cx="8459640" cy="8315280"/>
            <a:chOff x="712800" y="1676520"/>
            <a:chExt cx="8459640" cy="83152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712800" y="1676520"/>
              <a:ext cx="3011400" cy="755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34000" y="2435400"/>
              <a:ext cx="2638440" cy="75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flipV="1">
              <a:off x="3913200" y="3909960"/>
              <a:ext cx="2332080" cy="3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091200" y="5952960"/>
            <a:ext cx="3916440" cy="1362240"/>
          </a:xfrm>
          <a:prstGeom prst="roundRect">
            <a:avLst>
              <a:gd name="adj" fmla="val 213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146160" y="6099120"/>
            <a:ext cx="3605040" cy="1243080"/>
          </a:xfrm>
          <a:prstGeom prst="roundRect">
            <a:avLst>
              <a:gd name="adj" fmla="val 1444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んじょうび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めでと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5829480" y="2457360"/>
            <a:ext cx="181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633760"/>
            <a:ext cx="1774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317520"/>
            <a:ext cx="9149040" cy="1690560"/>
          </a:xfrm>
          <a:prstGeom prst="roundRect">
            <a:avLst>
              <a:gd name="adj" fmla="val 9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2036880" y="369720"/>
            <a:ext cx="6049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06720" y="976320"/>
            <a:ext cx="608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プレゼン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3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4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5" name=""/>
          <p:cNvSpPr/>
          <p:nvPr/>
        </p:nvSpPr>
        <p:spPr>
          <a:xfrm>
            <a:off x="2805120" y="515880"/>
            <a:ext cx="6392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びょうき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6" name=""/>
          <p:cNvSpPr/>
          <p:nvPr/>
        </p:nvSpPr>
        <p:spPr>
          <a:xfrm>
            <a:off x="2809800" y="1482840"/>
            <a:ext cx="66009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みまい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-196920" y="3597120"/>
            <a:ext cx="2678040" cy="46850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6140520" y="3048120"/>
            <a:ext cx="2849400" cy="37335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2603520" y="3186000"/>
            <a:ext cx="4452840" cy="556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1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2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3" name=""/>
          <p:cNvSpPr/>
          <p:nvPr/>
        </p:nvSpPr>
        <p:spPr>
          <a:xfrm>
            <a:off x="2805120" y="515880"/>
            <a:ext cx="63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びょうき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4" name=""/>
          <p:cNvSpPr/>
          <p:nvPr/>
        </p:nvSpPr>
        <p:spPr>
          <a:xfrm>
            <a:off x="3122640" y="1084320"/>
            <a:ext cx="455616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は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-196920" y="3597120"/>
            <a:ext cx="2678040" cy="46850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6599160" y="1974960"/>
            <a:ext cx="2946600" cy="44845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2809800" y="2295360"/>
            <a:ext cx="4861080" cy="607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9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0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1" name=""/>
          <p:cNvSpPr/>
          <p:nvPr/>
        </p:nvSpPr>
        <p:spPr>
          <a:xfrm>
            <a:off x="2805120" y="515880"/>
            <a:ext cx="63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びょうき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2" name=""/>
          <p:cNvSpPr/>
          <p:nvPr/>
        </p:nvSpPr>
        <p:spPr>
          <a:xfrm>
            <a:off x="3122640" y="1084320"/>
            <a:ext cx="455616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は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-196920" y="3597120"/>
            <a:ext cx="2678040" cy="46850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6599160" y="1974960"/>
            <a:ext cx="2946600" cy="44845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2809800" y="2295360"/>
            <a:ext cx="4861080" cy="607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7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8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9" name=""/>
          <p:cNvSpPr/>
          <p:nvPr/>
        </p:nvSpPr>
        <p:spPr>
          <a:xfrm>
            <a:off x="2546280" y="450720"/>
            <a:ext cx="685332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しんせつなひ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っこんし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して ……てもらいたいで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= …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ほしいです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257720" y="3281400"/>
            <a:ext cx="3378240" cy="39132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005360" y="2835360"/>
            <a:ext cx="1466640" cy="43387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28520" y="3513240"/>
            <a:ext cx="2228760" cy="63720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4178160" y="2808360"/>
            <a:ext cx="1008360" cy="1062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5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5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6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7" name=""/>
          <p:cNvSpPr/>
          <p:nvPr/>
        </p:nvSpPr>
        <p:spPr>
          <a:xfrm>
            <a:off x="2805120" y="515880"/>
            <a:ext cx="639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…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る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っこんし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4332240" y="2373480"/>
            <a:ext cx="4384800" cy="4821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4005360" y="1824120"/>
            <a:ext cx="1903320" cy="53449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128520" y="3513240"/>
            <a:ext cx="2228760" cy="63720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4229280" y="1792440"/>
            <a:ext cx="1307880" cy="13078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5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65280" y="4119480"/>
            <a:ext cx="4111200" cy="3683160"/>
            <a:chOff x="665280" y="4119480"/>
            <a:chExt cx="4111200" cy="36831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665280" y="4175280"/>
              <a:ext cx="1445040" cy="36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511080" y="4119480"/>
              <a:ext cx="1265400" cy="362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4727520" y="4037040"/>
            <a:ext cx="4057560" cy="3697200"/>
            <a:chOff x="4727520" y="4037040"/>
            <a:chExt cx="4057560" cy="369720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7318440" y="4037040"/>
              <a:ext cx="1466640" cy="36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4727520" y="4052880"/>
              <a:ext cx="128448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H="1" flipV="1">
              <a:off x="6119280" y="5173560"/>
              <a:ext cx="1141560" cy="158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292640" y="0"/>
            <a:ext cx="3987720" cy="3254400"/>
            <a:chOff x="4292640" y="0"/>
            <a:chExt cx="3987720" cy="325440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7153200" y="0"/>
              <a:ext cx="1127160" cy="32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4292640" y="243000"/>
              <a:ext cx="134784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flipV="1">
              <a:off x="5842080" y="925560"/>
              <a:ext cx="1076400" cy="1440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2216160" y="5340240"/>
            <a:ext cx="1011240" cy="302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33760"/>
            <a:ext cx="1038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3576600" y="3235320"/>
            <a:ext cx="2354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たし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8399520" y="2666880"/>
            <a:ext cx="1112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139760" y="58658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5452920" y="57992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5067360" y="1773360"/>
            <a:ext cx="2116080" cy="674640"/>
          </a:xfrm>
          <a:prstGeom prst="roundRect">
            <a:avLst>
              <a:gd name="adj" fmla="val 23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げ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8832960" y="4416480"/>
            <a:ext cx="1020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1211400" y="363204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1" name=""/>
          <p:cNvSpPr/>
          <p:nvPr/>
        </p:nvSpPr>
        <p:spPr>
          <a:xfrm>
            <a:off x="5665680" y="390672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3147840" y="3809880"/>
            <a:ext cx="69408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7232760" y="389088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5149800" y="14616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6715080" y="13032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99320" y="175752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19480" y="595440"/>
            <a:ext cx="1992240" cy="590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8880" y="1054080"/>
            <a:ext cx="2990880" cy="65055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2989440" y="2235240"/>
            <a:ext cx="3859200" cy="1743120"/>
            <a:chOff x="2989440" y="2235240"/>
            <a:chExt cx="3859200" cy="1743120"/>
          </a:xfrm>
        </p:grpSpPr>
        <p:sp>
          <p:nvSpPr>
            <p:cNvPr id="110" name=""/>
            <p:cNvSpPr/>
            <p:nvPr/>
          </p:nvSpPr>
          <p:spPr>
            <a:xfrm>
              <a:off x="2989440" y="2235240"/>
              <a:ext cx="3859200" cy="174312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855960" y="2514600"/>
              <a:ext cx="1220760" cy="117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16000" y="625320"/>
            <a:ext cx="2463840" cy="617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80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4768920" y="6600960"/>
            <a:ext cx="851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CD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5" name=""/>
          <p:cNvSpPr/>
          <p:nvPr/>
        </p:nvSpPr>
        <p:spPr>
          <a:xfrm>
            <a:off x="1984320" y="700200"/>
            <a:ext cx="609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4933800" y="250920"/>
            <a:ext cx="5040360" cy="1441440"/>
          </a:xfrm>
          <a:prstGeom prst="roundRect">
            <a:avLst>
              <a:gd name="adj" fmla="val 124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はたんじょうび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ろいろなもの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1046160" y="6600960"/>
            <a:ext cx="851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99320" y="175752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179880" y="581040"/>
            <a:ext cx="1992240" cy="5900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8880" y="1054080"/>
            <a:ext cx="2990880" cy="65055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259160" y="2157480"/>
            <a:ext cx="2656080" cy="2216160"/>
            <a:chOff x="4259160" y="2157480"/>
            <a:chExt cx="2656080" cy="2216160"/>
          </a:xfrm>
        </p:grpSpPr>
        <p:sp>
          <p:nvSpPr>
            <p:cNvPr id="122" name=""/>
            <p:cNvSpPr/>
            <p:nvPr/>
          </p:nvSpPr>
          <p:spPr>
            <a:xfrm>
              <a:off x="4259160" y="2897280"/>
              <a:ext cx="2656080" cy="109512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4595760" y="2157480"/>
              <a:ext cx="1521000" cy="221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76680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3089160" y="6583320"/>
            <a:ext cx="791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ば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4948200" y="860400"/>
            <a:ext cx="122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16000" y="625320"/>
            <a:ext cx="2463840" cy="617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46160" y="6600960"/>
            <a:ext cx="791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は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99320" y="175752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6000" y="625320"/>
            <a:ext cx="2463840" cy="6177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179880" y="581040"/>
            <a:ext cx="1992240" cy="5900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88880" y="1054080"/>
            <a:ext cx="2990880" cy="6505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048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455920" y="4084560"/>
            <a:ext cx="4530600" cy="1025640"/>
            <a:chOff x="2455920" y="4084560"/>
            <a:chExt cx="4530600" cy="1025640"/>
          </a:xfrm>
        </p:grpSpPr>
        <p:sp>
          <p:nvSpPr>
            <p:cNvPr id="135" name=""/>
            <p:cNvSpPr/>
            <p:nvPr/>
          </p:nvSpPr>
          <p:spPr>
            <a:xfrm>
              <a:off x="2455920" y="4329000"/>
              <a:ext cx="4530600" cy="608040"/>
            </a:xfrm>
            <a:prstGeom prst="line">
              <a:avLst/>
            </a:prstGeom>
            <a:ln w="144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3432240" y="4084560"/>
              <a:ext cx="2149560" cy="102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222640" y="3743280"/>
            <a:ext cx="122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3106800" y="6653160"/>
            <a:ext cx="6694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本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1046160" y="6600960"/>
            <a:ext cx="6694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99320" y="1757520"/>
            <a:ext cx="2641680" cy="755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179880" y="581040"/>
            <a:ext cx="1992240" cy="5900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11040" y="198360"/>
            <a:ext cx="2498760" cy="6132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8880" y="1054080"/>
            <a:ext cx="2990880" cy="6505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90480" y="6377040"/>
            <a:ext cx="9009000" cy="1004760"/>
          </a:xfrm>
          <a:prstGeom prst="roundRect">
            <a:avLst>
              <a:gd name="adj" fmla="val 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1681200" y="6600960"/>
            <a:ext cx="8535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なつみ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51000" y="1800360"/>
            <a:ext cx="1361880" cy="1266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4278240" y="1060560"/>
            <a:ext cx="1524240" cy="2219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2160" y="244800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5689440" y="246060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4127400" y="5259240"/>
            <a:ext cx="1016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165240" y="6100920"/>
            <a:ext cx="1361880" cy="1266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17720" y="3029040"/>
            <a:ext cx="5052960" cy="20905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5614920" y="166680"/>
            <a:ext cx="4313160" cy="1254240"/>
          </a:xfrm>
          <a:prstGeom prst="roundRect">
            <a:avLst>
              <a:gd name="adj" fmla="val 1430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はたんじょうびに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ろいろなものを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した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3433680" y="4084560"/>
            <a:ext cx="215280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8:17:27Z</dcterms:created>
  <dc:creator/>
  <dc:description/>
  <dc:language>en-US</dc:language>
  <cp:lastModifiedBy/>
  <dcterms:modified xsi:type="dcterms:W3CDTF">2016-05-24T19:26:32Z</dcterms:modified>
  <cp:revision>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