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6.png"/><Relationship Id="rId9" Type="http://schemas.openxmlformats.org/officeDocument/2006/relationships/image" Target="../media/image12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8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8.png"/><Relationship Id="rId10" Type="http://schemas.openxmlformats.org/officeDocument/2006/relationships/image" Target="../media/image20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8.png"/><Relationship Id="rId10" Type="http://schemas.openxmlformats.org/officeDocument/2006/relationships/image" Target="../media/image2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8.png"/><Relationship Id="rId10" Type="http://schemas.openxmlformats.org/officeDocument/2006/relationships/image" Target="../media/image2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17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8.png"/><Relationship Id="rId9" Type="http://schemas.openxmlformats.org/officeDocument/2006/relationships/image" Target="../media/image20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8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2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30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4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686480"/>
            <a:ext cx="284472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ておき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他＋てあり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06360" y="3246480"/>
            <a:ext cx="2129040" cy="3551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>
            <a:off x="476280" y="396360"/>
            <a:ext cx="6962760" cy="320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7491240" y="193680"/>
            <a:ext cx="2149560" cy="514440"/>
          </a:xfrm>
          <a:prstGeom prst="roundRect">
            <a:avLst>
              <a:gd name="adj" fmla="val 3487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パーティ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450720"/>
            <a:ext cx="40291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958080" y="4321080"/>
            <a:ext cx="1725480" cy="1890720"/>
          </a:xfrm>
          <a:custGeom>
            <a:avLst/>
            <a:gdLst>
              <a:gd name="textAreaLeft" fmla="*/ 360 w 1725480"/>
              <a:gd name="textAreaRight" fmla="*/ 1725120 w 1725480"/>
              <a:gd name="textAreaTop" fmla="*/ 360 h 1890720"/>
              <a:gd name="textAreaBottom" fmla="*/ 1890360 h 1890720"/>
            </a:gdLst>
            <a:ahLst/>
            <a:rect l="textAreaLeft" t="textAreaTop" r="textAreaRight" b="textAreaBottom"/>
            <a:pathLst>
              <a:path w="21600" h="23668">
                <a:moveTo>
                  <a:pt x="19" y="0"/>
                </a:moveTo>
                <a:arcTo wR="19" hR="19" stAng="16200000" swAng="-5400000"/>
                <a:lnTo>
                  <a:pt x="0" y="23649"/>
                </a:lnTo>
                <a:arcTo wR="19" hR="19" stAng="10800000" swAng="-5400000"/>
                <a:lnTo>
                  <a:pt x="21581" y="23668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8800" y="3657600"/>
            <a:ext cx="3453480" cy="3971880"/>
            <a:chOff x="5338800" y="3657600"/>
            <a:chExt cx="3453480" cy="3971880"/>
          </a:xfrm>
        </p:grpSpPr>
        <p:pic>
          <p:nvPicPr>
            <p:cNvPr id="135" name="" descr=""/>
            <p:cNvPicPr/>
            <p:nvPr/>
          </p:nvPicPr>
          <p:blipFill>
            <a:blip r:embed="rId9"/>
            <a:stretch/>
          </p:blipFill>
          <p:spPr>
            <a:xfrm>
              <a:off x="5338800" y="3657600"/>
              <a:ext cx="2274120" cy="397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"/>
            <p:cNvGrpSpPr/>
            <p:nvPr/>
          </p:nvGrpSpPr>
          <p:grpSpPr>
            <a:xfrm>
              <a:off x="7336440" y="4324320"/>
              <a:ext cx="1455840" cy="2006640"/>
              <a:chOff x="7336440" y="4324320"/>
              <a:chExt cx="1455840" cy="20066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032680" y="4338720"/>
                <a:ext cx="759600" cy="11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366320" y="4324320"/>
                <a:ext cx="759600" cy="11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336440" y="5226120"/>
                <a:ext cx="759960" cy="11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927920" y="5197320"/>
                <a:ext cx="759600" cy="1105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1" name=""/>
          <p:cNvSpPr/>
          <p:nvPr/>
        </p:nvSpPr>
        <p:spPr>
          <a:xfrm>
            <a:off x="8834400" y="6281640"/>
            <a:ext cx="676440" cy="3733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9497880" y="3645000"/>
            <a:ext cx="1800" cy="30225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ビールを れいぞうこに いれ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06360" y="3246480"/>
            <a:ext cx="2129040" cy="3551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>
            <a:off x="476280" y="396360"/>
            <a:ext cx="6962760" cy="320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7491240" y="193680"/>
            <a:ext cx="2149560" cy="514440"/>
          </a:xfrm>
          <a:prstGeom prst="roundRect">
            <a:avLst>
              <a:gd name="adj" fmla="val 3487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パーティ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450720"/>
            <a:ext cx="40291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7481880" y="2443320"/>
            <a:ext cx="1917720" cy="4419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ラジオを つけ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35040" y="1062000"/>
            <a:ext cx="786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1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） にほんごの しけんの まえ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して おきますか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2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） にほんへ りょこうに いく まえ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して おき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3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） にちようび、こいびとが はじめ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ちに き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して おき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131760" y="2932200"/>
            <a:ext cx="2243160" cy="5014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2440" y="6093000"/>
            <a:ext cx="6005520" cy="109836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おわり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4844880" y="3630600"/>
            <a:ext cx="4818240" cy="2664000"/>
          </a:xfrm>
          <a:prstGeom prst="wedgeEllipseCallout">
            <a:avLst>
              <a:gd name="adj1" fmla="val 53143"/>
              <a:gd name="adj2" fmla="val 86222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ゅんびは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わりましたか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476280" y="363600"/>
            <a:ext cx="8877240" cy="990360"/>
            <a:chOff x="476280" y="363600"/>
            <a:chExt cx="8877240" cy="990360"/>
          </a:xfrm>
        </p:grpSpPr>
        <p:sp>
          <p:nvSpPr>
            <p:cNvPr id="179" name=""/>
            <p:cNvSpPr/>
            <p:nvPr/>
          </p:nvSpPr>
          <p:spPr>
            <a:xfrm>
              <a:off x="1527120" y="476280"/>
              <a:ext cx="5572080" cy="877680"/>
            </a:xfrm>
            <a:prstGeom prst="roundRect">
              <a:avLst>
                <a:gd name="adj" fmla="val 17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fr-FR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/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r>
                <a:rPr b="0" lang="fr-FR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他</a:t>
              </a:r>
              <a:r>
                <a:rPr b="0" lang="fr-FR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+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てあります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76280" y="363600"/>
              <a:ext cx="8877240" cy="596160"/>
              <a:chOff x="476280" y="363600"/>
              <a:chExt cx="8877240" cy="596160"/>
            </a:xfrm>
          </p:grpSpPr>
          <p:sp>
            <p:nvSpPr>
              <p:cNvPr id="181" name=""/>
              <p:cNvSpPr/>
              <p:nvPr/>
            </p:nvSpPr>
            <p:spPr>
              <a:xfrm flipV="1">
                <a:off x="476280" y="363600"/>
                <a:ext cx="8877240" cy="63360"/>
              </a:xfrm>
              <a:prstGeom prst="line">
                <a:avLst/>
              </a:prstGeom>
              <a:ln w="1800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28640" y="528840"/>
                <a:ext cx="0" cy="430920"/>
              </a:xfrm>
              <a:prstGeom prst="line">
                <a:avLst/>
              </a:prstGeom>
              <a:ln w="14400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1260360" y="1471680"/>
            <a:ext cx="1471680" cy="841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131760" y="2932200"/>
            <a:ext cx="2243160" cy="5014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22400" y="6093000"/>
            <a:ext cx="7773840" cy="1134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（もう）かけ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あります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6" name=""/>
          <p:cNvSpPr/>
          <p:nvPr/>
        </p:nvSpPr>
        <p:spPr>
          <a:xfrm>
            <a:off x="5977080" y="3630600"/>
            <a:ext cx="3686040" cy="2664000"/>
          </a:xfrm>
          <a:prstGeom prst="wedgeEllipseCallout">
            <a:avLst>
              <a:gd name="adj1" fmla="val 54101"/>
              <a:gd name="adj2" fmla="val 8623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え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27120" y="476280"/>
            <a:ext cx="5575320" cy="88272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/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他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あ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76280" y="363240"/>
            <a:ext cx="8877240" cy="597960"/>
            <a:chOff x="476280" y="363240"/>
            <a:chExt cx="8877240" cy="597960"/>
          </a:xfrm>
        </p:grpSpPr>
        <p:sp>
          <p:nvSpPr>
            <p:cNvPr id="198" name=""/>
            <p:cNvSpPr/>
            <p:nvPr/>
          </p:nvSpPr>
          <p:spPr>
            <a:xfrm flipV="1">
              <a:off x="476280" y="363240"/>
              <a:ext cx="8877240" cy="63000"/>
            </a:xfrm>
            <a:prstGeom prst="line">
              <a:avLst/>
            </a:prstGeom>
            <a:ln w="18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8640" y="528840"/>
              <a:ext cx="0" cy="43236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853920" y="2003400"/>
            <a:ext cx="825480" cy="1036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131760" y="2932200"/>
            <a:ext cx="2243160" cy="5014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87320" y="6093000"/>
            <a:ext cx="8778960" cy="12808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クリスマスツリー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かざっ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あり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977080" y="3630600"/>
            <a:ext cx="3686040" cy="2664000"/>
          </a:xfrm>
          <a:prstGeom prst="wedgeEllipseCallout">
            <a:avLst>
              <a:gd name="adj1" fmla="val 54101"/>
              <a:gd name="adj2" fmla="val 8623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クリスマスツリー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27120" y="476280"/>
            <a:ext cx="5575320" cy="88272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/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他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あ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76280" y="363240"/>
            <a:ext cx="8877240" cy="597960"/>
            <a:chOff x="476280" y="363240"/>
            <a:chExt cx="8877240" cy="597960"/>
          </a:xfrm>
        </p:grpSpPr>
        <p:sp>
          <p:nvSpPr>
            <p:cNvPr id="216" name=""/>
            <p:cNvSpPr/>
            <p:nvPr/>
          </p:nvSpPr>
          <p:spPr>
            <a:xfrm flipV="1">
              <a:off x="476280" y="363240"/>
              <a:ext cx="8877240" cy="63000"/>
            </a:xfrm>
            <a:prstGeom prst="line">
              <a:avLst/>
            </a:prstGeom>
            <a:ln w="18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28640" y="528840"/>
              <a:ext cx="0" cy="43236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124080" y="3684600"/>
            <a:ext cx="825480" cy="1036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131760" y="2932200"/>
            <a:ext cx="2243160" cy="501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90480" y="6093000"/>
            <a:ext cx="8105760" cy="1134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つくっ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あり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1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2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977080" y="3630600"/>
            <a:ext cx="3686040" cy="2664000"/>
          </a:xfrm>
          <a:prstGeom prst="wedgeEllipseCallout">
            <a:avLst>
              <a:gd name="adj1" fmla="val 54101"/>
              <a:gd name="adj2" fmla="val 8623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7120" y="476280"/>
            <a:ext cx="5575320" cy="88272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/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他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あ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6280" y="363240"/>
            <a:ext cx="8877240" cy="597960"/>
            <a:chOff x="476280" y="363240"/>
            <a:chExt cx="8877240" cy="597960"/>
          </a:xfrm>
        </p:grpSpPr>
        <p:sp>
          <p:nvSpPr>
            <p:cNvPr id="235" name=""/>
            <p:cNvSpPr/>
            <p:nvPr/>
          </p:nvSpPr>
          <p:spPr>
            <a:xfrm flipV="1">
              <a:off x="476280" y="363240"/>
              <a:ext cx="8877240" cy="63000"/>
            </a:xfrm>
            <a:prstGeom prst="line">
              <a:avLst/>
            </a:prstGeom>
            <a:ln w="18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28640" y="528840"/>
              <a:ext cx="0" cy="43236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973760" y="3110040"/>
            <a:ext cx="825480" cy="10364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131760" y="2932200"/>
            <a:ext cx="2243160" cy="50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022400" y="6093000"/>
            <a:ext cx="7773840" cy="1134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ワイン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かっ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あり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977080" y="3630600"/>
            <a:ext cx="3686040" cy="2664000"/>
          </a:xfrm>
          <a:prstGeom prst="wedgeEllipseCallout">
            <a:avLst>
              <a:gd name="adj1" fmla="val 54101"/>
              <a:gd name="adj2" fmla="val 8623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ワイン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7448400" y="4556160"/>
            <a:ext cx="1230480" cy="450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8620200" y="3848040"/>
            <a:ext cx="904680" cy="1312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527120" y="476280"/>
            <a:ext cx="5575320" cy="88272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/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他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あ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76280" y="363240"/>
            <a:ext cx="8877240" cy="597960"/>
            <a:chOff x="476280" y="363240"/>
            <a:chExt cx="8877240" cy="597960"/>
          </a:xfrm>
        </p:grpSpPr>
        <p:sp>
          <p:nvSpPr>
            <p:cNvPr id="256" name=""/>
            <p:cNvSpPr/>
            <p:nvPr/>
          </p:nvSpPr>
          <p:spPr>
            <a:xfrm flipV="1">
              <a:off x="476280" y="363240"/>
              <a:ext cx="8877240" cy="63000"/>
            </a:xfrm>
            <a:prstGeom prst="line">
              <a:avLst/>
            </a:prstGeom>
            <a:ln w="18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28640" y="528840"/>
              <a:ext cx="0" cy="43236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131760" y="2932200"/>
            <a:ext cx="2243160" cy="5014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022400" y="6093000"/>
            <a:ext cx="7773840" cy="1134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ビール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れいぞう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れ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あり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3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977080" y="3630600"/>
            <a:ext cx="3686040" cy="2664000"/>
          </a:xfrm>
          <a:prstGeom prst="wedgeEllipseCallout">
            <a:avLst>
              <a:gd name="adj1" fmla="val 54101"/>
              <a:gd name="adj2" fmla="val 8623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ビール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527120" y="476280"/>
            <a:ext cx="5575320" cy="88272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/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他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あ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76280" y="363240"/>
            <a:ext cx="8877240" cy="597960"/>
            <a:chOff x="476280" y="363240"/>
            <a:chExt cx="8877240" cy="597960"/>
          </a:xfrm>
        </p:grpSpPr>
        <p:sp>
          <p:nvSpPr>
            <p:cNvPr id="273" name=""/>
            <p:cNvSpPr/>
            <p:nvPr/>
          </p:nvSpPr>
          <p:spPr>
            <a:xfrm flipV="1">
              <a:off x="476280" y="363240"/>
              <a:ext cx="8877240" cy="63000"/>
            </a:xfrm>
            <a:prstGeom prst="line">
              <a:avLst/>
            </a:prstGeom>
            <a:ln w="18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728640" y="528840"/>
              <a:ext cx="0" cy="43236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75" name=""/>
          <p:cNvSpPr/>
          <p:nvPr/>
        </p:nvSpPr>
        <p:spPr>
          <a:xfrm flipV="1">
            <a:off x="4665600" y="1999800"/>
            <a:ext cx="1063800" cy="2034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131760" y="2932200"/>
            <a:ext cx="2243160" cy="5014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22400" y="6093000"/>
            <a:ext cx="7773840" cy="1134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ラジオ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つけ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あり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977080" y="3630600"/>
            <a:ext cx="3686040" cy="2664000"/>
          </a:xfrm>
          <a:prstGeom prst="wedgeEllipseCallout">
            <a:avLst>
              <a:gd name="adj1" fmla="val 54101"/>
              <a:gd name="adj2" fmla="val 8623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ラジオ</a:t>
            </a:r>
            <a:r>
              <a:rPr b="0" lang="ja-JP" sz="32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1520" y="0"/>
            <a:ext cx="8867880" cy="705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6138720"/>
            <a:ext cx="577800" cy="54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52480" y="6138720"/>
            <a:ext cx="577800" cy="54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100240" y="5199120"/>
            <a:ext cx="577800" cy="53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975040" y="6049800"/>
            <a:ext cx="577800" cy="5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508040" y="5740560"/>
            <a:ext cx="577800" cy="53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190600" y="5702400"/>
            <a:ext cx="57816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3960720" y="3821040"/>
            <a:ext cx="2565360" cy="239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4040" y="295200"/>
            <a:ext cx="9164520" cy="1305000"/>
          </a:xfrm>
          <a:prstGeom prst="roundRect">
            <a:avLst>
              <a:gd name="adj" fmla="val 12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んばん、クリスマスの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ーティーを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476280" y="363600"/>
            <a:ext cx="8877240" cy="990360"/>
            <a:chOff x="476280" y="363600"/>
            <a:chExt cx="8877240" cy="990360"/>
          </a:xfrm>
        </p:grpSpPr>
        <p:sp>
          <p:nvSpPr>
            <p:cNvPr id="291" name=""/>
            <p:cNvSpPr/>
            <p:nvPr/>
          </p:nvSpPr>
          <p:spPr>
            <a:xfrm>
              <a:off x="1527120" y="476280"/>
              <a:ext cx="5572080" cy="877680"/>
            </a:xfrm>
            <a:prstGeom prst="roundRect">
              <a:avLst>
                <a:gd name="adj" fmla="val 17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が</a:t>
              </a:r>
              <a:r>
                <a:rPr b="0" lang="fr-FR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/</a:t>
              </a:r>
              <a:r>
                <a:rPr b="0" lang="ja-JP" sz="4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r>
                <a:rPr b="0" lang="fr-FR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他</a:t>
              </a:r>
              <a:r>
                <a:rPr b="0" lang="fr-FR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+</a:t>
              </a: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てあります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76280" y="363600"/>
              <a:ext cx="8877240" cy="596160"/>
              <a:chOff x="476280" y="363600"/>
              <a:chExt cx="8877240" cy="596160"/>
            </a:xfrm>
          </p:grpSpPr>
          <p:sp>
            <p:nvSpPr>
              <p:cNvPr id="293" name=""/>
              <p:cNvSpPr/>
              <p:nvPr/>
            </p:nvSpPr>
            <p:spPr>
              <a:xfrm flipV="1">
                <a:off x="476280" y="363600"/>
                <a:ext cx="8877240" cy="63360"/>
              </a:xfrm>
              <a:prstGeom prst="line">
                <a:avLst/>
              </a:prstGeom>
              <a:ln w="18000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728640" y="528840"/>
                <a:ext cx="0" cy="430920"/>
              </a:xfrm>
              <a:prstGeom prst="line">
                <a:avLst/>
              </a:prstGeom>
              <a:ln w="14400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1260360" y="1471680"/>
            <a:ext cx="1471680" cy="841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7624800" y="2684520"/>
            <a:ext cx="2023920" cy="6960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022400" y="6093000"/>
            <a:ext cx="7773840" cy="1134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え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かけ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あり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527120" y="476280"/>
            <a:ext cx="5575320" cy="88272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/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他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あ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76280" y="363240"/>
            <a:ext cx="8877240" cy="597960"/>
            <a:chOff x="476280" y="363240"/>
            <a:chExt cx="8877240" cy="597960"/>
          </a:xfrm>
        </p:grpSpPr>
        <p:sp>
          <p:nvSpPr>
            <p:cNvPr id="309" name=""/>
            <p:cNvSpPr/>
            <p:nvPr/>
          </p:nvSpPr>
          <p:spPr>
            <a:xfrm flipV="1">
              <a:off x="476280" y="363240"/>
              <a:ext cx="8877240" cy="63000"/>
            </a:xfrm>
            <a:prstGeom prst="line">
              <a:avLst/>
            </a:prstGeom>
            <a:ln w="18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28640" y="528840"/>
              <a:ext cx="0" cy="43236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853920" y="2003400"/>
            <a:ext cx="825480" cy="1036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0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1"/>
          <a:stretch/>
        </p:blipFill>
        <p:spPr>
          <a:xfrm>
            <a:off x="7624800" y="2684520"/>
            <a:ext cx="2023920" cy="6960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87320" y="6093000"/>
            <a:ext cx="8778960" cy="12808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クリスマスツリー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かざっ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あり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998640" y="3011400"/>
            <a:ext cx="2128680" cy="3551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5667480" y="3746520"/>
            <a:ext cx="549000" cy="157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9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527120" y="476280"/>
            <a:ext cx="5575320" cy="882720"/>
          </a:xfrm>
          <a:prstGeom prst="roundRect">
            <a:avLst>
              <a:gd name="adj" fmla="val 17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/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他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+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あ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76280" y="363240"/>
            <a:ext cx="8877240" cy="597960"/>
            <a:chOff x="476280" y="363240"/>
            <a:chExt cx="8877240" cy="597960"/>
          </a:xfrm>
        </p:grpSpPr>
        <p:sp>
          <p:nvSpPr>
            <p:cNvPr id="326" name=""/>
            <p:cNvSpPr/>
            <p:nvPr/>
          </p:nvSpPr>
          <p:spPr>
            <a:xfrm flipV="1">
              <a:off x="476280" y="363240"/>
              <a:ext cx="8877240" cy="63000"/>
            </a:xfrm>
            <a:prstGeom prst="line">
              <a:avLst/>
            </a:prstGeom>
            <a:ln w="18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28640" y="528840"/>
              <a:ext cx="0" cy="43236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124080" y="3684600"/>
            <a:ext cx="825480" cy="1036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0"/>
          <a:stretch/>
        </p:blipFill>
        <p:spPr>
          <a:xfrm>
            <a:off x="7624800" y="2684520"/>
            <a:ext cx="2023920" cy="6960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90480" y="6093000"/>
            <a:ext cx="8105760" cy="11347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つくっ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あり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703440" y="2733840"/>
            <a:ext cx="838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ーティーが おわりました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206360" y="3246480"/>
            <a:ext cx="2129040" cy="35510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5388120" y="669960"/>
            <a:ext cx="2103120" cy="1859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flipV="1">
            <a:off x="2325600" y="396360"/>
            <a:ext cx="6962760" cy="320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0" name=""/>
          <p:cNvSpPr/>
          <p:nvPr/>
        </p:nvSpPr>
        <p:spPr>
          <a:xfrm>
            <a:off x="368280" y="220680"/>
            <a:ext cx="2149560" cy="514440"/>
          </a:xfrm>
          <a:prstGeom prst="roundRect">
            <a:avLst>
              <a:gd name="adj" fmla="val 3487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パーティ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1" name=""/>
          <p:cNvSpPr/>
          <p:nvPr/>
        </p:nvSpPr>
        <p:spPr>
          <a:xfrm>
            <a:off x="5035680" y="285840"/>
            <a:ext cx="38401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458640" y="5427720"/>
            <a:ext cx="8087040" cy="1872720"/>
            <a:chOff x="458640" y="5427720"/>
            <a:chExt cx="8087040" cy="1872720"/>
          </a:xfrm>
        </p:grpSpPr>
        <p:pic>
          <p:nvPicPr>
            <p:cNvPr id="344" name="" descr=""/>
            <p:cNvPicPr/>
            <p:nvPr/>
          </p:nvPicPr>
          <p:blipFill>
            <a:blip r:embed="rId9"/>
            <a:stretch/>
          </p:blipFill>
          <p:spPr>
            <a:xfrm>
              <a:off x="2517840" y="6156720"/>
              <a:ext cx="92880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0"/>
            <a:stretch/>
          </p:blipFill>
          <p:spPr>
            <a:xfrm>
              <a:off x="7616880" y="6310800"/>
              <a:ext cx="9288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1"/>
            <a:stretch/>
          </p:blipFill>
          <p:spPr>
            <a:xfrm>
              <a:off x="458640" y="6183720"/>
              <a:ext cx="928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2"/>
            <a:stretch/>
          </p:blipFill>
          <p:spPr>
            <a:xfrm>
              <a:off x="1438200" y="6283800"/>
              <a:ext cx="9288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3"/>
            <a:stretch/>
          </p:blipFill>
          <p:spPr>
            <a:xfrm>
              <a:off x="2700360" y="5427720"/>
              <a:ext cx="92880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4"/>
            <a:stretch/>
          </p:blipFill>
          <p:spPr>
            <a:xfrm>
              <a:off x="3427560" y="6618960"/>
              <a:ext cx="9284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5"/>
            <a:stretch/>
          </p:blipFill>
          <p:spPr>
            <a:xfrm>
              <a:off x="4394160" y="5848200"/>
              <a:ext cx="928800" cy="6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6"/>
            <a:stretch/>
          </p:blipFill>
          <p:spPr>
            <a:xfrm>
              <a:off x="5459400" y="6408000"/>
              <a:ext cx="928800" cy="68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17"/>
          <a:stretch/>
        </p:blipFill>
        <p:spPr>
          <a:xfrm>
            <a:off x="7483320" y="2443320"/>
            <a:ext cx="1917720" cy="4419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flipV="1">
            <a:off x="6323040" y="2315880"/>
            <a:ext cx="55440" cy="1359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4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ラジオを けし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206360" y="3246480"/>
            <a:ext cx="2129040" cy="3551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 flipV="1">
            <a:off x="2325600" y="396360"/>
            <a:ext cx="6962760" cy="320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2" name=""/>
          <p:cNvSpPr/>
          <p:nvPr/>
        </p:nvSpPr>
        <p:spPr>
          <a:xfrm>
            <a:off x="368280" y="220680"/>
            <a:ext cx="2149560" cy="514440"/>
          </a:xfrm>
          <a:prstGeom prst="roundRect">
            <a:avLst>
              <a:gd name="adj" fmla="val 3487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パーティ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3" name=""/>
          <p:cNvSpPr/>
          <p:nvPr/>
        </p:nvSpPr>
        <p:spPr>
          <a:xfrm>
            <a:off x="5035680" y="285840"/>
            <a:ext cx="38401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58640" y="5427720"/>
            <a:ext cx="8087040" cy="1872720"/>
            <a:chOff x="458640" y="5427720"/>
            <a:chExt cx="8087040" cy="1872720"/>
          </a:xfrm>
        </p:grpSpPr>
        <p:pic>
          <p:nvPicPr>
            <p:cNvPr id="365" name="" descr=""/>
            <p:cNvPicPr/>
            <p:nvPr/>
          </p:nvPicPr>
          <p:blipFill>
            <a:blip r:embed="rId7"/>
            <a:stretch/>
          </p:blipFill>
          <p:spPr>
            <a:xfrm>
              <a:off x="2517840" y="6156720"/>
              <a:ext cx="92880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8"/>
            <a:stretch/>
          </p:blipFill>
          <p:spPr>
            <a:xfrm>
              <a:off x="7616880" y="6310800"/>
              <a:ext cx="9288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9"/>
            <a:stretch/>
          </p:blipFill>
          <p:spPr>
            <a:xfrm>
              <a:off x="458640" y="6183720"/>
              <a:ext cx="928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10"/>
            <a:stretch/>
          </p:blipFill>
          <p:spPr>
            <a:xfrm>
              <a:off x="1438200" y="6283800"/>
              <a:ext cx="9288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1"/>
            <a:stretch/>
          </p:blipFill>
          <p:spPr>
            <a:xfrm>
              <a:off x="2700360" y="5427720"/>
              <a:ext cx="92880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2"/>
            <a:stretch/>
          </p:blipFill>
          <p:spPr>
            <a:xfrm>
              <a:off x="3427560" y="6618960"/>
              <a:ext cx="9284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3"/>
            <a:stretch/>
          </p:blipFill>
          <p:spPr>
            <a:xfrm>
              <a:off x="4394160" y="5848200"/>
              <a:ext cx="928800" cy="6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4"/>
            <a:stretch/>
          </p:blipFill>
          <p:spPr>
            <a:xfrm>
              <a:off x="5459400" y="6408000"/>
              <a:ext cx="928800" cy="68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3413160" y="3022560"/>
            <a:ext cx="4273560" cy="4184640"/>
            <a:chOff x="3413160" y="3022560"/>
            <a:chExt cx="4273560" cy="4184640"/>
          </a:xfrm>
        </p:grpSpPr>
        <p:grpSp>
          <p:nvGrpSpPr>
            <p:cNvPr id="374" name=""/>
            <p:cNvGrpSpPr/>
            <p:nvPr/>
          </p:nvGrpSpPr>
          <p:grpSpPr>
            <a:xfrm>
              <a:off x="3413160" y="3022560"/>
              <a:ext cx="4273560" cy="4184640"/>
              <a:chOff x="3413160" y="3022560"/>
              <a:chExt cx="4273560" cy="4184640"/>
            </a:xfrm>
          </p:grpSpPr>
          <p:pic>
            <p:nvPicPr>
              <p:cNvPr id="37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13160" y="4646520"/>
                <a:ext cx="2195640" cy="87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92720" y="3022560"/>
                <a:ext cx="2394000" cy="418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7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ーブルの うえを かたづけ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3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6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V="1">
            <a:off x="2535120" y="528120"/>
            <a:ext cx="3138480" cy="2556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4" name=""/>
          <p:cNvSpPr/>
          <p:nvPr/>
        </p:nvSpPr>
        <p:spPr>
          <a:xfrm>
            <a:off x="361800" y="304920"/>
            <a:ext cx="2149560" cy="514080"/>
          </a:xfrm>
          <a:prstGeom prst="roundRect">
            <a:avLst>
              <a:gd name="adj" fmla="val 3487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パーティ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5" name=""/>
          <p:cNvSpPr/>
          <p:nvPr/>
        </p:nvSpPr>
        <p:spPr>
          <a:xfrm>
            <a:off x="5700600" y="100080"/>
            <a:ext cx="40291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58640" y="5427720"/>
            <a:ext cx="8087040" cy="1872720"/>
            <a:chOff x="458640" y="5427720"/>
            <a:chExt cx="8087040" cy="1872720"/>
          </a:xfrm>
        </p:grpSpPr>
        <p:pic>
          <p:nvPicPr>
            <p:cNvPr id="387" name="" descr=""/>
            <p:cNvPicPr/>
            <p:nvPr/>
          </p:nvPicPr>
          <p:blipFill>
            <a:blip r:embed="rId6"/>
            <a:stretch/>
          </p:blipFill>
          <p:spPr>
            <a:xfrm>
              <a:off x="2517840" y="6156720"/>
              <a:ext cx="92880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7"/>
            <a:stretch/>
          </p:blipFill>
          <p:spPr>
            <a:xfrm>
              <a:off x="7616880" y="6310800"/>
              <a:ext cx="9288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8"/>
            <a:stretch/>
          </p:blipFill>
          <p:spPr>
            <a:xfrm>
              <a:off x="458640" y="6183720"/>
              <a:ext cx="9288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9"/>
            <a:stretch/>
          </p:blipFill>
          <p:spPr>
            <a:xfrm>
              <a:off x="1438200" y="6283800"/>
              <a:ext cx="92880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10"/>
            <a:stretch/>
          </p:blipFill>
          <p:spPr>
            <a:xfrm>
              <a:off x="2698920" y="5427720"/>
              <a:ext cx="9284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11"/>
            <a:stretch/>
          </p:blipFill>
          <p:spPr>
            <a:xfrm>
              <a:off x="3427560" y="6618960"/>
              <a:ext cx="9284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12"/>
            <a:stretch/>
          </p:blipFill>
          <p:spPr>
            <a:xfrm>
              <a:off x="4394160" y="5848200"/>
              <a:ext cx="928800" cy="68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13"/>
            <a:stretch/>
          </p:blipFill>
          <p:spPr>
            <a:xfrm>
              <a:off x="5459400" y="6408000"/>
              <a:ext cx="928800" cy="68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14"/>
          <a:stretch/>
        </p:blipFill>
        <p:spPr>
          <a:xfrm>
            <a:off x="-911160" y="2678040"/>
            <a:ext cx="5535720" cy="44974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へやを そうじし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8394 0.009 0.1439 0.016 0.1439 C 0.023 0.1439 0.029 0.08394 0.031 0 C 0.034 0.08394 0.04 0.1439 0.047 0.1439 C 0.054 0.1439 0.06 0.08394 0.062 0 C 0.065 0.08394 0.071 0.1439 0.078 0.1439 C 0.085 0.1439 0.092 0.08394 0.094 0 C 0.096 0.08394 0.102 0.1439 0.11 0.1439 C 0.116 0.1439 0.123 0.08394 0.125 0 C 0.127 0.08394 0.134 0.1439 0.141 0.1439 C 0.148 0.1439 0.154 0.08394 0.156 0 C 0.159 0.08394 0.165 0.1439 0.172 0.1439 C 0.179 0.1439 0.185 0.08394 0.188 0 C 0.19 0.08394 0.196 0.1439 0.203 0.1439 C 0.21 0.1439 0.217 0.08394 0.219 0 C 0.221 0.08394 0.227 0.1439 0.235 0.1439 C 0.242 0.1439 0.248 0.08394 0.25 0 E">
                                      <p:cBhvr>
                                        <p:cTn id="195" dur="3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301760" y="1170000"/>
            <a:ext cx="1428840" cy="925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3" name=""/>
          <p:cNvSpPr/>
          <p:nvPr/>
        </p:nvSpPr>
        <p:spPr>
          <a:xfrm>
            <a:off x="2143080" y="4048200"/>
            <a:ext cx="1428840" cy="925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4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のままに し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339876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72756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303200" y="1170000"/>
            <a:ext cx="1428840" cy="925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1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を かけた ままに し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39876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72756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062080" y="4179960"/>
            <a:ext cx="1428840" cy="925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8" name=""/>
          <p:cNvSpPr/>
          <p:nvPr/>
        </p:nvSpPr>
        <p:spPr>
          <a:xfrm>
            <a:off x="166680" y="5867280"/>
            <a:ext cx="970272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テーブルを おいた ままに し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1520" y="0"/>
            <a:ext cx="8867880" cy="7050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60720" y="3821040"/>
            <a:ext cx="2565360" cy="2395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68560" y="4176720"/>
            <a:ext cx="2022480" cy="1254240"/>
          </a:xfrm>
          <a:custGeom>
            <a:avLst/>
            <a:gdLst/>
            <a:ahLst/>
            <a:rect l="l" t="t" r="r" b="b"/>
            <a:pathLst>
              <a:path w="5618" h="3484">
                <a:moveTo>
                  <a:pt x="5617" y="162"/>
                </a:moveTo>
                <a:cubicBezTo>
                  <a:pt x="4726" y="281"/>
                  <a:pt x="3828" y="334"/>
                  <a:pt x="2935" y="412"/>
                </a:cubicBezTo>
                <a:cubicBezTo>
                  <a:pt x="2472" y="452"/>
                  <a:pt x="2033" y="593"/>
                  <a:pt x="1576" y="734"/>
                </a:cubicBezTo>
                <a:cubicBezTo>
                  <a:pt x="1109" y="878"/>
                  <a:pt x="791" y="1690"/>
                  <a:pt x="1576" y="1663"/>
                </a:cubicBezTo>
                <a:cubicBezTo>
                  <a:pt x="2153" y="1643"/>
                  <a:pt x="2718" y="1580"/>
                  <a:pt x="3257" y="1413"/>
                </a:cubicBezTo>
                <a:cubicBezTo>
                  <a:pt x="3702" y="1275"/>
                  <a:pt x="4137" y="1317"/>
                  <a:pt x="4580" y="1306"/>
                </a:cubicBezTo>
                <a:cubicBezTo>
                  <a:pt x="5028" y="1295"/>
                  <a:pt x="5544" y="1864"/>
                  <a:pt x="5044" y="2235"/>
                </a:cubicBezTo>
                <a:cubicBezTo>
                  <a:pt x="4643" y="2532"/>
                  <a:pt x="4164" y="2476"/>
                  <a:pt x="3722" y="2486"/>
                </a:cubicBezTo>
                <a:cubicBezTo>
                  <a:pt x="3245" y="2497"/>
                  <a:pt x="2766" y="2451"/>
                  <a:pt x="2291" y="2486"/>
                </a:cubicBezTo>
                <a:cubicBezTo>
                  <a:pt x="1778" y="2524"/>
                  <a:pt x="1193" y="2370"/>
                  <a:pt x="754" y="2664"/>
                </a:cubicBezTo>
                <a:cubicBezTo>
                  <a:pt x="0" y="3169"/>
                  <a:pt x="1464" y="3483"/>
                  <a:pt x="1791" y="3237"/>
                </a:cubicBezTo>
                <a:cubicBezTo>
                  <a:pt x="2164" y="2956"/>
                  <a:pt x="2663" y="2976"/>
                  <a:pt x="3114" y="2951"/>
                </a:cubicBezTo>
                <a:cubicBezTo>
                  <a:pt x="3589" y="2924"/>
                  <a:pt x="4097" y="2787"/>
                  <a:pt x="4544" y="2951"/>
                </a:cubicBezTo>
                <a:cubicBezTo>
                  <a:pt x="5285" y="3222"/>
                  <a:pt x="5228" y="2305"/>
                  <a:pt x="4615" y="2343"/>
                </a:cubicBezTo>
                <a:cubicBezTo>
                  <a:pt x="4041" y="2378"/>
                  <a:pt x="3472" y="2228"/>
                  <a:pt x="2899" y="2200"/>
                </a:cubicBezTo>
                <a:cubicBezTo>
                  <a:pt x="2506" y="2181"/>
                  <a:pt x="2109" y="2159"/>
                  <a:pt x="1719" y="2200"/>
                </a:cubicBezTo>
                <a:cubicBezTo>
                  <a:pt x="1272" y="2247"/>
                  <a:pt x="275" y="2587"/>
                  <a:pt x="396" y="2164"/>
                </a:cubicBezTo>
                <a:cubicBezTo>
                  <a:pt x="548" y="1631"/>
                  <a:pt x="1463" y="1980"/>
                  <a:pt x="2005" y="1949"/>
                </a:cubicBezTo>
                <a:cubicBezTo>
                  <a:pt x="2535" y="1918"/>
                  <a:pt x="3093" y="1956"/>
                  <a:pt x="3579" y="1699"/>
                </a:cubicBezTo>
                <a:cubicBezTo>
                  <a:pt x="4105" y="1421"/>
                  <a:pt x="5083" y="1691"/>
                  <a:pt x="5223" y="1127"/>
                </a:cubicBezTo>
                <a:cubicBezTo>
                  <a:pt x="5359" y="581"/>
                  <a:pt x="4274" y="910"/>
                  <a:pt x="3793" y="913"/>
                </a:cubicBezTo>
                <a:cubicBezTo>
                  <a:pt x="3360" y="915"/>
                  <a:pt x="2539" y="1103"/>
                  <a:pt x="2542" y="662"/>
                </a:cubicBezTo>
                <a:cubicBezTo>
                  <a:pt x="2547" y="0"/>
                  <a:pt x="3664" y="401"/>
                  <a:pt x="4222" y="340"/>
                </a:cubicBezTo>
                <a:lnTo>
                  <a:pt x="4615" y="340"/>
                </a:lnTo>
                <a:lnTo>
                  <a:pt x="5009" y="340"/>
                </a:lnTo>
                <a:lnTo>
                  <a:pt x="5080" y="34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"/>
          <p:cNvSpPr/>
          <p:nvPr/>
        </p:nvSpPr>
        <p:spPr>
          <a:xfrm>
            <a:off x="450720" y="539640"/>
            <a:ext cx="9112320" cy="1712880"/>
          </a:xfrm>
          <a:prstGeom prst="roundRect">
            <a:avLst>
              <a:gd name="adj" fmla="val 104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じし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96760" y="3271680"/>
            <a:ext cx="4295880" cy="3489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37320" y="2154240"/>
            <a:ext cx="2346480" cy="1076400"/>
          </a:xfrm>
          <a:prstGeom prst="roundRect">
            <a:avLst>
              <a:gd name="adj" fmla="val 1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ゅん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759280" y="3160800"/>
            <a:ext cx="4233960" cy="63180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03200" y="1852560"/>
            <a:ext cx="2479680" cy="75596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371840" y="3154320"/>
            <a:ext cx="4146840" cy="40626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2" name=""/>
          <p:cNvSpPr/>
          <p:nvPr/>
        </p:nvSpPr>
        <p:spPr>
          <a:xfrm>
            <a:off x="406440" y="336600"/>
            <a:ext cx="9469440" cy="100800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ず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した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ままにし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3" name=""/>
          <p:cNvSpPr/>
          <p:nvPr/>
        </p:nvSpPr>
        <p:spPr>
          <a:xfrm>
            <a:off x="420840" y="6369120"/>
            <a:ext cx="9469440" cy="100800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ず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した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ままで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5759280" y="3160800"/>
            <a:ext cx="4233960" cy="631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03200" y="1852560"/>
            <a:ext cx="2479680" cy="75596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371840" y="3154320"/>
            <a:ext cx="4146840" cy="40626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7" name=""/>
          <p:cNvSpPr/>
          <p:nvPr/>
        </p:nvSpPr>
        <p:spPr>
          <a:xfrm>
            <a:off x="138240" y="358920"/>
            <a:ext cx="9735840" cy="98568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ず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し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っぱなしにし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(fam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2847960" y="1709640"/>
            <a:ext cx="1152720" cy="1162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35080" y="6419880"/>
            <a:ext cx="9735840" cy="98568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ず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が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し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っぱなしで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r>
              <a:rPr b="0" lang="fr-FR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(fam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1520" y="0"/>
            <a:ext cx="8867880" cy="705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60720" y="3821040"/>
            <a:ext cx="2565360" cy="2395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68560" y="4176720"/>
            <a:ext cx="2022480" cy="1254240"/>
          </a:xfrm>
          <a:custGeom>
            <a:avLst/>
            <a:gdLst/>
            <a:ahLst/>
            <a:rect l="l" t="t" r="r" b="b"/>
            <a:pathLst>
              <a:path w="5618" h="3484">
                <a:moveTo>
                  <a:pt x="5617" y="162"/>
                </a:moveTo>
                <a:cubicBezTo>
                  <a:pt x="4726" y="281"/>
                  <a:pt x="3828" y="334"/>
                  <a:pt x="2935" y="412"/>
                </a:cubicBezTo>
                <a:cubicBezTo>
                  <a:pt x="2472" y="452"/>
                  <a:pt x="2033" y="593"/>
                  <a:pt x="1576" y="734"/>
                </a:cubicBezTo>
                <a:cubicBezTo>
                  <a:pt x="1109" y="878"/>
                  <a:pt x="791" y="1690"/>
                  <a:pt x="1576" y="1663"/>
                </a:cubicBezTo>
                <a:cubicBezTo>
                  <a:pt x="2153" y="1643"/>
                  <a:pt x="2718" y="1580"/>
                  <a:pt x="3257" y="1413"/>
                </a:cubicBezTo>
                <a:cubicBezTo>
                  <a:pt x="3702" y="1275"/>
                  <a:pt x="4137" y="1317"/>
                  <a:pt x="4580" y="1306"/>
                </a:cubicBezTo>
                <a:cubicBezTo>
                  <a:pt x="5028" y="1295"/>
                  <a:pt x="5544" y="1864"/>
                  <a:pt x="5044" y="2235"/>
                </a:cubicBezTo>
                <a:cubicBezTo>
                  <a:pt x="4643" y="2532"/>
                  <a:pt x="4164" y="2476"/>
                  <a:pt x="3722" y="2486"/>
                </a:cubicBezTo>
                <a:cubicBezTo>
                  <a:pt x="3245" y="2497"/>
                  <a:pt x="2766" y="2451"/>
                  <a:pt x="2291" y="2486"/>
                </a:cubicBezTo>
                <a:cubicBezTo>
                  <a:pt x="1778" y="2524"/>
                  <a:pt x="1193" y="2370"/>
                  <a:pt x="754" y="2664"/>
                </a:cubicBezTo>
                <a:cubicBezTo>
                  <a:pt x="0" y="3169"/>
                  <a:pt x="1464" y="3483"/>
                  <a:pt x="1791" y="3237"/>
                </a:cubicBezTo>
                <a:cubicBezTo>
                  <a:pt x="2164" y="2956"/>
                  <a:pt x="2663" y="2976"/>
                  <a:pt x="3114" y="2951"/>
                </a:cubicBezTo>
                <a:cubicBezTo>
                  <a:pt x="3589" y="2924"/>
                  <a:pt x="4097" y="2787"/>
                  <a:pt x="4544" y="2951"/>
                </a:cubicBezTo>
                <a:cubicBezTo>
                  <a:pt x="5285" y="3222"/>
                  <a:pt x="5228" y="2305"/>
                  <a:pt x="4615" y="2343"/>
                </a:cubicBezTo>
                <a:cubicBezTo>
                  <a:pt x="4041" y="2378"/>
                  <a:pt x="3472" y="2228"/>
                  <a:pt x="2899" y="2200"/>
                </a:cubicBezTo>
                <a:cubicBezTo>
                  <a:pt x="2506" y="2181"/>
                  <a:pt x="2109" y="2159"/>
                  <a:pt x="1719" y="2200"/>
                </a:cubicBezTo>
                <a:cubicBezTo>
                  <a:pt x="1272" y="2247"/>
                  <a:pt x="275" y="2587"/>
                  <a:pt x="396" y="2164"/>
                </a:cubicBezTo>
                <a:cubicBezTo>
                  <a:pt x="548" y="1631"/>
                  <a:pt x="1463" y="1980"/>
                  <a:pt x="2005" y="1949"/>
                </a:cubicBezTo>
                <a:cubicBezTo>
                  <a:pt x="2535" y="1918"/>
                  <a:pt x="3093" y="1956"/>
                  <a:pt x="3579" y="1699"/>
                </a:cubicBezTo>
                <a:cubicBezTo>
                  <a:pt x="4105" y="1421"/>
                  <a:pt x="5083" y="1691"/>
                  <a:pt x="5223" y="1127"/>
                </a:cubicBezTo>
                <a:cubicBezTo>
                  <a:pt x="5359" y="581"/>
                  <a:pt x="4274" y="910"/>
                  <a:pt x="3793" y="913"/>
                </a:cubicBezTo>
                <a:cubicBezTo>
                  <a:pt x="3360" y="915"/>
                  <a:pt x="2539" y="1103"/>
                  <a:pt x="2542" y="662"/>
                </a:cubicBezTo>
                <a:cubicBezTo>
                  <a:pt x="2547" y="0"/>
                  <a:pt x="3664" y="401"/>
                  <a:pt x="4222" y="340"/>
                </a:cubicBezTo>
                <a:lnTo>
                  <a:pt x="4615" y="340"/>
                </a:lnTo>
                <a:lnTo>
                  <a:pt x="5009" y="340"/>
                </a:lnTo>
                <a:lnTo>
                  <a:pt x="5080" y="34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3192480" y="3114720"/>
            <a:ext cx="1093680" cy="927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71520" y="0"/>
            <a:ext cx="8867880" cy="7050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0720" y="539640"/>
            <a:ext cx="9112320" cy="1712880"/>
          </a:xfrm>
          <a:prstGeom prst="roundRect">
            <a:avLst>
              <a:gd name="adj" fmla="val 104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たづけ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63040" y="5127480"/>
            <a:ext cx="5024520" cy="2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90560" y="3146400"/>
            <a:ext cx="4095720" cy="3706920"/>
            <a:chOff x="790560" y="3146400"/>
            <a:chExt cx="4095720" cy="3706920"/>
          </a:xfrm>
        </p:grpSpPr>
        <p:grpSp>
          <p:nvGrpSpPr>
            <p:cNvPr id="70" name=""/>
            <p:cNvGrpSpPr/>
            <p:nvPr/>
          </p:nvGrpSpPr>
          <p:grpSpPr>
            <a:xfrm>
              <a:off x="790560" y="3146400"/>
              <a:ext cx="4095720" cy="3706920"/>
              <a:chOff x="790560" y="3146400"/>
              <a:chExt cx="4095720" cy="3706920"/>
            </a:xfrm>
          </p:grpSpPr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66960" y="3146400"/>
                <a:ext cx="2119320" cy="370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0560" y="4302000"/>
                <a:ext cx="2563920" cy="239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63840" y="375768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76280" y="396360"/>
            <a:ext cx="6962760" cy="320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491240" y="193680"/>
            <a:ext cx="2149560" cy="514440"/>
          </a:xfrm>
          <a:prstGeom prst="roundRect">
            <a:avLst>
              <a:gd name="adj" fmla="val 3487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パーティ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50720"/>
            <a:ext cx="40291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094200" y="2416320"/>
            <a:ext cx="2239920" cy="4290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を かべに かけ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2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>
            <a:off x="476280" y="396360"/>
            <a:ext cx="6962760" cy="320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"/>
          <p:cNvSpPr/>
          <p:nvPr/>
        </p:nvSpPr>
        <p:spPr>
          <a:xfrm>
            <a:off x="7491240" y="193680"/>
            <a:ext cx="2149560" cy="514440"/>
          </a:xfrm>
          <a:prstGeom prst="roundRect">
            <a:avLst>
              <a:gd name="adj" fmla="val 3487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パーティ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450720"/>
            <a:ext cx="40291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500040" y="2789280"/>
            <a:ext cx="3832200" cy="4149720"/>
            <a:chOff x="-500040" y="2789280"/>
            <a:chExt cx="3832200" cy="4149720"/>
          </a:xfrm>
        </p:grpSpPr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-500040" y="2789280"/>
              <a:ext cx="2373120" cy="414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7"/>
            <a:stretch/>
          </p:blipFill>
          <p:spPr>
            <a:xfrm>
              <a:off x="952560" y="2806560"/>
              <a:ext cx="2379600" cy="397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クリスマスツリーを かざっ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206360" y="3246480"/>
            <a:ext cx="2129040" cy="3551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V="1">
            <a:off x="476280" y="396360"/>
            <a:ext cx="6962760" cy="320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2" name=""/>
          <p:cNvSpPr/>
          <p:nvPr/>
        </p:nvSpPr>
        <p:spPr>
          <a:xfrm>
            <a:off x="7491240" y="193680"/>
            <a:ext cx="2149560" cy="514440"/>
          </a:xfrm>
          <a:prstGeom prst="roundRect">
            <a:avLst>
              <a:gd name="adj" fmla="val 3487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パーティ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450720"/>
            <a:ext cx="40291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165480" y="4557600"/>
            <a:ext cx="2498760" cy="995400"/>
            <a:chOff x="3165480" y="4557600"/>
            <a:chExt cx="2498760" cy="995400"/>
          </a:xfrm>
        </p:grpSpPr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165480" y="4557600"/>
              <a:ext cx="2498760" cy="9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27160" y="3659040"/>
            <a:ext cx="3087720" cy="473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を つくっ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040" y="584280"/>
            <a:ext cx="8469360" cy="6296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616120" y="1479600"/>
            <a:ext cx="2687760" cy="2394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206360" y="3246480"/>
            <a:ext cx="2129040" cy="3551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397320" y="4697280"/>
            <a:ext cx="3205080" cy="2033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413160" y="4646520"/>
            <a:ext cx="2198520" cy="876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783480" y="2265480"/>
            <a:ext cx="2073240" cy="4089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7273800" y="1776240"/>
            <a:ext cx="1530360" cy="1176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476280" y="396360"/>
            <a:ext cx="6962760" cy="320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7491240" y="193680"/>
            <a:ext cx="2149560" cy="514440"/>
          </a:xfrm>
          <a:prstGeom prst="roundRect">
            <a:avLst>
              <a:gd name="adj" fmla="val 3487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パーティー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450720"/>
            <a:ext cx="40291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ー 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ておきます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595840" y="3036960"/>
            <a:ext cx="2394000" cy="4184640"/>
            <a:chOff x="5595840" y="3036960"/>
            <a:chExt cx="2394000" cy="4184640"/>
          </a:xfrm>
        </p:grpSpPr>
        <p:pic>
          <p:nvPicPr>
            <p:cNvPr id="119" name="" descr=""/>
            <p:cNvPicPr/>
            <p:nvPr/>
          </p:nvPicPr>
          <p:blipFill>
            <a:blip r:embed="rId8"/>
            <a:stretch/>
          </p:blipFill>
          <p:spPr>
            <a:xfrm>
              <a:off x="5595840" y="3036960"/>
              <a:ext cx="2394000" cy="41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9"/>
            <a:stretch/>
          </p:blipFill>
          <p:spPr>
            <a:xfrm>
              <a:off x="5646600" y="3571920"/>
              <a:ext cx="617760" cy="177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166680" y="5867280"/>
            <a:ext cx="9331200" cy="1284480"/>
          </a:xfrm>
          <a:prstGeom prst="roundRect">
            <a:avLst>
              <a:gd name="adj" fmla="val 1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ワインを かって お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1:28:14Z</dcterms:created>
  <dc:creator/>
  <dc:description/>
  <dc:language>en-US</dc:language>
  <cp:lastModifiedBy/>
  <dcterms:modified xsi:type="dcterms:W3CDTF">2016-05-24T19:28:44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