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0.wmf" ContentType="image/x-wmf"/>
  <Override PartName="/ppt/media/image13.png" ContentType="image/png"/>
  <Override PartName="/ppt/media/image50.png" ContentType="image/png"/>
  <Override PartName="/ppt/media/image4.png" ContentType="image/png"/>
  <Override PartName="/ppt/media/image34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jpe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image" Target="../media/image42.png"/><Relationship Id="rId18" Type="http://schemas.openxmlformats.org/officeDocument/2006/relationships/image" Target="../media/image4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5.png"/><Relationship Id="rId8" Type="http://schemas.openxmlformats.org/officeDocument/2006/relationships/image" Target="../media/image44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38.png"/><Relationship Id="rId19" Type="http://schemas.openxmlformats.org/officeDocument/2006/relationships/image" Target="../media/image39.png"/><Relationship Id="rId20" Type="http://schemas.openxmlformats.org/officeDocument/2006/relationships/image" Target="../media/image40.png"/><Relationship Id="rId21" Type="http://schemas.openxmlformats.org/officeDocument/2006/relationships/image" Target="../media/image45.png"/><Relationship Id="rId22" Type="http://schemas.openxmlformats.org/officeDocument/2006/relationships/image" Target="../media/image40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6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33 </a:t>
            </a: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2295360" y="4348080"/>
            <a:ext cx="243864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めいれいけ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きんしけ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なさ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という〜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" name=""/>
          <p:cNvSpPr/>
          <p:nvPr/>
        </p:nvSpPr>
        <p:spPr>
          <a:xfrm>
            <a:off x="5529240" y="4284720"/>
            <a:ext cx="14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32440" y="830160"/>
            <a:ext cx="3308400" cy="6486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33360" y="1509840"/>
            <a:ext cx="3516480" cy="6049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246560" y="1936800"/>
            <a:ext cx="2314440" cy="56214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5875200" y="423720"/>
            <a:ext cx="3794400" cy="920880"/>
            <a:chOff x="5875200" y="423720"/>
            <a:chExt cx="3794400" cy="920880"/>
          </a:xfrm>
        </p:grpSpPr>
        <p:sp>
          <p:nvSpPr>
            <p:cNvPr id="105" name=""/>
            <p:cNvSpPr/>
            <p:nvPr/>
          </p:nvSpPr>
          <p:spPr>
            <a:xfrm>
              <a:off x="5875200" y="423720"/>
              <a:ext cx="3794400" cy="920880"/>
            </a:xfrm>
            <a:prstGeom prst="roundRect">
              <a:avLst>
                <a:gd name="adj" fmla="val 17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めいれいけい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61880" y="128520"/>
            <a:ext cx="5349960" cy="1577880"/>
          </a:xfrm>
          <a:prstGeom prst="wedgeRectCallout">
            <a:avLst>
              <a:gd name="adj1" fmla="val -20699"/>
              <a:gd name="adj2" fmla="val 7132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7" name=""/>
          <p:cNvSpPr/>
          <p:nvPr/>
        </p:nvSpPr>
        <p:spPr>
          <a:xfrm>
            <a:off x="820800" y="449280"/>
            <a:ext cx="4267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さざなみ明朝"/>
                <a:ea typeface="さざなみ明朝"/>
              </a:rPr>
              <a:t>ドア</a:t>
            </a:r>
            <a:r>
              <a:rPr b="0" lang="ja-JP" sz="4800" spc="-1" strike="noStrike">
                <a:solidFill>
                  <a:srgbClr val="800000"/>
                </a:solidFill>
                <a:latin typeface="さざなみ明朝"/>
                <a:ea typeface="さざなみ明朝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さざなみ明朝"/>
                <a:ea typeface="さざなみ明朝"/>
              </a:rPr>
              <a:t>あけろ</a:t>
            </a:r>
            <a:r>
              <a:rPr b="0" lang="ja-JP" sz="4800" spc="-1" strike="noStrike">
                <a:solidFill>
                  <a:srgbClr val="000000"/>
                </a:solidFill>
                <a:latin typeface="さざなみ明朝"/>
                <a:ea typeface="さざなみ明朝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9040" y="2795760"/>
            <a:ext cx="3516120" cy="604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02000" y="3222720"/>
            <a:ext cx="2314800" cy="5621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309920" y="4029120"/>
            <a:ext cx="295560" cy="100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3613320" y="5060520"/>
            <a:ext cx="787320" cy="1241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994120" y="5965920"/>
            <a:ext cx="1409760" cy="156672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3" name=""/>
          <p:cNvSpPr/>
          <p:nvPr/>
        </p:nvSpPr>
        <p:spPr>
          <a:xfrm>
            <a:off x="3125880" y="6019920"/>
            <a:ext cx="1274760" cy="1385640"/>
          </a:xfrm>
          <a:prstGeom prst="line">
            <a:avLst/>
          </a:prstGeom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645240" y="820800"/>
            <a:ext cx="3243240" cy="863640"/>
            <a:chOff x="6645240" y="820800"/>
            <a:chExt cx="3243240" cy="863640"/>
          </a:xfrm>
        </p:grpSpPr>
        <p:sp>
          <p:nvSpPr>
            <p:cNvPr id="115" name=""/>
            <p:cNvSpPr/>
            <p:nvPr/>
          </p:nvSpPr>
          <p:spPr>
            <a:xfrm>
              <a:off x="6645240" y="820800"/>
              <a:ext cx="3243240" cy="863640"/>
            </a:xfrm>
            <a:prstGeom prst="roundRect">
              <a:avLst>
                <a:gd name="adj" fmla="val 18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きんしけい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61880" y="128520"/>
            <a:ext cx="6067440" cy="1577880"/>
          </a:xfrm>
          <a:prstGeom prst="wedgeRectCallout">
            <a:avLst>
              <a:gd name="adj1" fmla="val -18495"/>
              <a:gd name="adj2" fmla="val 9794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7" name=""/>
          <p:cNvSpPr/>
          <p:nvPr/>
        </p:nvSpPr>
        <p:spPr>
          <a:xfrm>
            <a:off x="820800" y="449280"/>
            <a:ext cx="5486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さざなみ明朝"/>
                <a:ea typeface="さざなみ明朝"/>
              </a:rPr>
              <a:t>でんわ</a:t>
            </a:r>
            <a:r>
              <a:rPr b="0" lang="ja-JP" sz="4800" spc="-1" strike="noStrike">
                <a:solidFill>
                  <a:srgbClr val="800000"/>
                </a:solidFill>
                <a:latin typeface="さざなみ明朝"/>
                <a:ea typeface="さざなみ明朝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さざなみ明朝"/>
                <a:ea typeface="さざなみ明朝"/>
              </a:rPr>
              <a:t>かけるな</a:t>
            </a:r>
            <a:r>
              <a:rPr b="0" lang="ja-JP" sz="4800" spc="-1" strike="noStrike">
                <a:solidFill>
                  <a:srgbClr val="000000"/>
                </a:solidFill>
                <a:latin typeface="さざなみ明朝"/>
                <a:ea typeface="さざなみ明朝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31880" y="216072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9" name=""/>
          <p:cNvSpPr/>
          <p:nvPr/>
        </p:nvSpPr>
        <p:spPr>
          <a:xfrm>
            <a:off x="976320" y="220824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0" name=""/>
          <p:cNvSpPr/>
          <p:nvPr/>
        </p:nvSpPr>
        <p:spPr>
          <a:xfrm>
            <a:off x="1666800" y="2192400"/>
            <a:ext cx="25480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ans"/>
                <a:ea typeface="YOzFontP04"/>
              </a:rPr>
              <a:t>き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>
            <a:off x="1004760" y="2863800"/>
            <a:ext cx="235584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ーｉ → ー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e +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2" name=""/>
          <p:cNvSpPr/>
          <p:nvPr/>
        </p:nvSpPr>
        <p:spPr>
          <a:xfrm>
            <a:off x="1781280" y="2206800"/>
            <a:ext cx="8413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OzFontP04"/>
              </a:rPr>
              <a:t>け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3" name=""/>
          <p:cNvSpPr/>
          <p:nvPr/>
        </p:nvSpPr>
        <p:spPr>
          <a:xfrm>
            <a:off x="638280" y="3774960"/>
            <a:ext cx="362412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4" name=""/>
          <p:cNvSpPr/>
          <p:nvPr/>
        </p:nvSpPr>
        <p:spPr>
          <a:xfrm>
            <a:off x="963720" y="391788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よ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5" name=""/>
          <p:cNvSpPr/>
          <p:nvPr/>
        </p:nvSpPr>
        <p:spPr>
          <a:xfrm>
            <a:off x="1703520" y="3916440"/>
            <a:ext cx="25477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ans"/>
                <a:ea typeface="YOzFontP04"/>
              </a:rPr>
              <a:t>み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6" name=""/>
          <p:cNvSpPr/>
          <p:nvPr/>
        </p:nvSpPr>
        <p:spPr>
          <a:xfrm>
            <a:off x="992160" y="4573440"/>
            <a:ext cx="235584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ーｉ → ー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7" name=""/>
          <p:cNvSpPr/>
          <p:nvPr/>
        </p:nvSpPr>
        <p:spPr>
          <a:xfrm>
            <a:off x="1643040" y="3916440"/>
            <a:ext cx="9698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OzFontP04"/>
              </a:rPr>
              <a:t>め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"/>
          <p:cNvSpPr/>
          <p:nvPr/>
        </p:nvSpPr>
        <p:spPr>
          <a:xfrm>
            <a:off x="217440" y="1157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9" name=""/>
          <p:cNvSpPr/>
          <p:nvPr/>
        </p:nvSpPr>
        <p:spPr>
          <a:xfrm>
            <a:off x="5073480" y="22147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0" name=""/>
          <p:cNvSpPr/>
          <p:nvPr/>
        </p:nvSpPr>
        <p:spPr>
          <a:xfrm>
            <a:off x="5373720" y="2246400"/>
            <a:ext cx="6667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1" name=""/>
          <p:cNvSpPr/>
          <p:nvPr/>
        </p:nvSpPr>
        <p:spPr>
          <a:xfrm>
            <a:off x="6008760" y="2259000"/>
            <a:ext cx="2547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ans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2" name=""/>
          <p:cNvSpPr/>
          <p:nvPr/>
        </p:nvSpPr>
        <p:spPr>
          <a:xfrm>
            <a:off x="5402160" y="2903400"/>
            <a:ext cx="235584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ー  →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+ </a:t>
            </a:r>
            <a:r>
              <a:rPr b="0" lang="ja-JP" sz="24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ろ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3" name=""/>
          <p:cNvSpPr/>
          <p:nvPr/>
        </p:nvSpPr>
        <p:spPr>
          <a:xfrm>
            <a:off x="6176880" y="2246400"/>
            <a:ext cx="878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OzFontP04"/>
              </a:rPr>
              <a:t>ろ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4" name=""/>
          <p:cNvSpPr/>
          <p:nvPr/>
        </p:nvSpPr>
        <p:spPr>
          <a:xfrm>
            <a:off x="5035680" y="381492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5" name=""/>
          <p:cNvSpPr/>
          <p:nvPr/>
        </p:nvSpPr>
        <p:spPr>
          <a:xfrm>
            <a:off x="5361120" y="3956040"/>
            <a:ext cx="1118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か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6" name=""/>
          <p:cNvSpPr/>
          <p:nvPr/>
        </p:nvSpPr>
        <p:spPr>
          <a:xfrm>
            <a:off x="6622920" y="3956040"/>
            <a:ext cx="17179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ans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7" name=""/>
          <p:cNvSpPr/>
          <p:nvPr/>
        </p:nvSpPr>
        <p:spPr>
          <a:xfrm>
            <a:off x="5389560" y="46134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ー →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+ </a:t>
            </a:r>
            <a:r>
              <a:rPr b="0" lang="ja-JP" sz="24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ろ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8" name=""/>
          <p:cNvSpPr/>
          <p:nvPr/>
        </p:nvSpPr>
        <p:spPr>
          <a:xfrm>
            <a:off x="6508800" y="3994200"/>
            <a:ext cx="9698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OzFontP04"/>
              </a:rPr>
              <a:t>ろ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9" name=""/>
          <p:cNvSpPr/>
          <p:nvPr/>
        </p:nvSpPr>
        <p:spPr>
          <a:xfrm>
            <a:off x="4640400" y="120024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0" name=""/>
          <p:cNvSpPr/>
          <p:nvPr/>
        </p:nvSpPr>
        <p:spPr>
          <a:xfrm>
            <a:off x="477720" y="55548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1" name=""/>
          <p:cNvSpPr/>
          <p:nvPr/>
        </p:nvSpPr>
        <p:spPr>
          <a:xfrm>
            <a:off x="4173480" y="5483160"/>
            <a:ext cx="3940200" cy="9478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きます → こ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4187880" y="65451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OzFontP04"/>
              </a:rPr>
              <a:t>します → しろ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85840" y="0"/>
            <a:ext cx="3727440" cy="1098720"/>
            <a:chOff x="285840" y="0"/>
            <a:chExt cx="3727440" cy="1098720"/>
          </a:xfrm>
        </p:grpSpPr>
        <p:sp>
          <p:nvSpPr>
            <p:cNvPr id="144" name=""/>
            <p:cNvSpPr/>
            <p:nvPr/>
          </p:nvSpPr>
          <p:spPr>
            <a:xfrm>
              <a:off x="285840" y="0"/>
              <a:ext cx="372744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めいれいけい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649760" y="3156120"/>
            <a:ext cx="3772080" cy="106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! </a:t>
            </a: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くれます⇒ くれ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  <p:set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  <p:set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7440" y="1157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3457440" y="120024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8" name=""/>
          <p:cNvSpPr/>
          <p:nvPr/>
        </p:nvSpPr>
        <p:spPr>
          <a:xfrm>
            <a:off x="6586560" y="121284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5840" y="0"/>
            <a:ext cx="3100320" cy="1098720"/>
            <a:chOff x="285840" y="0"/>
            <a:chExt cx="3100320" cy="1098720"/>
          </a:xfrm>
        </p:grpSpPr>
        <p:sp>
          <p:nvSpPr>
            <p:cNvPr id="150" name=""/>
            <p:cNvSpPr/>
            <p:nvPr/>
          </p:nvSpPr>
          <p:spPr>
            <a:xfrm>
              <a:off x="285840" y="0"/>
              <a:ext cx="310032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きんしけい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738440" y="2502000"/>
            <a:ext cx="5622840" cy="117324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じしょけい </a:t>
            </a:r>
            <a:r>
              <a:rPr b="0" lang="en-US" sz="5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+ </a:t>
            </a:r>
            <a:r>
              <a:rPr b="0" lang="ja-JP" sz="5400" spc="-1" strike="noStrike" u="sng">
                <a:solidFill>
                  <a:srgbClr val="ff0000"/>
                </a:solidFill>
                <a:uFillTx/>
                <a:latin typeface="Bitstream Vera Serif"/>
                <a:ea typeface="YOzFontP04"/>
              </a:rPr>
              <a:t>な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2" name=""/>
          <p:cNvSpPr/>
          <p:nvPr/>
        </p:nvSpPr>
        <p:spPr>
          <a:xfrm>
            <a:off x="585720" y="4721400"/>
            <a:ext cx="2286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06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いく</a:t>
            </a:r>
            <a:r>
              <a:rPr b="0" lang="ja-JP" sz="60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な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3" name=""/>
          <p:cNvSpPr/>
          <p:nvPr/>
        </p:nvSpPr>
        <p:spPr>
          <a:xfrm>
            <a:off x="3932280" y="4694400"/>
            <a:ext cx="2286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06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みる</a:t>
            </a:r>
            <a:r>
              <a:rPr b="0" lang="ja-JP" sz="60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な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4" name=""/>
          <p:cNvSpPr/>
          <p:nvPr/>
        </p:nvSpPr>
        <p:spPr>
          <a:xfrm>
            <a:off x="6939000" y="4640400"/>
            <a:ext cx="2286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06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くる</a:t>
            </a:r>
            <a:r>
              <a:rPr b="0" lang="ja-JP" sz="60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な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270480" y="790560"/>
            <a:ext cx="1457640" cy="3913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68560" y="3105000"/>
            <a:ext cx="1452600" cy="4073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30200" y="195120"/>
            <a:ext cx="1122480" cy="11224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713720" y="514440"/>
            <a:ext cx="1272960" cy="4335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541440" y="2827440"/>
            <a:ext cx="1436760" cy="4354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44640" y="438120"/>
            <a:ext cx="4415040" cy="1103400"/>
          </a:xfrm>
          <a:prstGeom prst="wedgeRoundRectCallout">
            <a:avLst>
              <a:gd name="adj1" fmla="val 45537"/>
              <a:gd name="adj2" fmla="val 7872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みろ </a:t>
            </a: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/ 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みるな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475160"/>
            <a:ext cx="4415040" cy="1103400"/>
          </a:xfrm>
          <a:prstGeom prst="wedgeRoundRectCallout">
            <a:avLst>
              <a:gd name="adj1" fmla="val -63351"/>
              <a:gd name="adj2" fmla="val -11299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みろ </a:t>
            </a: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/ 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みるな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87880" y="4548240"/>
            <a:ext cx="831600" cy="806400"/>
            <a:chOff x="3287880" y="4548240"/>
            <a:chExt cx="831600" cy="806400"/>
          </a:xfrm>
        </p:grpSpPr>
        <p:sp>
          <p:nvSpPr>
            <p:cNvPr id="163" name=""/>
            <p:cNvSpPr/>
            <p:nvPr/>
          </p:nvSpPr>
          <p:spPr>
            <a:xfrm>
              <a:off x="3290760" y="4548240"/>
              <a:ext cx="825120" cy="80496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87880" y="4549680"/>
              <a:ext cx="831600" cy="80496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880400" y="3770280"/>
            <a:ext cx="1406520" cy="3479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504120" y="3665520"/>
            <a:ext cx="1390680" cy="3581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49840" y="2882880"/>
            <a:ext cx="2439720" cy="16970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189160" y="1909800"/>
            <a:ext cx="1892160" cy="5079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55480" y="1549440"/>
            <a:ext cx="1652760" cy="562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232160" y="816120"/>
            <a:ext cx="4415040" cy="1103040"/>
          </a:xfrm>
          <a:prstGeom prst="wedgeRoundRectCallout">
            <a:avLst>
              <a:gd name="adj1" fmla="val -56495"/>
              <a:gd name="adj2" fmla="val 11977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みろ </a:t>
            </a: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/ 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みるな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705040" y="1617840"/>
            <a:ext cx="4415040" cy="1103040"/>
          </a:xfrm>
          <a:prstGeom prst="wedgeRoundRectCallout">
            <a:avLst>
              <a:gd name="adj1" fmla="val 52050"/>
              <a:gd name="adj2" fmla="val 15537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61240" y="2771640"/>
            <a:ext cx="2968560" cy="478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-4087800" y="2455920"/>
            <a:ext cx="10078920" cy="6367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943360" y="1989000"/>
            <a:ext cx="203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みんな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5" name=""/>
          <p:cNvSpPr/>
          <p:nvPr/>
        </p:nvSpPr>
        <p:spPr>
          <a:xfrm>
            <a:off x="5052960" y="1976400"/>
            <a:ext cx="2032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にげろ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332160" y="1514520"/>
            <a:ext cx="2892600" cy="5267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495600" y="1695600"/>
            <a:ext cx="2387520" cy="1866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03200" y="885960"/>
            <a:ext cx="3159000" cy="186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203880" y="2558880"/>
            <a:ext cx="2408400" cy="1184400"/>
          </a:xfrm>
          <a:prstGeom prst="ellipse">
            <a:avLst/>
          </a:prstGeom>
          <a:solidFill>
            <a:srgbClr val="ffffff"/>
          </a:solidFill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54000" tIns="123120" bIns="54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</a:rPr>
              <a:t>たばこを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</a:rPr>
              <a:t>すうな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144960" y="5618160"/>
            <a:ext cx="5854680" cy="1608120"/>
            <a:chOff x="3144960" y="5618160"/>
            <a:chExt cx="5854680" cy="1608120"/>
          </a:xfrm>
        </p:grpSpPr>
        <p:sp>
          <p:nvSpPr>
            <p:cNvPr id="181" name=""/>
            <p:cNvSpPr/>
            <p:nvPr/>
          </p:nvSpPr>
          <p:spPr>
            <a:xfrm>
              <a:off x="3144960" y="5618160"/>
              <a:ext cx="5854680" cy="1608120"/>
            </a:xfrm>
            <a:prstGeom prst="roundRect">
              <a:avLst>
                <a:gd name="adj" fmla="val 9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おうえんするとき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8920" y="2181240"/>
            <a:ext cx="2490840" cy="7559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248000" y="1633680"/>
            <a:ext cx="4415040" cy="1103040"/>
          </a:xfrm>
          <a:prstGeom prst="wedgeRoundRectCallout">
            <a:avLst>
              <a:gd name="adj1" fmla="val -91083"/>
              <a:gd name="adj2" fmla="val 11566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がんばれ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まけるな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150840"/>
            <a:ext cx="7005600" cy="1843200"/>
          </a:xfrm>
          <a:prstGeom prst="wedgeRoundRectCallout">
            <a:avLst>
              <a:gd name="adj1" fmla="val -22814"/>
              <a:gd name="adj2" fmla="val 8042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8720" y="2120760"/>
            <a:ext cx="1344600" cy="3822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1200" y="349200"/>
            <a:ext cx="70023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きのう 、せんせい</a:t>
            </a:r>
            <a:r>
              <a:rPr b="0" lang="ja-JP" sz="4000" spc="-1" strike="noStrike">
                <a:solidFill>
                  <a:srgbClr val="800000"/>
                </a:solidFill>
                <a:latin typeface="YOzFontP04"/>
                <a:ea typeface="YOzFontP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らいしゅう、テストがある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YOzFontP04"/>
                <a:ea typeface="YOzFontP04"/>
              </a:rPr>
              <a:t>と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いっ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ていました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" name=""/>
          <p:cNvSpPr/>
          <p:nvPr/>
        </p:nvSpPr>
        <p:spPr>
          <a:xfrm>
            <a:off x="1787400" y="3952800"/>
            <a:ext cx="2805120" cy="2140200"/>
          </a:xfrm>
          <a:prstGeom prst="roundRect">
            <a:avLst>
              <a:gd name="adj" fmla="val 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" name=""/>
          <p:cNvSpPr/>
          <p:nvPr/>
        </p:nvSpPr>
        <p:spPr>
          <a:xfrm>
            <a:off x="3981600" y="2511360"/>
            <a:ext cx="2832120" cy="612720"/>
          </a:xfrm>
          <a:prstGeom prst="roundRect">
            <a:avLst>
              <a:gd name="adj" fmla="val 29273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らいしゅう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テストがありますよ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7560" y="2014560"/>
            <a:ext cx="2370240" cy="720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576840" y="1703520"/>
            <a:ext cx="2608560" cy="7670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94160" y="2136600"/>
            <a:ext cx="244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きのう・せんせい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089160" y="1481040"/>
            <a:ext cx="2397240" cy="7559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70000" y="282600"/>
            <a:ext cx="4233600" cy="1873080"/>
          </a:xfrm>
          <a:prstGeom prst="wedgeRoundRectCallout">
            <a:avLst>
              <a:gd name="adj1" fmla="val 31518"/>
              <a:gd name="adj2" fmla="val 8696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6" name=""/>
          <p:cNvSpPr/>
          <p:nvPr/>
        </p:nvSpPr>
        <p:spPr>
          <a:xfrm>
            <a:off x="615960" y="706320"/>
            <a:ext cx="16016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おい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610320" y="1316160"/>
            <a:ext cx="2219400" cy="7559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58800" y="1303200"/>
            <a:ext cx="3301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あれ みろ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よ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573960" y="1538280"/>
            <a:ext cx="2411280" cy="7307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24160" y="1346040"/>
            <a:ext cx="2587680" cy="7560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70000" y="282600"/>
            <a:ext cx="4233600" cy="1873080"/>
          </a:xfrm>
          <a:prstGeom prst="wedgeRoundRectCallout">
            <a:avLst>
              <a:gd name="adj1" fmla="val 31518"/>
              <a:gd name="adj2" fmla="val 8696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2" name=""/>
          <p:cNvSpPr/>
          <p:nvPr/>
        </p:nvSpPr>
        <p:spPr>
          <a:xfrm>
            <a:off x="615960" y="70488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ねえ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3" name=""/>
          <p:cNvSpPr/>
          <p:nvPr/>
        </p:nvSpPr>
        <p:spPr>
          <a:xfrm>
            <a:off x="604800" y="1330200"/>
            <a:ext cx="3303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あれ 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みな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よ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09520" y="70020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089160" y="77004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04840" y="3403440"/>
            <a:ext cx="1630440" cy="2659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132000" y="351648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14280" y="0"/>
            <a:ext cx="2025720" cy="3260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3119400" y="98280"/>
            <a:ext cx="2049480" cy="3305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3402000" y="151272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3733920" y="158256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4680000" y="17240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0"/>
          <a:stretch/>
        </p:blipFill>
        <p:spPr>
          <a:xfrm>
            <a:off x="515880" y="148428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1"/>
          <a:stretch/>
        </p:blipFill>
        <p:spPr>
          <a:xfrm>
            <a:off x="847800" y="155412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2"/>
          <a:stretch/>
        </p:blipFill>
        <p:spPr>
          <a:xfrm>
            <a:off x="1795320" y="1695600"/>
            <a:ext cx="725760" cy="331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3"/>
          <a:stretch/>
        </p:blipFill>
        <p:spPr>
          <a:xfrm>
            <a:off x="135000" y="2451240"/>
            <a:ext cx="2273400" cy="37479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4"/>
          <a:stretch/>
        </p:blipFill>
        <p:spPr>
          <a:xfrm>
            <a:off x="417600" y="421632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5"/>
          <a:stretch/>
        </p:blipFill>
        <p:spPr>
          <a:xfrm>
            <a:off x="749160" y="4286160"/>
            <a:ext cx="1001880" cy="552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6"/>
          <a:stretch/>
        </p:blipFill>
        <p:spPr>
          <a:xfrm>
            <a:off x="1697040" y="44258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7"/>
          <a:stretch/>
        </p:blipFill>
        <p:spPr>
          <a:xfrm>
            <a:off x="6966000" y="2087640"/>
            <a:ext cx="2990880" cy="6514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805280" y="403200"/>
            <a:ext cx="4233960" cy="1873440"/>
          </a:xfrm>
          <a:prstGeom prst="wedgeRoundRectCallout">
            <a:avLst>
              <a:gd name="adj1" fmla="val 31518"/>
              <a:gd name="adj2" fmla="val 8696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857160"/>
            <a:ext cx="3049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おきなさい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8"/>
          <a:stretch/>
        </p:blipFill>
        <p:spPr>
          <a:xfrm>
            <a:off x="3151080" y="2901960"/>
            <a:ext cx="267984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9520" y="70020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089160" y="77004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04840" y="3403440"/>
            <a:ext cx="1630440" cy="2659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14280" y="0"/>
            <a:ext cx="2025720" cy="3260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3119400" y="98280"/>
            <a:ext cx="2049480" cy="3305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3402000" y="151272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3132000" y="351648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3198960" y="2590920"/>
            <a:ext cx="2222280" cy="35416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3733920" y="158256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0"/>
          <a:stretch/>
        </p:blipFill>
        <p:spPr>
          <a:xfrm>
            <a:off x="4680000" y="17240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1"/>
          <a:stretch/>
        </p:blipFill>
        <p:spPr>
          <a:xfrm>
            <a:off x="515880" y="148428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2"/>
          <a:stretch/>
        </p:blipFill>
        <p:spPr>
          <a:xfrm>
            <a:off x="847800" y="155412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3"/>
          <a:stretch/>
        </p:blipFill>
        <p:spPr>
          <a:xfrm>
            <a:off x="1795320" y="1695600"/>
            <a:ext cx="725760" cy="331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4"/>
          <a:stretch/>
        </p:blipFill>
        <p:spPr>
          <a:xfrm>
            <a:off x="135000" y="2451240"/>
            <a:ext cx="2273400" cy="3747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5"/>
          <a:stretch/>
        </p:blipFill>
        <p:spPr>
          <a:xfrm>
            <a:off x="417600" y="421632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6"/>
          <a:stretch/>
        </p:blipFill>
        <p:spPr>
          <a:xfrm>
            <a:off x="749160" y="4286160"/>
            <a:ext cx="1001880" cy="552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7"/>
          <a:stretch/>
        </p:blipFill>
        <p:spPr>
          <a:xfrm>
            <a:off x="1697040" y="44258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8"/>
          <a:stretch/>
        </p:blipFill>
        <p:spPr>
          <a:xfrm>
            <a:off x="3303720" y="430056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9"/>
          <a:stretch/>
        </p:blipFill>
        <p:spPr>
          <a:xfrm>
            <a:off x="3635280" y="4300560"/>
            <a:ext cx="1001880" cy="552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0"/>
          <a:stretch/>
        </p:blipFill>
        <p:spPr>
          <a:xfrm>
            <a:off x="4583160" y="44402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1"/>
          <a:stretch/>
        </p:blipFill>
        <p:spPr>
          <a:xfrm>
            <a:off x="6966000" y="1922400"/>
            <a:ext cx="2990880" cy="651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2"/>
          <a:stretch/>
        </p:blipFill>
        <p:spPr>
          <a:xfrm>
            <a:off x="4680000" y="1724040"/>
            <a:ext cx="725400" cy="331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805280" y="403200"/>
            <a:ext cx="4233960" cy="1873440"/>
          </a:xfrm>
          <a:prstGeom prst="wedgeRoundRectCallout">
            <a:avLst>
              <a:gd name="adj1" fmla="val 31518"/>
              <a:gd name="adj2" fmla="val 8696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7" name=""/>
          <p:cNvSpPr/>
          <p:nvPr/>
        </p:nvSpPr>
        <p:spPr>
          <a:xfrm>
            <a:off x="5318280" y="495360"/>
            <a:ext cx="3555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きょうかしょ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8" name=""/>
          <p:cNvSpPr/>
          <p:nvPr/>
        </p:nvSpPr>
        <p:spPr>
          <a:xfrm>
            <a:off x="4873680" y="10350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よみなさい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（よんでください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16120" y="662040"/>
            <a:ext cx="2966760" cy="5891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0" name=""/>
          <p:cNvSpPr/>
          <p:nvPr/>
        </p:nvSpPr>
        <p:spPr>
          <a:xfrm>
            <a:off x="4214880" y="717480"/>
            <a:ext cx="5440320" cy="1643040"/>
          </a:xfrm>
          <a:prstGeom prst="roundRect">
            <a:avLst>
              <a:gd name="adj" fmla="val 9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「しようきんし」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Bitstream Vera Serif"/>
                <a:ea typeface="YOzFontP04"/>
              </a:rPr>
              <a:t>と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よみ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1" name=""/>
          <p:cNvSpPr/>
          <p:nvPr/>
        </p:nvSpPr>
        <p:spPr>
          <a:xfrm>
            <a:off x="4253040" y="2557440"/>
            <a:ext cx="5440320" cy="146052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「しようきんし」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Bitstream Vera Serif"/>
                <a:ea typeface="YOzFontP04"/>
              </a:rPr>
              <a:t>と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かいてあり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2" name=""/>
          <p:cNvSpPr/>
          <p:nvPr/>
        </p:nvSpPr>
        <p:spPr>
          <a:xfrm>
            <a:off x="4110120" y="4189320"/>
            <a:ext cx="5675400" cy="2505240"/>
          </a:xfrm>
          <a:prstGeom prst="roundRect">
            <a:avLst>
              <a:gd name="adj" fmla="val 6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これ</a:t>
            </a:r>
            <a:r>
              <a:rPr b="0" lang="ja-JP" sz="4800" spc="-1" strike="noStrike">
                <a:solidFill>
                  <a:srgbClr val="800000"/>
                </a:solidFill>
                <a:latin typeface="Bitstream Vera Serif"/>
                <a:ea typeface="YOzFont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つかうな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Bitstream Vera Serif"/>
                <a:ea typeface="YOzFontP04"/>
              </a:rPr>
              <a:t>と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いういみ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07880" y="2884320"/>
            <a:ext cx="6081840" cy="1714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4" name=""/>
          <p:cNvSpPr/>
          <p:nvPr/>
        </p:nvSpPr>
        <p:spPr>
          <a:xfrm>
            <a:off x="4938840" y="744480"/>
            <a:ext cx="4572000" cy="1643040"/>
          </a:xfrm>
          <a:prstGeom prst="roundRect">
            <a:avLst>
              <a:gd name="adj" fmla="val 9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Bitstream Vera Serif"/>
                <a:ea typeface="YOzFontP04"/>
              </a:rPr>
              <a:t>	</a:t>
            </a:r>
            <a:r>
              <a:rPr b="0" lang="en-US" sz="4800" spc="-1" strike="noStrike" u="sng">
                <a:solidFill>
                  <a:srgbClr val="800000"/>
                </a:solidFill>
                <a:uFillTx/>
                <a:latin typeface="Bitstream Vera Serif"/>
                <a:ea typeface="YOzFontP04"/>
              </a:rPr>
              <a:t>	</a:t>
            </a:r>
            <a:r>
              <a:rPr b="0" lang="en-US" sz="4800" spc="-1" strike="noStrike" u="sng">
                <a:solidFill>
                  <a:srgbClr val="800000"/>
                </a:solidFill>
                <a:uFillTx/>
                <a:latin typeface="Bitstream Vera Serif"/>
                <a:ea typeface="YOzFontP04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とよみますか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5" name=""/>
          <p:cNvSpPr/>
          <p:nvPr/>
        </p:nvSpPr>
        <p:spPr>
          <a:xfrm>
            <a:off x="5641920" y="2571840"/>
            <a:ext cx="4437000" cy="146052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Bitstream Vera Serif"/>
                <a:ea typeface="YOzFontP04"/>
              </a:rPr>
              <a:t>	</a:t>
            </a:r>
            <a:r>
              <a:rPr b="0" lang="en-US" sz="4800" spc="-1" strike="noStrike" u="sng">
                <a:solidFill>
                  <a:srgbClr val="800000"/>
                </a:solidFill>
                <a:uFillTx/>
                <a:latin typeface="Bitstream Vera Serif"/>
                <a:ea typeface="YOzFontP04"/>
              </a:rPr>
              <a:t>	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Bitstream Vera Serif"/>
                <a:ea typeface="YOzFontP04"/>
              </a:rPr>
              <a:t>と</a:t>
            </a: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かいて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ありますか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6" name=""/>
          <p:cNvSpPr/>
          <p:nvPr/>
        </p:nvSpPr>
        <p:spPr>
          <a:xfrm>
            <a:off x="3855960" y="4189320"/>
            <a:ext cx="6222960" cy="2505240"/>
          </a:xfrm>
          <a:prstGeom prst="roundRect">
            <a:avLst>
              <a:gd name="adj" fmla="val 6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これ</a:t>
            </a:r>
            <a:r>
              <a:rPr b="0" lang="ja-JP" sz="4800" spc="-1" strike="noStrike">
                <a:solidFill>
                  <a:srgbClr val="800000"/>
                </a:solidFill>
                <a:latin typeface="Bitstream Vera Serif"/>
                <a:ea typeface="YOzFont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800000"/>
                </a:solidFill>
                <a:uFillTx/>
                <a:latin typeface="Bitstream Vera Serif"/>
                <a:ea typeface="YOzFontP04"/>
              </a:rPr>
              <a:t>と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いういみ</a:t>
            </a:r>
            <a:r>
              <a:rPr b="0" lang="en-US" sz="4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いみ</a:t>
            </a:r>
            <a:r>
              <a:rPr b="0" lang="en-US" sz="4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)</a:t>
            </a:r>
            <a:r>
              <a:rPr b="0" lang="ja-JP" sz="4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ですか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7" name=""/>
          <p:cNvSpPr/>
          <p:nvPr/>
        </p:nvSpPr>
        <p:spPr>
          <a:xfrm>
            <a:off x="5219640" y="639720"/>
            <a:ext cx="2362320" cy="9129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8" name=""/>
          <p:cNvSpPr/>
          <p:nvPr/>
        </p:nvSpPr>
        <p:spPr>
          <a:xfrm>
            <a:off x="5597640" y="2374920"/>
            <a:ext cx="1697040" cy="9129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9" name=""/>
          <p:cNvSpPr/>
          <p:nvPr/>
        </p:nvSpPr>
        <p:spPr>
          <a:xfrm>
            <a:off x="4840200" y="574560"/>
            <a:ext cx="2727360" cy="9525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何</a:t>
            </a:r>
            <a:r>
              <a:rPr b="0" lang="en-US" sz="4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(</a:t>
            </a:r>
            <a:r>
              <a:rPr b="0" lang="ja-JP" sz="4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なん</a:t>
            </a:r>
            <a:r>
              <a:rPr b="0" lang="en-US" sz="4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0" name=""/>
          <p:cNvSpPr/>
          <p:nvPr/>
        </p:nvSpPr>
        <p:spPr>
          <a:xfrm>
            <a:off x="4684680" y="2374920"/>
            <a:ext cx="2727360" cy="9525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何</a:t>
            </a:r>
            <a:r>
              <a:rPr b="0" lang="en-US" sz="4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(</a:t>
            </a:r>
            <a:r>
              <a:rPr b="0" lang="ja-JP" sz="4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なん</a:t>
            </a:r>
            <a:r>
              <a:rPr b="0" lang="en-US" sz="4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1" name=""/>
          <p:cNvSpPr/>
          <p:nvPr/>
        </p:nvSpPr>
        <p:spPr>
          <a:xfrm>
            <a:off x="5114880" y="4944960"/>
            <a:ext cx="1697040" cy="91296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みかちゃん"/>
                <a:ea typeface="YOzFontP04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2" name=""/>
          <p:cNvSpPr/>
          <p:nvPr/>
        </p:nvSpPr>
        <p:spPr>
          <a:xfrm>
            <a:off x="4842000" y="4984920"/>
            <a:ext cx="2974680" cy="809280"/>
          </a:xfrm>
          <a:prstGeom prst="roundRect">
            <a:avLst>
              <a:gd name="adj" fmla="val 1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448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どういう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25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27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2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157320"/>
            <a:ext cx="10078920" cy="72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157320"/>
            <a:ext cx="10078920" cy="72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375000" y="2571840"/>
            <a:ext cx="243828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86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Bitstream Vera Serif"/>
              </a:rPr>
              <a:t>無料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554200" y="588960"/>
            <a:ext cx="7666200" cy="1708200"/>
          </a:xfrm>
          <a:prstGeom prst="wedgeRoundRectCallout">
            <a:avLst>
              <a:gd name="adj1" fmla="val -14689"/>
              <a:gd name="adj2" fmla="val 7743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96920" y="2763720"/>
            <a:ext cx="2162160" cy="56055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8426520" y="1433520"/>
            <a:ext cx="1197000" cy="3340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685960" y="704880"/>
            <a:ext cx="60912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しゃちょう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かわださん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という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かた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き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0" name=""/>
          <p:cNvSpPr/>
          <p:nvPr/>
        </p:nvSpPr>
        <p:spPr>
          <a:xfrm>
            <a:off x="7450200" y="2610000"/>
            <a:ext cx="2479680" cy="2662200"/>
          </a:xfrm>
          <a:custGeom>
            <a:avLst/>
            <a:gdLst>
              <a:gd name="textAreaLeft" fmla="*/ 360 w 2479680"/>
              <a:gd name="textAreaRight" fmla="*/ 2479320 w 2479680"/>
              <a:gd name="textAreaTop" fmla="*/ 360 h 2662200"/>
              <a:gd name="textAreaBottom" fmla="*/ 2661840 h 2662200"/>
            </a:gdLst>
            <a:ahLst/>
            <a:rect l="textAreaLeft" t="textAreaTop" r="textAreaRight" b="textAreaBottom"/>
            <a:pathLst>
              <a:path w="21600" h="23190">
                <a:moveTo>
                  <a:pt x="13" y="0"/>
                </a:moveTo>
                <a:arcTo wR="13" hR="13" stAng="16200000" swAng="-5400000"/>
                <a:lnTo>
                  <a:pt x="0" y="23177"/>
                </a:lnTo>
                <a:arcTo wR="13" hR="13" stAng="10800000" swAng="-5400000"/>
                <a:lnTo>
                  <a:pt x="21587" y="23190"/>
                </a:lnTo>
                <a:arcTo wR="13" hR="13" stAng="5400000" swAng="-5400000"/>
                <a:lnTo>
                  <a:pt x="21600" y="13"/>
                </a:lnTo>
                <a:arcTo wR="13" hR="1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1" name=""/>
          <p:cNvSpPr/>
          <p:nvPr/>
        </p:nvSpPr>
        <p:spPr>
          <a:xfrm>
            <a:off x="8159760" y="1287360"/>
            <a:ext cx="2022480" cy="16509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2" name=""/>
          <p:cNvSpPr/>
          <p:nvPr/>
        </p:nvSpPr>
        <p:spPr>
          <a:xfrm>
            <a:off x="5716440" y="3027240"/>
            <a:ext cx="43182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しゃちょう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しらない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と おもってい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3616200" y="2509920"/>
            <a:ext cx="1987560" cy="600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150840"/>
            <a:ext cx="7554960" cy="1763640"/>
          </a:xfrm>
          <a:prstGeom prst="wedgeRoundRectCallout">
            <a:avLst>
              <a:gd name="adj1" fmla="val -24787"/>
              <a:gd name="adj2" fmla="val 8622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98720" y="2120760"/>
            <a:ext cx="1344600" cy="3822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2880" y="365040"/>
            <a:ext cx="711360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きのう 、せんせい</a:t>
            </a:r>
            <a:r>
              <a:rPr b="0" lang="ja-JP" sz="4000" spc="-1" strike="noStrike">
                <a:solidFill>
                  <a:srgbClr val="800000"/>
                </a:solidFill>
                <a:latin typeface="YOzFontP04"/>
                <a:ea typeface="YOzFontP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らいしゅう、テストがある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っ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（いってたよ）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" name=""/>
          <p:cNvSpPr/>
          <p:nvPr/>
        </p:nvSpPr>
        <p:spPr>
          <a:xfrm>
            <a:off x="1787400" y="3952800"/>
            <a:ext cx="2805120" cy="2140200"/>
          </a:xfrm>
          <a:prstGeom prst="roundRect">
            <a:avLst>
              <a:gd name="adj" fmla="val 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" name=""/>
          <p:cNvSpPr/>
          <p:nvPr/>
        </p:nvSpPr>
        <p:spPr>
          <a:xfrm>
            <a:off x="3981600" y="2511360"/>
            <a:ext cx="2832120" cy="612720"/>
          </a:xfrm>
          <a:prstGeom prst="roundRect">
            <a:avLst>
              <a:gd name="adj" fmla="val 29273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らいしゅう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テストがありますよ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7560" y="2014560"/>
            <a:ext cx="2370240" cy="7207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672240" y="1557360"/>
            <a:ext cx="216864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249800" y="2014560"/>
            <a:ext cx="2611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きのう・せんせい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554200" y="588960"/>
            <a:ext cx="7666200" cy="1708200"/>
          </a:xfrm>
          <a:prstGeom prst="wedgeRoundRectCallout">
            <a:avLst>
              <a:gd name="adj1" fmla="val -14689"/>
              <a:gd name="adj2" fmla="val 7743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6920" y="2763720"/>
            <a:ext cx="2162160" cy="56055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367080" y="704880"/>
            <a:ext cx="66038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しゃちょう、リュシーさん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き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7" name=""/>
          <p:cNvSpPr/>
          <p:nvPr/>
        </p:nvSpPr>
        <p:spPr>
          <a:xfrm>
            <a:off x="7450200" y="2610000"/>
            <a:ext cx="2479680" cy="2662200"/>
          </a:xfrm>
          <a:custGeom>
            <a:avLst/>
            <a:gdLst>
              <a:gd name="textAreaLeft" fmla="*/ 360 w 2479680"/>
              <a:gd name="textAreaRight" fmla="*/ 2479320 w 2479680"/>
              <a:gd name="textAreaTop" fmla="*/ 360 h 2662200"/>
              <a:gd name="textAreaBottom" fmla="*/ 2661840 h 2662200"/>
            </a:gdLst>
            <a:ahLst/>
            <a:rect l="textAreaLeft" t="textAreaTop" r="textAreaRight" b="textAreaBottom"/>
            <a:pathLst>
              <a:path w="21600" h="23190">
                <a:moveTo>
                  <a:pt x="13" y="0"/>
                </a:moveTo>
                <a:arcTo wR="13" hR="13" stAng="16200000" swAng="-5400000"/>
                <a:lnTo>
                  <a:pt x="0" y="23177"/>
                </a:lnTo>
                <a:arcTo wR="13" hR="13" stAng="10800000" swAng="-5400000"/>
                <a:lnTo>
                  <a:pt x="21587" y="23190"/>
                </a:lnTo>
                <a:arcTo wR="13" hR="13" stAng="5400000" swAng="-5400000"/>
                <a:lnTo>
                  <a:pt x="21600" y="13"/>
                </a:lnTo>
                <a:arcTo wR="13" hR="1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616200" y="2509920"/>
            <a:ext cx="1987560" cy="6002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7845480" y="1212840"/>
            <a:ext cx="1197000" cy="33400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450200" y="2610000"/>
            <a:ext cx="2479680" cy="2662200"/>
          </a:xfrm>
          <a:custGeom>
            <a:avLst/>
            <a:gdLst>
              <a:gd name="textAreaLeft" fmla="*/ 360 w 2479680"/>
              <a:gd name="textAreaRight" fmla="*/ 2479320 w 2479680"/>
              <a:gd name="textAreaTop" fmla="*/ 360 h 2662200"/>
              <a:gd name="textAreaBottom" fmla="*/ 2661840 h 2662200"/>
            </a:gdLst>
            <a:ahLst/>
            <a:rect l="textAreaLeft" t="textAreaTop" r="textAreaRight" b="textAreaBottom"/>
            <a:pathLst>
              <a:path w="21600" h="23190">
                <a:moveTo>
                  <a:pt x="13" y="0"/>
                </a:moveTo>
                <a:arcTo wR="13" hR="13" stAng="16200000" swAng="-5400000"/>
                <a:lnTo>
                  <a:pt x="0" y="23177"/>
                </a:lnTo>
                <a:arcTo wR="13" hR="13" stAng="10800000" swAng="-5400000"/>
                <a:lnTo>
                  <a:pt x="21587" y="23190"/>
                </a:lnTo>
                <a:arcTo wR="13" hR="13" stAng="5400000" swAng="-5400000"/>
                <a:lnTo>
                  <a:pt x="21600" y="13"/>
                </a:lnTo>
                <a:arcTo wR="13" hR="1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1" name=""/>
          <p:cNvSpPr/>
          <p:nvPr/>
        </p:nvSpPr>
        <p:spPr>
          <a:xfrm>
            <a:off x="5459400" y="2906640"/>
            <a:ext cx="43178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しゃちょう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しっている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と おもってい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711360" y="1149480"/>
            <a:ext cx="7113600" cy="69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〜と いう 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1)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どこから きました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2)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どこで うまれました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3)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どこの こうこうで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べんきょうしました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4)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おとうさん</a:t>
            </a: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おかあさん</a:t>
            </a: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etc.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の かいしゃは どこ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748480" y="2600280"/>
            <a:ext cx="1987560" cy="60022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2041560" y="2778120"/>
            <a:ext cx="2162160" cy="56055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96920" y="287280"/>
            <a:ext cx="4368600" cy="1935360"/>
          </a:xfrm>
          <a:prstGeom prst="wedgeRoundRectCallout">
            <a:avLst>
              <a:gd name="adj1" fmla="val 6731"/>
              <a:gd name="adj2" fmla="val 10779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6" name=""/>
          <p:cNvSpPr/>
          <p:nvPr/>
        </p:nvSpPr>
        <p:spPr>
          <a:xfrm>
            <a:off x="363600" y="695160"/>
            <a:ext cx="45720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きみ、も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かえってもいいよ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7" name=""/>
          <p:cNvSpPr/>
          <p:nvPr/>
        </p:nvSpPr>
        <p:spPr>
          <a:xfrm>
            <a:off x="3537000" y="4157640"/>
            <a:ext cx="5003640" cy="2185920"/>
          </a:xfrm>
          <a:prstGeom prst="wedgeRoundRectCallout">
            <a:avLst>
              <a:gd name="adj1" fmla="val -750"/>
              <a:gd name="adj2" fmla="val -8180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8" name=""/>
          <p:cNvSpPr/>
          <p:nvPr/>
        </p:nvSpPr>
        <p:spPr>
          <a:xfrm>
            <a:off x="4152960" y="4348080"/>
            <a:ext cx="45720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きょうの しごと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おわりだ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ということ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ですね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9" name=""/>
          <p:cNvSpPr/>
          <p:nvPr/>
        </p:nvSpPr>
        <p:spPr>
          <a:xfrm>
            <a:off x="4140360" y="1787400"/>
            <a:ext cx="793440" cy="1962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748480" y="2600280"/>
            <a:ext cx="1987560" cy="60022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041560" y="2778120"/>
            <a:ext cx="2162160" cy="56055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96920" y="287280"/>
            <a:ext cx="4368600" cy="1935360"/>
          </a:xfrm>
          <a:prstGeom prst="wedgeRoundRectCallout">
            <a:avLst>
              <a:gd name="adj1" fmla="val 6731"/>
              <a:gd name="adj2" fmla="val 10779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3" name=""/>
          <p:cNvSpPr/>
          <p:nvPr/>
        </p:nvSpPr>
        <p:spPr>
          <a:xfrm>
            <a:off x="453960" y="558720"/>
            <a:ext cx="45720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きみ、あしたか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かいしゃ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こなくてもいいよ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4" name=""/>
          <p:cNvSpPr/>
          <p:nvPr/>
        </p:nvSpPr>
        <p:spPr>
          <a:xfrm>
            <a:off x="3897360" y="4157640"/>
            <a:ext cx="5140440" cy="831960"/>
          </a:xfrm>
          <a:prstGeom prst="wedgeRoundRectCallout">
            <a:avLst>
              <a:gd name="adj1" fmla="val -2055"/>
              <a:gd name="adj2" fmla="val -13359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5" name=""/>
          <p:cNvSpPr/>
          <p:nvPr/>
        </p:nvSpPr>
        <p:spPr>
          <a:xfrm>
            <a:off x="4138560" y="4321080"/>
            <a:ext cx="5079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どういうこと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6" name=""/>
          <p:cNvSpPr/>
          <p:nvPr/>
        </p:nvSpPr>
        <p:spPr>
          <a:xfrm>
            <a:off x="4138560" y="1787400"/>
            <a:ext cx="793800" cy="1962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7" name=""/>
          <p:cNvSpPr/>
          <p:nvPr/>
        </p:nvSpPr>
        <p:spPr>
          <a:xfrm>
            <a:off x="4905360" y="2540160"/>
            <a:ext cx="409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06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itstream Vera Serif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748480" y="2600280"/>
            <a:ext cx="1987560" cy="6002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041560" y="2778120"/>
            <a:ext cx="2162160" cy="5605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96920" y="287280"/>
            <a:ext cx="5472000" cy="1935360"/>
          </a:xfrm>
          <a:prstGeom prst="wedgeRoundRectCallout">
            <a:avLst>
              <a:gd name="adj1" fmla="val -4708"/>
              <a:gd name="adj2" fmla="val 10779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1" name=""/>
          <p:cNvSpPr/>
          <p:nvPr/>
        </p:nvSpPr>
        <p:spPr>
          <a:xfrm>
            <a:off x="453960" y="558720"/>
            <a:ext cx="482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かいしゃを やめろと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いうこと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だよ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47560" y="1663560"/>
            <a:ext cx="2219400" cy="75596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089760" y="2014560"/>
            <a:ext cx="2369880" cy="7207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830240" y="243000"/>
            <a:ext cx="7570800" cy="2043000"/>
          </a:xfrm>
          <a:prstGeom prst="wedgeRoundRectCallout">
            <a:avLst>
              <a:gd name="adj1" fmla="val -42425"/>
              <a:gd name="adj2" fmla="val 6387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5" name=""/>
          <p:cNvSpPr/>
          <p:nvPr/>
        </p:nvSpPr>
        <p:spPr>
          <a:xfrm>
            <a:off x="2178000" y="423720"/>
            <a:ext cx="738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あした、やっぱり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ドライブへ いけるよ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せんせい、あした こないって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6" name=""/>
          <p:cNvSpPr/>
          <p:nvPr/>
        </p:nvSpPr>
        <p:spPr>
          <a:xfrm>
            <a:off x="3538440" y="4157640"/>
            <a:ext cx="5004000" cy="2327400"/>
          </a:xfrm>
          <a:prstGeom prst="wedgeRoundRectCallout">
            <a:avLst>
              <a:gd name="adj1" fmla="val -750"/>
              <a:gd name="adj2" fmla="val -7985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7" name=""/>
          <p:cNvSpPr/>
          <p:nvPr/>
        </p:nvSpPr>
        <p:spPr>
          <a:xfrm>
            <a:off x="4152960" y="4348080"/>
            <a:ext cx="43178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あしたの テスト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なくなっ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ということ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ね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47560" y="1663560"/>
            <a:ext cx="2219400" cy="7559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089760" y="2014560"/>
            <a:ext cx="2369880" cy="72072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63600" y="106200"/>
            <a:ext cx="7485120" cy="1451160"/>
          </a:xfrm>
          <a:prstGeom prst="wedgeRoundRectCallout">
            <a:avLst>
              <a:gd name="adj1" fmla="val -20310"/>
              <a:gd name="adj2" fmla="val 11871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1" name=""/>
          <p:cNvSpPr/>
          <p:nvPr/>
        </p:nvSpPr>
        <p:spPr>
          <a:xfrm>
            <a:off x="1413000" y="415800"/>
            <a:ext cx="48258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ううん、せんせい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きょう きてるから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2" name=""/>
          <p:cNvSpPr/>
          <p:nvPr/>
        </p:nvSpPr>
        <p:spPr>
          <a:xfrm>
            <a:off x="3538440" y="4157640"/>
            <a:ext cx="5092920" cy="2279520"/>
          </a:xfrm>
          <a:prstGeom prst="wedgeRoundRectCallout">
            <a:avLst>
              <a:gd name="adj1" fmla="val -1611"/>
              <a:gd name="adj2" fmla="val -8046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3" name=""/>
          <p:cNvSpPr/>
          <p:nvPr/>
        </p:nvSpPr>
        <p:spPr>
          <a:xfrm>
            <a:off x="4152960" y="4348080"/>
            <a:ext cx="43178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それっ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いまから テスト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ある 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ってこと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32440" y="830160"/>
            <a:ext cx="3308400" cy="6486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7600" y="1930320"/>
            <a:ext cx="2158920" cy="635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94000" y="2577960"/>
            <a:ext cx="2465280" cy="5496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230720" y="3557520"/>
            <a:ext cx="1973160" cy="2038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08400" y="371520"/>
            <a:ext cx="5504040" cy="1860480"/>
          </a:xfrm>
          <a:prstGeom prst="wedgeRoundRectCallout">
            <a:avLst>
              <a:gd name="adj1" fmla="val -43240"/>
              <a:gd name="adj2" fmla="val 9550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573120"/>
            <a:ext cx="50767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ドアをあけ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くれません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ください。</a:t>
            </a: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9000" y="635040"/>
            <a:ext cx="4300560" cy="2576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08400" y="371520"/>
            <a:ext cx="5504040" cy="1860480"/>
          </a:xfrm>
          <a:prstGeom prst="wedgeRoundRectCallout">
            <a:avLst>
              <a:gd name="adj1" fmla="val -2217"/>
              <a:gd name="adj2" fmla="val 8997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" name=""/>
          <p:cNvSpPr/>
          <p:nvPr/>
        </p:nvSpPr>
        <p:spPr>
          <a:xfrm>
            <a:off x="4181400" y="969840"/>
            <a:ext cx="55040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あけないでください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（あけないでくれますか。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3" name=""/>
          <p:cNvSpPr/>
          <p:nvPr/>
        </p:nvSpPr>
        <p:spPr>
          <a:xfrm>
            <a:off x="4951440" y="512640"/>
            <a:ext cx="3913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P04"/>
                <a:ea typeface="YOzFontP04"/>
              </a:rPr>
              <a:t>いいえ、さむいですから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753240" y="2421000"/>
            <a:ext cx="2335320" cy="7089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714760" y="1952640"/>
            <a:ext cx="1788840" cy="5522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0000" y="538200"/>
            <a:ext cx="3873240" cy="1500120"/>
          </a:xfrm>
          <a:prstGeom prst="wedgeRoundRectCallout">
            <a:avLst>
              <a:gd name="adj1" fmla="val 22185"/>
              <a:gd name="adj2" fmla="val 8246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まどを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あけましょうか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32440" y="830160"/>
            <a:ext cx="3308400" cy="6486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35000" y="1650960"/>
            <a:ext cx="2081160" cy="590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354480" y="2063880"/>
            <a:ext cx="2465280" cy="5495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290840" y="3043080"/>
            <a:ext cx="1973520" cy="2038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208400" y="371520"/>
            <a:ext cx="5778720" cy="1860480"/>
          </a:xfrm>
          <a:prstGeom prst="wedgeRoundRectCallout">
            <a:avLst>
              <a:gd name="adj1" fmla="val -43564"/>
              <a:gd name="adj2" fmla="val 9549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2" name=""/>
          <p:cNvSpPr/>
          <p:nvPr/>
        </p:nvSpPr>
        <p:spPr>
          <a:xfrm>
            <a:off x="4427640" y="571680"/>
            <a:ext cx="538632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ドアをあけ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いただけません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くださいませんか。</a:t>
            </a: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203880" y="2557440"/>
            <a:ext cx="2408400" cy="11844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みかちゃん"/>
              </a:rPr>
              <a:t>No smoking!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64400" y="3247920"/>
            <a:ext cx="2408040" cy="5884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2080" y="2816280"/>
            <a:ext cx="2786040" cy="6315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6" name=""/>
          <p:cNvSpPr/>
          <p:nvPr/>
        </p:nvSpPr>
        <p:spPr>
          <a:xfrm>
            <a:off x="2014560" y="911160"/>
            <a:ext cx="5503680" cy="2232000"/>
          </a:xfrm>
          <a:prstGeom prst="wedgeRoundRectCallout">
            <a:avLst>
              <a:gd name="adj1" fmla="val 39263"/>
              <a:gd name="adj2" fmla="val 9943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7" name=""/>
          <p:cNvSpPr/>
          <p:nvPr/>
        </p:nvSpPr>
        <p:spPr>
          <a:xfrm>
            <a:off x="2220840" y="1353960"/>
            <a:ext cx="5410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たばこをすわないで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いただけません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くださいませんか。</a:t>
            </a: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32440" y="830160"/>
            <a:ext cx="3308400" cy="6486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4480" y="2063880"/>
            <a:ext cx="2465280" cy="5495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290840" y="3043080"/>
            <a:ext cx="1973520" cy="2038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08400" y="371520"/>
            <a:ext cx="5504040" cy="1860480"/>
          </a:xfrm>
          <a:prstGeom prst="wedgeRoundRectCallout">
            <a:avLst>
              <a:gd name="adj1" fmla="val -43240"/>
              <a:gd name="adj2" fmla="val 9550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2" name=""/>
          <p:cNvSpPr/>
          <p:nvPr/>
        </p:nvSpPr>
        <p:spPr>
          <a:xfrm>
            <a:off x="4427640" y="573120"/>
            <a:ext cx="50767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ドアをあけ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くれる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あけて。</a:t>
            </a: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1025640"/>
            <a:ext cx="1917720" cy="65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9000" y="635040"/>
            <a:ext cx="4300560" cy="2576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208400" y="371520"/>
            <a:ext cx="5504040" cy="1860480"/>
          </a:xfrm>
          <a:prstGeom prst="wedgeRoundRectCallout">
            <a:avLst>
              <a:gd name="adj1" fmla="val -2217"/>
              <a:gd name="adj2" fmla="val 8997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4040280" y="969840"/>
            <a:ext cx="6400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あけないで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（あけないでくれる？。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7" name=""/>
          <p:cNvSpPr/>
          <p:nvPr/>
        </p:nvSpPr>
        <p:spPr>
          <a:xfrm>
            <a:off x="4951440" y="512640"/>
            <a:ext cx="3200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P04"/>
                <a:ea typeface="YOzFontP04"/>
              </a:rPr>
              <a:t>いいえ、さむいから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0" y="2224080"/>
            <a:ext cx="2335320" cy="7089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0000" y="538200"/>
            <a:ext cx="3873240" cy="1500120"/>
          </a:xfrm>
          <a:prstGeom prst="wedgeRoundRectCallout">
            <a:avLst>
              <a:gd name="adj1" fmla="val 22185"/>
              <a:gd name="adj2" fmla="val 8246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まどを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あけようか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070080" y="1860480"/>
            <a:ext cx="1573200" cy="50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0:11:03Z</dcterms:created>
  <dc:creator/>
  <dc:description/>
  <dc:language>en-US</dc:language>
  <cp:lastModifiedBy/>
  <dcterms:modified xsi:type="dcterms:W3CDTF">2016-05-24T19:29:20Z</dcterms:modified>
  <cp:revision>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