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4480" y="404640"/>
            <a:ext cx="8864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9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50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3951360"/>
            <a:ext cx="20318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ん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んじょ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027080" y="373536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822240" y="199872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03600" y="38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428920" y="201456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-3451320" y="4213080"/>
            <a:ext cx="10079280" cy="5099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1160" y="154080"/>
            <a:ext cx="7620120" cy="1436760"/>
          </a:xfrm>
          <a:prstGeom prst="wedgeRoundRectCallout">
            <a:avLst>
              <a:gd name="adj1" fmla="val 46287"/>
              <a:gd name="adj2" fmla="val 123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んに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なさい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1514520" y="282600"/>
            <a:ext cx="25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に し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470720" y="1830240"/>
            <a:ext cx="2320920" cy="69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1720800"/>
            <a:ext cx="7557840" cy="33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めしあが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さ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ます・いきます・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いらっしゃ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ごらんにな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53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4600" y="106848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54120" y="0"/>
            <a:ext cx="9018360" cy="1436760"/>
          </a:xfrm>
          <a:prstGeom prst="wedgeRoundRectCallout">
            <a:avLst>
              <a:gd name="adj1" fmla="val -5620"/>
              <a:gd name="adj2" fmla="val 1008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2257560" y="65412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かけ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になって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2630520" y="12852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808200" y="6793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4600" y="106848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4120" y="0"/>
            <a:ext cx="9018360" cy="1436760"/>
          </a:xfrm>
          <a:prstGeom prst="wedgeRoundRectCallout">
            <a:avLst>
              <a:gd name="adj1" fmla="val -5620"/>
              <a:gd name="adj2" fmla="val 1008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2257560" y="65412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かけ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2630520" y="12852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808200" y="6793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977080" y="2008080"/>
            <a:ext cx="2619360" cy="666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4120" y="565200"/>
            <a:ext cx="9018720" cy="1436760"/>
          </a:xfrm>
          <a:prstGeom prst="wedgeRoundRectCallout">
            <a:avLst>
              <a:gd name="adj1" fmla="val 13726"/>
              <a:gd name="adj2" fmla="val 99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2335320" y="1155600"/>
            <a:ext cx="4592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のみ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2706840" y="6285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884160" y="118116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5413320" y="50004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88840" y="2633760"/>
            <a:ext cx="2992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77080" y="2008080"/>
            <a:ext cx="2619360" cy="6667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4120" y="565200"/>
            <a:ext cx="9018720" cy="1436760"/>
          </a:xfrm>
          <a:prstGeom prst="wedgeRoundRectCallout">
            <a:avLst>
              <a:gd name="adj1" fmla="val 13726"/>
              <a:gd name="adj2" fmla="val 99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2335320" y="1155600"/>
            <a:ext cx="55879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めしあが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2706840" y="6285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884160" y="118116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5413320" y="50004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88840" y="2633760"/>
            <a:ext cx="2992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920" y="179280"/>
            <a:ext cx="9823320" cy="339912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367160" y="200664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99880" y="561960"/>
            <a:ext cx="89424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りますか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ますか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97280" y="3701880"/>
            <a:ext cx="1747800" cy="16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5322960" y="3392640"/>
            <a:ext cx="1135080" cy="119988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5524560" y="3240000"/>
            <a:ext cx="1135080" cy="120024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649840" y="3745080"/>
            <a:ext cx="2871720" cy="6694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299880" y="561960"/>
            <a:ext cx="9222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り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ました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74920" y="2398680"/>
            <a:ext cx="4567320" cy="30067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32720" y="1252440"/>
            <a:ext cx="1905120" cy="4345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894800" y="3666960"/>
            <a:ext cx="1957320" cy="2310120"/>
          </a:xfrm>
          <a:custGeom>
            <a:avLst/>
            <a:gdLst>
              <a:gd name="textAreaLeft" fmla="*/ 360 w 1957320"/>
              <a:gd name="textAreaRight" fmla="*/ 1956960 w 1957320"/>
              <a:gd name="textAreaTop" fmla="*/ 360 h 2310120"/>
              <a:gd name="textAreaBottom" fmla="*/ 2309760 h 2310120"/>
            </a:gdLst>
            <a:ahLst/>
            <a:rect l="textAreaLeft" t="textAreaTop" r="textAreaRight" b="textAreaBottom"/>
            <a:pathLst>
              <a:path w="21600" h="25493">
                <a:moveTo>
                  <a:pt x="17" y="0"/>
                </a:moveTo>
                <a:arcTo wR="17" hR="17" stAng="16200000" swAng="-5400000"/>
                <a:lnTo>
                  <a:pt x="0" y="25476"/>
                </a:lnTo>
                <a:arcTo wR="17" hR="17" stAng="10800000" swAng="-5400000"/>
                <a:lnTo>
                  <a:pt x="21583" y="2549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58680" y="3780000"/>
            <a:ext cx="2495880" cy="755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946920" y="3186000"/>
            <a:ext cx="24494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" y="561960"/>
            <a:ext cx="810288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っ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た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4960" y="2331720"/>
            <a:ext cx="4605120" cy="2994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720" y="1252440"/>
            <a:ext cx="1905120" cy="4345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894800" y="3666960"/>
            <a:ext cx="1957320" cy="2310120"/>
          </a:xfrm>
          <a:custGeom>
            <a:avLst/>
            <a:gdLst>
              <a:gd name="textAreaLeft" fmla="*/ 360 w 1957320"/>
              <a:gd name="textAreaRight" fmla="*/ 1956960 w 1957320"/>
              <a:gd name="textAreaTop" fmla="*/ 360 h 2310120"/>
              <a:gd name="textAreaBottom" fmla="*/ 2309760 h 2310120"/>
            </a:gdLst>
            <a:ahLst/>
            <a:rect l="textAreaLeft" t="textAreaTop" r="textAreaRight" b="textAreaBottom"/>
            <a:pathLst>
              <a:path w="21600" h="25493">
                <a:moveTo>
                  <a:pt x="17" y="0"/>
                </a:moveTo>
                <a:arcTo wR="17" hR="17" stAng="16200000" swAng="-5400000"/>
                <a:lnTo>
                  <a:pt x="0" y="25476"/>
                </a:lnTo>
                <a:arcTo wR="17" hR="17" stAng="10800000" swAng="-5400000"/>
                <a:lnTo>
                  <a:pt x="21583" y="2549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253280" y="3416400"/>
            <a:ext cx="21686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805360" y="833400"/>
            <a:ext cx="2922840" cy="5613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452600" y="1989000"/>
            <a:ext cx="3402000" cy="6653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06800" y="3579840"/>
            <a:ext cx="7542000" cy="1436760"/>
          </a:xfrm>
          <a:prstGeom prst="wedgeRoundRectCallout">
            <a:avLst>
              <a:gd name="adj1" fmla="val -35879"/>
              <a:gd name="adj2" fmla="val -102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3040200" y="3668760"/>
            <a:ext cx="30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い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354168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2706840" y="4157640"/>
            <a:ext cx="6707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つだい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の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ま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のみ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05360" y="833400"/>
            <a:ext cx="2922840" cy="5613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52600" y="1989000"/>
            <a:ext cx="3402000" cy="6653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6800" y="3579840"/>
            <a:ext cx="7542000" cy="1436760"/>
          </a:xfrm>
          <a:prstGeom prst="wedgeRoundRectCallout">
            <a:avLst>
              <a:gd name="adj1" fmla="val -35879"/>
              <a:gd name="adj2" fmla="val -102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3040200" y="36687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5746680" y="354168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2706840" y="4157640"/>
            <a:ext cx="5589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もち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6720" y="216216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1014480" y="2271600"/>
            <a:ext cx="1677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わた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2455920" y="2311560"/>
            <a:ext cx="1677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307800" y="3776760"/>
            <a:ext cx="411804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1246320" y="391788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2128680" y="3929040"/>
            <a:ext cx="1678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3309840" y="4906800"/>
            <a:ext cx="664524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cf.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・います・きます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etc → 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223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けんじょうご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1720" y="227160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531720" y="390204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4567320" y="2200320"/>
            <a:ext cx="3957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5184720" y="2311560"/>
            <a:ext cx="1117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あけ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6292800" y="2311560"/>
            <a:ext cx="1677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4702320" y="2311560"/>
            <a:ext cx="71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4541760" y="374004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5159520" y="385128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6267600" y="3851280"/>
            <a:ext cx="1677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4676760" y="385128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419640" y="190440"/>
            <a:ext cx="5078160" cy="32432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755640" y="2009880"/>
            <a:ext cx="2405160" cy="5581440"/>
            <a:chOff x="755640" y="2009880"/>
            <a:chExt cx="2405160" cy="558144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755640" y="2009880"/>
              <a:ext cx="2311560" cy="55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2308320" y="3262320"/>
              <a:ext cx="852480" cy="255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764240" y="1565280"/>
            <a:ext cx="2097000" cy="6396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82680" y="461880"/>
            <a:ext cx="7542360" cy="1436760"/>
          </a:xfrm>
          <a:prstGeom prst="wedgeRoundRectCallout">
            <a:avLst>
              <a:gd name="adj1" fmla="val -36740"/>
              <a:gd name="adj2" fmla="val 11064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2117880" y="552600"/>
            <a:ext cx="2441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し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4822920" y="423720"/>
            <a:ext cx="25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1782720" y="1039680"/>
            <a:ext cx="5589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かし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お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かがい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0920" y="1720800"/>
            <a:ext cx="84103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うかが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きます・きます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まいります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いたし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〜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ご</a:t>
            </a:r>
            <a:r>
              <a:rPr b="0" lang="en-US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/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〜します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281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けんじょう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9880" y="561960"/>
            <a:ext cx="72662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207120" y="3535200"/>
            <a:ext cx="2390760" cy="6724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22960" y="3392640"/>
            <a:ext cx="1135080" cy="119988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5524560" y="3240000"/>
            <a:ext cx="1135080" cy="120024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352680" y="3832200"/>
            <a:ext cx="2322720" cy="1533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99880" y="561960"/>
            <a:ext cx="8102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352680" y="2801880"/>
            <a:ext cx="1565280" cy="25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946920" y="3186000"/>
            <a:ext cx="2449440" cy="7559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082000" y="4668840"/>
            <a:ext cx="381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のみ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にな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のみ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99880" y="561960"/>
            <a:ext cx="6985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352680" y="2801880"/>
            <a:ext cx="1565280" cy="25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7253280" y="3417840"/>
            <a:ext cx="21686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30416"/>
              <a:gd name="adj2" fmla="val 77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180040" y="1295280"/>
            <a:ext cx="1503360" cy="3944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075040" y="1174680"/>
            <a:ext cx="1904760" cy="4345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398680" y="3614760"/>
            <a:ext cx="2130480" cy="21272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472520" y="167940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99880" y="561960"/>
            <a:ext cx="76219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</a:t>
            </a:r>
            <a:r>
              <a:rPr b="0" lang="ja-JP" sz="4800" spc="-1" strike="noStrike">
                <a:solidFill>
                  <a:srgbClr val="008000"/>
                </a:solidFill>
                <a:latin typeface="YOzFontNP04"/>
                <a:ea typeface="YOzFontNP04"/>
              </a:rPr>
              <a:t>ます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/ </a:t>
            </a: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およみし</a:t>
            </a:r>
            <a:r>
              <a:rPr b="0" lang="ja-JP" sz="4800" spc="-1" strike="noStrike">
                <a:solidFill>
                  <a:srgbClr val="008000"/>
                </a:solidFill>
                <a:latin typeface="YOzFontNP04"/>
                <a:ea typeface="YOzFontNP04"/>
              </a:rPr>
              <a:t>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460692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327480" y="2722680"/>
            <a:ext cx="3992400" cy="230328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2492280"/>
            <a:ext cx="600120" cy="1296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5000" y="3232080"/>
            <a:ext cx="809640" cy="1533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427120" y="5868720"/>
            <a:ext cx="3587760" cy="189000"/>
          </a:xfrm>
          <a:prstGeom prst="line">
            <a:avLst/>
          </a:prstGeom>
          <a:ln w="108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2217600" y="3654360"/>
            <a:ext cx="169704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んけ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4579920" y="3719520"/>
            <a:ext cx="212868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んじ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3457440" y="5794200"/>
            <a:ext cx="169704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1124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972480" y="3224160"/>
            <a:ext cx="2449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たべ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べ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にな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の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1004760" y="28656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1558800" y="222084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ま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992160" y="4575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1603440" y="38908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か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5373720" y="224784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22860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5035680" y="3841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5361120" y="395748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6327720" y="39304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477720" y="55548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4173480" y="5484960"/>
            <a:ext cx="4111560" cy="94752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こら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さ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01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6720" y="216216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1014480" y="2271600"/>
            <a:ext cx="7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のみ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2122560" y="2271600"/>
            <a:ext cx="1776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307800" y="3776760"/>
            <a:ext cx="411804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1246320" y="3917880"/>
            <a:ext cx="711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2128680" y="3929040"/>
            <a:ext cx="1776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618336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3309840" y="4906800"/>
            <a:ext cx="664524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cf.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・います・きます</a:t>
            </a: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etc → ×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ます・します → </a:t>
            </a: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14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1720" y="227160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" y="3889440"/>
            <a:ext cx="712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4567320" y="2200320"/>
            <a:ext cx="3957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5184720" y="2311560"/>
            <a:ext cx="711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6292800" y="2311560"/>
            <a:ext cx="17766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4702320" y="2311560"/>
            <a:ext cx="71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4541760" y="374004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5159520" y="3851280"/>
            <a:ext cx="711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6267600" y="3851280"/>
            <a:ext cx="1776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4676760" y="385128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めしあが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027080" y="373536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-822240" y="20368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03600" y="38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428920" y="201456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-3451320" y="4213080"/>
            <a:ext cx="10079280" cy="5099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1160" y="154080"/>
            <a:ext cx="7620120" cy="1436760"/>
          </a:xfrm>
          <a:prstGeom prst="wedgeRoundRectCallout">
            <a:avLst>
              <a:gd name="adj1" fmla="val 46287"/>
              <a:gd name="adj2" fmla="val 123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んに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さ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1514520" y="282600"/>
            <a:ext cx="25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に し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470720" y="1830240"/>
            <a:ext cx="2320920" cy="69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13:49Z</dcterms:created>
  <dc:creator/>
  <dc:description/>
  <dc:language>en-US</dc:language>
  <cp:lastModifiedBy/>
  <dcterms:modified xsi:type="dcterms:W3CDTF">2016-05-24T19:32:55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