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0.png" ContentType="image/png"/>
  <Override PartName="/ppt/media/image3.png" ContentType="image/png"/>
  <Override PartName="/ppt/media/image18.gif" ContentType="image/gif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60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4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4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5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5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5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5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5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6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6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6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3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6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6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7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7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7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7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7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8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8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8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3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8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8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9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9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9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9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9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0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0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0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3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0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0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1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1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1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1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1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2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2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2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3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2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2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3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3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3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3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3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4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4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4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3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4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4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5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5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5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5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5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6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6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6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4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6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6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7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7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7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7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7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8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8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8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4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8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8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9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9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9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9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9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0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0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0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4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0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0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1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86011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39800" y="4388760"/>
            <a:ext cx="86011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7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7280" y="2101680"/>
            <a:ext cx="4197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39800" y="4388760"/>
            <a:ext cx="4197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7280" y="4388760"/>
            <a:ext cx="4197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276948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8240" y="2101680"/>
            <a:ext cx="276948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6320" y="2101680"/>
            <a:ext cx="276948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39800" y="4388760"/>
            <a:ext cx="276948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8240" y="4388760"/>
            <a:ext cx="276948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6320" y="4388760"/>
            <a:ext cx="276948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39800" y="2101680"/>
            <a:ext cx="860112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860112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7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7280" y="2101680"/>
            <a:ext cx="4197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739800" y="627120"/>
            <a:ext cx="86011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7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7280" y="2101680"/>
            <a:ext cx="4197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39800" y="4388760"/>
            <a:ext cx="4197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39800" y="2101680"/>
            <a:ext cx="860112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7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7280" y="2101680"/>
            <a:ext cx="4197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47280" y="4388760"/>
            <a:ext cx="4197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7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7280" y="2101680"/>
            <a:ext cx="4197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39800" y="4388760"/>
            <a:ext cx="86011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86011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39800" y="4388760"/>
            <a:ext cx="86011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7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47280" y="2101680"/>
            <a:ext cx="4197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39800" y="4388760"/>
            <a:ext cx="4197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47280" y="4388760"/>
            <a:ext cx="4197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276948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48240" y="2101680"/>
            <a:ext cx="276948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56320" y="2101680"/>
            <a:ext cx="276948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39800" y="4388760"/>
            <a:ext cx="276948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48240" y="4388760"/>
            <a:ext cx="276948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556320" y="4388760"/>
            <a:ext cx="276948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860112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7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7280" y="2101680"/>
            <a:ext cx="4197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39800" y="627120"/>
            <a:ext cx="86011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7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7280" y="2101680"/>
            <a:ext cx="4197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39800" y="4388760"/>
            <a:ext cx="4197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7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7280" y="2101680"/>
            <a:ext cx="4197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7280" y="4388760"/>
            <a:ext cx="4197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7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7280" y="2101680"/>
            <a:ext cx="4197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39800" y="4388760"/>
            <a:ext cx="86011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800" y="2101680"/>
            <a:ext cx="860112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 fontScale="99000"/>
          </a:bodyPr>
          <a:p>
            <a:pPr marL="339480" indent="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339480" indent="-3394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339480" indent="-3394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3" marL="339480" indent="-3394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4" marL="339480" indent="-3394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5" marL="339480" indent="-3394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6" marL="339480" indent="-3394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" name=""/>
          <p:cNvSpPr/>
          <p:nvPr/>
        </p:nvSpPr>
        <p:spPr>
          <a:xfrm>
            <a:off x="7272360" y="7056360"/>
            <a:ext cx="2779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http://j-learning.com/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3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4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5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6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1" name=""/>
          <p:cNvSpPr/>
          <p:nvPr/>
        </p:nvSpPr>
        <p:spPr>
          <a:xfrm>
            <a:off x="7272360" y="7056360"/>
            <a:ext cx="2779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http://j-learning.com/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18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619280" y="360360"/>
            <a:ext cx="694512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73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だい </a:t>
            </a: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8</a:t>
            </a:r>
            <a:r>
              <a:rPr b="0" lang="en-US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か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5" name=""/>
          <p:cNvSpPr/>
          <p:nvPr/>
        </p:nvSpPr>
        <p:spPr>
          <a:xfrm>
            <a:off x="2700360" y="1979640"/>
            <a:ext cx="48783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73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スライド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6" name=""/>
          <p:cNvSpPr/>
          <p:nvPr/>
        </p:nvSpPr>
        <p:spPr>
          <a:xfrm>
            <a:off x="9899640" y="5580000"/>
            <a:ext cx="144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7" name=""/>
          <p:cNvSpPr/>
          <p:nvPr/>
        </p:nvSpPr>
        <p:spPr>
          <a:xfrm>
            <a:off x="1622520" y="4229280"/>
            <a:ext cx="629604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い けいようし </a:t>
            </a:r>
            <a:r>
              <a:rPr b="0" lang="zh-CN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/ </a:t>
            </a:r>
            <a:r>
              <a:rPr b="0" lang="zh-CN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な けいようし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77840" y="571680"/>
            <a:ext cx="4640400" cy="600048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155600" y="4816440"/>
            <a:ext cx="7831080" cy="2265480"/>
            <a:chOff x="1155600" y="4816440"/>
            <a:chExt cx="7831080" cy="2265480"/>
          </a:xfrm>
        </p:grpSpPr>
        <p:sp>
          <p:nvSpPr>
            <p:cNvPr id="114" name=""/>
            <p:cNvSpPr/>
            <p:nvPr/>
          </p:nvSpPr>
          <p:spPr>
            <a:xfrm>
              <a:off x="1155600" y="4816440"/>
              <a:ext cx="7831080" cy="2265480"/>
            </a:xfrm>
            <a:prstGeom prst="roundRect">
              <a:avLst>
                <a:gd name="adj" fmla="val 69"/>
              </a:avLst>
            </a:prstGeom>
            <a:solidFill>
              <a:srgbClr val="ffffcc">
                <a:alpha val="9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728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8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あついです</a:t>
              </a:r>
              <a:endParaRPr b="0" lang="en-US" sz="8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021280" y="490680"/>
            <a:ext cx="4640400" cy="600048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155600" y="4816440"/>
            <a:ext cx="7831080" cy="2265480"/>
            <a:chOff x="1155600" y="4816440"/>
            <a:chExt cx="7831080" cy="2265480"/>
          </a:xfrm>
        </p:grpSpPr>
        <p:sp>
          <p:nvSpPr>
            <p:cNvPr id="117" name=""/>
            <p:cNvSpPr/>
            <p:nvPr/>
          </p:nvSpPr>
          <p:spPr>
            <a:xfrm>
              <a:off x="1155600" y="4816440"/>
              <a:ext cx="7831080" cy="2265480"/>
            </a:xfrm>
            <a:prstGeom prst="roundRect">
              <a:avLst>
                <a:gd name="adj" fmla="val 69"/>
              </a:avLst>
            </a:pr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728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8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つめたいです</a:t>
              </a:r>
              <a:endParaRPr b="0" lang="en-US" sz="8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9440" y="4518000"/>
            <a:ext cx="4640400" cy="272088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155600" y="4816440"/>
            <a:ext cx="7831080" cy="2265480"/>
            <a:chOff x="1155600" y="4816440"/>
            <a:chExt cx="7831080" cy="2265480"/>
          </a:xfrm>
        </p:grpSpPr>
        <p:sp>
          <p:nvSpPr>
            <p:cNvPr id="120" name=""/>
            <p:cNvSpPr/>
            <p:nvPr/>
          </p:nvSpPr>
          <p:spPr>
            <a:xfrm>
              <a:off x="1155600" y="4816440"/>
              <a:ext cx="7831080" cy="2265480"/>
            </a:xfrm>
            <a:prstGeom prst="roundRect">
              <a:avLst>
                <a:gd name="adj" fmla="val 69"/>
              </a:avLst>
            </a:prstGeom>
            <a:solidFill>
              <a:srgbClr val="ffffcc">
                <a:alpha val="9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728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8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むずかしいです</a:t>
              </a:r>
              <a:endParaRPr b="0" lang="en-US" sz="8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116680" y="4381560"/>
            <a:ext cx="4640040" cy="272088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870120" y="4843440"/>
            <a:ext cx="7831080" cy="2265480"/>
            <a:chOff x="870120" y="4843440"/>
            <a:chExt cx="7831080" cy="2265480"/>
          </a:xfrm>
        </p:grpSpPr>
        <p:sp>
          <p:nvSpPr>
            <p:cNvPr id="123" name=""/>
            <p:cNvSpPr/>
            <p:nvPr/>
          </p:nvSpPr>
          <p:spPr>
            <a:xfrm>
              <a:off x="870120" y="4843440"/>
              <a:ext cx="7831080" cy="2265480"/>
            </a:xfrm>
            <a:prstGeom prst="roundRect">
              <a:avLst>
                <a:gd name="adj" fmla="val 69"/>
              </a:avLst>
            </a:prstGeom>
            <a:solidFill>
              <a:srgbClr val="ffffcc">
                <a:alpha val="9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728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8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やさしいです</a:t>
              </a:r>
              <a:endParaRPr b="0" lang="en-US" sz="8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116680" y="4381560"/>
            <a:ext cx="4640040" cy="272088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870120" y="4843440"/>
            <a:ext cx="7831080" cy="2265480"/>
            <a:chOff x="870120" y="4843440"/>
            <a:chExt cx="7831080" cy="2265480"/>
          </a:xfrm>
        </p:grpSpPr>
        <p:sp>
          <p:nvSpPr>
            <p:cNvPr id="126" name=""/>
            <p:cNvSpPr/>
            <p:nvPr/>
          </p:nvSpPr>
          <p:spPr>
            <a:xfrm>
              <a:off x="870120" y="4843440"/>
              <a:ext cx="7831080" cy="2265480"/>
            </a:xfrm>
            <a:prstGeom prst="roundRect">
              <a:avLst>
                <a:gd name="adj" fmla="val 69"/>
              </a:avLst>
            </a:prstGeom>
            <a:solidFill>
              <a:srgbClr val="ffffcc">
                <a:alpha val="9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728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= </a:t>
              </a:r>
              <a:r>
                <a:rPr b="0" lang="ja-JP" sz="8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かんたんです</a:t>
              </a:r>
              <a:endParaRPr b="0" lang="en-US" sz="8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17440" y="422280"/>
            <a:ext cx="4640400" cy="60008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155600" y="4816440"/>
            <a:ext cx="7831080" cy="2265480"/>
            <a:chOff x="1155600" y="4816440"/>
            <a:chExt cx="7831080" cy="2265480"/>
          </a:xfrm>
        </p:grpSpPr>
        <p:sp>
          <p:nvSpPr>
            <p:cNvPr id="129" name=""/>
            <p:cNvSpPr/>
            <p:nvPr/>
          </p:nvSpPr>
          <p:spPr>
            <a:xfrm>
              <a:off x="1155600" y="4816440"/>
              <a:ext cx="7831080" cy="2265480"/>
            </a:xfrm>
            <a:prstGeom prst="roundRect">
              <a:avLst>
                <a:gd name="adj" fmla="val 69"/>
              </a:avLst>
            </a:prstGeom>
            <a:solidFill>
              <a:srgbClr val="ffffcc">
                <a:alpha val="9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728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8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たかいです</a:t>
              </a:r>
              <a:endParaRPr b="0" lang="en-US" sz="8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184720" y="449280"/>
            <a:ext cx="4640400" cy="60008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155600" y="4816440"/>
            <a:ext cx="7831080" cy="2265480"/>
            <a:chOff x="1155600" y="4816440"/>
            <a:chExt cx="7831080" cy="2265480"/>
          </a:xfrm>
        </p:grpSpPr>
        <p:sp>
          <p:nvSpPr>
            <p:cNvPr id="132" name=""/>
            <p:cNvSpPr/>
            <p:nvPr/>
          </p:nvSpPr>
          <p:spPr>
            <a:xfrm>
              <a:off x="1155600" y="4816440"/>
              <a:ext cx="7831080" cy="2265480"/>
            </a:xfrm>
            <a:prstGeom prst="roundRect">
              <a:avLst>
                <a:gd name="adj" fmla="val 69"/>
              </a:avLst>
            </a:prstGeom>
            <a:solidFill>
              <a:srgbClr val="ffffcc">
                <a:alpha val="9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728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8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やすいです</a:t>
              </a:r>
              <a:endParaRPr b="0" lang="en-US" sz="8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17440" y="422280"/>
            <a:ext cx="4640400" cy="60008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155600" y="4816440"/>
            <a:ext cx="7831080" cy="2265480"/>
            <a:chOff x="1155600" y="4816440"/>
            <a:chExt cx="7831080" cy="2265480"/>
          </a:xfrm>
        </p:grpSpPr>
        <p:sp>
          <p:nvSpPr>
            <p:cNvPr id="135" name=""/>
            <p:cNvSpPr/>
            <p:nvPr/>
          </p:nvSpPr>
          <p:spPr>
            <a:xfrm>
              <a:off x="1155600" y="4816440"/>
              <a:ext cx="7831080" cy="2265480"/>
            </a:xfrm>
            <a:prstGeom prst="roundRect">
              <a:avLst>
                <a:gd name="adj" fmla="val 69"/>
              </a:avLst>
            </a:prstGeom>
            <a:solidFill>
              <a:srgbClr val="ffffcc">
                <a:alpha val="9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728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8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たかいです</a:t>
              </a:r>
              <a:endParaRPr b="0" lang="en-US" sz="8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211720" y="1006560"/>
            <a:ext cx="4640400" cy="60008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155600" y="4816440"/>
            <a:ext cx="7831080" cy="2265480"/>
            <a:chOff x="1155600" y="4816440"/>
            <a:chExt cx="7831080" cy="2265480"/>
          </a:xfrm>
        </p:grpSpPr>
        <p:sp>
          <p:nvSpPr>
            <p:cNvPr id="138" name=""/>
            <p:cNvSpPr/>
            <p:nvPr/>
          </p:nvSpPr>
          <p:spPr>
            <a:xfrm>
              <a:off x="1155600" y="4816440"/>
              <a:ext cx="7831080" cy="2265480"/>
            </a:xfrm>
            <a:prstGeom prst="roundRect">
              <a:avLst>
                <a:gd name="adj" fmla="val 69"/>
              </a:avLst>
            </a:prstGeom>
            <a:solidFill>
              <a:srgbClr val="ffffcc">
                <a:alpha val="9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728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8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ひくいです</a:t>
              </a:r>
              <a:endParaRPr b="0" lang="en-US" sz="8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17440" y="422280"/>
            <a:ext cx="4640400" cy="60008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155600" y="4816440"/>
            <a:ext cx="7831080" cy="2265480"/>
            <a:chOff x="1155600" y="4816440"/>
            <a:chExt cx="7831080" cy="2265480"/>
          </a:xfrm>
        </p:grpSpPr>
        <p:sp>
          <p:nvSpPr>
            <p:cNvPr id="141" name=""/>
            <p:cNvSpPr/>
            <p:nvPr/>
          </p:nvSpPr>
          <p:spPr>
            <a:xfrm>
              <a:off x="1155600" y="4816440"/>
              <a:ext cx="7831080" cy="2265480"/>
            </a:xfrm>
            <a:prstGeom prst="roundRect">
              <a:avLst>
                <a:gd name="adj" fmla="val 69"/>
              </a:avLst>
            </a:prstGeom>
            <a:solidFill>
              <a:srgbClr val="ffffcc">
                <a:alpha val="9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728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8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おもしろいです</a:t>
              </a:r>
              <a:endParaRPr b="0" lang="en-US" sz="8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34880" y="681120"/>
            <a:ext cx="4640400" cy="60008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155600" y="4816440"/>
            <a:ext cx="7831080" cy="2265480"/>
            <a:chOff x="1155600" y="4816440"/>
            <a:chExt cx="7831080" cy="2265480"/>
          </a:xfrm>
        </p:grpSpPr>
        <p:sp>
          <p:nvSpPr>
            <p:cNvPr id="90" name=""/>
            <p:cNvSpPr/>
            <p:nvPr/>
          </p:nvSpPr>
          <p:spPr>
            <a:xfrm>
              <a:off x="1155600" y="4816440"/>
              <a:ext cx="7831080" cy="2265480"/>
            </a:xfrm>
            <a:prstGeom prst="roundRect">
              <a:avLst>
                <a:gd name="adj" fmla="val 69"/>
              </a:avLst>
            </a:pr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728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8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おおきいです</a:t>
              </a:r>
              <a:endParaRPr b="0" lang="en-US" sz="8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265720" y="871560"/>
            <a:ext cx="4640400" cy="60008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155600" y="4816440"/>
            <a:ext cx="7831080" cy="2265480"/>
            <a:chOff x="1155600" y="4816440"/>
            <a:chExt cx="7831080" cy="2265480"/>
          </a:xfrm>
        </p:grpSpPr>
        <p:sp>
          <p:nvSpPr>
            <p:cNvPr id="144" name=""/>
            <p:cNvSpPr/>
            <p:nvPr/>
          </p:nvSpPr>
          <p:spPr>
            <a:xfrm>
              <a:off x="1155600" y="4816440"/>
              <a:ext cx="7831080" cy="2265480"/>
            </a:xfrm>
            <a:prstGeom prst="roundRect">
              <a:avLst>
                <a:gd name="adj" fmla="val 69"/>
              </a:avLst>
            </a:prstGeom>
            <a:solidFill>
              <a:srgbClr val="ffffcc">
                <a:alpha val="9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728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8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つまらないです</a:t>
              </a:r>
              <a:endParaRPr b="0" lang="en-US" sz="8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17440" y="422280"/>
            <a:ext cx="4640400" cy="60008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155600" y="4816440"/>
            <a:ext cx="7831080" cy="2265480"/>
            <a:chOff x="1155600" y="4816440"/>
            <a:chExt cx="7831080" cy="2265480"/>
          </a:xfrm>
        </p:grpSpPr>
        <p:sp>
          <p:nvSpPr>
            <p:cNvPr id="147" name=""/>
            <p:cNvSpPr/>
            <p:nvPr/>
          </p:nvSpPr>
          <p:spPr>
            <a:xfrm>
              <a:off x="1155600" y="4816440"/>
              <a:ext cx="7831080" cy="2265480"/>
            </a:xfrm>
            <a:prstGeom prst="roundRect">
              <a:avLst>
                <a:gd name="adj" fmla="val 69"/>
              </a:avLst>
            </a:prstGeom>
            <a:solidFill>
              <a:srgbClr val="ffffcc">
                <a:alpha val="9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728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8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いそがしいです</a:t>
              </a:r>
              <a:endParaRPr b="0" lang="en-US" sz="8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21160" y="681120"/>
            <a:ext cx="4640400" cy="60008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155600" y="4816440"/>
            <a:ext cx="7831080" cy="2265480"/>
            <a:chOff x="1155600" y="4816440"/>
            <a:chExt cx="7831080" cy="2265480"/>
          </a:xfrm>
        </p:grpSpPr>
        <p:sp>
          <p:nvSpPr>
            <p:cNvPr id="150" name=""/>
            <p:cNvSpPr/>
            <p:nvPr/>
          </p:nvSpPr>
          <p:spPr>
            <a:xfrm>
              <a:off x="1155600" y="4816440"/>
              <a:ext cx="7831080" cy="2265480"/>
            </a:xfrm>
            <a:prstGeom prst="roundRect">
              <a:avLst>
                <a:gd name="adj" fmla="val 69"/>
              </a:avLst>
            </a:prstGeom>
            <a:solidFill>
              <a:srgbClr val="ffffcc">
                <a:alpha val="7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728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8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ひまです</a:t>
              </a:r>
              <a:endParaRPr b="0" lang="en-US" sz="8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4962600" y="2949480"/>
            <a:ext cx="5288040" cy="5226120"/>
            <a:chOff x="4962600" y="2949480"/>
            <a:chExt cx="5288040" cy="5226120"/>
          </a:xfrm>
        </p:grpSpPr>
        <p:pic>
          <p:nvPicPr>
            <p:cNvPr id="152" name="" descr=""/>
            <p:cNvPicPr/>
            <p:nvPr/>
          </p:nvPicPr>
          <p:blipFill>
            <a:blip r:embed="rId1"/>
            <a:stretch/>
          </p:blipFill>
          <p:spPr>
            <a:xfrm>
              <a:off x="5765760" y="2949480"/>
              <a:ext cx="2738520" cy="522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2"/>
            <a:stretch/>
          </p:blipFill>
          <p:spPr>
            <a:xfrm rot="20520000">
              <a:off x="5494320" y="4306680"/>
              <a:ext cx="981000" cy="24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3"/>
            <a:stretch/>
          </p:blipFill>
          <p:spPr>
            <a:xfrm rot="20280000">
              <a:off x="7597800" y="4549320"/>
              <a:ext cx="981000" cy="243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4"/>
            <a:stretch/>
          </p:blipFill>
          <p:spPr>
            <a:xfrm>
              <a:off x="4962600" y="4989600"/>
              <a:ext cx="850680" cy="8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5"/>
            <a:stretch/>
          </p:blipFill>
          <p:spPr>
            <a:xfrm>
              <a:off x="9399600" y="4132440"/>
              <a:ext cx="851040" cy="850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7" name=""/>
          <p:cNvGrpSpPr/>
          <p:nvPr/>
        </p:nvGrpSpPr>
        <p:grpSpPr>
          <a:xfrm>
            <a:off x="1155600" y="4816440"/>
            <a:ext cx="7831080" cy="2265480"/>
            <a:chOff x="1155600" y="4816440"/>
            <a:chExt cx="7831080" cy="2265480"/>
          </a:xfrm>
        </p:grpSpPr>
        <p:sp>
          <p:nvSpPr>
            <p:cNvPr id="158" name=""/>
            <p:cNvSpPr/>
            <p:nvPr/>
          </p:nvSpPr>
          <p:spPr>
            <a:xfrm>
              <a:off x="1155600" y="4816440"/>
              <a:ext cx="7831080" cy="2265480"/>
            </a:xfrm>
            <a:prstGeom prst="roundRect">
              <a:avLst>
                <a:gd name="adj" fmla="val 69"/>
              </a:avLst>
            </a:prstGeom>
            <a:solidFill>
              <a:srgbClr val="ffffcc">
                <a:alpha val="7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728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8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たのしいです</a:t>
              </a:r>
              <a:endParaRPr b="0" lang="en-US" sz="8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dur="indefinite" fill="hold">
                      <p:stCondLst>
                        <p:cond delay="indefinite"/>
                      </p:stCondLst>
                      <p:childTnLst>
                        <p:par>
                          <p:cTn id="1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17440" y="3905280"/>
            <a:ext cx="4640400" cy="25178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155600" y="4816440"/>
            <a:ext cx="7831080" cy="2265480"/>
            <a:chOff x="1155600" y="4816440"/>
            <a:chExt cx="7831080" cy="2265480"/>
          </a:xfrm>
        </p:grpSpPr>
        <p:sp>
          <p:nvSpPr>
            <p:cNvPr id="161" name=""/>
            <p:cNvSpPr/>
            <p:nvPr/>
          </p:nvSpPr>
          <p:spPr>
            <a:xfrm>
              <a:off x="1155600" y="4816440"/>
              <a:ext cx="7831080" cy="2265480"/>
            </a:xfrm>
            <a:prstGeom prst="roundRect">
              <a:avLst>
                <a:gd name="adj" fmla="val 69"/>
              </a:avLst>
            </a:prstGeom>
            <a:solidFill>
              <a:srgbClr val="ffffcc">
                <a:alpha val="9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728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8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おいしいです</a:t>
              </a:r>
              <a:endParaRPr b="0" lang="en-US" sz="8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17440" y="422280"/>
            <a:ext cx="4762440" cy="36464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155600" y="4816440"/>
            <a:ext cx="7831080" cy="2265480"/>
            <a:chOff x="1155600" y="4816440"/>
            <a:chExt cx="7831080" cy="2265480"/>
          </a:xfrm>
        </p:grpSpPr>
        <p:sp>
          <p:nvSpPr>
            <p:cNvPr id="164" name=""/>
            <p:cNvSpPr/>
            <p:nvPr/>
          </p:nvSpPr>
          <p:spPr>
            <a:xfrm>
              <a:off x="1155600" y="4816440"/>
              <a:ext cx="7831080" cy="2265480"/>
            </a:xfrm>
            <a:prstGeom prst="roundRect">
              <a:avLst>
                <a:gd name="adj" fmla="val 69"/>
              </a:avLst>
            </a:prstGeom>
            <a:solidFill>
              <a:srgbClr val="ffffcc">
                <a:alpha val="9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728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8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しろいです</a:t>
              </a:r>
              <a:endParaRPr b="0" lang="en-US" sz="8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dur="indefinite" fill="hold">
                      <p:stCondLst>
                        <p:cond delay="indefinite"/>
                      </p:stCondLst>
                      <p:childTnLst>
                        <p:par>
                          <p:cTn id="1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85840" y="3389400"/>
            <a:ext cx="4762440" cy="36464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155600" y="4816440"/>
            <a:ext cx="7831080" cy="2265480"/>
            <a:chOff x="1155600" y="4816440"/>
            <a:chExt cx="7831080" cy="2265480"/>
          </a:xfrm>
        </p:grpSpPr>
        <p:sp>
          <p:nvSpPr>
            <p:cNvPr id="167" name=""/>
            <p:cNvSpPr/>
            <p:nvPr/>
          </p:nvSpPr>
          <p:spPr>
            <a:xfrm>
              <a:off x="1155600" y="4816440"/>
              <a:ext cx="7831080" cy="2265480"/>
            </a:xfrm>
            <a:prstGeom prst="roundRect">
              <a:avLst>
                <a:gd name="adj" fmla="val 69"/>
              </a:avLst>
            </a:prstGeom>
            <a:solidFill>
              <a:srgbClr val="ffffcc">
                <a:alpha val="9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728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8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くろいです</a:t>
              </a:r>
              <a:endParaRPr b="0" lang="en-US" sz="8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102280" y="3360600"/>
            <a:ext cx="4762440" cy="364680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155600" y="4816440"/>
            <a:ext cx="7831080" cy="2265480"/>
            <a:chOff x="1155600" y="4816440"/>
            <a:chExt cx="7831080" cy="2265480"/>
          </a:xfrm>
        </p:grpSpPr>
        <p:sp>
          <p:nvSpPr>
            <p:cNvPr id="170" name=""/>
            <p:cNvSpPr/>
            <p:nvPr/>
          </p:nvSpPr>
          <p:spPr>
            <a:xfrm>
              <a:off x="1155600" y="4816440"/>
              <a:ext cx="7831080" cy="2265480"/>
            </a:xfrm>
            <a:prstGeom prst="roundRect">
              <a:avLst>
                <a:gd name="adj" fmla="val 69"/>
              </a:avLst>
            </a:prstGeom>
            <a:solidFill>
              <a:srgbClr val="ffffcc">
                <a:alpha val="9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728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8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あかいです</a:t>
              </a:r>
              <a:endParaRPr b="0" lang="en-US" sz="8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dur="indefinite" fill="hold">
                      <p:stCondLst>
                        <p:cond delay="indefinite"/>
                      </p:stCondLst>
                      <p:childTnLst>
                        <p:par>
                          <p:cTn id="1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803840" y="463680"/>
            <a:ext cx="4762440" cy="36464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155600" y="4816440"/>
            <a:ext cx="7831080" cy="2265480"/>
            <a:chOff x="1155600" y="4816440"/>
            <a:chExt cx="7831080" cy="2265480"/>
          </a:xfrm>
        </p:grpSpPr>
        <p:sp>
          <p:nvSpPr>
            <p:cNvPr id="173" name=""/>
            <p:cNvSpPr/>
            <p:nvPr/>
          </p:nvSpPr>
          <p:spPr>
            <a:xfrm>
              <a:off x="1155600" y="4816440"/>
              <a:ext cx="7831080" cy="2265480"/>
            </a:xfrm>
            <a:prstGeom prst="roundRect">
              <a:avLst>
                <a:gd name="adj" fmla="val 69"/>
              </a:avLst>
            </a:prstGeom>
            <a:solidFill>
              <a:srgbClr val="ffffcc">
                <a:alpha val="9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728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8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あおいです</a:t>
              </a:r>
              <a:endParaRPr b="0" lang="en-US" sz="8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dur="indefinite" fill="hold">
                      <p:stCondLst>
                        <p:cond delay="indefinite"/>
                      </p:stCondLst>
                      <p:childTnLst>
                        <p:par>
                          <p:cTn id="1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34880" y="681120"/>
            <a:ext cx="4640400" cy="60008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155600" y="4816440"/>
            <a:ext cx="7831080" cy="2265480"/>
            <a:chOff x="1155600" y="4816440"/>
            <a:chExt cx="7831080" cy="2265480"/>
          </a:xfrm>
        </p:grpSpPr>
        <p:sp>
          <p:nvSpPr>
            <p:cNvPr id="176" name=""/>
            <p:cNvSpPr/>
            <p:nvPr/>
          </p:nvSpPr>
          <p:spPr>
            <a:xfrm>
              <a:off x="1155600" y="4816440"/>
              <a:ext cx="7831080" cy="2265480"/>
            </a:xfrm>
            <a:prstGeom prst="roundRect">
              <a:avLst>
                <a:gd name="adj" fmla="val 69"/>
              </a:avLst>
            </a:pr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728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8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おおきいです</a:t>
              </a:r>
              <a:endParaRPr b="0" lang="en-US" sz="8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39840" y="299880"/>
            <a:ext cx="6035400" cy="2265480"/>
            <a:chOff x="339840" y="299880"/>
            <a:chExt cx="6035400" cy="2265480"/>
          </a:xfrm>
        </p:grpSpPr>
        <p:sp>
          <p:nvSpPr>
            <p:cNvPr id="178" name=""/>
            <p:cNvSpPr/>
            <p:nvPr/>
          </p:nvSpPr>
          <p:spPr>
            <a:xfrm>
              <a:off x="339840" y="299880"/>
              <a:ext cx="6035400" cy="2265480"/>
            </a:xfrm>
            <a:prstGeom prst="roundRect">
              <a:avLst>
                <a:gd name="adj" fmla="val 69"/>
              </a:avLst>
            </a:pr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728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8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このかばん</a:t>
              </a:r>
              <a:endParaRPr b="0" lang="en-US" sz="8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6218280" y="366840"/>
            <a:ext cx="1646280" cy="18907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900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8800" spc="-1" strike="noStrike">
                <a:solidFill>
                  <a:srgbClr val="000000"/>
                </a:solidFill>
                <a:latin typeface="YOzFontNP04"/>
                <a:ea typeface="YOzFontNP04"/>
              </a:rPr>
              <a:t>は</a:t>
            </a:r>
            <a:endParaRPr b="0" lang="en-US" sz="8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dur="indefinite" fill="hold">
                      <p:stCondLst>
                        <p:cond delay="indefinite"/>
                      </p:stCondLst>
                      <p:childTnLst>
                        <p:par>
                          <p:cTn id="1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dur="indefinite" fill="hold">
                      <p:stCondLst>
                        <p:cond delay="indefinite"/>
                      </p:stCondLst>
                      <p:childTnLst>
                        <p:par>
                          <p:cTn id="1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dur="indefinite" fill="hold">
                      <p:stCondLst>
                        <p:cond delay="indefinite"/>
                      </p:stCondLst>
                      <p:childTnLst>
                        <p:par>
                          <p:cTn id="2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129280" y="720720"/>
            <a:ext cx="4640040" cy="60008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155600" y="4816440"/>
            <a:ext cx="7831080" cy="2265480"/>
            <a:chOff x="1155600" y="4816440"/>
            <a:chExt cx="7831080" cy="2265480"/>
          </a:xfrm>
        </p:grpSpPr>
        <p:sp>
          <p:nvSpPr>
            <p:cNvPr id="93" name=""/>
            <p:cNvSpPr/>
            <p:nvPr/>
          </p:nvSpPr>
          <p:spPr>
            <a:xfrm>
              <a:off x="1155600" y="4816440"/>
              <a:ext cx="7831080" cy="2265480"/>
            </a:xfrm>
            <a:prstGeom prst="roundRect">
              <a:avLst>
                <a:gd name="adj" fmla="val 69"/>
              </a:avLst>
            </a:pr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728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8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ちいさいです</a:t>
              </a:r>
              <a:endParaRPr b="0" lang="en-US" sz="8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129280" y="720720"/>
            <a:ext cx="4640040" cy="60008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155600" y="4816440"/>
            <a:ext cx="7831080" cy="2265480"/>
            <a:chOff x="1155600" y="4816440"/>
            <a:chExt cx="7831080" cy="2265480"/>
          </a:xfrm>
        </p:grpSpPr>
        <p:sp>
          <p:nvSpPr>
            <p:cNvPr id="182" name=""/>
            <p:cNvSpPr/>
            <p:nvPr/>
          </p:nvSpPr>
          <p:spPr>
            <a:xfrm>
              <a:off x="1155600" y="4816440"/>
              <a:ext cx="7831080" cy="2265480"/>
            </a:xfrm>
            <a:prstGeom prst="roundRect">
              <a:avLst>
                <a:gd name="adj" fmla="val 69"/>
              </a:avLst>
            </a:pr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728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8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ちいさいです</a:t>
              </a:r>
              <a:endParaRPr b="0" lang="en-US" sz="8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dur="indefinite" fill="hold">
                      <p:stCondLst>
                        <p:cond delay="indefinite"/>
                      </p:stCondLst>
                      <p:childTnLst>
                        <p:par>
                          <p:cTn id="2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63440" y="681120"/>
            <a:ext cx="4640400" cy="60008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155600" y="4816440"/>
            <a:ext cx="7831080" cy="2265480"/>
            <a:chOff x="1155600" y="4816440"/>
            <a:chExt cx="7831080" cy="2265480"/>
          </a:xfrm>
        </p:grpSpPr>
        <p:sp>
          <p:nvSpPr>
            <p:cNvPr id="185" name=""/>
            <p:cNvSpPr/>
            <p:nvPr/>
          </p:nvSpPr>
          <p:spPr>
            <a:xfrm>
              <a:off x="1155600" y="4816440"/>
              <a:ext cx="7831080" cy="2265480"/>
            </a:xfrm>
            <a:prstGeom prst="roundRect">
              <a:avLst>
                <a:gd name="adj" fmla="val 69"/>
              </a:avLst>
            </a:pr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728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8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あたらしいです</a:t>
              </a:r>
              <a:endParaRPr b="0" lang="en-US" sz="8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dur="indefinite" fill="hold">
                      <p:stCondLst>
                        <p:cond delay="indefinite"/>
                      </p:stCondLst>
                      <p:childTnLst>
                        <p:par>
                          <p:cTn id="2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129280" y="720720"/>
            <a:ext cx="4640040" cy="60008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155600" y="4816440"/>
            <a:ext cx="7831080" cy="2265480"/>
            <a:chOff x="1155600" y="4816440"/>
            <a:chExt cx="7831080" cy="2265480"/>
          </a:xfrm>
        </p:grpSpPr>
        <p:sp>
          <p:nvSpPr>
            <p:cNvPr id="188" name=""/>
            <p:cNvSpPr/>
            <p:nvPr/>
          </p:nvSpPr>
          <p:spPr>
            <a:xfrm>
              <a:off x="1155600" y="4816440"/>
              <a:ext cx="7831080" cy="2265480"/>
            </a:xfrm>
            <a:prstGeom prst="roundRect">
              <a:avLst>
                <a:gd name="adj" fmla="val 69"/>
              </a:avLst>
            </a:pr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728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8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ふるいです</a:t>
              </a:r>
              <a:endParaRPr b="0" lang="en-US" sz="8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dur="indefinite" fill="hold">
                      <p:stCondLst>
                        <p:cond delay="indefinite"/>
                      </p:stCondLst>
                      <p:childTnLst>
                        <p:par>
                          <p:cTn id="2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77840" y="571680"/>
            <a:ext cx="4640400" cy="600048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155600" y="4816440"/>
            <a:ext cx="7831080" cy="2265480"/>
            <a:chOff x="1155600" y="4816440"/>
            <a:chExt cx="7831080" cy="2265480"/>
          </a:xfrm>
        </p:grpSpPr>
        <p:sp>
          <p:nvSpPr>
            <p:cNvPr id="191" name=""/>
            <p:cNvSpPr/>
            <p:nvPr/>
          </p:nvSpPr>
          <p:spPr>
            <a:xfrm>
              <a:off x="1155600" y="4816440"/>
              <a:ext cx="7831080" cy="2265480"/>
            </a:xfrm>
            <a:prstGeom prst="roundRect">
              <a:avLst>
                <a:gd name="adj" fmla="val 69"/>
              </a:avLst>
            </a:pr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728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8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あついです</a:t>
              </a:r>
              <a:endParaRPr b="0" lang="en-US" sz="8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dur="indefinite" fill="hold">
                      <p:stCondLst>
                        <p:cond delay="indefinite"/>
                      </p:stCondLst>
                      <p:childTnLst>
                        <p:par>
                          <p:cTn id="2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5021280" y="490680"/>
            <a:ext cx="4640400" cy="600048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155600" y="4816440"/>
            <a:ext cx="7831080" cy="2265480"/>
            <a:chOff x="1155600" y="4816440"/>
            <a:chExt cx="7831080" cy="2265480"/>
          </a:xfrm>
        </p:grpSpPr>
        <p:sp>
          <p:nvSpPr>
            <p:cNvPr id="194" name=""/>
            <p:cNvSpPr/>
            <p:nvPr/>
          </p:nvSpPr>
          <p:spPr>
            <a:xfrm>
              <a:off x="1155600" y="4816440"/>
              <a:ext cx="7831080" cy="2265480"/>
            </a:xfrm>
            <a:prstGeom prst="roundRect">
              <a:avLst>
                <a:gd name="adj" fmla="val 69"/>
              </a:avLst>
            </a:pr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728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8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つめたいです</a:t>
              </a:r>
              <a:endParaRPr b="0" lang="en-US" sz="8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dur="indefinite" fill="hold">
                      <p:stCondLst>
                        <p:cond delay="indefinite"/>
                      </p:stCondLst>
                      <p:childTnLst>
                        <p:par>
                          <p:cTn id="2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09440" y="4518000"/>
            <a:ext cx="4640400" cy="272088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155600" y="4816440"/>
            <a:ext cx="7831080" cy="2265480"/>
            <a:chOff x="1155600" y="4816440"/>
            <a:chExt cx="7831080" cy="2265480"/>
          </a:xfrm>
        </p:grpSpPr>
        <p:sp>
          <p:nvSpPr>
            <p:cNvPr id="197" name=""/>
            <p:cNvSpPr/>
            <p:nvPr/>
          </p:nvSpPr>
          <p:spPr>
            <a:xfrm>
              <a:off x="1155600" y="4816440"/>
              <a:ext cx="7831080" cy="2265480"/>
            </a:xfrm>
            <a:prstGeom prst="roundRect">
              <a:avLst>
                <a:gd name="adj" fmla="val 69"/>
              </a:avLst>
            </a:pr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728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8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むずかしいです</a:t>
              </a:r>
              <a:endParaRPr b="0" lang="en-US" sz="8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dur="indefinite" fill="hold">
                      <p:stCondLst>
                        <p:cond delay="indefinite"/>
                      </p:stCondLst>
                      <p:childTnLst>
                        <p:par>
                          <p:cTn id="2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5116680" y="4381560"/>
            <a:ext cx="4640040" cy="272088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870120" y="4843440"/>
            <a:ext cx="7831080" cy="2265480"/>
            <a:chOff x="870120" y="4843440"/>
            <a:chExt cx="7831080" cy="2265480"/>
          </a:xfrm>
        </p:grpSpPr>
        <p:sp>
          <p:nvSpPr>
            <p:cNvPr id="200" name=""/>
            <p:cNvSpPr/>
            <p:nvPr/>
          </p:nvSpPr>
          <p:spPr>
            <a:xfrm>
              <a:off x="870120" y="4843440"/>
              <a:ext cx="7831080" cy="2265480"/>
            </a:xfrm>
            <a:prstGeom prst="roundRect">
              <a:avLst>
                <a:gd name="adj" fmla="val 69"/>
              </a:avLst>
            </a:pr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728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8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やさしいです</a:t>
              </a:r>
              <a:endParaRPr b="0" lang="en-US" sz="8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dur="indefinite" fill="hold">
                      <p:stCondLst>
                        <p:cond delay="indefinite"/>
                      </p:stCondLst>
                      <p:childTnLst>
                        <p:par>
                          <p:cTn id="2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17440" y="422280"/>
            <a:ext cx="4640400" cy="60008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155600" y="4816440"/>
            <a:ext cx="7831080" cy="2265480"/>
            <a:chOff x="1155600" y="4816440"/>
            <a:chExt cx="7831080" cy="2265480"/>
          </a:xfrm>
        </p:grpSpPr>
        <p:sp>
          <p:nvSpPr>
            <p:cNvPr id="203" name=""/>
            <p:cNvSpPr/>
            <p:nvPr/>
          </p:nvSpPr>
          <p:spPr>
            <a:xfrm>
              <a:off x="1155600" y="4816440"/>
              <a:ext cx="7831080" cy="2265480"/>
            </a:xfrm>
            <a:prstGeom prst="roundRect">
              <a:avLst>
                <a:gd name="adj" fmla="val 69"/>
              </a:avLst>
            </a:prstGeom>
            <a:solidFill>
              <a:srgbClr val="ffffcc">
                <a:alpha val="7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728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8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たかいです</a:t>
              </a:r>
              <a:endParaRPr b="0" lang="en-US" sz="8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dur="indefinite" fill="hold">
                      <p:stCondLst>
                        <p:cond delay="indefinite"/>
                      </p:stCondLst>
                      <p:childTnLst>
                        <p:par>
                          <p:cTn id="2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5184720" y="449280"/>
            <a:ext cx="4640400" cy="60008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155600" y="4816440"/>
            <a:ext cx="7831080" cy="2265480"/>
            <a:chOff x="1155600" y="4816440"/>
            <a:chExt cx="7831080" cy="2265480"/>
          </a:xfrm>
        </p:grpSpPr>
        <p:sp>
          <p:nvSpPr>
            <p:cNvPr id="206" name=""/>
            <p:cNvSpPr/>
            <p:nvPr/>
          </p:nvSpPr>
          <p:spPr>
            <a:xfrm>
              <a:off x="1155600" y="4816440"/>
              <a:ext cx="7831080" cy="2265480"/>
            </a:xfrm>
            <a:prstGeom prst="roundRect">
              <a:avLst>
                <a:gd name="adj" fmla="val 69"/>
              </a:avLst>
            </a:prstGeom>
            <a:solidFill>
              <a:srgbClr val="ffffcc">
                <a:alpha val="7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728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8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やすいです</a:t>
              </a:r>
              <a:endParaRPr b="0" lang="en-US" sz="8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dur="indefinite" fill="hold">
                      <p:stCondLst>
                        <p:cond delay="indefinite"/>
                      </p:stCondLst>
                      <p:childTnLst>
                        <p:par>
                          <p:cTn id="2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17440" y="422280"/>
            <a:ext cx="4640400" cy="60008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155600" y="4816440"/>
            <a:ext cx="7831080" cy="2265480"/>
            <a:chOff x="1155600" y="4816440"/>
            <a:chExt cx="7831080" cy="2265480"/>
          </a:xfrm>
        </p:grpSpPr>
        <p:sp>
          <p:nvSpPr>
            <p:cNvPr id="209" name=""/>
            <p:cNvSpPr/>
            <p:nvPr/>
          </p:nvSpPr>
          <p:spPr>
            <a:xfrm>
              <a:off x="1155600" y="4816440"/>
              <a:ext cx="7831080" cy="2265480"/>
            </a:xfrm>
            <a:prstGeom prst="roundRect">
              <a:avLst>
                <a:gd name="adj" fmla="val 69"/>
              </a:avLst>
            </a:prstGeom>
            <a:solidFill>
              <a:srgbClr val="ffffcc">
                <a:alpha val="7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728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8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たかいです</a:t>
              </a:r>
              <a:endParaRPr b="0" lang="en-US" sz="8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dur="indefinite" fill="hold">
                      <p:stCondLst>
                        <p:cond delay="indefinite"/>
                      </p:stCondLst>
                      <p:childTnLst>
                        <p:par>
                          <p:cTn id="2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63440" y="681120"/>
            <a:ext cx="4640400" cy="60008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155600" y="4816440"/>
            <a:ext cx="7831080" cy="2265480"/>
            <a:chOff x="1155600" y="4816440"/>
            <a:chExt cx="7831080" cy="2265480"/>
          </a:xfrm>
        </p:grpSpPr>
        <p:sp>
          <p:nvSpPr>
            <p:cNvPr id="96" name=""/>
            <p:cNvSpPr/>
            <p:nvPr/>
          </p:nvSpPr>
          <p:spPr>
            <a:xfrm>
              <a:off x="1155600" y="4816440"/>
              <a:ext cx="7831080" cy="2265480"/>
            </a:xfrm>
            <a:prstGeom prst="roundRect">
              <a:avLst>
                <a:gd name="adj" fmla="val 69"/>
              </a:avLst>
            </a:pr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728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8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あたらしいです</a:t>
              </a:r>
              <a:endParaRPr b="0" lang="en-US" sz="8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211720" y="1006560"/>
            <a:ext cx="4640400" cy="60008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155600" y="4816440"/>
            <a:ext cx="7831080" cy="2265480"/>
            <a:chOff x="1155600" y="4816440"/>
            <a:chExt cx="7831080" cy="2265480"/>
          </a:xfrm>
        </p:grpSpPr>
        <p:sp>
          <p:nvSpPr>
            <p:cNvPr id="212" name=""/>
            <p:cNvSpPr/>
            <p:nvPr/>
          </p:nvSpPr>
          <p:spPr>
            <a:xfrm>
              <a:off x="1155600" y="4816440"/>
              <a:ext cx="7831080" cy="2265480"/>
            </a:xfrm>
            <a:prstGeom prst="roundRect">
              <a:avLst>
                <a:gd name="adj" fmla="val 69"/>
              </a:avLst>
            </a:prstGeom>
            <a:solidFill>
              <a:srgbClr val="ffffcc">
                <a:alpha val="7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728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8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ひくいです</a:t>
              </a:r>
              <a:endParaRPr b="0" lang="en-US" sz="8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dur="indefinite" fill="hold">
                      <p:stCondLst>
                        <p:cond delay="indefinite"/>
                      </p:stCondLst>
                      <p:childTnLst>
                        <p:par>
                          <p:cTn id="2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218280" y="1633680"/>
            <a:ext cx="3538440" cy="952200"/>
          </a:xfrm>
          <a:prstGeom prst="roundRect">
            <a:avLst>
              <a:gd name="adj" fmla="val 167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ばんで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4" name=""/>
          <p:cNvSpPr/>
          <p:nvPr/>
        </p:nvSpPr>
        <p:spPr>
          <a:xfrm>
            <a:off x="571680" y="287280"/>
            <a:ext cx="4041720" cy="1062000"/>
          </a:xfrm>
          <a:prstGeom prst="roundRect">
            <a:avLst>
              <a:gd name="adj" fmla="val 148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れ 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5" name=""/>
          <p:cNvSpPr/>
          <p:nvPr/>
        </p:nvSpPr>
        <p:spPr>
          <a:xfrm>
            <a:off x="5145120" y="314280"/>
            <a:ext cx="4041720" cy="1062000"/>
          </a:xfrm>
          <a:prstGeom prst="roundRect">
            <a:avLst>
              <a:gd name="adj" fmla="val 148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おきい で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6" name=""/>
          <p:cNvSpPr/>
          <p:nvPr/>
        </p:nvSpPr>
        <p:spPr>
          <a:xfrm>
            <a:off x="7537320" y="312840"/>
            <a:ext cx="1824120" cy="1074600"/>
          </a:xfrm>
          <a:prstGeom prst="roundRect">
            <a:avLst>
              <a:gd name="adj" fmla="val 144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90080" bIns="0" anchor="ctr" anchorCtr="1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8800" spc="-1" strike="noStrike">
                <a:solidFill>
                  <a:srgbClr val="ff0000"/>
                </a:solidFill>
                <a:latin typeface="YOzFontNP04"/>
                <a:ea typeface="YOzFontNP04"/>
              </a:rPr>
              <a:t>Ｘ</a:t>
            </a:r>
            <a:endParaRPr b="0" lang="en-US" sz="8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7" name=""/>
          <p:cNvSpPr/>
          <p:nvPr/>
        </p:nvSpPr>
        <p:spPr>
          <a:xfrm>
            <a:off x="217440" y="1619280"/>
            <a:ext cx="4830840" cy="451800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dur="indefinite" fill="hold">
                      <p:stCondLst>
                        <p:cond delay="indefinite"/>
                      </p:stCondLst>
                      <p:childTnLst>
                        <p:par>
                          <p:cTn id="2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dur="indefinite" fill="hold">
                      <p:stCondLst>
                        <p:cond delay="indefinite"/>
                      </p:stCondLst>
                      <p:childTnLst>
                        <p:par>
                          <p:cTn id="2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5270400" y="1565280"/>
            <a:ext cx="4486320" cy="1020600"/>
          </a:xfrm>
          <a:prstGeom prst="roundRect">
            <a:avLst>
              <a:gd name="adj" fmla="val 153"/>
            </a:avLst>
          </a:prstGeom>
          <a:solidFill>
            <a:srgbClr val="ffffcc">
              <a:alpha val="7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ちにちでした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9" name=""/>
          <p:cNvSpPr/>
          <p:nvPr/>
        </p:nvSpPr>
        <p:spPr>
          <a:xfrm>
            <a:off x="571680" y="287280"/>
            <a:ext cx="4041720" cy="1062000"/>
          </a:xfrm>
          <a:prstGeom prst="roundRect">
            <a:avLst>
              <a:gd name="adj" fmla="val 148"/>
            </a:avLst>
          </a:prstGeom>
          <a:solidFill>
            <a:srgbClr val="ffffcc">
              <a:alpha val="7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のう 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0" name=""/>
          <p:cNvSpPr/>
          <p:nvPr/>
        </p:nvSpPr>
        <p:spPr>
          <a:xfrm>
            <a:off x="5211720" y="314280"/>
            <a:ext cx="3975120" cy="1062000"/>
          </a:xfrm>
          <a:prstGeom prst="roundRect">
            <a:avLst>
              <a:gd name="adj" fmla="val 148"/>
            </a:avLst>
          </a:prstGeom>
          <a:solidFill>
            <a:srgbClr val="ffffcc">
              <a:alpha val="7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さむい で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1" name=""/>
          <p:cNvSpPr/>
          <p:nvPr/>
        </p:nvSpPr>
        <p:spPr>
          <a:xfrm>
            <a:off x="7537320" y="312840"/>
            <a:ext cx="1824120" cy="1074600"/>
          </a:xfrm>
          <a:prstGeom prst="roundRect">
            <a:avLst>
              <a:gd name="adj" fmla="val 144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90080" bIns="0" anchor="ctr" anchorCtr="1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8800" spc="-1" strike="noStrike">
                <a:solidFill>
                  <a:srgbClr val="ff0000"/>
                </a:solidFill>
                <a:latin typeface="YOzFontNP04"/>
                <a:ea typeface="YOzFontNP04"/>
              </a:rPr>
              <a:t>Ｘ</a:t>
            </a:r>
            <a:endParaRPr b="0" lang="en-US" sz="8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2" name=""/>
          <p:cNvSpPr/>
          <p:nvPr/>
        </p:nvSpPr>
        <p:spPr>
          <a:xfrm>
            <a:off x="4748040" y="2583000"/>
            <a:ext cx="4830840" cy="415260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dur="indefinite" fill="hold">
                      <p:stCondLst>
                        <p:cond delay="indefinite"/>
                      </p:stCondLst>
                      <p:childTnLst>
                        <p:par>
                          <p:cTn id="3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dur="indefinite" fill="hold">
                      <p:stCondLst>
                        <p:cond delay="indefinite"/>
                      </p:stCondLst>
                      <p:childTnLst>
                        <p:par>
                          <p:cTn id="3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126200" y="2408400"/>
            <a:ext cx="2724120" cy="61909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2913120" y="4614840"/>
            <a:ext cx="3571920" cy="21146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74560" y="2082960"/>
            <a:ext cx="2279880" cy="75596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28480" y="297000"/>
            <a:ext cx="9164880" cy="1630080"/>
          </a:xfrm>
          <a:prstGeom prst="roundRect">
            <a:avLst>
              <a:gd name="adj" fmla="val 9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7" name=""/>
          <p:cNvSpPr/>
          <p:nvPr/>
        </p:nvSpPr>
        <p:spPr>
          <a:xfrm>
            <a:off x="2158920" y="698400"/>
            <a:ext cx="39164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おきいりんご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8" name=""/>
          <p:cNvSpPr/>
          <p:nvPr/>
        </p:nvSpPr>
        <p:spPr>
          <a:xfrm>
            <a:off x="6243480" y="677880"/>
            <a:ext cx="2797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ください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9" name=""/>
          <p:cNvSpPr/>
          <p:nvPr/>
        </p:nvSpPr>
        <p:spPr>
          <a:xfrm>
            <a:off x="825480" y="677880"/>
            <a:ext cx="1220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その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0" name=""/>
          <p:cNvSpPr/>
          <p:nvPr/>
        </p:nvSpPr>
        <p:spPr>
          <a:xfrm>
            <a:off x="4614840" y="3429000"/>
            <a:ext cx="2201760" cy="385272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dur="indefinite" fill="hold">
                      <p:stCondLst>
                        <p:cond delay="indefinite"/>
                      </p:stCondLst>
                      <p:childTnLst>
                        <p:par>
                          <p:cTn id="3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dur="indefinite" fill="hold">
                      <p:stCondLst>
                        <p:cond delay="indefinite"/>
                      </p:stCondLst>
                      <p:childTnLst>
                        <p:par>
                          <p:cTn id="3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dur="indefinite" fill="hold">
                      <p:stCondLst>
                        <p:cond delay="indefinite"/>
                      </p:stCondLst>
                      <p:childTnLst>
                        <p:par>
                          <p:cTn id="3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129280" y="722160"/>
            <a:ext cx="4640040" cy="60008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762120" y="4741920"/>
            <a:ext cx="8226360" cy="2341440"/>
            <a:chOff x="762120" y="4741920"/>
            <a:chExt cx="8226360" cy="2341440"/>
          </a:xfrm>
        </p:grpSpPr>
        <p:sp>
          <p:nvSpPr>
            <p:cNvPr id="233" name=""/>
            <p:cNvSpPr/>
            <p:nvPr/>
          </p:nvSpPr>
          <p:spPr>
            <a:xfrm>
              <a:off x="762120" y="4741920"/>
              <a:ext cx="8226360" cy="2341440"/>
            </a:xfrm>
            <a:prstGeom prst="roundRect">
              <a:avLst>
                <a:gd name="adj" fmla="val 65"/>
              </a:avLst>
            </a:prstGeom>
            <a:solidFill>
              <a:srgbClr val="ffffcc">
                <a:alpha val="85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728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8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おおき</a:t>
              </a:r>
              <a:r>
                <a:rPr b="0" lang="ja-JP" sz="8000" spc="-1" strike="noStrike" u="sng">
                  <a:solidFill>
                    <a:srgbClr val="ff0000"/>
                  </a:solidFill>
                  <a:uFillTx/>
                  <a:latin typeface="YOzFontNP04"/>
                  <a:ea typeface="YOzFontNP04"/>
                </a:rPr>
                <a:t>くないです</a:t>
              </a:r>
              <a:endParaRPr b="0" lang="en-US" sz="8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dur="indefinite" fill="hold">
                      <p:stCondLst>
                        <p:cond delay="indefinite"/>
                      </p:stCondLst>
                      <p:childTnLst>
                        <p:par>
                          <p:cTn id="3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5129280" y="722160"/>
            <a:ext cx="4640040" cy="60008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69920" y="4719600"/>
            <a:ext cx="9412200" cy="2363760"/>
            <a:chOff x="169920" y="4719600"/>
            <a:chExt cx="9412200" cy="2363760"/>
          </a:xfrm>
        </p:grpSpPr>
        <p:sp>
          <p:nvSpPr>
            <p:cNvPr id="236" name=""/>
            <p:cNvSpPr/>
            <p:nvPr/>
          </p:nvSpPr>
          <p:spPr>
            <a:xfrm>
              <a:off x="169920" y="4719600"/>
              <a:ext cx="9412200" cy="2363760"/>
            </a:xfrm>
            <a:prstGeom prst="roundRect">
              <a:avLst>
                <a:gd name="adj" fmla="val 65"/>
              </a:avLst>
            </a:prstGeom>
            <a:solidFill>
              <a:srgbClr val="ffffcc">
                <a:alpha val="9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728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8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あたらし</a:t>
              </a:r>
              <a:r>
                <a:rPr b="0" lang="ja-JP" sz="8000" spc="-1" strike="noStrike" u="sng">
                  <a:solidFill>
                    <a:srgbClr val="ff0000"/>
                  </a:solidFill>
                  <a:uFillTx/>
                  <a:latin typeface="YOzFontNP04"/>
                  <a:ea typeface="YOzFontNP04"/>
                </a:rPr>
                <a:t>くないです</a:t>
              </a:r>
              <a:endParaRPr b="0" lang="en-US" sz="8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dur="indefinite" fill="hold">
                      <p:stCondLst>
                        <p:cond delay="indefinite"/>
                      </p:stCondLst>
                      <p:childTnLst>
                        <p:par>
                          <p:cTn id="3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129280" y="722160"/>
            <a:ext cx="4640040" cy="60008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157400" y="4818240"/>
            <a:ext cx="7831080" cy="2265120"/>
            <a:chOff x="1157400" y="4818240"/>
            <a:chExt cx="7831080" cy="2265120"/>
          </a:xfrm>
        </p:grpSpPr>
        <p:sp>
          <p:nvSpPr>
            <p:cNvPr id="239" name=""/>
            <p:cNvSpPr/>
            <p:nvPr/>
          </p:nvSpPr>
          <p:spPr>
            <a:xfrm>
              <a:off x="1157400" y="4818240"/>
              <a:ext cx="7831080" cy="2265120"/>
            </a:xfrm>
            <a:prstGeom prst="roundRect">
              <a:avLst>
                <a:gd name="adj" fmla="val 69"/>
              </a:avLst>
            </a:prstGeom>
            <a:solidFill>
              <a:srgbClr val="ffffcc">
                <a:alpha val="9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728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8000" spc="-1" strike="noStrike" u="sng">
                  <a:solidFill>
                    <a:srgbClr val="ff0000"/>
                  </a:solidFill>
                  <a:uFillTx/>
                  <a:latin typeface="YOzFontNP04"/>
                  <a:ea typeface="YOzFontNP04"/>
                </a:rPr>
                <a:t>よくないです</a:t>
              </a:r>
              <a:endParaRPr b="0" lang="en-US" sz="8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dur="indefinite" fill="hold">
                      <p:stCondLst>
                        <p:cond delay="indefinite"/>
                      </p:stCondLst>
                      <p:childTnLst>
                        <p:par>
                          <p:cTn id="3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155600" y="4816440"/>
            <a:ext cx="7837560" cy="2271600"/>
          </a:xfrm>
          <a:prstGeom prst="roundRect">
            <a:avLst>
              <a:gd name="adj" fmla="val 69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728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8000" spc="-1" strike="noStrike">
                <a:solidFill>
                  <a:srgbClr val="000000"/>
                </a:solidFill>
                <a:latin typeface="YOzFontNP04"/>
                <a:ea typeface="YOzFontNP04"/>
              </a:rPr>
              <a:t>ハンサムです</a:t>
            </a:r>
            <a:endParaRPr b="0" lang="en-US" sz="8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dur="indefinite" fill="hold">
                      <p:stCondLst>
                        <p:cond delay="indefinite"/>
                      </p:stCondLst>
                      <p:childTnLst>
                        <p:par>
                          <p:cTn id="3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155600" y="4816440"/>
            <a:ext cx="7837560" cy="2271600"/>
          </a:xfrm>
          <a:prstGeom prst="roundRect">
            <a:avLst>
              <a:gd name="adj" fmla="val 69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728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8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れいです</a:t>
            </a:r>
            <a:endParaRPr b="0" lang="en-US" sz="8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dur="indefinite" fill="hold">
                      <p:stCondLst>
                        <p:cond delay="indefinite"/>
                      </p:stCondLst>
                      <p:childTnLst>
                        <p:par>
                          <p:cTn id="3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887400" y="677880"/>
            <a:ext cx="3862440" cy="647208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155600" y="4816440"/>
            <a:ext cx="7831080" cy="2265480"/>
            <a:chOff x="1155600" y="4816440"/>
            <a:chExt cx="7831080" cy="2265480"/>
          </a:xfrm>
        </p:grpSpPr>
        <p:sp>
          <p:nvSpPr>
            <p:cNvPr id="244" name=""/>
            <p:cNvSpPr/>
            <p:nvPr/>
          </p:nvSpPr>
          <p:spPr>
            <a:xfrm>
              <a:off x="1155600" y="4816440"/>
              <a:ext cx="7831080" cy="2265480"/>
            </a:xfrm>
            <a:prstGeom prst="roundRect">
              <a:avLst>
                <a:gd name="adj" fmla="val 69"/>
              </a:avLst>
            </a:pr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728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8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しずかです</a:t>
              </a:r>
              <a:endParaRPr b="0" lang="en-US" sz="8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dur="indefinite" fill="hold">
                      <p:stCondLst>
                        <p:cond delay="indefinite"/>
                      </p:stCondLst>
                      <p:childTnLst>
                        <p:par>
                          <p:cTn id="3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129280" y="720720"/>
            <a:ext cx="4640040" cy="60008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155600" y="4816440"/>
            <a:ext cx="7831080" cy="2265480"/>
            <a:chOff x="1155600" y="4816440"/>
            <a:chExt cx="7831080" cy="2265480"/>
          </a:xfrm>
        </p:grpSpPr>
        <p:sp>
          <p:nvSpPr>
            <p:cNvPr id="99" name=""/>
            <p:cNvSpPr/>
            <p:nvPr/>
          </p:nvSpPr>
          <p:spPr>
            <a:xfrm>
              <a:off x="1155600" y="4816440"/>
              <a:ext cx="7831080" cy="2265480"/>
            </a:xfrm>
            <a:prstGeom prst="roundRect">
              <a:avLst>
                <a:gd name="adj" fmla="val 69"/>
              </a:avLst>
            </a:pr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728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8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ふるいです</a:t>
              </a:r>
              <a:endParaRPr b="0" lang="en-US" sz="8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5767560" y="639720"/>
            <a:ext cx="3862080" cy="64724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155600" y="4816440"/>
            <a:ext cx="7831080" cy="2265480"/>
            <a:chOff x="1155600" y="4816440"/>
            <a:chExt cx="7831080" cy="2265480"/>
          </a:xfrm>
        </p:grpSpPr>
        <p:sp>
          <p:nvSpPr>
            <p:cNvPr id="247" name=""/>
            <p:cNvSpPr/>
            <p:nvPr/>
          </p:nvSpPr>
          <p:spPr>
            <a:xfrm>
              <a:off x="1155600" y="4816440"/>
              <a:ext cx="7831080" cy="2265480"/>
            </a:xfrm>
            <a:prstGeom prst="roundRect">
              <a:avLst>
                <a:gd name="adj" fmla="val 69"/>
              </a:avLst>
            </a:pr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728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8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にぎやかです</a:t>
              </a:r>
              <a:endParaRPr b="0" lang="en-US" sz="8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dur="indefinite" fill="hold">
                      <p:stCondLst>
                        <p:cond delay="indefinite"/>
                      </p:stCondLst>
                      <p:childTnLst>
                        <p:par>
                          <p:cTn id="3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1155600" y="4816440"/>
            <a:ext cx="7831080" cy="2265480"/>
            <a:chOff x="1155600" y="4816440"/>
            <a:chExt cx="7831080" cy="2265480"/>
          </a:xfrm>
        </p:grpSpPr>
        <p:sp>
          <p:nvSpPr>
            <p:cNvPr id="249" name=""/>
            <p:cNvSpPr/>
            <p:nvPr/>
          </p:nvSpPr>
          <p:spPr>
            <a:xfrm>
              <a:off x="1155600" y="4816440"/>
              <a:ext cx="7831080" cy="2265480"/>
            </a:xfrm>
            <a:prstGeom prst="roundRect">
              <a:avLst>
                <a:gd name="adj" fmla="val 69"/>
              </a:avLst>
            </a:prstGeom>
            <a:solidFill>
              <a:srgbClr val="ffffcc">
                <a:alpha val="7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728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8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ゆうめいです</a:t>
              </a:r>
              <a:endParaRPr b="0" lang="en-US" sz="8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dur="indefinite" fill="hold">
                      <p:stCondLst>
                        <p:cond delay="indefinite"/>
                      </p:stCondLst>
                      <p:childTnLst>
                        <p:par>
                          <p:cTn id="3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940200" y="612720"/>
            <a:ext cx="3862440" cy="64724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155600" y="4816440"/>
            <a:ext cx="7831080" cy="2265480"/>
            <a:chOff x="1155600" y="4816440"/>
            <a:chExt cx="7831080" cy="2265480"/>
          </a:xfrm>
        </p:grpSpPr>
        <p:sp>
          <p:nvSpPr>
            <p:cNvPr id="252" name=""/>
            <p:cNvSpPr/>
            <p:nvPr/>
          </p:nvSpPr>
          <p:spPr>
            <a:xfrm>
              <a:off x="1155600" y="4816440"/>
              <a:ext cx="7831080" cy="2265480"/>
            </a:xfrm>
            <a:prstGeom prst="roundRect">
              <a:avLst>
                <a:gd name="adj" fmla="val 69"/>
              </a:avLst>
            </a:prstGeom>
            <a:solidFill>
              <a:srgbClr val="ffffcc">
                <a:alpha val="7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728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8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しんせつです</a:t>
              </a:r>
              <a:endParaRPr b="0" lang="en-US" sz="8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dur="indefinite" fill="hold">
                      <p:stCondLst>
                        <p:cond delay="indefinite"/>
                      </p:stCondLst>
                      <p:childTnLst>
                        <p:par>
                          <p:cTn id="3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1155600" y="4816440"/>
            <a:ext cx="7831080" cy="2265480"/>
            <a:chOff x="1155600" y="4816440"/>
            <a:chExt cx="7831080" cy="2265480"/>
          </a:xfrm>
        </p:grpSpPr>
        <p:sp>
          <p:nvSpPr>
            <p:cNvPr id="254" name=""/>
            <p:cNvSpPr/>
            <p:nvPr/>
          </p:nvSpPr>
          <p:spPr>
            <a:xfrm>
              <a:off x="1155600" y="4816440"/>
              <a:ext cx="7831080" cy="2265480"/>
            </a:xfrm>
            <a:prstGeom prst="roundRect">
              <a:avLst>
                <a:gd name="adj" fmla="val 69"/>
              </a:avLst>
            </a:prstGeom>
            <a:solidFill>
              <a:srgbClr val="ffffcc">
                <a:alpha val="7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728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8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げんきです</a:t>
              </a:r>
              <a:endParaRPr b="0" lang="en-US" sz="8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dur="indefinite" fill="hold">
                      <p:stCondLst>
                        <p:cond delay="indefinite"/>
                      </p:stCondLst>
                      <p:childTnLst>
                        <p:par>
                          <p:cTn id="3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730080" y="677880"/>
            <a:ext cx="3862440" cy="647208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155600" y="4816440"/>
            <a:ext cx="7831080" cy="2265480"/>
            <a:chOff x="1155600" y="4816440"/>
            <a:chExt cx="7831080" cy="2265480"/>
          </a:xfrm>
        </p:grpSpPr>
        <p:sp>
          <p:nvSpPr>
            <p:cNvPr id="257" name=""/>
            <p:cNvSpPr/>
            <p:nvPr/>
          </p:nvSpPr>
          <p:spPr>
            <a:xfrm>
              <a:off x="1155600" y="4816440"/>
              <a:ext cx="7831080" cy="2265480"/>
            </a:xfrm>
            <a:prstGeom prst="roundRect">
              <a:avLst>
                <a:gd name="adj" fmla="val 69"/>
              </a:avLst>
            </a:prstGeom>
            <a:solidFill>
              <a:srgbClr val="ffffcc">
                <a:alpha val="7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728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8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べんりです</a:t>
              </a:r>
              <a:endParaRPr b="0" lang="en-US" sz="8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dur="indefinite" fill="hold">
                      <p:stCondLst>
                        <p:cond delay="indefinite"/>
                      </p:stCondLst>
                      <p:childTnLst>
                        <p:par>
                          <p:cTn id="3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559480" y="392040"/>
            <a:ext cx="3862440" cy="64724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155600" y="4816440"/>
            <a:ext cx="7831080" cy="2265480"/>
            <a:chOff x="1155600" y="4816440"/>
            <a:chExt cx="7831080" cy="2265480"/>
          </a:xfrm>
        </p:grpSpPr>
        <p:sp>
          <p:nvSpPr>
            <p:cNvPr id="260" name=""/>
            <p:cNvSpPr/>
            <p:nvPr/>
          </p:nvSpPr>
          <p:spPr>
            <a:xfrm>
              <a:off x="1155600" y="4816440"/>
              <a:ext cx="7831080" cy="2265480"/>
            </a:xfrm>
            <a:prstGeom prst="roundRect">
              <a:avLst>
                <a:gd name="adj" fmla="val 69"/>
              </a:avLst>
            </a:prstGeom>
            <a:solidFill>
              <a:srgbClr val="ffffcc">
                <a:alpha val="7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728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8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ふべんです</a:t>
              </a:r>
              <a:endParaRPr b="0" lang="en-US" sz="8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dur="indefinite" fill="hold">
                      <p:stCondLst>
                        <p:cond delay="indefinite"/>
                      </p:stCondLst>
                      <p:childTnLst>
                        <p:par>
                          <p:cTn id="4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82520" y="368280"/>
            <a:ext cx="4254480" cy="52452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2093760" y="1801800"/>
            <a:ext cx="4114800" cy="31082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5589720" y="384120"/>
            <a:ext cx="3697200" cy="28828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5435640" y="1558800"/>
            <a:ext cx="3208320" cy="41925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5"/>
          <a:stretch/>
        </p:blipFill>
        <p:spPr>
          <a:xfrm>
            <a:off x="3400560" y="762120"/>
            <a:ext cx="4868640" cy="6313320"/>
          </a:xfrm>
          <a:prstGeom prst="rect">
            <a:avLst/>
          </a:prstGeom>
          <a:ln w="0">
            <a:noFill/>
          </a:ln>
        </p:spPr>
      </p:pic>
      <p:grpSp>
        <p:nvGrpSpPr>
          <p:cNvPr id="266" name=""/>
          <p:cNvGrpSpPr/>
          <p:nvPr/>
        </p:nvGrpSpPr>
        <p:grpSpPr>
          <a:xfrm>
            <a:off x="1155600" y="4816440"/>
            <a:ext cx="7831080" cy="2265480"/>
            <a:chOff x="1155600" y="4816440"/>
            <a:chExt cx="7831080" cy="2265480"/>
          </a:xfrm>
        </p:grpSpPr>
        <p:sp>
          <p:nvSpPr>
            <p:cNvPr id="267" name=""/>
            <p:cNvSpPr/>
            <p:nvPr/>
          </p:nvSpPr>
          <p:spPr>
            <a:xfrm>
              <a:off x="1155600" y="4816440"/>
              <a:ext cx="7831080" cy="2265480"/>
            </a:xfrm>
            <a:prstGeom prst="roundRect">
              <a:avLst>
                <a:gd name="adj" fmla="val 69"/>
              </a:avLst>
            </a:prstGeom>
            <a:solidFill>
              <a:srgbClr val="ffffcc">
                <a:alpha val="7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728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8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たいへんです</a:t>
              </a:r>
              <a:endParaRPr b="0" lang="en-US" sz="8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dur="indefinite" fill="hold">
                      <p:stCondLst>
                        <p:cond delay="indefinite"/>
                      </p:stCondLst>
                      <p:childTnLst>
                        <p:par>
                          <p:cTn id="4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4367160" y="6137280"/>
            <a:ext cx="4626000" cy="952560"/>
          </a:xfrm>
          <a:prstGeom prst="roundRect">
            <a:avLst>
              <a:gd name="adj" fmla="val 167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ハンサムで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9" name=""/>
          <p:cNvSpPr/>
          <p:nvPr/>
        </p:nvSpPr>
        <p:spPr>
          <a:xfrm>
            <a:off x="326880" y="5006880"/>
            <a:ext cx="3741840" cy="1062000"/>
          </a:xfrm>
          <a:prstGeom prst="roundRect">
            <a:avLst>
              <a:gd name="adj" fmla="val 148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やまださん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0" name=""/>
          <p:cNvSpPr/>
          <p:nvPr/>
        </p:nvSpPr>
        <p:spPr>
          <a:xfrm>
            <a:off x="4313160" y="4979880"/>
            <a:ext cx="1047960" cy="1074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166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YOzFontNP04"/>
                <a:ea typeface="YOzFontNP04"/>
              </a:rPr>
              <a:t>は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dur="indefinite" fill="hold">
                      <p:stCondLst>
                        <p:cond delay="indefinite"/>
                      </p:stCondLst>
                      <p:childTnLst>
                        <p:par>
                          <p:cTn id="4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dur="indefinite" fill="hold">
                      <p:stCondLst>
                        <p:cond delay="indefinite"/>
                      </p:stCondLst>
                      <p:childTnLst>
                        <p:par>
                          <p:cTn id="4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dur="indefinite" fill="hold">
                      <p:stCondLst>
                        <p:cond delay="indefinite"/>
                      </p:stCondLst>
                      <p:childTnLst>
                        <p:par>
                          <p:cTn id="4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855720" y="96840"/>
            <a:ext cx="8669160" cy="305100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2" name=""/>
          <p:cNvSpPr/>
          <p:nvPr/>
        </p:nvSpPr>
        <p:spPr>
          <a:xfrm>
            <a:off x="3884760" y="3200400"/>
            <a:ext cx="4626000" cy="952560"/>
          </a:xfrm>
          <a:prstGeom prst="roundRect">
            <a:avLst>
              <a:gd name="adj" fmla="val 1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ゆうめいで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2108160"/>
            <a:ext cx="3741840" cy="1062000"/>
          </a:xfrm>
          <a:prstGeom prst="roundRect">
            <a:avLst>
              <a:gd name="adj" fmla="val 14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ふじさん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4" name=""/>
          <p:cNvSpPr/>
          <p:nvPr/>
        </p:nvSpPr>
        <p:spPr>
          <a:xfrm>
            <a:off x="3699000" y="2143080"/>
            <a:ext cx="1047600" cy="1074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166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YOzFontNP04"/>
                <a:ea typeface="YOzFontNP04"/>
              </a:rPr>
              <a:t>は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dur="indefinite" fill="hold">
                      <p:stCondLst>
                        <p:cond delay="indefinite"/>
                      </p:stCondLst>
                      <p:childTnLst>
                        <p:par>
                          <p:cTn id="4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dur="indefinite" fill="hold">
                      <p:stCondLst>
                        <p:cond delay="indefinite"/>
                      </p:stCondLst>
                      <p:childTnLst>
                        <p:par>
                          <p:cTn id="4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dur="indefinite" fill="hold">
                      <p:stCondLst>
                        <p:cond delay="indefinite"/>
                      </p:stCondLst>
                      <p:childTnLst>
                        <p:par>
                          <p:cTn id="4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1155600" y="4816440"/>
            <a:ext cx="7831080" cy="2265480"/>
            <a:chOff x="1155600" y="4816440"/>
            <a:chExt cx="7831080" cy="2265480"/>
          </a:xfrm>
        </p:grpSpPr>
        <p:sp>
          <p:nvSpPr>
            <p:cNvPr id="276" name=""/>
            <p:cNvSpPr/>
            <p:nvPr/>
          </p:nvSpPr>
          <p:spPr>
            <a:xfrm>
              <a:off x="1155600" y="4816440"/>
              <a:ext cx="7831080" cy="2265480"/>
            </a:xfrm>
            <a:prstGeom prst="roundRect">
              <a:avLst>
                <a:gd name="adj" fmla="val 69"/>
              </a:avLst>
            </a:prstGeom>
            <a:solidFill>
              <a:srgbClr val="ffffcc">
                <a:alpha val="7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728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8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げんきです</a:t>
              </a:r>
              <a:endParaRPr b="0" lang="en-US" sz="8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dur="indefinite" fill="hold">
                      <p:stCondLst>
                        <p:cond delay="indefinite"/>
                      </p:stCondLst>
                      <p:childTnLst>
                        <p:par>
                          <p:cTn id="4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434880"/>
            <a:ext cx="4640400" cy="60008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155600" y="4816440"/>
            <a:ext cx="7831080" cy="2265480"/>
            <a:chOff x="1155600" y="4816440"/>
            <a:chExt cx="7831080" cy="2265480"/>
          </a:xfrm>
        </p:grpSpPr>
        <p:sp>
          <p:nvSpPr>
            <p:cNvPr id="102" name=""/>
            <p:cNvSpPr/>
            <p:nvPr/>
          </p:nvSpPr>
          <p:spPr>
            <a:xfrm>
              <a:off x="1155600" y="4816440"/>
              <a:ext cx="7831080" cy="2265480"/>
            </a:xfrm>
            <a:prstGeom prst="roundRect">
              <a:avLst>
                <a:gd name="adj" fmla="val 69"/>
              </a:avLst>
            </a:prstGeom>
            <a:solidFill>
              <a:srgbClr val="ffffcc">
                <a:alpha val="9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728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8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いいです</a:t>
              </a:r>
              <a:endParaRPr b="0" lang="en-US" sz="8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0" y="128520"/>
            <a:ext cx="10078920" cy="73184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2779560" y="574560"/>
            <a:ext cx="3862440" cy="64724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292400" y="4886280"/>
            <a:ext cx="7831080" cy="2265480"/>
            <a:chOff x="1292400" y="4886280"/>
            <a:chExt cx="7831080" cy="2265480"/>
          </a:xfrm>
        </p:grpSpPr>
        <p:sp>
          <p:nvSpPr>
            <p:cNvPr id="280" name=""/>
            <p:cNvSpPr/>
            <p:nvPr/>
          </p:nvSpPr>
          <p:spPr>
            <a:xfrm>
              <a:off x="1292400" y="4886280"/>
              <a:ext cx="7831080" cy="2265480"/>
            </a:xfrm>
            <a:prstGeom prst="roundRect">
              <a:avLst>
                <a:gd name="adj" fmla="val 69"/>
              </a:avLst>
            </a:prstGeom>
            <a:solidFill>
              <a:srgbClr val="ffffcc">
                <a:alpha val="9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1664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げんき</a:t>
              </a:r>
              <a:r>
                <a:rPr b="0" lang="ja-JP" sz="5400" spc="-1" strike="noStrike" u="sng">
                  <a:solidFill>
                    <a:srgbClr val="ff0000"/>
                  </a:solidFill>
                  <a:uFillTx/>
                  <a:latin typeface="YOzFontNP04"/>
                  <a:ea typeface="YOzFontNP04"/>
                </a:rPr>
                <a:t>じゃありません</a:t>
              </a:r>
              <a:endParaRPr b="0" lang="en-US" sz="5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dur="indefinite" fill="hold">
                      <p:stCondLst>
                        <p:cond delay="indefinite"/>
                      </p:stCondLst>
                      <p:childTnLst>
                        <p:par>
                          <p:cTn id="4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940200" y="612720"/>
            <a:ext cx="3862440" cy="64724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155600" y="4816440"/>
            <a:ext cx="7831080" cy="2265480"/>
            <a:chOff x="1155600" y="4816440"/>
            <a:chExt cx="7831080" cy="2265480"/>
          </a:xfrm>
        </p:grpSpPr>
        <p:sp>
          <p:nvSpPr>
            <p:cNvPr id="283" name=""/>
            <p:cNvSpPr/>
            <p:nvPr/>
          </p:nvSpPr>
          <p:spPr>
            <a:xfrm>
              <a:off x="1155600" y="4816440"/>
              <a:ext cx="7831080" cy="2265480"/>
            </a:xfrm>
            <a:prstGeom prst="roundRect">
              <a:avLst>
                <a:gd name="adj" fmla="val 69"/>
              </a:avLst>
            </a:prstGeom>
            <a:solidFill>
              <a:srgbClr val="ffffcc">
                <a:alpha val="7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728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8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しんせつです</a:t>
              </a:r>
              <a:endParaRPr b="0" lang="en-US" sz="8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dur="indefinite" fill="hold">
                      <p:stCondLst>
                        <p:cond delay="indefinite"/>
                      </p:stCondLst>
                      <p:childTnLst>
                        <p:par>
                          <p:cTn id="4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4645080" y="1787400"/>
            <a:ext cx="3679920" cy="536256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389240" y="4902120"/>
            <a:ext cx="7831080" cy="2265480"/>
            <a:chOff x="1389240" y="4902120"/>
            <a:chExt cx="7831080" cy="2265480"/>
          </a:xfrm>
        </p:grpSpPr>
        <p:sp>
          <p:nvSpPr>
            <p:cNvPr id="286" name=""/>
            <p:cNvSpPr/>
            <p:nvPr/>
          </p:nvSpPr>
          <p:spPr>
            <a:xfrm>
              <a:off x="1389240" y="4902120"/>
              <a:ext cx="7831080" cy="2265480"/>
            </a:xfrm>
            <a:prstGeom prst="roundRect">
              <a:avLst>
                <a:gd name="adj" fmla="val 69"/>
              </a:avLst>
            </a:prstGeom>
            <a:solidFill>
              <a:srgbClr val="ffffcc">
                <a:alpha val="9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1664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しんせつ</a:t>
              </a:r>
              <a:r>
                <a:rPr b="0" lang="ja-JP" sz="5400" spc="-1" strike="noStrike" u="sng">
                  <a:solidFill>
                    <a:srgbClr val="ff0000"/>
                  </a:solidFill>
                  <a:uFillTx/>
                  <a:latin typeface="YOzFontNP04"/>
                  <a:ea typeface="YOzFontNP04"/>
                </a:rPr>
                <a:t>じゃありません</a:t>
              </a:r>
              <a:endParaRPr b="0" lang="en-US" sz="5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dur="indefinite" fill="hold">
                      <p:stCondLst>
                        <p:cond delay="indefinite"/>
                      </p:stCondLst>
                      <p:childTnLst>
                        <p:par>
                          <p:cTn id="4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7823160" y="258840"/>
            <a:ext cx="3863880" cy="7300800"/>
          </a:xfrm>
          <a:custGeom>
            <a:avLst/>
            <a:gdLst>
              <a:gd name="textAreaLeft" fmla="*/ 360 w 3863880"/>
              <a:gd name="textAreaRight" fmla="*/ 3863520 w 3863880"/>
              <a:gd name="textAreaTop" fmla="*/ 360 h 7300800"/>
              <a:gd name="textAreaBottom" fmla="*/ 7300440 h 7300800"/>
            </a:gdLst>
            <a:ahLst/>
            <a:rect l="textAreaLeft" t="textAreaTop" r="textAreaRight" b="textAreaBottom"/>
            <a:pathLst>
              <a:path w="21600" h="40811">
                <a:moveTo>
                  <a:pt x="8" y="0"/>
                </a:moveTo>
                <a:arcTo wR="8" hR="8" stAng="16200000" swAng="-5400000"/>
                <a:lnTo>
                  <a:pt x="0" y="40803"/>
                </a:lnTo>
                <a:arcTo wR="8" hR="8" stAng="10800000" swAng="-5400000"/>
                <a:lnTo>
                  <a:pt x="21592" y="40811"/>
                </a:lnTo>
                <a:arcTo wR="8" hR="8" stAng="5400000" swAng="-5400000"/>
                <a:lnTo>
                  <a:pt x="21600" y="8"/>
                </a:lnTo>
                <a:arcTo wR="8" hR="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292400" y="4886280"/>
            <a:ext cx="7831080" cy="2265480"/>
            <a:chOff x="1292400" y="4886280"/>
            <a:chExt cx="7831080" cy="2265480"/>
          </a:xfrm>
        </p:grpSpPr>
        <p:sp>
          <p:nvSpPr>
            <p:cNvPr id="289" name=""/>
            <p:cNvSpPr/>
            <p:nvPr/>
          </p:nvSpPr>
          <p:spPr>
            <a:xfrm>
              <a:off x="1292400" y="4886280"/>
              <a:ext cx="7831080" cy="2265480"/>
            </a:xfrm>
            <a:prstGeom prst="roundRect">
              <a:avLst>
                <a:gd name="adj" fmla="val 69"/>
              </a:avLst>
            </a:prstGeom>
            <a:solidFill>
              <a:srgbClr val="ffffcc">
                <a:alpha val="7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1664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にぎやか</a:t>
              </a:r>
              <a:r>
                <a:rPr b="0" lang="ja-JP" sz="5400" spc="-1" strike="noStrike" u="sng">
                  <a:solidFill>
                    <a:srgbClr val="ff0000"/>
                  </a:solidFill>
                  <a:uFillTx/>
                  <a:latin typeface="YOzFontNP04"/>
                  <a:ea typeface="YOzFontNP04"/>
                </a:rPr>
                <a:t>じゃありません</a:t>
              </a:r>
              <a:endParaRPr b="0" lang="en-US" sz="5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dur="indefinite" fill="hold">
                      <p:stCondLst>
                        <p:cond delay="indefinite"/>
                      </p:stCondLst>
                      <p:childTnLst>
                        <p:par>
                          <p:cTn id="4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623880" y="492120"/>
            <a:ext cx="8858160" cy="65721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5295960" y="1582560"/>
            <a:ext cx="4460760" cy="1003320"/>
          </a:xfrm>
          <a:prstGeom prst="roundRect">
            <a:avLst>
              <a:gd name="adj" fmla="val 157"/>
            </a:avLst>
          </a:prstGeom>
          <a:solidFill>
            <a:srgbClr val="ffffcc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ひとで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2" name=""/>
          <p:cNvSpPr/>
          <p:nvPr/>
        </p:nvSpPr>
        <p:spPr>
          <a:xfrm>
            <a:off x="162000" y="177840"/>
            <a:ext cx="4537080" cy="1143000"/>
          </a:xfrm>
          <a:prstGeom prst="roundRect">
            <a:avLst>
              <a:gd name="adj" fmla="val 139"/>
            </a:avLst>
          </a:prstGeom>
          <a:solidFill>
            <a:srgbClr val="ffffcc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こさん 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3" name=""/>
          <p:cNvSpPr/>
          <p:nvPr/>
        </p:nvSpPr>
        <p:spPr>
          <a:xfrm>
            <a:off x="4871880" y="299880"/>
            <a:ext cx="4042080" cy="1062360"/>
          </a:xfrm>
          <a:prstGeom prst="roundRect">
            <a:avLst>
              <a:gd name="adj" fmla="val 148"/>
            </a:avLst>
          </a:prstGeom>
          <a:solidFill>
            <a:srgbClr val="ffffcc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んせつ で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4" name=""/>
          <p:cNvSpPr/>
          <p:nvPr/>
        </p:nvSpPr>
        <p:spPr>
          <a:xfrm>
            <a:off x="7742160" y="285840"/>
            <a:ext cx="1047960" cy="10746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166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YOzFontNP04"/>
                <a:ea typeface="YOzFontNP04"/>
              </a:rPr>
              <a:t>な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dur="indefinite" fill="hold">
                      <p:stCondLst>
                        <p:cond delay="indefinite"/>
                      </p:stCondLst>
                      <p:childTnLst>
                        <p:par>
                          <p:cTn id="4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dur="indefinite" fill="hold">
                      <p:stCondLst>
                        <p:cond delay="indefinite"/>
                      </p:stCondLst>
                      <p:childTnLst>
                        <p:par>
                          <p:cTn id="4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5295960" y="1582560"/>
            <a:ext cx="4460760" cy="1003320"/>
          </a:xfrm>
          <a:prstGeom prst="roundRect">
            <a:avLst>
              <a:gd name="adj" fmla="val 157"/>
            </a:avLst>
          </a:prstGeom>
          <a:solidFill>
            <a:srgbClr val="ffffcc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ともだちで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6" name=""/>
          <p:cNvSpPr/>
          <p:nvPr/>
        </p:nvSpPr>
        <p:spPr>
          <a:xfrm>
            <a:off x="517680" y="258840"/>
            <a:ext cx="4041720" cy="1062000"/>
          </a:xfrm>
          <a:prstGeom prst="roundRect">
            <a:avLst>
              <a:gd name="adj" fmla="val 148"/>
            </a:avLst>
          </a:prstGeom>
          <a:solidFill>
            <a:srgbClr val="ffffcc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たなかさん 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7" name=""/>
          <p:cNvSpPr/>
          <p:nvPr/>
        </p:nvSpPr>
        <p:spPr>
          <a:xfrm>
            <a:off x="4871880" y="299880"/>
            <a:ext cx="4042080" cy="1062360"/>
          </a:xfrm>
          <a:prstGeom prst="roundRect">
            <a:avLst>
              <a:gd name="adj" fmla="val 148"/>
            </a:avLst>
          </a:prstGeom>
          <a:solidFill>
            <a:srgbClr val="ffffcc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んせつ で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8" name=""/>
          <p:cNvSpPr/>
          <p:nvPr/>
        </p:nvSpPr>
        <p:spPr>
          <a:xfrm>
            <a:off x="7742160" y="285840"/>
            <a:ext cx="1047960" cy="10746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166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YOzFontNP04"/>
                <a:ea typeface="YOzFontNP04"/>
              </a:rPr>
              <a:t>な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dur="indefinite" fill="hold">
                      <p:stCondLst>
                        <p:cond delay="indefinite"/>
                      </p:stCondLst>
                      <p:childTnLst>
                        <p:par>
                          <p:cTn id="5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dur="indefinite" fill="hold">
                      <p:stCondLst>
                        <p:cond delay="indefinite"/>
                      </p:stCondLst>
                      <p:childTnLst>
                        <p:par>
                          <p:cTn id="5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767560" y="639720"/>
            <a:ext cx="3862080" cy="64724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1155600" y="4816440"/>
            <a:ext cx="7831080" cy="2265480"/>
            <a:chOff x="1155600" y="4816440"/>
            <a:chExt cx="7831080" cy="2265480"/>
          </a:xfrm>
        </p:grpSpPr>
        <p:sp>
          <p:nvSpPr>
            <p:cNvPr id="301" name=""/>
            <p:cNvSpPr/>
            <p:nvPr/>
          </p:nvSpPr>
          <p:spPr>
            <a:xfrm>
              <a:off x="1155600" y="4816440"/>
              <a:ext cx="7831080" cy="2265480"/>
            </a:xfrm>
            <a:prstGeom prst="roundRect">
              <a:avLst>
                <a:gd name="adj" fmla="val 69"/>
              </a:avLst>
            </a:pr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728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8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にぎやかです</a:t>
              </a:r>
              <a:endParaRPr b="0" lang="en-US" sz="8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dur="indefinite" fill="hold">
                      <p:stCondLst>
                        <p:cond delay="indefinite"/>
                      </p:stCondLst>
                      <p:childTnLst>
                        <p:par>
                          <p:cTn id="5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627360" y="1619280"/>
            <a:ext cx="3117960" cy="416232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3" name=""/>
          <p:cNvSpPr/>
          <p:nvPr/>
        </p:nvSpPr>
        <p:spPr>
          <a:xfrm>
            <a:off x="4083120" y="177840"/>
            <a:ext cx="2830320" cy="952560"/>
          </a:xfrm>
          <a:prstGeom prst="roundRect">
            <a:avLst>
              <a:gd name="adj" fmla="val 167"/>
            </a:avLst>
          </a:prstGeom>
          <a:solidFill>
            <a:srgbClr val="ffffcc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とけい、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4" name=""/>
          <p:cNvSpPr/>
          <p:nvPr/>
        </p:nvSpPr>
        <p:spPr>
          <a:xfrm>
            <a:off x="3238560" y="1197000"/>
            <a:ext cx="6572160" cy="1062000"/>
          </a:xfrm>
          <a:prstGeom prst="roundRect">
            <a:avLst>
              <a:gd name="adj" fmla="val 148"/>
            </a:avLst>
          </a:prstGeom>
          <a:solidFill>
            <a:srgbClr val="ffffcc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りがとうございま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5" name=""/>
          <p:cNvSpPr/>
          <p:nvPr/>
        </p:nvSpPr>
        <p:spPr>
          <a:xfrm>
            <a:off x="68400" y="136440"/>
            <a:ext cx="4041720" cy="1062000"/>
          </a:xfrm>
          <a:prstGeom prst="roundRect">
            <a:avLst>
              <a:gd name="adj" fmla="val 148"/>
            </a:avLst>
          </a:prstGeom>
          <a:solidFill>
            <a:srgbClr val="ffffcc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れい で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6" name=""/>
          <p:cNvSpPr/>
          <p:nvPr/>
        </p:nvSpPr>
        <p:spPr>
          <a:xfrm>
            <a:off x="2720880" y="136440"/>
            <a:ext cx="1047960" cy="1074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166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YOzFontNP04"/>
                <a:ea typeface="YOzFontNP04"/>
              </a:rPr>
              <a:t>な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7" name=""/>
          <p:cNvSpPr/>
          <p:nvPr/>
        </p:nvSpPr>
        <p:spPr>
          <a:xfrm>
            <a:off x="204840" y="5184720"/>
            <a:ext cx="9320040" cy="2122560"/>
          </a:xfrm>
          <a:prstGeom prst="roundRect">
            <a:avLst>
              <a:gd name="adj" fmla="val 74"/>
            </a:avLst>
          </a:prstGeom>
          <a:solidFill>
            <a:srgbClr val="ffcc99">
              <a:alpha val="9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れい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な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とけい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もらいました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dur="indefinite" fill="hold">
                      <p:stCondLst>
                        <p:cond delay="indefinite"/>
                      </p:stCondLst>
                      <p:childTnLst>
                        <p:par>
                          <p:cTn id="5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dur="indefinite" fill="hold">
                      <p:stCondLst>
                        <p:cond delay="indefinite"/>
                      </p:stCondLst>
                      <p:childTnLst>
                        <p:par>
                          <p:cTn id="5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dur="indefinite" fill="hold">
                      <p:stCondLst>
                        <p:cond delay="indefinite"/>
                      </p:stCondLst>
                      <p:childTnLst>
                        <p:par>
                          <p:cTn id="5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 flipV="1">
            <a:off x="1841400" y="438120"/>
            <a:ext cx="20880" cy="6827760"/>
          </a:xfrm>
          <a:prstGeom prst="line">
            <a:avLst/>
          </a:prstGeom>
          <a:ln w="7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9" name=""/>
          <p:cNvSpPr/>
          <p:nvPr/>
        </p:nvSpPr>
        <p:spPr>
          <a:xfrm>
            <a:off x="2243160" y="2433600"/>
            <a:ext cx="853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62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  <a:ea typeface="MS P 明朝"/>
              </a:rPr>
              <a:t>30°C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0" name=""/>
          <p:cNvSpPr/>
          <p:nvPr/>
        </p:nvSpPr>
        <p:spPr>
          <a:xfrm>
            <a:off x="2179800" y="762120"/>
            <a:ext cx="853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62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  <a:ea typeface="MS P 明朝"/>
              </a:rPr>
              <a:t>40°C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1" name=""/>
          <p:cNvSpPr/>
          <p:nvPr/>
        </p:nvSpPr>
        <p:spPr>
          <a:xfrm>
            <a:off x="2306520" y="6688080"/>
            <a:ext cx="1014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62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  <a:ea typeface="MS P 明朝"/>
              </a:rPr>
              <a:t>-10°C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2" name=""/>
          <p:cNvSpPr/>
          <p:nvPr/>
        </p:nvSpPr>
        <p:spPr>
          <a:xfrm>
            <a:off x="2138400" y="4041720"/>
            <a:ext cx="853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62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  <a:ea typeface="MS P 明朝"/>
              </a:rPr>
              <a:t>15°C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3" name=""/>
          <p:cNvSpPr/>
          <p:nvPr/>
        </p:nvSpPr>
        <p:spPr>
          <a:xfrm>
            <a:off x="2181240" y="5079960"/>
            <a:ext cx="638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62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  <a:ea typeface="MS P 明朝"/>
              </a:rPr>
              <a:t>5°C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4" name=""/>
          <p:cNvSpPr/>
          <p:nvPr/>
        </p:nvSpPr>
        <p:spPr>
          <a:xfrm>
            <a:off x="2224080" y="3279600"/>
            <a:ext cx="853920" cy="4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62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  <a:ea typeface="MS P 明朝"/>
              </a:rPr>
              <a:t>20°C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5" name=""/>
          <p:cNvSpPr/>
          <p:nvPr/>
        </p:nvSpPr>
        <p:spPr>
          <a:xfrm>
            <a:off x="4211640" y="4994280"/>
            <a:ext cx="4614840" cy="931680"/>
          </a:xfrm>
          <a:prstGeom prst="roundRect">
            <a:avLst>
              <a:gd name="adj" fmla="val 1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さざなみゴシック"/>
                <a:ea typeface="さざなみゴシック"/>
              </a:rPr>
              <a:t>さむいで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063960" y="5311800"/>
            <a:ext cx="985680" cy="14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dur="indefinite" fill="hold">
                      <p:stCondLst>
                        <p:cond delay="indefinite"/>
                      </p:stCondLst>
                      <p:childTnLst>
                        <p:par>
                          <p:cTn id="5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 flipV="1">
            <a:off x="1841400" y="438120"/>
            <a:ext cx="20880" cy="6827760"/>
          </a:xfrm>
          <a:prstGeom prst="line">
            <a:avLst/>
          </a:prstGeom>
          <a:ln w="7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8" name=""/>
          <p:cNvSpPr/>
          <p:nvPr/>
        </p:nvSpPr>
        <p:spPr>
          <a:xfrm>
            <a:off x="2243160" y="2433600"/>
            <a:ext cx="853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62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  <a:ea typeface="MS P 明朝"/>
              </a:rPr>
              <a:t>30°C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9" name=""/>
          <p:cNvSpPr/>
          <p:nvPr/>
        </p:nvSpPr>
        <p:spPr>
          <a:xfrm>
            <a:off x="2179800" y="762120"/>
            <a:ext cx="853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62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  <a:ea typeface="MS P 明朝"/>
              </a:rPr>
              <a:t>40°C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20" name=""/>
          <p:cNvSpPr/>
          <p:nvPr/>
        </p:nvSpPr>
        <p:spPr>
          <a:xfrm>
            <a:off x="2306520" y="6688080"/>
            <a:ext cx="1014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62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  <a:ea typeface="MS P 明朝"/>
              </a:rPr>
              <a:t>-10°C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21" name=""/>
          <p:cNvSpPr/>
          <p:nvPr/>
        </p:nvSpPr>
        <p:spPr>
          <a:xfrm>
            <a:off x="2138400" y="4041720"/>
            <a:ext cx="853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62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  <a:ea typeface="MS P 明朝"/>
              </a:rPr>
              <a:t>15°C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22" name=""/>
          <p:cNvSpPr/>
          <p:nvPr/>
        </p:nvSpPr>
        <p:spPr>
          <a:xfrm>
            <a:off x="2181240" y="5079960"/>
            <a:ext cx="638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62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  <a:ea typeface="MS P 明朝"/>
              </a:rPr>
              <a:t>5°C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23" name=""/>
          <p:cNvSpPr/>
          <p:nvPr/>
        </p:nvSpPr>
        <p:spPr>
          <a:xfrm>
            <a:off x="2224080" y="3279600"/>
            <a:ext cx="853920" cy="4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62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  <a:ea typeface="MS P 明朝"/>
              </a:rPr>
              <a:t>20°C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24" name=""/>
          <p:cNvSpPr/>
          <p:nvPr/>
        </p:nvSpPr>
        <p:spPr>
          <a:xfrm>
            <a:off x="4826160" y="2370240"/>
            <a:ext cx="4614840" cy="931680"/>
          </a:xfrm>
          <a:prstGeom prst="roundRect">
            <a:avLst>
              <a:gd name="adj" fmla="val 1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さざなみゴシック"/>
                <a:ea typeface="さざなみゴシック"/>
              </a:rPr>
              <a:t>あついで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3676680" y="2687760"/>
            <a:ext cx="985680" cy="14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dur="indefinite" fill="hold">
                      <p:stCondLst>
                        <p:cond delay="indefinite"/>
                      </p:stCondLst>
                      <p:childTnLst>
                        <p:par>
                          <p:cTn id="5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129280" y="720720"/>
            <a:ext cx="4640040" cy="60008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155600" y="4816440"/>
            <a:ext cx="7831080" cy="2265480"/>
            <a:chOff x="1155600" y="4816440"/>
            <a:chExt cx="7831080" cy="2265480"/>
          </a:xfrm>
        </p:grpSpPr>
        <p:sp>
          <p:nvSpPr>
            <p:cNvPr id="105" name=""/>
            <p:cNvSpPr/>
            <p:nvPr/>
          </p:nvSpPr>
          <p:spPr>
            <a:xfrm>
              <a:off x="1155600" y="4816440"/>
              <a:ext cx="7831080" cy="2265480"/>
            </a:xfrm>
            <a:prstGeom prst="roundRect">
              <a:avLst>
                <a:gd name="adj" fmla="val 69"/>
              </a:avLst>
            </a:prstGeom>
            <a:solidFill>
              <a:srgbClr val="ffffcc">
                <a:alpha val="9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728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8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わるいです</a:t>
              </a:r>
              <a:endParaRPr b="0" lang="en-US" sz="8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 flipV="1">
            <a:off x="1841400" y="438120"/>
            <a:ext cx="20880" cy="6827760"/>
          </a:xfrm>
          <a:prstGeom prst="line">
            <a:avLst/>
          </a:prstGeom>
          <a:ln w="7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27" name=""/>
          <p:cNvSpPr/>
          <p:nvPr/>
        </p:nvSpPr>
        <p:spPr>
          <a:xfrm>
            <a:off x="2243160" y="2433600"/>
            <a:ext cx="853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62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  <a:ea typeface="MS P 明朝"/>
              </a:rPr>
              <a:t>30°C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28" name=""/>
          <p:cNvSpPr/>
          <p:nvPr/>
        </p:nvSpPr>
        <p:spPr>
          <a:xfrm>
            <a:off x="2179800" y="762120"/>
            <a:ext cx="853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62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  <a:ea typeface="MS P 明朝"/>
              </a:rPr>
              <a:t>40°C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29" name=""/>
          <p:cNvSpPr/>
          <p:nvPr/>
        </p:nvSpPr>
        <p:spPr>
          <a:xfrm>
            <a:off x="2306520" y="6688080"/>
            <a:ext cx="1014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62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  <a:ea typeface="MS P 明朝"/>
              </a:rPr>
              <a:t>-10°C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0" name=""/>
          <p:cNvSpPr/>
          <p:nvPr/>
        </p:nvSpPr>
        <p:spPr>
          <a:xfrm>
            <a:off x="2138400" y="4041720"/>
            <a:ext cx="853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62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  <a:ea typeface="MS P 明朝"/>
              </a:rPr>
              <a:t>15°C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1" name=""/>
          <p:cNvSpPr/>
          <p:nvPr/>
        </p:nvSpPr>
        <p:spPr>
          <a:xfrm>
            <a:off x="2181240" y="5079960"/>
            <a:ext cx="638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62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  <a:ea typeface="MS P 明朝"/>
              </a:rPr>
              <a:t>5°C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2" name=""/>
          <p:cNvSpPr/>
          <p:nvPr/>
        </p:nvSpPr>
        <p:spPr>
          <a:xfrm>
            <a:off x="2224080" y="3279600"/>
            <a:ext cx="853920" cy="4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62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  <a:ea typeface="MS P 明朝"/>
              </a:rPr>
              <a:t>20°C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3" name=""/>
          <p:cNvSpPr/>
          <p:nvPr/>
        </p:nvSpPr>
        <p:spPr>
          <a:xfrm>
            <a:off x="4592520" y="719280"/>
            <a:ext cx="5207040" cy="973080"/>
          </a:xfrm>
          <a:prstGeom prst="roundRect">
            <a:avLst>
              <a:gd name="adj" fmla="val 16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ff0000"/>
                </a:solidFill>
                <a:latin typeface="さざなみゴシック"/>
                <a:ea typeface="さざなみゴシック"/>
              </a:rPr>
              <a:t>とても</a:t>
            </a:r>
            <a:r>
              <a:rPr b="0" lang="ja-JP" sz="4800" spc="-1" strike="noStrike">
                <a:solidFill>
                  <a:srgbClr val="000000"/>
                </a:solidFill>
                <a:latin typeface="さざなみゴシック"/>
                <a:ea typeface="さざなみゴシック"/>
              </a:rPr>
              <a:t>あついで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444480" y="1036800"/>
            <a:ext cx="986040" cy="14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dur="indefinite" fill="hold">
                      <p:stCondLst>
                        <p:cond delay="indefinite"/>
                      </p:stCondLst>
                      <p:childTnLst>
                        <p:par>
                          <p:cTn id="5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 flipV="1">
            <a:off x="1841400" y="438120"/>
            <a:ext cx="20880" cy="6827760"/>
          </a:xfrm>
          <a:prstGeom prst="line">
            <a:avLst/>
          </a:prstGeom>
          <a:ln w="7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6" name=""/>
          <p:cNvSpPr/>
          <p:nvPr/>
        </p:nvSpPr>
        <p:spPr>
          <a:xfrm>
            <a:off x="2243160" y="2433600"/>
            <a:ext cx="853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62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  <a:ea typeface="MS P 明朝"/>
              </a:rPr>
              <a:t>30°C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7" name=""/>
          <p:cNvSpPr/>
          <p:nvPr/>
        </p:nvSpPr>
        <p:spPr>
          <a:xfrm>
            <a:off x="2179800" y="762120"/>
            <a:ext cx="853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62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  <a:ea typeface="MS P 明朝"/>
              </a:rPr>
              <a:t>40°C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8" name=""/>
          <p:cNvSpPr/>
          <p:nvPr/>
        </p:nvSpPr>
        <p:spPr>
          <a:xfrm>
            <a:off x="2306520" y="6688080"/>
            <a:ext cx="1014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62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  <a:ea typeface="MS P 明朝"/>
              </a:rPr>
              <a:t>-10°C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9" name=""/>
          <p:cNvSpPr/>
          <p:nvPr/>
        </p:nvSpPr>
        <p:spPr>
          <a:xfrm>
            <a:off x="2138400" y="4041720"/>
            <a:ext cx="853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62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  <a:ea typeface="MS P 明朝"/>
              </a:rPr>
              <a:t>15°C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0" name=""/>
          <p:cNvSpPr/>
          <p:nvPr/>
        </p:nvSpPr>
        <p:spPr>
          <a:xfrm>
            <a:off x="2181240" y="5079960"/>
            <a:ext cx="638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62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  <a:ea typeface="MS P 明朝"/>
              </a:rPr>
              <a:t>5°C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1" name=""/>
          <p:cNvSpPr/>
          <p:nvPr/>
        </p:nvSpPr>
        <p:spPr>
          <a:xfrm>
            <a:off x="2224080" y="3279600"/>
            <a:ext cx="853920" cy="4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62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  <a:ea typeface="MS P 明朝"/>
              </a:rPr>
              <a:t>20°C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2" name=""/>
          <p:cNvSpPr/>
          <p:nvPr/>
        </p:nvSpPr>
        <p:spPr>
          <a:xfrm>
            <a:off x="4676760" y="6434280"/>
            <a:ext cx="5207040" cy="973080"/>
          </a:xfrm>
          <a:prstGeom prst="roundRect">
            <a:avLst>
              <a:gd name="adj" fmla="val 16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ff0000"/>
                </a:solidFill>
                <a:latin typeface="さざなみゴシック"/>
                <a:ea typeface="さざなみゴシック"/>
              </a:rPr>
              <a:t>とても</a:t>
            </a:r>
            <a:r>
              <a:rPr b="0" lang="ja-JP" sz="4800" spc="-1" strike="noStrike">
                <a:solidFill>
                  <a:srgbClr val="000000"/>
                </a:solidFill>
                <a:latin typeface="さざなみゴシック"/>
                <a:ea typeface="さざなみゴシック"/>
              </a:rPr>
              <a:t>さむいで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3529080" y="6751800"/>
            <a:ext cx="985680" cy="14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dur="indefinite" fill="hold">
                      <p:stCondLst>
                        <p:cond delay="indefinite"/>
                      </p:stCondLst>
                      <p:childTnLst>
                        <p:par>
                          <p:cTn id="5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 flipV="1">
            <a:off x="1841400" y="438120"/>
            <a:ext cx="20880" cy="6827760"/>
          </a:xfrm>
          <a:prstGeom prst="line">
            <a:avLst/>
          </a:prstGeom>
          <a:ln w="7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5" name=""/>
          <p:cNvSpPr/>
          <p:nvPr/>
        </p:nvSpPr>
        <p:spPr>
          <a:xfrm>
            <a:off x="2243160" y="2433600"/>
            <a:ext cx="853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62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  <a:ea typeface="MS P 明朝"/>
              </a:rPr>
              <a:t>30°C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6" name=""/>
          <p:cNvSpPr/>
          <p:nvPr/>
        </p:nvSpPr>
        <p:spPr>
          <a:xfrm>
            <a:off x="2179800" y="762120"/>
            <a:ext cx="853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62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  <a:ea typeface="MS P 明朝"/>
              </a:rPr>
              <a:t>40°C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7" name=""/>
          <p:cNvSpPr/>
          <p:nvPr/>
        </p:nvSpPr>
        <p:spPr>
          <a:xfrm>
            <a:off x="2306520" y="6688080"/>
            <a:ext cx="1014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62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  <a:ea typeface="MS P 明朝"/>
              </a:rPr>
              <a:t>-10°C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8" name=""/>
          <p:cNvSpPr/>
          <p:nvPr/>
        </p:nvSpPr>
        <p:spPr>
          <a:xfrm>
            <a:off x="2138400" y="4041720"/>
            <a:ext cx="853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62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  <a:ea typeface="MS P 明朝"/>
              </a:rPr>
              <a:t>15°C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9" name=""/>
          <p:cNvSpPr/>
          <p:nvPr/>
        </p:nvSpPr>
        <p:spPr>
          <a:xfrm>
            <a:off x="2181240" y="5079960"/>
            <a:ext cx="638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62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  <a:ea typeface="MS P 明朝"/>
              </a:rPr>
              <a:t>5°C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0" name=""/>
          <p:cNvSpPr/>
          <p:nvPr/>
        </p:nvSpPr>
        <p:spPr>
          <a:xfrm>
            <a:off x="2224080" y="3279600"/>
            <a:ext cx="853920" cy="4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62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  <a:ea typeface="MS P 明朝"/>
              </a:rPr>
              <a:t>20°C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1" name=""/>
          <p:cNvSpPr/>
          <p:nvPr/>
        </p:nvSpPr>
        <p:spPr>
          <a:xfrm>
            <a:off x="4873680" y="3916440"/>
            <a:ext cx="5032440" cy="1820880"/>
          </a:xfrm>
          <a:prstGeom prst="roundRect">
            <a:avLst>
              <a:gd name="adj" fmla="val 8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ff0000"/>
                </a:solidFill>
                <a:latin typeface="さざなみゴシック"/>
                <a:ea typeface="さざなみゴシック"/>
              </a:rPr>
              <a:t>あまり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さざなみゴシック"/>
                <a:ea typeface="さざなみゴシック"/>
              </a:rPr>
              <a:t>さむ</a:t>
            </a:r>
            <a:r>
              <a:rPr b="0" lang="ja-JP" sz="4800" spc="-1" strike="noStrike" u="sng">
                <a:solidFill>
                  <a:srgbClr val="000000"/>
                </a:solidFill>
                <a:uFillTx/>
                <a:latin typeface="さざなみゴシック"/>
                <a:ea typeface="さざなみゴシック"/>
              </a:rPr>
              <a:t>くないで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3739680" y="4297320"/>
            <a:ext cx="986040" cy="180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3" name=""/>
          <p:cNvSpPr/>
          <p:nvPr/>
        </p:nvSpPr>
        <p:spPr>
          <a:xfrm>
            <a:off x="4699080" y="360360"/>
            <a:ext cx="39164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さむいですか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dur="indefinite" fill="hold">
                      <p:stCondLst>
                        <p:cond delay="indefinite"/>
                      </p:stCondLst>
                      <p:childTnLst>
                        <p:par>
                          <p:cTn id="5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 flipV="1">
            <a:off x="1841400" y="438120"/>
            <a:ext cx="20880" cy="6827760"/>
          </a:xfrm>
          <a:prstGeom prst="line">
            <a:avLst/>
          </a:prstGeom>
          <a:ln w="7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5" name=""/>
          <p:cNvSpPr/>
          <p:nvPr/>
        </p:nvSpPr>
        <p:spPr>
          <a:xfrm>
            <a:off x="2243160" y="2433600"/>
            <a:ext cx="853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62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  <a:ea typeface="MS P 明朝"/>
              </a:rPr>
              <a:t>30°C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6" name=""/>
          <p:cNvSpPr/>
          <p:nvPr/>
        </p:nvSpPr>
        <p:spPr>
          <a:xfrm>
            <a:off x="2179800" y="762120"/>
            <a:ext cx="853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62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  <a:ea typeface="MS P 明朝"/>
              </a:rPr>
              <a:t>40°C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7" name=""/>
          <p:cNvSpPr/>
          <p:nvPr/>
        </p:nvSpPr>
        <p:spPr>
          <a:xfrm>
            <a:off x="2306520" y="6688080"/>
            <a:ext cx="1014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62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  <a:ea typeface="MS P 明朝"/>
              </a:rPr>
              <a:t>-10°C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8" name=""/>
          <p:cNvSpPr/>
          <p:nvPr/>
        </p:nvSpPr>
        <p:spPr>
          <a:xfrm>
            <a:off x="2138400" y="4041720"/>
            <a:ext cx="853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62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  <a:ea typeface="MS P 明朝"/>
              </a:rPr>
              <a:t>15°C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9" name=""/>
          <p:cNvSpPr/>
          <p:nvPr/>
        </p:nvSpPr>
        <p:spPr>
          <a:xfrm>
            <a:off x="2181240" y="5079960"/>
            <a:ext cx="638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62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  <a:ea typeface="MS P 明朝"/>
              </a:rPr>
              <a:t>5°C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0" name=""/>
          <p:cNvSpPr/>
          <p:nvPr/>
        </p:nvSpPr>
        <p:spPr>
          <a:xfrm>
            <a:off x="2224080" y="3279600"/>
            <a:ext cx="853920" cy="4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62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  <a:ea typeface="MS P 明朝"/>
              </a:rPr>
              <a:t>20°C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1" name=""/>
          <p:cNvSpPr/>
          <p:nvPr/>
        </p:nvSpPr>
        <p:spPr>
          <a:xfrm>
            <a:off x="4687920" y="2963880"/>
            <a:ext cx="5032440" cy="1820880"/>
          </a:xfrm>
          <a:prstGeom prst="roundRect">
            <a:avLst>
              <a:gd name="adj" fmla="val 8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ff0000"/>
                </a:solidFill>
                <a:latin typeface="さざなみゴシック"/>
                <a:ea typeface="さざなみゴシック"/>
              </a:rPr>
              <a:t>あまり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さざなみゴシック"/>
                <a:ea typeface="さざなみゴシック"/>
              </a:rPr>
              <a:t>あつ</a:t>
            </a:r>
            <a:r>
              <a:rPr b="0" lang="ja-JP" sz="4800" spc="-1" strike="noStrike" u="sng">
                <a:solidFill>
                  <a:srgbClr val="000000"/>
                </a:solidFill>
                <a:uFillTx/>
                <a:latin typeface="さざなみゴシック"/>
                <a:ea typeface="さざなみゴシック"/>
              </a:rPr>
              <a:t>くないで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3592080" y="3492360"/>
            <a:ext cx="986040" cy="180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3" name=""/>
          <p:cNvSpPr/>
          <p:nvPr/>
        </p:nvSpPr>
        <p:spPr>
          <a:xfrm>
            <a:off x="4699080" y="360360"/>
            <a:ext cx="39164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あついですか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dur="indefinite" fill="hold">
                      <p:stCondLst>
                        <p:cond delay="indefinite"/>
                      </p:stCondLst>
                      <p:childTnLst>
                        <p:par>
                          <p:cTn id="5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4784760" y="1638360"/>
            <a:ext cx="4695840" cy="592128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322200" y="4973760"/>
            <a:ext cx="4440240" cy="242568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380880" y="317520"/>
            <a:ext cx="9418680" cy="1481040"/>
          </a:xfrm>
          <a:prstGeom prst="roundRect">
            <a:avLst>
              <a:gd name="adj" fmla="val 10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552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7200" spc="-1" strike="noStrike">
                <a:solidFill>
                  <a:srgbClr val="ff0000"/>
                </a:solidFill>
                <a:latin typeface="みかちゃん"/>
                <a:ea typeface="みかちゃん"/>
              </a:rPr>
              <a:t>とても</a:t>
            </a:r>
            <a:r>
              <a:rPr b="0" lang="ja-JP" sz="72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おおきいです。</a:t>
            </a:r>
            <a:endParaRPr b="0" lang="en-US" sz="7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dur="indefinite" fill="hold">
                      <p:stCondLst>
                        <p:cond delay="indefinite"/>
                      </p:stCondLst>
                      <p:childTnLst>
                        <p:par>
                          <p:cTn id="5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4941720" y="1793880"/>
            <a:ext cx="4405320" cy="576576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322200" y="4973760"/>
            <a:ext cx="4440240" cy="242568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380880" y="317520"/>
            <a:ext cx="9418680" cy="1481040"/>
          </a:xfrm>
          <a:prstGeom prst="roundRect">
            <a:avLst>
              <a:gd name="adj" fmla="val 10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96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ff0000"/>
                </a:solidFill>
                <a:latin typeface="みかちゃん"/>
                <a:ea typeface="みかちゃん"/>
              </a:rPr>
              <a:t>あまり</a:t>
            </a:r>
            <a:r>
              <a:rPr b="0" lang="ja-JP" sz="6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おおき</a:t>
            </a:r>
            <a:r>
              <a:rPr b="0" lang="ja-JP" sz="6000" spc="-1" strike="noStrike">
                <a:solidFill>
                  <a:srgbClr val="ff0000"/>
                </a:solidFill>
                <a:latin typeface="みかちゃん"/>
                <a:ea typeface="みかちゃん"/>
              </a:rPr>
              <a:t>くないです</a:t>
            </a:r>
            <a:r>
              <a:rPr b="0" lang="ja-JP" sz="6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dur="indefinite" fill="hold">
                      <p:stCondLst>
                        <p:cond delay="indefinite"/>
                      </p:stCondLst>
                      <p:childTnLst>
                        <p:par>
                          <p:cTn id="5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557280" y="585720"/>
            <a:ext cx="3714840" cy="1482840"/>
          </a:xfrm>
          <a:prstGeom prst="roundRect">
            <a:avLst>
              <a:gd name="adj" fmla="val 10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にほんご</a:t>
            </a:r>
            <a:r>
              <a:rPr b="0" lang="ja-JP" sz="48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は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1" name=""/>
          <p:cNvSpPr/>
          <p:nvPr/>
        </p:nvSpPr>
        <p:spPr>
          <a:xfrm>
            <a:off x="571680" y="3130560"/>
            <a:ext cx="4381200" cy="310212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073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みかちゃん"/>
                <a:ea typeface="MS P 明朝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2" name=""/>
          <p:cNvSpPr/>
          <p:nvPr/>
        </p:nvSpPr>
        <p:spPr>
          <a:xfrm>
            <a:off x="5184720" y="4137120"/>
            <a:ext cx="3714840" cy="1482480"/>
          </a:xfrm>
          <a:prstGeom prst="roundRect">
            <a:avLst>
              <a:gd name="adj" fmla="val 10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ff0000"/>
                </a:solidFill>
                <a:latin typeface="みかちゃん"/>
                <a:ea typeface="みかちゃん"/>
              </a:rPr>
              <a:t>どう</a:t>
            </a: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ですか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dur="indefinite" fill="hold">
                      <p:stCondLst>
                        <p:cond delay="indefinite"/>
                      </p:stCondLst>
                      <p:childTnLst>
                        <p:par>
                          <p:cTn id="5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dur="indefinite" fill="hold">
                      <p:stCondLst>
                        <p:cond delay="indefinite"/>
                      </p:stCondLst>
                      <p:childTnLst>
                        <p:par>
                          <p:cTn id="6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557280" y="585720"/>
            <a:ext cx="3714840" cy="1482840"/>
          </a:xfrm>
          <a:prstGeom prst="roundRect">
            <a:avLst>
              <a:gd name="adj" fmla="val 10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ボルドー</a:t>
            </a:r>
            <a:r>
              <a:rPr b="0" lang="ja-JP" sz="48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は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4" name=""/>
          <p:cNvSpPr/>
          <p:nvPr/>
        </p:nvSpPr>
        <p:spPr>
          <a:xfrm>
            <a:off x="571680" y="3130560"/>
            <a:ext cx="4381200" cy="310212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073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みかちゃん"/>
                <a:ea typeface="MS P 明朝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5" name=""/>
          <p:cNvSpPr/>
          <p:nvPr/>
        </p:nvSpPr>
        <p:spPr>
          <a:xfrm>
            <a:off x="6027840" y="5388120"/>
            <a:ext cx="3714480" cy="1482480"/>
          </a:xfrm>
          <a:prstGeom prst="roundRect">
            <a:avLst>
              <a:gd name="adj" fmla="val 10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まちですか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6" name=""/>
          <p:cNvSpPr/>
          <p:nvPr/>
        </p:nvSpPr>
        <p:spPr>
          <a:xfrm>
            <a:off x="4137120" y="5346720"/>
            <a:ext cx="2217600" cy="1482840"/>
          </a:xfrm>
          <a:prstGeom prst="roundRect">
            <a:avLst>
              <a:gd name="adj" fmla="val 10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ff0000"/>
                </a:solidFill>
                <a:latin typeface="みかちゃん"/>
                <a:ea typeface="みかちゃん"/>
              </a:rPr>
              <a:t>どんな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dur="indefinite" fill="hold">
                      <p:stCondLst>
                        <p:cond delay="indefinite"/>
                      </p:stCondLst>
                      <p:childTnLst>
                        <p:par>
                          <p:cTn id="6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dur="indefinite" fill="hold">
                      <p:stCondLst>
                        <p:cond delay="indefinite"/>
                      </p:stCondLst>
                      <p:childTnLst>
                        <p:par>
                          <p:cTn id="6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311040" y="358920"/>
            <a:ext cx="9252000" cy="1252440"/>
          </a:xfrm>
          <a:prstGeom prst="roundRect">
            <a:avLst>
              <a:gd name="adj" fmla="val 12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96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8" name=""/>
          <p:cNvSpPr/>
          <p:nvPr/>
        </p:nvSpPr>
        <p:spPr>
          <a:xfrm>
            <a:off x="469800" y="544680"/>
            <a:ext cx="419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425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6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まいにち</a:t>
            </a:r>
            <a:endParaRPr b="0" lang="en-US" sz="6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9" name=""/>
          <p:cNvSpPr/>
          <p:nvPr/>
        </p:nvSpPr>
        <p:spPr>
          <a:xfrm>
            <a:off x="4086360" y="577800"/>
            <a:ext cx="5029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425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6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たいへん</a:t>
            </a:r>
            <a:r>
              <a:rPr b="0" lang="ja-JP" sz="6600" spc="-1" strike="noStrike">
                <a:solidFill>
                  <a:srgbClr val="ff0000"/>
                </a:solidFill>
                <a:latin typeface="みかちゃん"/>
                <a:ea typeface="みかちゃん"/>
              </a:rPr>
              <a:t>です</a:t>
            </a:r>
            <a:endParaRPr b="0" lang="en-US" sz="6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98360" y="2176560"/>
            <a:ext cx="4254480" cy="524484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2109960" y="3610080"/>
            <a:ext cx="4114800" cy="310824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5605560" y="2192400"/>
            <a:ext cx="3697200" cy="288288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5451480" y="3367080"/>
            <a:ext cx="3208320" cy="41925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5"/>
          <a:stretch/>
        </p:blipFill>
        <p:spPr>
          <a:xfrm>
            <a:off x="3416400" y="2568600"/>
            <a:ext cx="4868640" cy="631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dur="indefinite" fill="hold">
                      <p:stCondLst>
                        <p:cond delay="indefinite"/>
                      </p:stCondLst>
                      <p:childTnLst>
                        <p:par>
                          <p:cTn id="6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98360" y="2098800"/>
            <a:ext cx="2981520" cy="393228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1536840" y="3173400"/>
            <a:ext cx="2884320" cy="233064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3987720" y="2111400"/>
            <a:ext cx="2590920" cy="216216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4"/>
          <a:stretch/>
        </p:blipFill>
        <p:spPr>
          <a:xfrm>
            <a:off x="3879720" y="2990880"/>
            <a:ext cx="2249640" cy="314496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5"/>
          <a:stretch/>
        </p:blipFill>
        <p:spPr>
          <a:xfrm>
            <a:off x="1643040" y="2724120"/>
            <a:ext cx="3495600" cy="467352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 flipH="1">
            <a:off x="582480" y="1865160"/>
            <a:ext cx="5545440" cy="3845160"/>
          </a:xfrm>
          <a:prstGeom prst="line">
            <a:avLst/>
          </a:prstGeom>
          <a:ln w="180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91" name=""/>
          <p:cNvSpPr/>
          <p:nvPr/>
        </p:nvSpPr>
        <p:spPr>
          <a:xfrm>
            <a:off x="588960" y="1866960"/>
            <a:ext cx="5532480" cy="3844800"/>
          </a:xfrm>
          <a:prstGeom prst="line">
            <a:avLst/>
          </a:prstGeom>
          <a:ln w="180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92" name=""/>
          <p:cNvSpPr/>
          <p:nvPr/>
        </p:nvSpPr>
        <p:spPr>
          <a:xfrm>
            <a:off x="311040" y="358920"/>
            <a:ext cx="9252000" cy="1252440"/>
          </a:xfrm>
          <a:prstGeom prst="roundRect">
            <a:avLst>
              <a:gd name="adj" fmla="val 12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96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93" name=""/>
          <p:cNvSpPr/>
          <p:nvPr/>
        </p:nvSpPr>
        <p:spPr>
          <a:xfrm>
            <a:off x="469800" y="544680"/>
            <a:ext cx="2824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まいにち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94" name=""/>
          <p:cNvSpPr/>
          <p:nvPr/>
        </p:nvSpPr>
        <p:spPr>
          <a:xfrm>
            <a:off x="2924280" y="593640"/>
            <a:ext cx="67053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たいへん</a:t>
            </a:r>
            <a:r>
              <a:rPr b="0" lang="ja-JP" sz="4800" spc="-1" strike="noStrike">
                <a:solidFill>
                  <a:srgbClr val="ff0000"/>
                </a:solidFill>
                <a:latin typeface="みかちゃん"/>
                <a:ea typeface="みかちゃん"/>
              </a:rPr>
              <a:t>じゃありません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6"/>
          <a:stretch/>
        </p:blipFill>
        <p:spPr>
          <a:xfrm>
            <a:off x="6675480" y="4562640"/>
            <a:ext cx="2384280" cy="276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dur="indefinite" fill="hold">
                      <p:stCondLst>
                        <p:cond delay="indefinite"/>
                      </p:stCondLst>
                      <p:childTnLst>
                        <p:par>
                          <p:cTn id="6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95280" y="1184400"/>
            <a:ext cx="4640400" cy="600048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155600" y="4816440"/>
            <a:ext cx="7831080" cy="2265480"/>
            <a:chOff x="1155600" y="4816440"/>
            <a:chExt cx="7831080" cy="2265480"/>
          </a:xfrm>
        </p:grpSpPr>
        <p:sp>
          <p:nvSpPr>
            <p:cNvPr id="108" name=""/>
            <p:cNvSpPr/>
            <p:nvPr/>
          </p:nvSpPr>
          <p:spPr>
            <a:xfrm>
              <a:off x="1155600" y="4816440"/>
              <a:ext cx="7831080" cy="2265480"/>
            </a:xfrm>
            <a:prstGeom prst="roundRect">
              <a:avLst>
                <a:gd name="adj" fmla="val 69"/>
              </a:avLst>
            </a:prstGeom>
            <a:solidFill>
              <a:srgbClr val="ffffcc">
                <a:alpha val="9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728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8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あついです</a:t>
              </a:r>
              <a:endParaRPr b="0" lang="en-US" sz="8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26880" y="230040"/>
            <a:ext cx="9252000" cy="1252800"/>
          </a:xfrm>
          <a:prstGeom prst="roundRect">
            <a:avLst>
              <a:gd name="adj" fmla="val 12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96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97" name=""/>
          <p:cNvSpPr/>
          <p:nvPr/>
        </p:nvSpPr>
        <p:spPr>
          <a:xfrm>
            <a:off x="485640" y="415800"/>
            <a:ext cx="26463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425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6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きのう</a:t>
            </a:r>
            <a:endParaRPr b="0" lang="en-US" sz="6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98" name=""/>
          <p:cNvSpPr/>
          <p:nvPr/>
        </p:nvSpPr>
        <p:spPr>
          <a:xfrm>
            <a:off x="3036960" y="415800"/>
            <a:ext cx="5867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425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6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たいへん</a:t>
            </a:r>
            <a:r>
              <a:rPr b="0" lang="ja-JP" sz="6600" spc="-1" strike="noStrike">
                <a:solidFill>
                  <a:srgbClr val="ff0000"/>
                </a:solidFill>
                <a:latin typeface="みかちゃん"/>
                <a:ea typeface="みかちゃん"/>
              </a:rPr>
              <a:t>でした</a:t>
            </a:r>
            <a:endParaRPr b="0" lang="en-US" sz="6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198360" y="2176560"/>
            <a:ext cx="4254480" cy="524484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2109960" y="3610080"/>
            <a:ext cx="4114800" cy="310824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3"/>
          <a:stretch/>
        </p:blipFill>
        <p:spPr>
          <a:xfrm>
            <a:off x="5605560" y="2192400"/>
            <a:ext cx="3697200" cy="288288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4"/>
          <a:stretch/>
        </p:blipFill>
        <p:spPr>
          <a:xfrm>
            <a:off x="5451480" y="3367080"/>
            <a:ext cx="3208320" cy="419256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5"/>
          <a:stretch/>
        </p:blipFill>
        <p:spPr>
          <a:xfrm>
            <a:off x="2995560" y="2570040"/>
            <a:ext cx="4869000" cy="631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dur="indefinite" fill="hold">
                      <p:stCondLst>
                        <p:cond delay="indefinite"/>
                      </p:stCondLst>
                      <p:childTnLst>
                        <p:par>
                          <p:cTn id="6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198360" y="2176560"/>
            <a:ext cx="4254480" cy="524484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2109960" y="3610080"/>
            <a:ext cx="4114800" cy="310824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5605560" y="2192400"/>
            <a:ext cx="3697200" cy="288288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4"/>
          <a:stretch/>
        </p:blipFill>
        <p:spPr>
          <a:xfrm>
            <a:off x="5451480" y="3367080"/>
            <a:ext cx="3208320" cy="419256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5"/>
          <a:stretch/>
        </p:blipFill>
        <p:spPr>
          <a:xfrm>
            <a:off x="3416400" y="2570040"/>
            <a:ext cx="4868640" cy="63136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 flipH="1">
            <a:off x="748800" y="1865160"/>
            <a:ext cx="7907400" cy="5127840"/>
          </a:xfrm>
          <a:prstGeom prst="line">
            <a:avLst/>
          </a:prstGeom>
          <a:ln w="180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10" name=""/>
          <p:cNvSpPr/>
          <p:nvPr/>
        </p:nvSpPr>
        <p:spPr>
          <a:xfrm>
            <a:off x="757080" y="1866960"/>
            <a:ext cx="7894800" cy="5127480"/>
          </a:xfrm>
          <a:prstGeom prst="line">
            <a:avLst/>
          </a:prstGeom>
          <a:ln w="180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11" name=""/>
          <p:cNvSpPr/>
          <p:nvPr/>
        </p:nvSpPr>
        <p:spPr>
          <a:xfrm>
            <a:off x="230040" y="326880"/>
            <a:ext cx="9252000" cy="1252800"/>
          </a:xfrm>
          <a:prstGeom prst="roundRect">
            <a:avLst>
              <a:gd name="adj" fmla="val 12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96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12" name=""/>
          <p:cNvSpPr/>
          <p:nvPr/>
        </p:nvSpPr>
        <p:spPr>
          <a:xfrm>
            <a:off x="388800" y="512640"/>
            <a:ext cx="20494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きのう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13" name=""/>
          <p:cNvSpPr/>
          <p:nvPr/>
        </p:nvSpPr>
        <p:spPr>
          <a:xfrm>
            <a:off x="2278080" y="577800"/>
            <a:ext cx="711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たいへん</a:t>
            </a:r>
            <a:r>
              <a:rPr b="0" lang="ja-JP" sz="4000" spc="-1" strike="noStrike">
                <a:solidFill>
                  <a:srgbClr val="ff0000"/>
                </a:solidFill>
                <a:latin typeface="みかちゃん"/>
                <a:ea typeface="みかちゃん"/>
              </a:rPr>
              <a:t>じゃありませんでした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dur="indefinite" fill="hold">
                      <p:stCondLst>
                        <p:cond delay="indefinite"/>
                      </p:stCondLst>
                      <p:childTnLst>
                        <p:par>
                          <p:cTn id="6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11040" y="358920"/>
            <a:ext cx="9252000" cy="1252440"/>
          </a:xfrm>
          <a:prstGeom prst="roundRect">
            <a:avLst>
              <a:gd name="adj" fmla="val 12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96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15" name=""/>
          <p:cNvSpPr/>
          <p:nvPr/>
        </p:nvSpPr>
        <p:spPr>
          <a:xfrm>
            <a:off x="469800" y="544680"/>
            <a:ext cx="2824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まいにち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16" name=""/>
          <p:cNvSpPr/>
          <p:nvPr/>
        </p:nvSpPr>
        <p:spPr>
          <a:xfrm>
            <a:off x="3117960" y="528480"/>
            <a:ext cx="4192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たのしい</a:t>
            </a:r>
            <a:r>
              <a:rPr b="0" lang="ja-JP" sz="4800" spc="-1" strike="noStrike">
                <a:solidFill>
                  <a:srgbClr val="ff0000"/>
                </a:solidFill>
                <a:latin typeface="みかちゃん"/>
                <a:ea typeface="みかちゃん"/>
              </a:rPr>
              <a:t>で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950760" y="1682640"/>
            <a:ext cx="8596440" cy="742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dur="indefinite" fill="hold">
                      <p:stCondLst>
                        <p:cond delay="indefinite"/>
                      </p:stCondLst>
                      <p:childTnLst>
                        <p:par>
                          <p:cTn id="6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"/>
          <p:cNvGrpSpPr/>
          <p:nvPr/>
        </p:nvGrpSpPr>
        <p:grpSpPr>
          <a:xfrm>
            <a:off x="1638360" y="1730520"/>
            <a:ext cx="7526160" cy="7440480"/>
            <a:chOff x="1638360" y="1730520"/>
            <a:chExt cx="7526160" cy="7440480"/>
          </a:xfrm>
        </p:grpSpPr>
        <p:pic>
          <p:nvPicPr>
            <p:cNvPr id="419" name="" descr=""/>
            <p:cNvPicPr/>
            <p:nvPr/>
          </p:nvPicPr>
          <p:blipFill>
            <a:blip r:embed="rId1"/>
            <a:stretch/>
          </p:blipFill>
          <p:spPr>
            <a:xfrm>
              <a:off x="2782800" y="1730520"/>
              <a:ext cx="3897360" cy="74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" descr=""/>
            <p:cNvPicPr/>
            <p:nvPr/>
          </p:nvPicPr>
          <p:blipFill>
            <a:blip r:embed="rId2"/>
            <a:stretch/>
          </p:blipFill>
          <p:spPr>
            <a:xfrm rot="20520000">
              <a:off x="2401920" y="3660480"/>
              <a:ext cx="1400040" cy="346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" descr=""/>
            <p:cNvPicPr/>
            <p:nvPr/>
          </p:nvPicPr>
          <p:blipFill>
            <a:blip r:embed="rId3"/>
            <a:stretch/>
          </p:blipFill>
          <p:spPr>
            <a:xfrm rot="20280000">
              <a:off x="5389200" y="4005000"/>
              <a:ext cx="1400040" cy="346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" descr=""/>
            <p:cNvPicPr/>
            <p:nvPr/>
          </p:nvPicPr>
          <p:blipFill>
            <a:blip r:embed="rId4"/>
            <a:stretch/>
          </p:blipFill>
          <p:spPr>
            <a:xfrm>
              <a:off x="1638360" y="4632480"/>
              <a:ext cx="1214280" cy="12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" descr=""/>
            <p:cNvPicPr/>
            <p:nvPr/>
          </p:nvPicPr>
          <p:blipFill>
            <a:blip r:embed="rId5"/>
            <a:stretch/>
          </p:blipFill>
          <p:spPr>
            <a:xfrm>
              <a:off x="7950240" y="3414600"/>
              <a:ext cx="1214280" cy="121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4" name=""/>
          <p:cNvSpPr/>
          <p:nvPr/>
        </p:nvSpPr>
        <p:spPr>
          <a:xfrm flipH="1">
            <a:off x="748800" y="1865160"/>
            <a:ext cx="7907400" cy="5127840"/>
          </a:xfrm>
          <a:prstGeom prst="line">
            <a:avLst/>
          </a:prstGeom>
          <a:ln w="180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25" name=""/>
          <p:cNvSpPr/>
          <p:nvPr/>
        </p:nvSpPr>
        <p:spPr>
          <a:xfrm>
            <a:off x="757080" y="1866960"/>
            <a:ext cx="7894800" cy="5127480"/>
          </a:xfrm>
          <a:prstGeom prst="line">
            <a:avLst/>
          </a:prstGeom>
          <a:ln w="180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26" name=""/>
          <p:cNvSpPr/>
          <p:nvPr/>
        </p:nvSpPr>
        <p:spPr>
          <a:xfrm>
            <a:off x="311040" y="360360"/>
            <a:ext cx="9252000" cy="1252440"/>
          </a:xfrm>
          <a:prstGeom prst="roundRect">
            <a:avLst>
              <a:gd name="adj" fmla="val 12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96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27" name=""/>
          <p:cNvSpPr/>
          <p:nvPr/>
        </p:nvSpPr>
        <p:spPr>
          <a:xfrm>
            <a:off x="469800" y="546120"/>
            <a:ext cx="2824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まいにち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28" name=""/>
          <p:cNvSpPr/>
          <p:nvPr/>
        </p:nvSpPr>
        <p:spPr>
          <a:xfrm>
            <a:off x="3117960" y="530280"/>
            <a:ext cx="4878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たのし</a:t>
            </a:r>
            <a:r>
              <a:rPr b="0" lang="ja-JP" sz="4800" spc="-1" strike="noStrike">
                <a:solidFill>
                  <a:srgbClr val="ff0000"/>
                </a:solidFill>
                <a:latin typeface="みかちゃん"/>
                <a:ea typeface="みかちゃん"/>
              </a:rPr>
              <a:t>くないで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dur="indefinite" fill="hold">
                      <p:stCondLst>
                        <p:cond delay="indefinite"/>
                      </p:stCondLst>
                      <p:childTnLst>
                        <p:par>
                          <p:cTn id="6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311040" y="360360"/>
            <a:ext cx="9252000" cy="1252440"/>
          </a:xfrm>
          <a:prstGeom prst="roundRect">
            <a:avLst>
              <a:gd name="adj" fmla="val 12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96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30" name=""/>
          <p:cNvSpPr/>
          <p:nvPr/>
        </p:nvSpPr>
        <p:spPr>
          <a:xfrm>
            <a:off x="469800" y="546120"/>
            <a:ext cx="214632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きのう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31" name=""/>
          <p:cNvSpPr/>
          <p:nvPr/>
        </p:nvSpPr>
        <p:spPr>
          <a:xfrm>
            <a:off x="2649600" y="514440"/>
            <a:ext cx="4878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たのし</a:t>
            </a:r>
            <a:r>
              <a:rPr b="0" lang="ja-JP" sz="4800" spc="-1" strike="noStrike">
                <a:solidFill>
                  <a:srgbClr val="ff0000"/>
                </a:solidFill>
                <a:latin typeface="みかちゃん"/>
                <a:ea typeface="みかちゃん"/>
              </a:rPr>
              <a:t>かったで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950760" y="1682640"/>
            <a:ext cx="8596440" cy="742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dur="indefinite" fill="hold">
                      <p:stCondLst>
                        <p:cond delay="indefinite"/>
                      </p:stCondLst>
                      <p:childTnLst>
                        <p:par>
                          <p:cTn id="6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"/>
          <p:cNvGrpSpPr/>
          <p:nvPr/>
        </p:nvGrpSpPr>
        <p:grpSpPr>
          <a:xfrm>
            <a:off x="1616040" y="1886040"/>
            <a:ext cx="7526520" cy="7440480"/>
            <a:chOff x="1616040" y="1886040"/>
            <a:chExt cx="7526520" cy="7440480"/>
          </a:xfrm>
        </p:grpSpPr>
        <p:pic>
          <p:nvPicPr>
            <p:cNvPr id="434" name="" descr=""/>
            <p:cNvPicPr/>
            <p:nvPr/>
          </p:nvPicPr>
          <p:blipFill>
            <a:blip r:embed="rId1"/>
            <a:stretch/>
          </p:blipFill>
          <p:spPr>
            <a:xfrm>
              <a:off x="2760840" y="1886040"/>
              <a:ext cx="3897000" cy="74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2"/>
            <a:stretch/>
          </p:blipFill>
          <p:spPr>
            <a:xfrm rot="20520000">
              <a:off x="2379600" y="3816000"/>
              <a:ext cx="1400400" cy="346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" descr=""/>
            <p:cNvPicPr/>
            <p:nvPr/>
          </p:nvPicPr>
          <p:blipFill>
            <a:blip r:embed="rId3"/>
            <a:stretch/>
          </p:blipFill>
          <p:spPr>
            <a:xfrm rot="20280000">
              <a:off x="5368680" y="4160520"/>
              <a:ext cx="1400040" cy="346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" descr=""/>
            <p:cNvPicPr/>
            <p:nvPr/>
          </p:nvPicPr>
          <p:blipFill>
            <a:blip r:embed="rId4"/>
            <a:stretch/>
          </p:blipFill>
          <p:spPr>
            <a:xfrm>
              <a:off x="1616040" y="4788000"/>
              <a:ext cx="1214640" cy="12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" descr=""/>
            <p:cNvPicPr/>
            <p:nvPr/>
          </p:nvPicPr>
          <p:blipFill>
            <a:blip r:embed="rId5"/>
            <a:stretch/>
          </p:blipFill>
          <p:spPr>
            <a:xfrm>
              <a:off x="7927920" y="3568680"/>
              <a:ext cx="1214640" cy="121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"/>
          <p:cNvSpPr/>
          <p:nvPr/>
        </p:nvSpPr>
        <p:spPr>
          <a:xfrm flipH="1">
            <a:off x="748800" y="1865160"/>
            <a:ext cx="7907400" cy="5127840"/>
          </a:xfrm>
          <a:prstGeom prst="line">
            <a:avLst/>
          </a:prstGeom>
          <a:ln w="180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40" name=""/>
          <p:cNvSpPr/>
          <p:nvPr/>
        </p:nvSpPr>
        <p:spPr>
          <a:xfrm>
            <a:off x="757080" y="1866960"/>
            <a:ext cx="7894800" cy="5127480"/>
          </a:xfrm>
          <a:prstGeom prst="line">
            <a:avLst/>
          </a:prstGeom>
          <a:ln w="180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41" name=""/>
          <p:cNvSpPr/>
          <p:nvPr/>
        </p:nvSpPr>
        <p:spPr>
          <a:xfrm>
            <a:off x="311040" y="360360"/>
            <a:ext cx="9252000" cy="1252440"/>
          </a:xfrm>
          <a:prstGeom prst="roundRect">
            <a:avLst>
              <a:gd name="adj" fmla="val 12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96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42" name=""/>
          <p:cNvSpPr/>
          <p:nvPr/>
        </p:nvSpPr>
        <p:spPr>
          <a:xfrm>
            <a:off x="469800" y="546120"/>
            <a:ext cx="214632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きのう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43" name=""/>
          <p:cNvSpPr/>
          <p:nvPr/>
        </p:nvSpPr>
        <p:spPr>
          <a:xfrm>
            <a:off x="2649600" y="514440"/>
            <a:ext cx="6095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たのし</a:t>
            </a:r>
            <a:r>
              <a:rPr b="0" lang="ja-JP" sz="4800" spc="-1" strike="noStrike">
                <a:solidFill>
                  <a:srgbClr val="ff0000"/>
                </a:solidFill>
                <a:latin typeface="みかちゃん"/>
                <a:ea typeface="みかちゃん"/>
              </a:rPr>
              <a:t>くなかったで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dur="indefinite" fill="hold">
                      <p:stCondLst>
                        <p:cond delay="indefinite"/>
                      </p:stCondLst>
                      <p:childTnLst>
                        <p:par>
                          <p:cTn id="6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809640" y="74448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296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TGV</a:t>
            </a:r>
            <a:r>
              <a:rPr b="0" lang="ja-JP" sz="60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は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387360" y="2373480"/>
            <a:ext cx="4056120" cy="1365120"/>
            <a:chOff x="387360" y="2373480"/>
            <a:chExt cx="4056120" cy="1365120"/>
          </a:xfrm>
        </p:grpSpPr>
        <p:sp>
          <p:nvSpPr>
            <p:cNvPr id="446" name=""/>
            <p:cNvSpPr/>
            <p:nvPr/>
          </p:nvSpPr>
          <p:spPr>
            <a:xfrm>
              <a:off x="387360" y="2373480"/>
              <a:ext cx="4056120" cy="1365120"/>
            </a:xfrm>
            <a:prstGeom prst="roundRect">
              <a:avLst>
                <a:gd name="adj" fmla="val 11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96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たかいです</a:t>
              </a:r>
              <a:endParaRPr b="0" lang="en-US" sz="6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5807160" y="2387520"/>
            <a:ext cx="3998880" cy="1324080"/>
            <a:chOff x="5807160" y="2387520"/>
            <a:chExt cx="3998880" cy="1324080"/>
          </a:xfrm>
        </p:grpSpPr>
        <p:sp>
          <p:nvSpPr>
            <p:cNvPr id="448" name=""/>
            <p:cNvSpPr/>
            <p:nvPr/>
          </p:nvSpPr>
          <p:spPr>
            <a:xfrm>
              <a:off x="5807160" y="2387520"/>
              <a:ext cx="3998880" cy="1324080"/>
            </a:xfrm>
            <a:prstGeom prst="roundRect">
              <a:avLst>
                <a:gd name="adj" fmla="val 11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96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べんりです</a:t>
              </a:r>
              <a:endParaRPr b="0" lang="en-US" sz="6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2217600" y="3782880"/>
            <a:ext cx="1123920" cy="112392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7175520" y="3795840"/>
            <a:ext cx="1123920" cy="112392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4552920" y="2440080"/>
            <a:ext cx="1160640" cy="11602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728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8000" spc="-1" strike="noStrike" u="sng">
                <a:solidFill>
                  <a:srgbClr val="ff0000"/>
                </a:solidFill>
                <a:uFillTx/>
                <a:latin typeface="みかちゃん"/>
                <a:ea typeface="みかちゃん"/>
              </a:rPr>
              <a:t>が</a:t>
            </a:r>
            <a:endParaRPr b="0" lang="en-US" sz="8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52" name=""/>
          <p:cNvSpPr/>
          <p:nvPr/>
        </p:nvSpPr>
        <p:spPr>
          <a:xfrm>
            <a:off x="3600360" y="4370400"/>
            <a:ext cx="3392640" cy="1440"/>
          </a:xfrm>
          <a:prstGeom prst="line">
            <a:avLst/>
          </a:prstGeom>
          <a:ln w="10800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53" name=""/>
          <p:cNvSpPr/>
          <p:nvPr/>
        </p:nvSpPr>
        <p:spPr>
          <a:xfrm>
            <a:off x="5610240" y="860400"/>
            <a:ext cx="4370400" cy="60548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54" name=""/>
          <p:cNvSpPr/>
          <p:nvPr/>
        </p:nvSpPr>
        <p:spPr>
          <a:xfrm>
            <a:off x="3809880" y="3697200"/>
            <a:ext cx="2257560" cy="6476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 u="sng">
                <a:solidFill>
                  <a:srgbClr val="ff0000"/>
                </a:solidFill>
                <a:uFillTx/>
                <a:latin typeface="みかちゃん"/>
                <a:ea typeface="みかちゃん"/>
              </a:rPr>
              <a:t>(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みかちゃん"/>
                <a:ea typeface="みかちゃん"/>
              </a:rPr>
              <a:t>。でも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みかちゃん"/>
                <a:ea typeface="みかちゃん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dur="indefinite" fill="hold">
                      <p:stCondLst>
                        <p:cond delay="indefinite"/>
                      </p:stCondLst>
                      <p:childTnLst>
                        <p:par>
                          <p:cTn id="6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1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dur="indefinite" fill="hold">
                      <p:stCondLst>
                        <p:cond delay="indefinite"/>
                      </p:stCondLst>
                      <p:childTnLst>
                        <p:par>
                          <p:cTn id="6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7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dur="indefinite" fill="hold">
                      <p:stCondLst>
                        <p:cond delay="indefinite"/>
                      </p:stCondLst>
                      <p:childTnLst>
                        <p:par>
                          <p:cTn id="6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5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dur="indefinite" fill="hold">
                      <p:stCondLst>
                        <p:cond delay="indefinite"/>
                      </p:stCondLst>
                      <p:childTnLst>
                        <p:par>
                          <p:cTn id="6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dur="indefinite" fill="hold">
                      <p:stCondLst>
                        <p:cond delay="indefinite"/>
                      </p:stCondLst>
                      <p:childTnLst>
                        <p:par>
                          <p:cTn id="7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dur="indefinite" fill="hold">
                      <p:stCondLst>
                        <p:cond delay="indefinite"/>
                      </p:stCondLst>
                      <p:childTnLst>
                        <p:par>
                          <p:cTn id="7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376200" y="1488960"/>
            <a:ext cx="1706760" cy="226080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1143000" y="2108160"/>
            <a:ext cx="1652760" cy="133992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3"/>
          <a:stretch/>
        </p:blipFill>
        <p:spPr>
          <a:xfrm>
            <a:off x="2548080" y="1496880"/>
            <a:ext cx="1484280" cy="124308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4"/>
          <a:stretch/>
        </p:blipFill>
        <p:spPr>
          <a:xfrm>
            <a:off x="2484360" y="2003400"/>
            <a:ext cx="1287720" cy="180648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809640" y="744480"/>
            <a:ext cx="3809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296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まいにち、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5"/>
          <a:stretch/>
        </p:blipFill>
        <p:spPr>
          <a:xfrm>
            <a:off x="1289160" y="1789200"/>
            <a:ext cx="2298600" cy="2906640"/>
          </a:xfrm>
          <a:prstGeom prst="rect">
            <a:avLst/>
          </a:prstGeom>
          <a:ln w="0">
            <a:noFill/>
          </a:ln>
        </p:spPr>
      </p:pic>
      <p:grpSp>
        <p:nvGrpSpPr>
          <p:cNvPr id="461" name=""/>
          <p:cNvGrpSpPr/>
          <p:nvPr/>
        </p:nvGrpSpPr>
        <p:grpSpPr>
          <a:xfrm>
            <a:off x="96840" y="3794040"/>
            <a:ext cx="4334040" cy="1497240"/>
            <a:chOff x="96840" y="3794040"/>
            <a:chExt cx="4334040" cy="1497240"/>
          </a:xfrm>
        </p:grpSpPr>
        <p:sp>
          <p:nvSpPr>
            <p:cNvPr id="462" name=""/>
            <p:cNvSpPr/>
            <p:nvPr/>
          </p:nvSpPr>
          <p:spPr>
            <a:xfrm>
              <a:off x="96840" y="3794040"/>
              <a:ext cx="4334040" cy="1497240"/>
            </a:xfrm>
            <a:prstGeom prst="roundRect">
              <a:avLst>
                <a:gd name="adj" fmla="val 102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368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たいへんです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5794200" y="3940200"/>
            <a:ext cx="3999240" cy="1324080"/>
            <a:chOff x="5794200" y="3940200"/>
            <a:chExt cx="3999240" cy="1324080"/>
          </a:xfrm>
        </p:grpSpPr>
        <p:sp>
          <p:nvSpPr>
            <p:cNvPr id="464" name=""/>
            <p:cNvSpPr/>
            <p:nvPr/>
          </p:nvSpPr>
          <p:spPr>
            <a:xfrm>
              <a:off x="5794200" y="3940200"/>
              <a:ext cx="3999240" cy="1324080"/>
            </a:xfrm>
            <a:prstGeom prst="roundRect">
              <a:avLst>
                <a:gd name="adj" fmla="val 11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368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たのしいです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465" name="" descr=""/>
          <p:cNvPicPr/>
          <p:nvPr/>
        </p:nvPicPr>
        <p:blipFill>
          <a:blip r:embed="rId6"/>
          <a:stretch/>
        </p:blipFill>
        <p:spPr>
          <a:xfrm>
            <a:off x="2205000" y="5335560"/>
            <a:ext cx="1123920" cy="112392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7"/>
          <a:stretch/>
        </p:blipFill>
        <p:spPr>
          <a:xfrm>
            <a:off x="7162920" y="5348160"/>
            <a:ext cx="1123920" cy="112392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4540320" y="3992400"/>
            <a:ext cx="1160280" cy="11606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728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8000" spc="-1" strike="noStrike" u="sng">
                <a:solidFill>
                  <a:srgbClr val="ff0000"/>
                </a:solidFill>
                <a:uFillTx/>
                <a:latin typeface="みかちゃん"/>
                <a:ea typeface="みかちゃん"/>
              </a:rPr>
              <a:t>が</a:t>
            </a:r>
            <a:endParaRPr b="0" lang="en-US" sz="8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68" name=""/>
          <p:cNvSpPr/>
          <p:nvPr/>
        </p:nvSpPr>
        <p:spPr>
          <a:xfrm>
            <a:off x="3587760" y="5924520"/>
            <a:ext cx="3392640" cy="1440"/>
          </a:xfrm>
          <a:prstGeom prst="line">
            <a:avLst/>
          </a:prstGeom>
          <a:ln w="10800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69" name=""/>
          <p:cNvSpPr/>
          <p:nvPr/>
        </p:nvSpPr>
        <p:spPr>
          <a:xfrm>
            <a:off x="5610240" y="860400"/>
            <a:ext cx="4370400" cy="60548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70" name=""/>
          <p:cNvSpPr/>
          <p:nvPr/>
        </p:nvSpPr>
        <p:spPr>
          <a:xfrm>
            <a:off x="3584520" y="5230800"/>
            <a:ext cx="2633760" cy="6667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 u="sng">
                <a:solidFill>
                  <a:srgbClr val="ff0000"/>
                </a:solidFill>
                <a:uFillTx/>
                <a:latin typeface="みかちゃん"/>
                <a:ea typeface="みかちゃん"/>
              </a:rPr>
              <a:t>(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みかちゃん"/>
                <a:ea typeface="みかちゃん"/>
              </a:rPr>
              <a:t>。でも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みかちゃん"/>
                <a:ea typeface="みかちゃん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8"/>
          <a:stretch/>
        </p:blipFill>
        <p:spPr>
          <a:xfrm>
            <a:off x="6489720" y="1638360"/>
            <a:ext cx="2636640" cy="223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dur="indefinite" fill="hold">
                      <p:stCondLst>
                        <p:cond delay="indefinite"/>
                      </p:stCondLst>
                      <p:childTnLst>
                        <p:par>
                          <p:cTn id="7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dur="indefinite" fill="hold">
                      <p:stCondLst>
                        <p:cond delay="indefinite"/>
                      </p:stCondLst>
                      <p:childTnLst>
                        <p:par>
                          <p:cTn id="7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dur="indefinite" fill="hold">
                      <p:stCondLst>
                        <p:cond delay="indefinite"/>
                      </p:stCondLst>
                      <p:childTnLst>
                        <p:par>
                          <p:cTn id="7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6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dur="indefinite" fill="hold">
                      <p:stCondLst>
                        <p:cond delay="indefinite"/>
                      </p:stCondLst>
                      <p:childTnLst>
                        <p:par>
                          <p:cTn id="7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2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dur="indefinite" fill="hold">
                      <p:stCondLst>
                        <p:cond delay="indefinite"/>
                      </p:stCondLst>
                      <p:childTnLst>
                        <p:par>
                          <p:cTn id="7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8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40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dur="indefinite" fill="hold">
                      <p:stCondLst>
                        <p:cond delay="indefinite"/>
                      </p:stCondLst>
                      <p:childTnLst>
                        <p:par>
                          <p:cTn id="7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dur="indefinite" fill="hold">
                      <p:stCondLst>
                        <p:cond delay="indefinite"/>
                      </p:stCondLst>
                      <p:childTnLst>
                        <p:par>
                          <p:cTn id="7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dur="indefinite" fill="hold">
                      <p:stCondLst>
                        <p:cond delay="indefinite"/>
                      </p:stCondLst>
                      <p:childTnLst>
                        <p:par>
                          <p:cTn id="7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809640" y="744480"/>
            <a:ext cx="7586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296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ふゆ</a:t>
            </a:r>
            <a:r>
              <a:rPr b="0" lang="ja-JP" sz="60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の</a:t>
            </a:r>
            <a:r>
              <a:rPr b="0" lang="ja-JP" sz="6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うみ</a:t>
            </a:r>
            <a:r>
              <a:rPr b="0" lang="ja-JP" sz="60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は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744480" y="2414520"/>
            <a:ext cx="3699000" cy="1324080"/>
            <a:chOff x="744480" y="2414520"/>
            <a:chExt cx="3699000" cy="1324080"/>
          </a:xfrm>
        </p:grpSpPr>
        <p:sp>
          <p:nvSpPr>
            <p:cNvPr id="474" name=""/>
            <p:cNvSpPr/>
            <p:nvPr/>
          </p:nvSpPr>
          <p:spPr>
            <a:xfrm>
              <a:off x="744480" y="2414520"/>
              <a:ext cx="3699000" cy="1324080"/>
            </a:xfrm>
            <a:prstGeom prst="roundRect">
              <a:avLst>
                <a:gd name="adj" fmla="val 11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96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 </a:t>
              </a:r>
              <a:r>
                <a:rPr b="0" lang="ja-JP" sz="60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ーです</a:t>
              </a:r>
              <a:endParaRPr b="0" lang="en-US" sz="6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5807160" y="2387520"/>
            <a:ext cx="3998880" cy="1324080"/>
            <a:chOff x="5807160" y="2387520"/>
            <a:chExt cx="3998880" cy="1324080"/>
          </a:xfrm>
        </p:grpSpPr>
        <p:sp>
          <p:nvSpPr>
            <p:cNvPr id="476" name=""/>
            <p:cNvSpPr/>
            <p:nvPr/>
          </p:nvSpPr>
          <p:spPr>
            <a:xfrm>
              <a:off x="5807160" y="2387520"/>
              <a:ext cx="3998880" cy="1324080"/>
            </a:xfrm>
            <a:prstGeom prst="roundRect">
              <a:avLst>
                <a:gd name="adj" fmla="val 11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96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 </a:t>
              </a:r>
              <a:r>
                <a:rPr b="0" lang="ja-JP" sz="60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ーです</a:t>
              </a:r>
              <a:endParaRPr b="0" lang="en-US" sz="6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2217600" y="3782880"/>
            <a:ext cx="1123920" cy="112392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2"/>
          <a:stretch/>
        </p:blipFill>
        <p:spPr>
          <a:xfrm>
            <a:off x="7175520" y="3795840"/>
            <a:ext cx="1123920" cy="112392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4552920" y="2440080"/>
            <a:ext cx="1160640" cy="11602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728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8000" spc="-1" strike="noStrike" u="sng">
                <a:solidFill>
                  <a:srgbClr val="ff0000"/>
                </a:solidFill>
                <a:uFillTx/>
                <a:latin typeface="みかちゃん"/>
                <a:ea typeface="みかちゃん"/>
              </a:rPr>
              <a:t>が</a:t>
            </a:r>
            <a:endParaRPr b="0" lang="en-US" sz="8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80" name=""/>
          <p:cNvSpPr/>
          <p:nvPr/>
        </p:nvSpPr>
        <p:spPr>
          <a:xfrm>
            <a:off x="3600360" y="4370400"/>
            <a:ext cx="3392640" cy="1440"/>
          </a:xfrm>
          <a:prstGeom prst="line">
            <a:avLst/>
          </a:prstGeom>
          <a:ln w="10800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81" name=""/>
          <p:cNvSpPr/>
          <p:nvPr/>
        </p:nvSpPr>
        <p:spPr>
          <a:xfrm>
            <a:off x="5610240" y="2062080"/>
            <a:ext cx="4370400" cy="485460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82" name=""/>
          <p:cNvSpPr/>
          <p:nvPr/>
        </p:nvSpPr>
        <p:spPr>
          <a:xfrm>
            <a:off x="3794040" y="3616200"/>
            <a:ext cx="2273400" cy="7286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 u="sng">
                <a:solidFill>
                  <a:srgbClr val="ff0000"/>
                </a:solidFill>
                <a:uFillTx/>
                <a:latin typeface="みかちゃん"/>
                <a:ea typeface="みかちゃん"/>
              </a:rPr>
              <a:t>(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みかちゃん"/>
                <a:ea typeface="みかちゃん"/>
              </a:rPr>
              <a:t>。でも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みかちゃん"/>
                <a:ea typeface="みかちゃん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809640" y="7444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296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ワットさん</a:t>
            </a:r>
            <a:r>
              <a:rPr b="0" lang="ja-JP" sz="60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は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195120" y="2340000"/>
            <a:ext cx="3691080" cy="1411200"/>
            <a:chOff x="195120" y="2340000"/>
            <a:chExt cx="3691080" cy="1411200"/>
          </a:xfrm>
        </p:grpSpPr>
        <p:sp>
          <p:nvSpPr>
            <p:cNvPr id="485" name=""/>
            <p:cNvSpPr/>
            <p:nvPr/>
          </p:nvSpPr>
          <p:spPr>
            <a:xfrm>
              <a:off x="195120" y="2340000"/>
              <a:ext cx="3691080" cy="1411200"/>
            </a:xfrm>
            <a:prstGeom prst="roundRect">
              <a:avLst>
                <a:gd name="adj" fmla="val 111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6912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イギリスじんです。</a:t>
              </a:r>
              <a:endParaRPr b="0" lang="en-US" sz="32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5807160" y="2387520"/>
            <a:ext cx="3998880" cy="1324080"/>
            <a:chOff x="5807160" y="2387520"/>
            <a:chExt cx="3998880" cy="1324080"/>
          </a:xfrm>
        </p:grpSpPr>
        <p:sp>
          <p:nvSpPr>
            <p:cNvPr id="487" name=""/>
            <p:cNvSpPr/>
            <p:nvPr/>
          </p:nvSpPr>
          <p:spPr>
            <a:xfrm>
              <a:off x="5807160" y="2387520"/>
              <a:ext cx="3998880" cy="1324080"/>
            </a:xfrm>
            <a:prstGeom prst="roundRect">
              <a:avLst>
                <a:gd name="adj" fmla="val 11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1664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せんせいです</a:t>
              </a:r>
              <a:endParaRPr b="0" lang="en-US" sz="5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3745080" y="2440080"/>
            <a:ext cx="1969920" cy="11602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みかちゃん"/>
                <a:ea typeface="みかちゃん"/>
              </a:rPr>
              <a:t>そして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89" name=""/>
          <p:cNvSpPr/>
          <p:nvPr/>
        </p:nvSpPr>
        <p:spPr>
          <a:xfrm>
            <a:off x="235080" y="3719520"/>
            <a:ext cx="1722240" cy="1017720"/>
          </a:xfrm>
          <a:prstGeom prst="roundRect">
            <a:avLst>
              <a:gd name="adj" fmla="val 153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912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Nom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160200" y="2265480"/>
            <a:ext cx="5551560" cy="1650960"/>
            <a:chOff x="160200" y="2265480"/>
            <a:chExt cx="5551560" cy="1650960"/>
          </a:xfrm>
        </p:grpSpPr>
        <p:sp>
          <p:nvSpPr>
            <p:cNvPr id="491" name=""/>
            <p:cNvSpPr/>
            <p:nvPr/>
          </p:nvSpPr>
          <p:spPr>
            <a:xfrm>
              <a:off x="160200" y="2265480"/>
              <a:ext cx="5551560" cy="1650960"/>
            </a:xfrm>
            <a:prstGeom prst="roundRect">
              <a:avLst>
                <a:gd name="adj" fmla="val 9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1664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イギリスじん</a:t>
              </a:r>
              <a:r>
                <a:rPr b="0" lang="ja-JP" sz="5400" spc="-1" strike="noStrike" u="sng">
                  <a:solidFill>
                    <a:srgbClr val="ff0000"/>
                  </a:solidFill>
                  <a:uFillTx/>
                  <a:latin typeface="みかちゃん"/>
                  <a:ea typeface="みかちゃん"/>
                </a:rPr>
                <a:t>で</a:t>
              </a:r>
              <a:endParaRPr b="0" lang="en-US" sz="5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2895480" y="3925800"/>
            <a:ext cx="1123920" cy="112392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2"/>
          <a:stretch/>
        </p:blipFill>
        <p:spPr>
          <a:xfrm>
            <a:off x="7070760" y="3900600"/>
            <a:ext cx="1123920" cy="112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dur="indefinite" fill="hold">
                      <p:stCondLst>
                        <p:cond delay="indefinite"/>
                      </p:stCondLst>
                      <p:childTnLst>
                        <p:par>
                          <p:cTn id="7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dur="indefinite" fill="hold">
                      <p:stCondLst>
                        <p:cond delay="indefinite"/>
                      </p:stCondLst>
                      <p:childTnLst>
                        <p:par>
                          <p:cTn id="7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dur="indefinite" fill="hold">
                      <p:stCondLst>
                        <p:cond delay="indefinite"/>
                      </p:stCondLst>
                      <p:childTnLst>
                        <p:par>
                          <p:cTn id="7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857840" y="817560"/>
            <a:ext cx="4640040" cy="60008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155600" y="4816440"/>
            <a:ext cx="7831080" cy="2265480"/>
            <a:chOff x="1155600" y="4816440"/>
            <a:chExt cx="7831080" cy="2265480"/>
          </a:xfrm>
        </p:grpSpPr>
        <p:sp>
          <p:nvSpPr>
            <p:cNvPr id="111" name=""/>
            <p:cNvSpPr/>
            <p:nvPr/>
          </p:nvSpPr>
          <p:spPr>
            <a:xfrm>
              <a:off x="1155600" y="4816440"/>
              <a:ext cx="7831080" cy="2265480"/>
            </a:xfrm>
            <a:prstGeom prst="roundRect">
              <a:avLst>
                <a:gd name="adj" fmla="val 69"/>
              </a:avLst>
            </a:prstGeom>
            <a:solidFill>
              <a:srgbClr val="ffffcc">
                <a:alpha val="9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728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8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さむいです</a:t>
              </a:r>
              <a:endParaRPr b="0" lang="en-US" sz="8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809640" y="7444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296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このじしょ</a:t>
            </a:r>
            <a:r>
              <a:rPr b="0" lang="ja-JP" sz="6000" spc="-1" strike="noStrike">
                <a:solidFill>
                  <a:srgbClr val="800000"/>
                </a:solidFill>
                <a:latin typeface="みかちゃん"/>
                <a:ea typeface="みかちゃん"/>
              </a:rPr>
              <a:t>は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0" y="2373480"/>
            <a:ext cx="3686040" cy="1377720"/>
            <a:chOff x="0" y="2373480"/>
            <a:chExt cx="3686040" cy="1377720"/>
          </a:xfrm>
        </p:grpSpPr>
        <p:sp>
          <p:nvSpPr>
            <p:cNvPr id="496" name=""/>
            <p:cNvSpPr/>
            <p:nvPr/>
          </p:nvSpPr>
          <p:spPr>
            <a:xfrm>
              <a:off x="0" y="2373480"/>
              <a:ext cx="3686040" cy="1377720"/>
            </a:xfrm>
            <a:prstGeom prst="roundRect">
              <a:avLst>
                <a:gd name="adj" fmla="val 111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368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べんりです。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5807160" y="2387520"/>
            <a:ext cx="3998880" cy="1324080"/>
            <a:chOff x="5807160" y="2387520"/>
            <a:chExt cx="3998880" cy="1324080"/>
          </a:xfrm>
        </p:grpSpPr>
        <p:sp>
          <p:nvSpPr>
            <p:cNvPr id="498" name=""/>
            <p:cNvSpPr/>
            <p:nvPr/>
          </p:nvSpPr>
          <p:spPr>
            <a:xfrm>
              <a:off x="5807160" y="2387520"/>
              <a:ext cx="3998880" cy="1324080"/>
            </a:xfrm>
            <a:prstGeom prst="roundRect">
              <a:avLst>
                <a:gd name="adj" fmla="val 11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96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やすいです</a:t>
              </a:r>
              <a:endParaRPr b="0" lang="en-US" sz="6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7175520" y="3795840"/>
            <a:ext cx="1123920" cy="112392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3745080" y="2440080"/>
            <a:ext cx="1969920" cy="11602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みかちゃん"/>
                <a:ea typeface="みかちゃん"/>
              </a:rPr>
              <a:t>そして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2008080" y="3862440"/>
            <a:ext cx="1123920" cy="11239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235080" y="3719520"/>
            <a:ext cx="1722240" cy="1017720"/>
          </a:xfrm>
          <a:prstGeom prst="roundRect">
            <a:avLst>
              <a:gd name="adj" fmla="val 153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912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Adj</a:t>
            </a:r>
            <a:r>
              <a:rPr b="0" lang="ja-JP" sz="32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な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0" y="2276640"/>
            <a:ext cx="5551560" cy="1650960"/>
            <a:chOff x="0" y="2276640"/>
            <a:chExt cx="5551560" cy="1650960"/>
          </a:xfrm>
        </p:grpSpPr>
        <p:sp>
          <p:nvSpPr>
            <p:cNvPr id="504" name=""/>
            <p:cNvSpPr/>
            <p:nvPr/>
          </p:nvSpPr>
          <p:spPr>
            <a:xfrm>
              <a:off x="0" y="2276640"/>
              <a:ext cx="5551560" cy="1650960"/>
            </a:xfrm>
            <a:prstGeom prst="roundRect">
              <a:avLst>
                <a:gd name="adj" fmla="val 9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4256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6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べんり</a:t>
              </a:r>
              <a:r>
                <a:rPr b="0" lang="ja-JP" sz="6600" spc="-1" strike="noStrike" u="sng">
                  <a:solidFill>
                    <a:srgbClr val="ff0000"/>
                  </a:solidFill>
                  <a:uFillTx/>
                  <a:latin typeface="みかちゃん"/>
                  <a:ea typeface="みかちゃん"/>
                </a:rPr>
                <a:t>で</a:t>
              </a:r>
              <a:endParaRPr b="0" lang="en-US" sz="66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dur="indefinite" fill="hold">
                      <p:stCondLst>
                        <p:cond delay="indefinite"/>
                      </p:stCondLst>
                      <p:childTnLst>
                        <p:par>
                          <p:cTn id="7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0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dur="indefinite" fill="hold">
                      <p:stCondLst>
                        <p:cond delay="indefinite"/>
                      </p:stCondLst>
                      <p:childTnLst>
                        <p:par>
                          <p:cTn id="7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6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dur="indefinite" fill="hold">
                      <p:stCondLst>
                        <p:cond delay="indefinite"/>
                      </p:stCondLst>
                      <p:childTnLst>
                        <p:par>
                          <p:cTn id="7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dur="indefinite" fill="hold">
                      <p:stCondLst>
                        <p:cond delay="indefinite"/>
                      </p:stCondLst>
                      <p:childTnLst>
                        <p:par>
                          <p:cTn id="7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dur="indefinite" fill="hold">
                      <p:stCondLst>
                        <p:cond delay="indefinite"/>
                      </p:stCondLst>
                      <p:childTnLst>
                        <p:par>
                          <p:cTn id="8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809640" y="7444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296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このレストランは、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247680" y="2297160"/>
            <a:ext cx="3490920" cy="1324080"/>
            <a:chOff x="247680" y="2297160"/>
            <a:chExt cx="3490920" cy="1324080"/>
          </a:xfrm>
        </p:grpSpPr>
        <p:sp>
          <p:nvSpPr>
            <p:cNvPr id="507" name=""/>
            <p:cNvSpPr/>
            <p:nvPr/>
          </p:nvSpPr>
          <p:spPr>
            <a:xfrm>
              <a:off x="247680" y="2297160"/>
              <a:ext cx="3490920" cy="1324080"/>
            </a:xfrm>
            <a:prstGeom prst="roundRect">
              <a:avLst>
                <a:gd name="adj" fmla="val 11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368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やすいです。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5807160" y="2387520"/>
            <a:ext cx="3998880" cy="1324080"/>
            <a:chOff x="5807160" y="2387520"/>
            <a:chExt cx="3998880" cy="1324080"/>
          </a:xfrm>
        </p:grpSpPr>
        <p:sp>
          <p:nvSpPr>
            <p:cNvPr id="509" name=""/>
            <p:cNvSpPr/>
            <p:nvPr/>
          </p:nvSpPr>
          <p:spPr>
            <a:xfrm>
              <a:off x="5807160" y="2387520"/>
              <a:ext cx="3998880" cy="1324080"/>
            </a:xfrm>
            <a:prstGeom prst="roundRect">
              <a:avLst>
                <a:gd name="adj" fmla="val 11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368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8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おいしいです</a:t>
              </a:r>
              <a:endParaRPr b="0" lang="en-US" sz="48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3745080" y="2440080"/>
            <a:ext cx="1969920" cy="11602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みかちゃん"/>
                <a:ea typeface="みかちゃん"/>
              </a:rPr>
              <a:t>そして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11" name=""/>
          <p:cNvSpPr/>
          <p:nvPr/>
        </p:nvSpPr>
        <p:spPr>
          <a:xfrm>
            <a:off x="235080" y="3719520"/>
            <a:ext cx="1722240" cy="1017720"/>
          </a:xfrm>
          <a:prstGeom prst="roundRect">
            <a:avLst>
              <a:gd name="adj" fmla="val 153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912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Adj</a:t>
            </a:r>
            <a:r>
              <a:rPr b="0" lang="ja-JP" sz="32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い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181080" y="2154240"/>
            <a:ext cx="5551560" cy="1650960"/>
            <a:chOff x="181080" y="2154240"/>
            <a:chExt cx="5551560" cy="1650960"/>
          </a:xfrm>
        </p:grpSpPr>
        <p:sp>
          <p:nvSpPr>
            <p:cNvPr id="513" name=""/>
            <p:cNvSpPr/>
            <p:nvPr/>
          </p:nvSpPr>
          <p:spPr>
            <a:xfrm>
              <a:off x="181080" y="2154240"/>
              <a:ext cx="5551560" cy="1650960"/>
            </a:xfrm>
            <a:prstGeom prst="roundRect">
              <a:avLst>
                <a:gd name="adj" fmla="val 9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4256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6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やす</a:t>
              </a:r>
              <a:r>
                <a:rPr b="0" lang="ja-JP" sz="6600" spc="-1" strike="noStrike" u="sng">
                  <a:solidFill>
                    <a:srgbClr val="ff0000"/>
                  </a:solidFill>
                  <a:uFillTx/>
                  <a:latin typeface="みかちゃん"/>
                  <a:ea typeface="みかちゃん"/>
                </a:rPr>
                <a:t>くて</a:t>
              </a:r>
              <a:endParaRPr b="0" lang="en-US" sz="66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2517840" y="3665520"/>
            <a:ext cx="1123920" cy="112392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7149960" y="3745080"/>
            <a:ext cx="1123920" cy="112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dur="indefinite" fill="hold">
                      <p:stCondLst>
                        <p:cond delay="indefinite"/>
                      </p:stCondLst>
                      <p:childTnLst>
                        <p:par>
                          <p:cTn id="8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dur="indefinite" fill="hold">
                      <p:stCondLst>
                        <p:cond delay="indefinite"/>
                      </p:stCondLst>
                      <p:childTnLst>
                        <p:par>
                          <p:cTn id="8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dur="indefinite" fill="hold">
                      <p:stCondLst>
                        <p:cond delay="indefinite"/>
                      </p:stCondLst>
                      <p:childTnLst>
                        <p:par>
                          <p:cTn id="8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809640" y="744480"/>
            <a:ext cx="3809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296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まいにち、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96840" y="2276640"/>
            <a:ext cx="3641760" cy="1344600"/>
            <a:chOff x="96840" y="2276640"/>
            <a:chExt cx="3641760" cy="1344600"/>
          </a:xfrm>
        </p:grpSpPr>
        <p:sp>
          <p:nvSpPr>
            <p:cNvPr id="518" name=""/>
            <p:cNvSpPr/>
            <p:nvPr/>
          </p:nvSpPr>
          <p:spPr>
            <a:xfrm>
              <a:off x="96840" y="2276640"/>
              <a:ext cx="3641760" cy="1344600"/>
            </a:xfrm>
            <a:prstGeom prst="roundRect">
              <a:avLst>
                <a:gd name="adj" fmla="val 11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776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いそがしいです。</a:t>
              </a:r>
              <a:endParaRPr b="0" lang="en-US" sz="36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5807160" y="2387520"/>
            <a:ext cx="3998880" cy="1324080"/>
            <a:chOff x="5807160" y="2387520"/>
            <a:chExt cx="3998880" cy="1324080"/>
          </a:xfrm>
        </p:grpSpPr>
        <p:sp>
          <p:nvSpPr>
            <p:cNvPr id="520" name=""/>
            <p:cNvSpPr/>
            <p:nvPr/>
          </p:nvSpPr>
          <p:spPr>
            <a:xfrm>
              <a:off x="5807160" y="2387520"/>
              <a:ext cx="3998880" cy="1324080"/>
            </a:xfrm>
            <a:prstGeom prst="roundRect">
              <a:avLst>
                <a:gd name="adj" fmla="val 11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1664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たいへんです</a:t>
              </a:r>
              <a:endParaRPr b="0" lang="en-US" sz="5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3745080" y="2440080"/>
            <a:ext cx="1969920" cy="11602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 u="sng">
                <a:solidFill>
                  <a:srgbClr val="ff0000"/>
                </a:solidFill>
                <a:uFillTx/>
                <a:latin typeface="みかちゃん"/>
                <a:ea typeface="みかちゃん"/>
              </a:rPr>
              <a:t>そして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22" name=""/>
          <p:cNvSpPr/>
          <p:nvPr/>
        </p:nvSpPr>
        <p:spPr>
          <a:xfrm>
            <a:off x="235080" y="3719520"/>
            <a:ext cx="1722240" cy="1017720"/>
          </a:xfrm>
          <a:prstGeom prst="roundRect">
            <a:avLst>
              <a:gd name="adj" fmla="val 153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912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Adj</a:t>
            </a:r>
            <a:r>
              <a:rPr b="0" lang="ja-JP" sz="32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い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149400" y="2181240"/>
            <a:ext cx="5551200" cy="1650960"/>
            <a:chOff x="149400" y="2181240"/>
            <a:chExt cx="5551200" cy="1650960"/>
          </a:xfrm>
        </p:grpSpPr>
        <p:sp>
          <p:nvSpPr>
            <p:cNvPr id="524" name=""/>
            <p:cNvSpPr/>
            <p:nvPr/>
          </p:nvSpPr>
          <p:spPr>
            <a:xfrm>
              <a:off x="149400" y="2181240"/>
              <a:ext cx="5551200" cy="1650960"/>
            </a:xfrm>
            <a:prstGeom prst="roundRect">
              <a:avLst>
                <a:gd name="adj" fmla="val 9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4256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600" spc="-1" strike="noStrike">
                  <a:solidFill>
                    <a:srgbClr val="000000"/>
                  </a:solidFill>
                  <a:latin typeface="みかちゃん"/>
                  <a:ea typeface="みかちゃん"/>
                </a:rPr>
                <a:t>いそがし</a:t>
              </a:r>
              <a:r>
                <a:rPr b="0" lang="ja-JP" sz="6600" spc="-1" strike="noStrike" u="sng">
                  <a:solidFill>
                    <a:srgbClr val="ff0000"/>
                  </a:solidFill>
                  <a:uFillTx/>
                  <a:latin typeface="みかちゃん"/>
                  <a:ea typeface="みかちゃん"/>
                </a:rPr>
                <a:t>くて</a:t>
              </a:r>
              <a:endParaRPr b="0" lang="en-US" sz="66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2400480" y="3718080"/>
            <a:ext cx="1123920" cy="112392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2"/>
          <a:stretch/>
        </p:blipFill>
        <p:spPr>
          <a:xfrm>
            <a:off x="7188120" y="3835440"/>
            <a:ext cx="1123920" cy="112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dur="indefinite" fill="hold">
                      <p:stCondLst>
                        <p:cond delay="indefinite"/>
                      </p:stCondLst>
                      <p:childTnLst>
                        <p:par>
                          <p:cTn id="8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dur="indefinite" fill="hold">
                      <p:stCondLst>
                        <p:cond delay="indefinite"/>
                      </p:stCondLst>
                      <p:childTnLst>
                        <p:par>
                          <p:cTn id="8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dur="indefinite" fill="hold">
                      <p:stCondLst>
                        <p:cond delay="indefinite"/>
                      </p:stCondLst>
                      <p:childTnLst>
                        <p:par>
                          <p:cTn id="8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3T17:52:40Z</dcterms:created>
  <dc:creator/>
  <dc:description/>
  <dc:language>en-US</dc:language>
  <cp:lastModifiedBy/>
  <dcterms:modified xsi:type="dcterms:W3CDTF">2016-05-24T19:18:26Z</dcterms:modified>
  <cp:revision>2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nfo 1">
    <vt:lpwstr/>
  </property>
  <property fmtid="{D5CDD505-2E9C-101B-9397-08002B2CF9AE}" pid="3" name="Info 2">
    <vt:lpwstr/>
  </property>
  <property fmtid="{D5CDD505-2E9C-101B-9397-08002B2CF9AE}" pid="4" name="Info 3">
    <vt:lpwstr/>
  </property>
  <property fmtid="{D5CDD505-2E9C-101B-9397-08002B2CF9AE}" pid="5" name="Info 4">
    <vt:lpwstr/>
  </property>
</Properties>
</file>